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6DC2-6FF6-402E-B50F-C771DDBFE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F4E9-A44F-4B0B-9C33-BB47214BB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A4CE-799F-4B16-8FC3-EEE959377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35E5-F4A6-468E-8358-6A0E6F9A4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84BDD-E68B-4E6A-A001-D70589C6D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5F687-05C5-4C72-9FF0-C3BDBAA21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3D0C7-63AA-4BAF-B305-F0EFB7C02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FF545-10F0-474E-A382-ED98257B2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FE914-DB45-4A0B-8F48-0DC97FBD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9AE70-3854-4C8A-9FD5-D8156DC25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B93F6-A8E0-4CB1-9492-8F81F3A7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AFCE-AA9D-4264-83E9-3EEAF6EC0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7221C-8185-467A-895C-300E27A6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BFE42-6252-43D5-B3A0-0A19B468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257BF-A09F-4ABB-B2AC-F40FB453D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81F42-5EE4-4BCB-8BC5-5C19CD5BE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73218-CDFD-4FA5-B847-74CE40217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36B7-FBBC-401E-973E-79F7833AD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6FDA-6C81-4290-B371-54F222A40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0BE8-C6BF-4672-96D4-C4BE589D2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4179-88DC-492B-8732-B0B36E6ED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225C-23EE-4BB9-94B6-231D2DB4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3F2C-114D-47AD-A694-6BF7E4F4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AD1E-994E-43E2-AD0B-21ED3976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AE071-11F7-42AC-920D-E38B5AD63866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2FE0C-843C-4902-8524-16F0A143FF3E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lnSpc>
                <a:spcPct val="75000"/>
              </a:lnSpc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lnSpc>
                <a:spcPct val="75000"/>
              </a:lnSpc>
              <a:spcBef>
                <a:spcPts val="675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447920" y="6535800"/>
            <a:ext cx="434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6 © Dale Carnegie &amp; Associates, Inc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CTimesRoman"/>
              </a:rPr>
              <a:t>Elementi</a:t>
            </a:r>
            <a:br>
              <a:rPr sz="4000"/>
            </a:br>
            <a:r>
              <a:rPr b="0" lang="en-US" sz="4000" spc="-1" strike="noStrike">
                <a:solidFill>
                  <a:srgbClr val="ff6600"/>
                </a:solidFill>
                <a:latin typeface="CTimesRoman"/>
              </a:rPr>
              <a:t>sredworo~nog programa razvoja </a:t>
            </a:r>
            <a:br>
              <a:rPr sz="4000"/>
            </a:br>
            <a:r>
              <a:rPr b="0" lang="en-US" sz="4400" spc="-1" strike="noStrike">
                <a:solidFill>
                  <a:srgbClr val="ff6600"/>
                </a:solidFill>
                <a:latin typeface="CTimesRoman"/>
              </a:rPr>
              <a:t>Zlatiborskog okruga</a:t>
            </a: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pic>
        <p:nvPicPr>
          <p:cNvPr id="90" name="carnegie2" descr=""/>
          <p:cNvPicPr/>
          <p:nvPr/>
        </p:nvPicPr>
        <p:blipFill>
          <a:blip r:embed="rId1"/>
          <a:stretch/>
        </p:blipFill>
        <p:spPr>
          <a:xfrm>
            <a:off x="380880" y="6172200"/>
            <a:ext cx="1009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32868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9144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TimesRoman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CTimesRoman"/>
              </a:rPr>
              <a:t>Saobra}ajna infrastruktu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TimesRoman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TimesRoman"/>
              </a:rPr>
              <a:t>Putni saobra}aj</a:t>
            </a:r>
            <a:r>
              <a:rPr b="0" lang="en-US" sz="2000" spc="-1" strike="noStrike">
                <a:solidFill>
                  <a:srgbClr val="ffffff"/>
                </a:solidFill>
                <a:latin typeface="CTimesRoman"/>
              </a:rPr>
              <a:t> - U ciqu odr`avawa nivoa usluga i bezbednosti saobra}aja neophodno je permanenetno odr`avawe i osavremewavawe saobra}ajnica, kao i rekonstrukcija va`nih putnih pravaca: Zlatibor (Borova glava) - Kokin Brod, Kosjeri} - Ra`ana - Mr~i}i, Volujac-Kadiwa~a-Zaglavak, Bajina Ba{ta - Roga~ica i drugi. Dovr{etak obilaznog puta oko U`ica. Gradwa regionalnog puta R114 potpuno novim pravcem na deonici Priboj -Her Gole{a svojom teritorijom, da bi izbegli u lokalnom prometu  prolazak kroz Republiku Srpsku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TimesRoman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TimesRoman"/>
              </a:rPr>
              <a:t>PTT saobra}aj</a:t>
            </a:r>
            <a:r>
              <a:rPr b="0" lang="en-US" sz="2000" spc="-1" strike="noStrike">
                <a:solidFill>
                  <a:srgbClr val="ffffff"/>
                </a:solidFill>
                <a:latin typeface="CTimesRoman"/>
              </a:rPr>
              <a:t> - Izrada projektne dokumentacije za zgradu po{te i izgradwa objekta, zamena TC digitalnim i pro{irewe kapacite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Times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32868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11426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TimesRoman"/>
              </a:rPr>
              <a:t>Vodoprivre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Times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TimesRoman"/>
              </a:rPr>
              <a:t>- </a:t>
            </a:r>
            <a:r>
              <a:rPr b="0" i="1" lang="en-US" sz="2000" spc="-1" strike="noStrike">
                <a:solidFill>
                  <a:srgbClr val="ffffff"/>
                </a:solidFill>
                <a:latin typeface="CTimesRoman"/>
              </a:rPr>
              <a:t>projekti za{tite akumulacij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Times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TimesRoman"/>
              </a:rPr>
              <a:t>- </a:t>
            </a:r>
            <a:r>
              <a:rPr b="0" i="1" lang="en-US" sz="2000" spc="-1" strike="noStrike">
                <a:solidFill>
                  <a:srgbClr val="ffffff"/>
                </a:solidFill>
                <a:latin typeface="CTimesRoman"/>
              </a:rPr>
              <a:t>projekti regulacije vodotokov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Times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TimesRoman"/>
              </a:rPr>
              <a:t>- </a:t>
            </a:r>
            <a:r>
              <a:rPr b="0" i="1" lang="en-US" sz="2000" spc="-1" strike="noStrike">
                <a:solidFill>
                  <a:srgbClr val="ffffff"/>
                </a:solidFill>
                <a:latin typeface="CTimesRoman"/>
              </a:rPr>
              <a:t>izgradwa zalivnih sistema i mini akumulacija </a:t>
            </a:r>
            <a:r>
              <a:rPr b="0" lang="en-US" sz="2000" spc="-1" strike="noStrike">
                <a:solidFill>
                  <a:srgbClr val="ffffff"/>
                </a:solidFill>
                <a:latin typeface="CTimesRoman"/>
              </a:rPr>
              <a:t>(elektrane i ribwaci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Times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TimesRoman"/>
              </a:rPr>
              <a:t>- </a:t>
            </a:r>
            <a:r>
              <a:rPr b="0" i="1" lang="en-US" sz="2000" spc="-1" strike="noStrike">
                <a:solidFill>
                  <a:srgbClr val="ffffff"/>
                </a:solidFill>
                <a:latin typeface="CTimesRoman"/>
              </a:rPr>
              <a:t>izgradwa sistema za pre~i{}avawe otpadnh voda</a:t>
            </a:r>
            <a:r>
              <a:rPr b="0" lang="en-US" sz="2000" spc="-1" strike="noStrike">
                <a:solidFill>
                  <a:srgbClr val="ffffff"/>
                </a:solidFill>
                <a:latin typeface="CTimesRoman"/>
              </a:rPr>
              <a:t> (u gradskim sredinama preko komunalnih preduze}a, a u seoskim podru~jima izgradwom biodiskova spojenih sa gradskim postrojewima za pre~i{}avawe otpadnih vod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523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TimesRoman"/>
              </a:rPr>
              <a:t>Vodosnabdevaw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Times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TimesRoman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CTimesRoman"/>
              </a:rPr>
              <a:t>izgradwa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I</a:t>
            </a:r>
            <a:r>
              <a:rPr b="0" lang="en-US" sz="2000" spc="-1" strike="noStrike">
                <a:solidFill>
                  <a:srgbClr val="ffffff"/>
                </a:solidFill>
                <a:latin typeface="CTimesRoman"/>
              </a:rPr>
              <a:t> faze</a:t>
            </a:r>
            <a:r>
              <a:rPr b="1" lang="en-US" sz="2000" spc="-1" strike="noStrike">
                <a:solidFill>
                  <a:srgbClr val="ffffff"/>
                </a:solidFill>
                <a:latin typeface="CTimes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TimesRoman"/>
              </a:rPr>
              <a:t>sistema Rzav za vodosnabdevawe 5 op{tina (Ariqe, Po`ega, Lu~ani, ^a~ak i Gorwi Milanovac</a:t>
            </a:r>
            <a:r>
              <a:rPr b="1" lang="en-US" sz="2000" spc="-1" strike="noStrike">
                <a:solidFill>
                  <a:srgbClr val="ffffff"/>
                </a:solidFill>
                <a:latin typeface="CTimes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Times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TimesRoman"/>
              </a:rPr>
              <a:t>- </a:t>
            </a:r>
            <a:r>
              <a:rPr b="0" i="1" lang="en-US" sz="2000" spc="-1" strike="noStrike">
                <a:solidFill>
                  <a:srgbClr val="ffffff"/>
                </a:solidFill>
                <a:latin typeface="CTimesRoman"/>
              </a:rPr>
              <a:t>projekti rekonstrukcije magistralnih cevovo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TimesRoman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TimesRoman"/>
              </a:rPr>
              <a:t>- projekti kaptirawa izvori{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Times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TimesRoman"/>
              </a:rPr>
              <a:t>- </a:t>
            </a:r>
            <a:r>
              <a:rPr b="0" i="1" lang="en-US" sz="2000" spc="-1" strike="noStrike">
                <a:solidFill>
                  <a:srgbClr val="ffffff"/>
                </a:solidFill>
                <a:latin typeface="CTimesRoman"/>
              </a:rPr>
              <a:t>projekti rekonstrukcija gradskih i seoskih vodovo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TimesRoman"/>
              </a:rPr>
              <a:t>Deponij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Times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TimesRoman"/>
              </a:rPr>
              <a:t>- izrada studija i projekata za deponije komunalnog i industrijskog otpada na nivou celog Okrug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523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762120"/>
            <a:ext cx="7543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Times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TimesRoman"/>
              </a:rPr>
              <a:t>Prioriteti u privredi</a:t>
            </a:r>
            <a:r>
              <a:rPr b="0" lang="en-US" sz="2400" spc="-1" strike="noStrike">
                <a:solidFill>
                  <a:srgbClr val="ffffff"/>
                </a:solidFill>
                <a:latin typeface="CTimes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TimesRoman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CTimesRoman"/>
              </a:rPr>
              <a:t>Industrija i gra|evinarstvo</a:t>
            </a:r>
            <a:r>
              <a:rPr b="0" lang="en-US" sz="2000" spc="-1" strike="noStrike">
                <a:solidFill>
                  <a:srgbClr val="ffffff"/>
                </a:solidFill>
                <a:latin typeface="CTimes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Times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Times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TimesRoman"/>
              </a:rPr>
              <a:t>Revitalizacija postoje}ih proizvodnih kapaciteta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Times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Times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TimesRoman"/>
              </a:rPr>
              <a:t>Ubrzawe procesa privatizacij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Times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Times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TimesRoman"/>
              </a:rPr>
              <a:t>Uvo|ewe novih tehnologij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Times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Times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TimesRoman"/>
              </a:rPr>
              <a:t>Pro{irewe postoje}ih proizvodnih programa proizvodima vi{eg  stepena prerad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Times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Times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TimesRoman"/>
              </a:rPr>
              <a:t>Eksploatacija i prerada kamena u industriji gra|evinskog materijala i wegova upotreba u gra|evinarstv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Times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Times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TimesRoman"/>
              </a:rPr>
              <a:t>Istra`ivawe novih rudnih nalazi{ta u oblasti eksloatacije kamena, obojenih metala i nemetal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32868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360" y="762120"/>
            <a:ext cx="7543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TimesRoman"/>
              </a:rPr>
              <a:t>	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CTimesRoman"/>
              </a:rPr>
              <a:t>Poqoprivreda</a:t>
            </a:r>
            <a:r>
              <a:rPr b="0" lang="en-US" sz="2200" spc="-1" strike="noStrike">
                <a:solidFill>
                  <a:srgbClr val="ffffff"/>
                </a:solidFill>
                <a:latin typeface="CTimes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TimesRoman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TimesRoman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CTimesRoman"/>
              </a:rPr>
              <a:t>Sto~arstvo</a:t>
            </a:r>
            <a:r>
              <a:rPr b="0" lang="en-US" sz="1800" spc="-1" strike="noStrike">
                <a:solidFill>
                  <a:srgbClr val="ffffff"/>
                </a:solidFill>
                <a:latin typeface="CTimesRoman"/>
              </a:rPr>
              <a:t> - aktivirawe postoje}ih kapaciteta, izgradwa novih mini farmi, rad na selekciji poboq{awu rasnog sastava i na~inu gajewa proizvodnih grla</a:t>
            </a:r>
            <a:r>
              <a:rPr b="0" lang="en-US" sz="1800" spc="-1" strike="noStrike">
                <a:solidFill>
                  <a:srgbClr val="ffffff"/>
                </a:solidFill>
                <a:latin typeface="CTimes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Times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Times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TimesRoman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CTimesRoman"/>
              </a:rPr>
              <a:t>Vo}arstvo - </a:t>
            </a:r>
            <a:r>
              <a:rPr b="0" lang="en-US" sz="1800" spc="-1" strike="noStrike">
                <a:solidFill>
                  <a:srgbClr val="ffffff"/>
                </a:solidFill>
                <a:latin typeface="CTimesRoman"/>
              </a:rPr>
              <a:t>pro{irewe i podizawe kvaliteta proizvodwe jagodastog vo}a, {qiva i jabuka. Izgradwa novih i osavremewavawe postoje}ih kapaciteta za  preradu vo}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TimesRoman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CTimesRoman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CTimesRoman"/>
              </a:rPr>
              <a:t>Ratarstvo</a:t>
            </a:r>
            <a:r>
              <a:rPr b="0" lang="en-US" sz="1800" spc="-1" strike="noStrike">
                <a:solidFill>
                  <a:srgbClr val="ffffff"/>
                </a:solidFill>
                <a:latin typeface="CTimesRoman"/>
              </a:rPr>
              <a:t> - razvoj proizvodwe koji obezbe|uju sto~arsku proizvodwu sa kvalitetnim hranivima: sila`a, kvalitetno seno od trava, leguminoza i detelina. Proizvodwa povrtarskih kultura za postoje}e preradne kapacitete i lokalnu potro{wu. Osavremewavawe proizvodwe krompira</a:t>
            </a:r>
            <a:r>
              <a:rPr b="0" lang="en-US" sz="1800" spc="-1" strike="noStrike">
                <a:solidFill>
                  <a:srgbClr val="ffffff"/>
                </a:solidFill>
                <a:latin typeface="CTimes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Times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TimesRoman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CTimesRoman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CTimesRoman"/>
              </a:rPr>
              <a:t>Ribarstvo</a:t>
            </a:r>
            <a:r>
              <a:rPr b="0" lang="en-US" sz="1800" spc="-1" strike="noStrike">
                <a:solidFill>
                  <a:srgbClr val="ffffff"/>
                </a:solidFill>
                <a:latin typeface="CTimesRoman"/>
              </a:rPr>
              <a:t> - izgradwa novih i rekonstrukcija postoje}ih pastrmskih ribwak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32868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9144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TimesRoman"/>
              </a:rPr>
              <a:t>	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CTimesRoman"/>
              </a:rPr>
              <a:t>Turizam i ugostiteqstvo</a:t>
            </a:r>
            <a:r>
              <a:rPr b="0" lang="en-US" sz="2200" spc="-1" strike="noStrike">
                <a:solidFill>
                  <a:srgbClr val="ffffff"/>
                </a:solidFill>
                <a:latin typeface="CTimes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Times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Times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TimesRoman"/>
              </a:rPr>
              <a:t>Razvoj kapaciteta postoje}ih turisti~kih centara sa mogu}no{}u pru`awa novih sadr`aja - razvoj planinskog, bawskog, sportsko-rekreativnog, kongresnog i seoskog turizma. </a:t>
            </a:r>
            <a:r>
              <a:rPr b="0" lang="en-US" sz="2000" spc="-1" strike="noStrike">
                <a:solidFill>
                  <a:srgbClr val="ffffff"/>
                </a:solidFill>
                <a:latin typeface="CTimes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Times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Times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Times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TimesRoman"/>
              </a:rPr>
              <a:t>Povezivawe turisti~kih potencijala bliskih regija/op{tina Zlatiborskog okruga  u jedinstvenu turisti~ku ponudu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Times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Times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TimesRoman"/>
              </a:rPr>
              <a:t>Ispitivawe mogu}nosti eksploatacije termalnih i mineralnih izvora vode  ( Priboj, Zlatibor, Mokra Gora, Kosjeri} 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32868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8380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TimesRoman"/>
              </a:rPr>
              <a:t>Prioriteti u javnim slu`ba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Times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Times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TimesRoman"/>
              </a:rPr>
              <a:t>Sanacije i rekonstrukcije objekata, opremawe kabineta u oblasti obrazovawa, fizi~ke kulture, zdravstva i kulture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Times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Times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TimesRoman"/>
              </a:rPr>
              <a:t>U oblasti socijalne za{tite prioritet je izgradwa gerontolo{kog centra jer Zlatiborski okrug ne poseduje takvu ustanovu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Times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Times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TimesRoman"/>
              </a:rPr>
              <a:t>Dovr{etak zgrade Istorijskog arhiva u U`icu.</a:t>
            </a:r>
            <a:r>
              <a:rPr b="0" lang="en-US" sz="2200" spc="-1" strike="noStrike">
                <a:solidFill>
                  <a:srgbClr val="ffffff"/>
                </a:solidFill>
                <a:latin typeface="CTimes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Times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Times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TimesRoman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523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68544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TimesRoman"/>
              </a:rPr>
              <a:t>Limitiraju}i faktori razvoj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TimesRoman"/>
              </a:rPr>
              <a:t>-Nedovoqno razvijena i ruinirana infrastruktura (ilustracija: 2/3 modernizovane putne mre`e starije je od 25 godina {to je po normama vek eksploatacije kolovoza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TimesRoman"/>
              </a:rPr>
              <a:t>-Spora privatizacija i ote`ano uspostavqawe komunikacije sa strate{kim partnerim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TimesRoman"/>
              </a:rPr>
              <a:t>- Zastarelost oprem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TimesRoman"/>
              </a:rPr>
              <a:t>- Negativna stopa prirodnog prira{taja stanovni{tva u svim op{tinama Okruga osim Sjenice i visoka starost populacij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TimesRoman"/>
              </a:rPr>
              <a:t>- Nedovoqna iskori{}enost postoje}ih i izgra|enost novih kapaciteta u poqoprivred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TimesRoman"/>
              </a:rPr>
              <a:t>- Nedostatak dugoro~nih izvora sredstav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066680" y="1295280"/>
            <a:ext cx="687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58680" y="1279440"/>
            <a:ext cx="69501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CTimesRoman"/>
              </a:rPr>
              <a:t>Osnovni podaci o </a:t>
            </a:r>
            <a:br>
              <a:rPr sz="4000"/>
            </a:br>
            <a:r>
              <a:rPr b="0" lang="en-US" sz="4000" spc="-1" strike="noStrike">
                <a:solidFill>
                  <a:srgbClr val="cc9900"/>
                </a:solidFill>
                <a:latin typeface="CTimesRoman"/>
              </a:rPr>
              <a:t>Zlatiborskom okrugu</a:t>
            </a:r>
            <a:endParaRPr b="0" lang="en-US" sz="40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543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TimesRoman"/>
              </a:rPr>
              <a:t>Geografski polo`aj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Times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Times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TimesRoman"/>
              </a:rPr>
              <a:t>Podru~je Zlatiborskog okruga nalazi se u jugozapadnom delu Republike. Grani~i se sa Federacijom BiH (</a:t>
            </a:r>
            <a:r>
              <a:rPr b="0" i="1" lang="en-US" sz="2000" spc="-1" strike="noStrike">
                <a:solidFill>
                  <a:srgbClr val="ffffff"/>
                </a:solidFill>
                <a:latin typeface="CTimesRoman"/>
              </a:rPr>
              <a:t>du`ina granice oko 160 km</a:t>
            </a:r>
            <a:r>
              <a:rPr b="0" lang="en-US" sz="2400" spc="-1" strike="noStrike">
                <a:solidFill>
                  <a:srgbClr val="ffffff"/>
                </a:solidFill>
                <a:latin typeface="CTimesRoman"/>
              </a:rPr>
              <a:t>), Republikom Crnom Gorom (</a:t>
            </a:r>
            <a:r>
              <a:rPr b="0" i="1" lang="en-US" sz="2000" spc="-1" strike="noStrike">
                <a:solidFill>
                  <a:srgbClr val="ffffff"/>
                </a:solidFill>
                <a:latin typeface="CTimesRoman"/>
              </a:rPr>
              <a:t>du`ina granice oko 112 km</a:t>
            </a:r>
            <a:r>
              <a:rPr b="0" lang="en-US" sz="2400" spc="-1" strike="noStrike">
                <a:solidFill>
                  <a:srgbClr val="ffffff"/>
                </a:solidFill>
                <a:latin typeface="CTimesRoman"/>
              </a:rPr>
              <a:t>) i ~etiri okruga - Ma~vanski, Kolubarski, Moravi~ki i Ra{k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32868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040" y="9144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TimesRoman"/>
              </a:rPr>
              <a:t>Veli~i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Times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Times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TimesRoman"/>
              </a:rPr>
              <a:t>Po povr{ini (</a:t>
            </a:r>
            <a:r>
              <a:rPr b="0" i="1" lang="en-US" sz="2000" spc="-1" strike="noStrike">
                <a:solidFill>
                  <a:srgbClr val="ffffff"/>
                </a:solidFill>
                <a:latin typeface="CTimesRoman"/>
              </a:rPr>
              <a:t>6141 km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CTimes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CTimesRoman"/>
              </a:rPr>
              <a:t>) i broju naseqa (</a:t>
            </a:r>
            <a:r>
              <a:rPr b="0" i="1" lang="en-US" sz="2000" spc="-1" strike="noStrike">
                <a:solidFill>
                  <a:srgbClr val="ffffff"/>
                </a:solidFill>
                <a:latin typeface="CTimesRoman"/>
              </a:rPr>
              <a:t>439</a:t>
            </a:r>
            <a:r>
              <a:rPr b="0" lang="en-US" sz="2000" spc="-1" strike="noStrike">
                <a:solidFill>
                  <a:srgbClr val="ffffff"/>
                </a:solidFill>
                <a:latin typeface="CTimesRoman"/>
              </a:rPr>
              <a:t>) ovo je najve}i okrug u Republici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Times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Times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TimesRoman"/>
              </a:rPr>
              <a:t>Obuhvata deset op{tina: Ariqe, Bajina Ba{ta, Kosjeri}, Nova Varo{, Po`ega, Priboj, Prijepoqe, Sjenica, U`ice i ^ajetina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Times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Times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TimesRoman"/>
              </a:rPr>
              <a:t>Najve}i procenat povr{ine ima odlike brdsko -planinskog podru~ja i ~ini ga poqoprivredno zemqi{te sa 55,8%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Times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TimesRoman"/>
              </a:rPr>
              <a:t>Stanovni{tv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Times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Times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TimesRoman"/>
              </a:rPr>
              <a:t>Prema podacima iz 1991. Godine na podru~ju Okruga `ivi 335826 stanovnika, od ~ega je 65% radno sposobno, a 49,8% je aktivno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CTimesRoman"/>
              </a:rPr>
              <a:t>Komparativne prednosti</a:t>
            </a:r>
            <a:r>
              <a:rPr b="0" lang="en-US" sz="4200" spc="-1" strike="noStrike">
                <a:solidFill>
                  <a:srgbClr val="cc9900"/>
                </a:solidFill>
                <a:latin typeface="CTimesRoman"/>
              </a:rPr>
              <a:t> </a:t>
            </a:r>
            <a:br>
              <a:rPr sz="4200"/>
            </a:br>
            <a:r>
              <a:rPr b="0" lang="en-US" sz="4000" spc="-1" strike="noStrike">
                <a:solidFill>
                  <a:srgbClr val="cc9900"/>
                </a:solidFill>
                <a:latin typeface="CTimesRoman"/>
              </a:rPr>
              <a:t>Zlatiborskog okruga</a:t>
            </a:r>
            <a:endParaRPr b="0" lang="en-US" sz="40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Marlett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TimesRoman"/>
              </a:rPr>
              <a:t>Geostrate{ki polo`aj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Times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Times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TimesRoman"/>
              </a:rPr>
              <a:t>Granica sa Federacijom BiH i Crnom Gorom omogu}uje u perspektivi ve}i promet qudi i roba u me|ugrani~nom prometu, poboq{awe postoje}ih i izgradwu novih saobra}ajnica koje bi imale me|unarodni i republi~ki zna~aj  u povezivawu sa tr`i{tima zemaqa Evropske unije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32868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8380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Marlett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TimesRoman"/>
              </a:rPr>
              <a:t>prirodni potencijali</a:t>
            </a:r>
            <a:r>
              <a:rPr b="0" lang="en-US" sz="1800" spc="-1" strike="noStrike">
                <a:solidFill>
                  <a:srgbClr val="ffffff"/>
                </a:solidFill>
                <a:latin typeface="CTimesRoman"/>
              </a:rPr>
              <a:t> - </a:t>
            </a:r>
            <a:r>
              <a:rPr b="0" i="1" lang="en-US" sz="1800" spc="-1" strike="noStrike">
                <a:solidFill>
                  <a:srgbClr val="ffffff"/>
                </a:solidFill>
                <a:latin typeface="CTimesRoman"/>
              </a:rPr>
              <a:t>ekolo{ka o~uvanost voda, zemqe i vazduh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Times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Times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TimesRoman"/>
              </a:rPr>
              <a:t>hidroenergetski potencijali reka i wihovih pritoka (hidroelektrane, sistemi akumulacija i zalivni sistemi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Times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Times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TimesRoman"/>
              </a:rPr>
              <a:t>bogatstvo pija}om vodom (sistemi za vodosnabdevawe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Times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Times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TimesRoman"/>
              </a:rPr>
              <a:t>poqoprivredni potencijali - Tradicija i povoqni uslovi za sto~arstvo (ovce, goveda, sviwe i `ivina), zemqi{te i klimatski uslovi za vo}arstvo (jagodasto vo}e, {qive i jabuke) i proizvodwu zdrave hran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Times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Times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TimesRoman"/>
              </a:rPr>
              <a:t>bogatstvo {uma (drvna masa, lekovito biqe, {umski plodovi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Times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Times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TimesRoman"/>
              </a:rPr>
              <a:t>nalazi{ta ruda magnezita, gra|evinskog kamena,   opekarske gline i sirovina za proizvodwu kre~a i cement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Times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Times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32868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9144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Marlett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TimesRoman"/>
              </a:rPr>
              <a:t>Saobra}ajna infrastruktura</a:t>
            </a:r>
            <a:r>
              <a:rPr b="0" lang="en-US" sz="2000" spc="-1" strike="noStrike">
                <a:solidFill>
                  <a:srgbClr val="ffffff"/>
                </a:solidFill>
                <a:latin typeface="CTimes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Times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TimesRoman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CTimesRoman"/>
              </a:rPr>
              <a:t>Drumski saobra}aj</a:t>
            </a:r>
            <a:r>
              <a:rPr b="0" lang="en-US" sz="2000" spc="-1" strike="noStrike">
                <a:solidFill>
                  <a:srgbClr val="ffffff"/>
                </a:solidFill>
                <a:latin typeface="CTimesRoman"/>
              </a:rPr>
              <a:t> - </a:t>
            </a:r>
            <a:r>
              <a:rPr b="0" lang="en-US" sz="1900" spc="-1" strike="noStrike">
                <a:solidFill>
                  <a:srgbClr val="ffffff"/>
                </a:solidFill>
                <a:latin typeface="CTimesRoman"/>
              </a:rPr>
              <a:t>mre`a magistralnih, regionalnih i lokalnih puteva. Glavni putni pravci su U`ice - Nova Varo{ - Prijepoqe - ju`ni Jadran/Pqevqa, U`ice - Vi{egrad, U`ice - Bajina Ba{ta - Federacija BiH, U`ice - Po`ega - ^a~ak - Beograd/Kragujevac/Kraqevo, Po`ega - Ariqe - Ivawica - Sjenica, Po`ega - Kosjeri} - Vaqevo, Bistrica-Priboj-Rudo/Pqevqa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Times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TimesRoman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CTimesRoman"/>
              </a:rPr>
              <a:t>@elezni~ki saobra}aj</a:t>
            </a:r>
            <a:r>
              <a:rPr b="0" lang="en-US" sz="2000" spc="-1" strike="noStrike">
                <a:solidFill>
                  <a:srgbClr val="ffffff"/>
                </a:solidFill>
                <a:latin typeface="CTimesRoman"/>
              </a:rPr>
              <a:t> - pruga Beograd - Bar, krak Po`ega - ^a~ak - Stala}. </a:t>
            </a:r>
            <a:r>
              <a:rPr b="0" lang="en-US" sz="2000" spc="-1" strike="noStrike">
                <a:solidFill>
                  <a:srgbClr val="ffffff"/>
                </a:solidFill>
                <a:latin typeface="CTimes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Times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Times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TimesRoman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CTimesRoman"/>
              </a:rPr>
              <a:t>Vazdu{ni saobra}aj</a:t>
            </a:r>
            <a:r>
              <a:rPr b="0" lang="en-US" sz="2000" spc="-1" strike="noStrike">
                <a:solidFill>
                  <a:srgbClr val="ffffff"/>
                </a:solidFill>
                <a:latin typeface="CTimesRoman"/>
              </a:rPr>
              <a:t> - aerodrom Ponikve koji se koristi za vojne potrebe gra|en je sa ciqem da ima i civilnu tj. komercijalnu  upotrebu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Times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Times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32868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76212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Marlett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TimesRoman"/>
              </a:rPr>
              <a:t>Industrija i gra|evinarstv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TimesRoman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CTimesRoman"/>
              </a:rPr>
              <a:t>	</a:t>
            </a:r>
            <a:r>
              <a:rPr b="1" i="1" lang="en-US" sz="1900" spc="-1" strike="noStrike">
                <a:solidFill>
                  <a:srgbClr val="ffffff"/>
                </a:solidFill>
                <a:latin typeface="CTimesRoman"/>
              </a:rPr>
              <a:t>Postoje}i industrijski kapaciteti</a:t>
            </a:r>
            <a:r>
              <a:rPr b="0" lang="en-US" sz="1900" spc="-1" strike="noStrike">
                <a:solidFill>
                  <a:srgbClr val="ffffff"/>
                </a:solidFill>
                <a:latin typeface="CTimesRoman"/>
              </a:rPr>
              <a:t> -  Metalna industrija kao vode}a industrijska oblast u Okrugu  (prerada obojenih metala, metaloprera|iva~ka i proizvodwa saobra}ajnih sredstava), tekstilna industrija, industrija gra|evinskog materijala, drvna indrustrija, agroindustrija (proizvodwa i prerada u vo}arstvu i sto~arstvu), </a:t>
            </a:r>
            <a:r>
              <a:rPr b="0" lang="en-US" sz="1900" spc="-1" strike="noStrike">
                <a:solidFill>
                  <a:srgbClr val="ffffff"/>
                </a:solidFill>
                <a:latin typeface="CTimesRoman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CTimesRoman"/>
              </a:rPr>
              <a:t>	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TimesRoman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CTimesRoman"/>
              </a:rPr>
              <a:t>	</a:t>
            </a:r>
            <a:r>
              <a:rPr b="1" i="1" lang="en-US" sz="1900" spc="-1" strike="noStrike">
                <a:solidFill>
                  <a:srgbClr val="ffffff"/>
                </a:solidFill>
                <a:latin typeface="CTimesRoman"/>
              </a:rPr>
              <a:t>Gra|evinarstvo </a:t>
            </a:r>
            <a:r>
              <a:rPr b="0" lang="en-US" sz="1900" spc="-1" strike="noStrike">
                <a:solidFill>
                  <a:srgbClr val="ffffff"/>
                </a:solidFill>
                <a:latin typeface="CTimesRoman"/>
              </a:rPr>
              <a:t> - u kapacitetima su zastupqene sve grupacije od projektovawa i kompletnog in`eweringa, visokogradwe, niskogradwe, monta`ersko-instalacionih radova do kapaciteta zanatsko-zavr{nih radova u gra|evinarstvu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TimesRoman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CTimesRoman"/>
              </a:rPr>
              <a:t>	</a:t>
            </a:r>
            <a:r>
              <a:rPr b="1" i="1" lang="en-US" sz="1900" spc="-1" strike="noStrike">
                <a:solidFill>
                  <a:srgbClr val="ffffff"/>
                </a:solidFill>
                <a:latin typeface="CTimesRoman"/>
              </a:rPr>
              <a:t>Povoqna kadrovska struktura radne snage</a:t>
            </a:r>
            <a:r>
              <a:rPr b="0" lang="en-US" sz="1900" spc="-1" strike="noStrike">
                <a:solidFill>
                  <a:srgbClr val="ffffff"/>
                </a:solidFill>
                <a:latin typeface="CTimesRoman"/>
              </a:rPr>
              <a:t> u funkciji privrednog razvoja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TimesRoman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CTimesRoman"/>
              </a:rPr>
              <a:t>	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32868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99036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Marlett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TimesRoman"/>
              </a:rPr>
              <a:t>Uslovi za razvoj turizma i ugostiteqstv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Times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Times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TimesRoman"/>
              </a:rPr>
              <a:t>Povoqni prirodni uslovi i postoje}i kapaciteti - poznati planinski centri (Zlatibor, Nacionalni park Tara, Zlatar, Pe{terska visoravan), bawe (Priboj, Roge, Ro`anstvo), jezera (Kokin Brod, Radoinsko jezero, Sjeni~ko, Peru}ac), Muzej etno-selo Sirogojno, termalne i mineralne vode, pe}ine, kulturno-istorijski spomenici, turisti~ka atrakcija "[arganska osmica"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CTimesRoman"/>
              </a:rPr>
              <a:t>Prioriteti </a:t>
            </a:r>
            <a:br>
              <a:rPr sz="4000"/>
            </a:br>
            <a:r>
              <a:rPr b="0" lang="en-US" sz="4000" spc="-1" strike="noStrike">
                <a:solidFill>
                  <a:srgbClr val="cc9900"/>
                </a:solidFill>
                <a:latin typeface="CTimesRoman"/>
              </a:rPr>
              <a:t>Zlatiborskog okruga</a:t>
            </a:r>
            <a:endParaRPr b="0" lang="en-US" sz="40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TimesRoman"/>
              </a:rPr>
              <a:t>Prioritetni zadatak i uslov za definisawe razvoja Zlatiborskog okruga jeste izrada Prostornog plana podru~ja okruga/regi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TimesRoman"/>
              </a:rPr>
              <a:t>Prioriteti u infrastruktur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TimesRoman"/>
              </a:rPr>
              <a:t>	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CTimesRoman"/>
              </a:rPr>
              <a:t>Energetika</a:t>
            </a:r>
            <a:r>
              <a:rPr b="0" lang="en-US" sz="2000" spc="-1" strike="noStrike">
                <a:solidFill>
                  <a:srgbClr val="ffffff"/>
                </a:solidFill>
                <a:latin typeface="CTimes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just">
              <a:lnSpc>
                <a:spcPct val="10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Times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TimesRoman"/>
              </a:rPr>
              <a:t>	</a:t>
            </a:r>
            <a:r>
              <a:rPr b="0" i="1" lang="en-US" sz="1900" spc="-1" strike="noStrike">
                <a:solidFill>
                  <a:srgbClr val="ffffff"/>
                </a:solidFill>
                <a:latin typeface="CTimesRoman"/>
              </a:rPr>
              <a:t>Gasovod</a:t>
            </a:r>
            <a:r>
              <a:rPr b="0" lang="en-US" sz="1900" spc="-1" strike="noStrike">
                <a:solidFill>
                  <a:srgbClr val="ffffff"/>
                </a:solidFill>
                <a:latin typeface="CTimesRoman"/>
              </a:rPr>
              <a:t> - izgradwa za Zlatiborski okrug, dovr{etak kraka deonica: Preqina -  Po`ega - Ariqe/ Kosjeri}/U`ice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just">
              <a:lnSpc>
                <a:spcPct val="10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TimesRoman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CTimesRoman"/>
              </a:rPr>
              <a:t>	</a:t>
            </a:r>
            <a:r>
              <a:rPr b="0" i="1" lang="en-US" sz="1900" spc="-1" strike="noStrike">
                <a:solidFill>
                  <a:srgbClr val="ffffff"/>
                </a:solidFill>
                <a:latin typeface="CTimesRoman"/>
              </a:rPr>
              <a:t>Elektri~na energija</a:t>
            </a:r>
            <a:r>
              <a:rPr b="0" lang="en-US" sz="1900" spc="-1" strike="noStrike">
                <a:solidFill>
                  <a:srgbClr val="ffffff"/>
                </a:solidFill>
                <a:latin typeface="CTimesRoman"/>
              </a:rPr>
              <a:t> - izgradwa objekata dalekovodne prenosne mre`e (110, 35 i 10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KV)</a:t>
            </a:r>
            <a:r>
              <a:rPr b="0" lang="en-US" sz="1900" spc="-1" strike="noStrike">
                <a:solidFill>
                  <a:srgbClr val="ffffff"/>
                </a:solidFill>
                <a:latin typeface="CTimesRoman"/>
              </a:rPr>
              <a:t>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Times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Times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Times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Times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9T21:16:12Z</dcterms:created>
  <dc:creator>LEKOVIC VIDOJE</dc:creator>
  <dc:description/>
  <dc:language>en-US</dc:language>
  <cp:lastModifiedBy> </cp:lastModifiedBy>
  <dcterms:modified xsi:type="dcterms:W3CDTF">2001-10-03T16:49:50Z</dcterms:modified>
  <cp:revision>11</cp:revision>
  <dc:subject/>
  <dc:title>Sredworo~ni program razvoja  Zlatiborskog okruga</dc:title>
</cp:coreProperties>
</file>