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B08-692B-4174-9AFA-6B9EC7F5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11F9-5F76-4A34-8E4B-DB72AC64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754D-CAB4-467D-8DFA-1F6ECAB3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9E1B-749B-40AE-8D71-CE55ED12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861A-79A0-4608-9290-7074BA44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289B-D8FF-45B0-B9AC-192E554D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2F7C-8F60-4864-A3CC-29C2C4DF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DACE-A163-47F2-B2B5-BA53A8F6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F3E9-31B0-4A64-8C6E-DAF935DB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8C4F-63C0-46A9-BDE8-2D6CB090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44A0-A46E-4482-AF5B-545C7BEF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189-DB17-459E-A98D-006ACF90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B014-44DF-4D71-882A-9E37CB0F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8775-1DFD-4D9C-8497-2E735815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E2DA-73B7-48A6-8EA9-3199EE4F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05ED-4E58-4CCE-84BF-901C3FF1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F9A8-021C-49EE-9180-D90A61F4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ACF-E537-48CB-8588-D1B78CAC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543-F3A9-4541-AD79-BD926A83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9D13-F5DA-4FCA-B39F-5B84E65E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4606-E907-4045-B4A8-82E25CF3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601-B94A-4DB0-9EF9-46FB44AF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EB0-A7E8-4787-91BF-75148787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DB22-EDEF-42EA-A4F2-413A1CEB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634E-7935-46C6-89E0-84D7CAAEAAC4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AD1D-B76E-4F94-9B04-CAD8B26D620D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95320" y="60948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600" spc="-1" strike="noStrike">
                <a:solidFill>
                  <a:srgbClr val="000000"/>
                </a:solidFill>
                <a:latin typeface="Times New Roman"/>
              </a:rPr>
              <a:t>ЗАПАДНО-БАЧКИ ОКРУГ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419720" y="1676520"/>
            <a:ext cx="4572000" cy="441936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ОПШТИН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атин, Кула, Оџаци, Сомбор.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1001"/>
              </a:spcBef>
              <a:spcAft>
                <a:spcPts val="1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СТАНОВНИКА: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5.916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1001"/>
              </a:spcBef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А:   2.420 км</a:t>
            </a:r>
            <a:r>
              <a:rPr b="0" i="1" lang="sr-C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1001"/>
              </a:spcBef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 ПОЉОПРИВРЕДНЕ ПОВРШИНЕ: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,4      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1001"/>
              </a:spcBef>
              <a:spcAft>
                <a:spcPts val="1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ПОВРШИНЕ ПОД ШУМАМА:  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1001"/>
              </a:spcBef>
              <a:spcAft>
                <a:spcPts val="1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ЗАПОСЛЕНИХ:  51.833                               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1001"/>
              </a:spcBef>
              <a:spcAft>
                <a:spcPts val="1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НЕЗАПОСЛЕНИХ:   23.887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0" name="okruzic5" descr=""/>
          <p:cNvPicPr/>
          <p:nvPr/>
        </p:nvPicPr>
        <p:blipFill>
          <a:blip r:embed="rId8"/>
          <a:stretch/>
        </p:blipFill>
        <p:spPr>
          <a:xfrm>
            <a:off x="347760" y="880920"/>
            <a:ext cx="3709800" cy="52261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</a:rPr>
              <a:t>ПРИОРИТЕТИ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5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ФРАСТРУКТУРА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7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ГАСИФИКАЦИЈ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105000"/>
              </a:lnSpc>
              <a:spcBef>
                <a:spcPts val="1463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ЕГИОНАЛНИ ВОДОПРИВРЕДНИ СИСТЕМ “СЕВЕРНА БАЧКА”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110000"/>
              </a:lnSpc>
              <a:spcBef>
                <a:spcPts val="1576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ЕКОНСТРУКЦИЈА МАГИСТРАЛНИХ И РЕГИОНАЛНИХ ПУТЕВ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110000"/>
              </a:lnSpc>
              <a:spcBef>
                <a:spcPts val="123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ЕАЛИЗАЦИЈА КАРГО И ПУТНИЧКОГ АЕРОДРОМА У СОМБОРУ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70000"/>
              </a:lnSpc>
              <a:spcBef>
                <a:spcPts val="22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ДАЛЕКОВОД “СОМБОР-СУБОТИЦА” (400 КВ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110000"/>
              </a:lnSpc>
              <a:spcBef>
                <a:spcPts val="123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АНАЦИЈА ЕКОЛОШКЕ ДЕВАСТАЦИЈЕ ПОДУНАВСКИХ ШУМ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11:27:52Z</dcterms:created>
  <dc:creator>No Name</dc:creator>
  <dc:description/>
  <dc:language>en-US</dc:language>
  <cp:lastModifiedBy>No Name</cp:lastModifiedBy>
  <dcterms:modified xsi:type="dcterms:W3CDTF">2001-10-03T17:12:10Z</dcterms:modified>
  <cp:revision>19</cp:revision>
  <dc:subject/>
  <dc:title>МОРАВИЧКИ ОКРУГ</dc:title>
</cp:coreProperties>
</file>