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gif" ContentType="image/gif"/>
  <Override PartName="/ppt/media/image6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8F84-66E0-4C2E-8FA8-A0C1E91F5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522E-E50A-4E05-AFBA-74BC52AA0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B753-BE34-43BC-B66D-E65D5B439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5145-4540-47E3-917A-90A32ED82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3BE31-365A-403B-9B21-0FB3FFA56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5DCDD-7D3D-4201-BC3F-A72B3243D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8E0FA-67DE-4D31-85DF-4D8933379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24D30-1192-4813-A79A-086F5E5FA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4751B-D9D6-418D-BE10-6FBF444A3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7143F-51B6-4B0B-88C7-52952F936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557BC-9224-481A-BAE5-EBE17C40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EFB0-464B-4C3E-ACAD-B71A8A09F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A8BEF-EE5F-4416-98B0-4A9A5257D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BE0E2-FD4B-45A0-B4D1-B8DFB36D3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4CBFA-FD04-4A41-8120-C1E4E2E9D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D9284-86A0-4B3A-B181-5E604009E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B20BA-D322-4AB0-952F-1BF036D93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A676-7081-4D6D-A239-427E31795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5218-B0DE-4EDD-99F2-C0A18090C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7108-4431-4359-9AC1-4811A8D40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089E-1208-496D-AB5A-6A7371442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DA11-961F-49DE-9AB1-023552676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6319-F630-4DA8-9E96-5D28CD9E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57C2-CE76-4D9A-9BB7-DAFB636E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9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5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1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4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C0D6C-7242-4A8F-82F1-48E050467CED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108000"/>
            <a:ext cx="9101160" cy="6750000"/>
            <a:chOff x="0" y="108000"/>
            <a:chExt cx="9101160" cy="6750000"/>
          </a:xfrm>
        </p:grpSpPr>
        <p:grpSp>
          <p:nvGrpSpPr>
            <p:cNvPr id="99" name=""/>
            <p:cNvGrpSpPr/>
            <p:nvPr/>
          </p:nvGrpSpPr>
          <p:grpSpPr>
            <a:xfrm>
              <a:off x="0" y="108000"/>
              <a:ext cx="9101160" cy="6489720"/>
              <a:chOff x="0" y="108000"/>
              <a:chExt cx="9101160" cy="648972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0" y="228600"/>
                <a:ext cx="9096480" cy="6369120"/>
                <a:chOff x="0" y="228600"/>
                <a:chExt cx="9096480" cy="636912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0" y="936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0" y="1731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0" y="25588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0" y="3354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0" y="4179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0" y="49752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5802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6597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9" name=""/>
                <p:cNvGrpSpPr/>
                <p:nvPr/>
              </p:nvGrpSpPr>
              <p:grpSpPr>
                <a:xfrm>
                  <a:off x="766800" y="228600"/>
                  <a:ext cx="1547640" cy="6369120"/>
                  <a:chOff x="766800" y="228600"/>
                  <a:chExt cx="1547640" cy="6369120"/>
                </a:xfrm>
              </p:grpSpPr>
              <p:grpSp>
                <p:nvGrpSpPr>
                  <p:cNvPr id="110" name=""/>
                  <p:cNvGrpSpPr/>
                  <p:nvPr/>
                </p:nvGrpSpPr>
                <p:grpSpPr>
                  <a:xfrm>
                    <a:off x="766800" y="228600"/>
                    <a:ext cx="1547640" cy="1503360"/>
                    <a:chOff x="766800" y="228600"/>
                    <a:chExt cx="1547640" cy="1503360"/>
                  </a:xfrm>
                </p:grpSpPr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766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15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15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766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85572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169560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169560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85572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9" name=""/>
                  <p:cNvGrpSpPr/>
                  <p:nvPr/>
                </p:nvGrpSpPr>
                <p:grpSpPr>
                  <a:xfrm>
                    <a:off x="766800" y="1851120"/>
                    <a:ext cx="1547280" cy="1503360"/>
                    <a:chOff x="766800" y="1851120"/>
                    <a:chExt cx="1547280" cy="1503360"/>
                  </a:xfrm>
                </p:grpSpPr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7668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1562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156276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7668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85500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169524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169524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85500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8" name=""/>
                  <p:cNvGrpSpPr/>
                  <p:nvPr/>
                </p:nvGrpSpPr>
                <p:grpSpPr>
                  <a:xfrm>
                    <a:off x="766800" y="3471840"/>
                    <a:ext cx="1547280" cy="1503360"/>
                    <a:chOff x="766800" y="3471840"/>
                    <a:chExt cx="1547280" cy="1503360"/>
                  </a:xfrm>
                </p:grpSpPr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7668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1562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156276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7668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85500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69524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69524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85500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766800" y="5094360"/>
                    <a:ext cx="1547280" cy="1503360"/>
                    <a:chOff x="766800" y="5094360"/>
                    <a:chExt cx="1547280" cy="1503360"/>
                  </a:xfrm>
                </p:grpSpPr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7668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1562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156276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7668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85500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169524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169524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85500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2462040" y="228600"/>
                  <a:ext cx="1548000" cy="6369120"/>
                  <a:chOff x="2462040" y="228600"/>
                  <a:chExt cx="1548000" cy="6369120"/>
                </a:xfrm>
              </p:grpSpPr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2462040" y="228600"/>
                    <a:ext cx="1548000" cy="1503360"/>
                    <a:chOff x="2462040" y="228600"/>
                    <a:chExt cx="1548000" cy="1503360"/>
                  </a:xfrm>
                </p:grpSpPr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24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32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32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24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25509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33908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33908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25509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6" name=""/>
                  <p:cNvGrpSpPr/>
                  <p:nvPr/>
                </p:nvGrpSpPr>
                <p:grpSpPr>
                  <a:xfrm>
                    <a:off x="2462040" y="1851120"/>
                    <a:ext cx="1548000" cy="1503360"/>
                    <a:chOff x="2462040" y="1851120"/>
                    <a:chExt cx="1548000" cy="1503360"/>
                  </a:xfrm>
                </p:grpSpPr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24620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32580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32580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24620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25502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3390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3390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25502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2462040" y="3471840"/>
                    <a:ext cx="1548000" cy="1503360"/>
                    <a:chOff x="2462040" y="3471840"/>
                    <a:chExt cx="1548000" cy="150336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24620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32580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32580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24620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25502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3390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3390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25502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2462040" y="5094360"/>
                    <a:ext cx="1548000" cy="1503360"/>
                    <a:chOff x="2462040" y="5094360"/>
                    <a:chExt cx="1548000" cy="150336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24620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32580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32580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24620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25502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3390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3390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25502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4157640" y="228600"/>
                  <a:ext cx="1548000" cy="6369120"/>
                  <a:chOff x="4157640" y="228600"/>
                  <a:chExt cx="1548000" cy="6369120"/>
                </a:xfrm>
              </p:grpSpPr>
              <p:grpSp>
                <p:nvGrpSpPr>
                  <p:cNvPr id="184" name=""/>
                  <p:cNvGrpSpPr/>
                  <p:nvPr/>
                </p:nvGrpSpPr>
                <p:grpSpPr>
                  <a:xfrm>
                    <a:off x="4157640" y="228600"/>
                    <a:ext cx="1548000" cy="1503360"/>
                    <a:chOff x="4157640" y="228600"/>
                    <a:chExt cx="1548000" cy="1503360"/>
                  </a:xfrm>
                </p:grpSpPr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41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49528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49528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41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42465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50864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50864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42465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4157640" y="1851120"/>
                    <a:ext cx="1548000" cy="1503360"/>
                    <a:chOff x="4157640" y="1851120"/>
                    <a:chExt cx="1548000" cy="150336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41576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4953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49536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41576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4245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5086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5086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4245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4157640" y="3471840"/>
                    <a:ext cx="1548000" cy="1503360"/>
                    <a:chOff x="4157640" y="3471840"/>
                    <a:chExt cx="1548000" cy="1503360"/>
                  </a:xfrm>
                </p:grpSpPr>
                <p:sp>
                  <p:nvSpPr>
                    <p:cNvPr id="203" name=""/>
                    <p:cNvSpPr/>
                    <p:nvPr/>
                  </p:nvSpPr>
                  <p:spPr>
                    <a:xfrm>
                      <a:off x="41576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4" name=""/>
                    <p:cNvSpPr/>
                    <p:nvPr/>
                  </p:nvSpPr>
                  <p:spPr>
                    <a:xfrm>
                      <a:off x="4953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5" name=""/>
                    <p:cNvSpPr/>
                    <p:nvPr/>
                  </p:nvSpPr>
                  <p:spPr>
                    <a:xfrm>
                      <a:off x="49536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>
                      <a:off x="41576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" name=""/>
                    <p:cNvSpPr/>
                    <p:nvPr/>
                  </p:nvSpPr>
                  <p:spPr>
                    <a:xfrm>
                      <a:off x="4245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" name=""/>
                    <p:cNvSpPr/>
                    <p:nvPr/>
                  </p:nvSpPr>
                  <p:spPr>
                    <a:xfrm>
                      <a:off x="5086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5086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4245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1" name=""/>
                  <p:cNvGrpSpPr/>
                  <p:nvPr/>
                </p:nvGrpSpPr>
                <p:grpSpPr>
                  <a:xfrm>
                    <a:off x="4157640" y="5094360"/>
                    <a:ext cx="1548000" cy="1503360"/>
                    <a:chOff x="4157640" y="5094360"/>
                    <a:chExt cx="1548000" cy="1503360"/>
                  </a:xfrm>
                </p:grpSpPr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41576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4953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49536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>
                      <a:off x="41576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4245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5086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>
                      <a:off x="5086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4245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5853240" y="228600"/>
                  <a:ext cx="1547640" cy="6369120"/>
                  <a:chOff x="5853240" y="228600"/>
                  <a:chExt cx="1547640" cy="6369120"/>
                </a:xfrm>
              </p:grpSpPr>
              <p:grpSp>
                <p:nvGrpSpPr>
                  <p:cNvPr id="221" name=""/>
                  <p:cNvGrpSpPr/>
                  <p:nvPr/>
                </p:nvGrpSpPr>
                <p:grpSpPr>
                  <a:xfrm>
                    <a:off x="5853240" y="228600"/>
                    <a:ext cx="1547640" cy="1503360"/>
                    <a:chOff x="5853240" y="228600"/>
                    <a:chExt cx="1547640" cy="1503360"/>
                  </a:xfrm>
                </p:grpSpPr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58532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66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66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58532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594216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67816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67816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594216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5853240" y="1851120"/>
                    <a:ext cx="1547280" cy="1503360"/>
                    <a:chOff x="5853240" y="1851120"/>
                    <a:chExt cx="1547280" cy="15033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>
                      <a:off x="5853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>
                      <a:off x="66492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>
                      <a:off x="66492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4" name=""/>
                    <p:cNvSpPr/>
                    <p:nvPr/>
                  </p:nvSpPr>
                  <p:spPr>
                    <a:xfrm>
                      <a:off x="58532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5941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678168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678168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5941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5853240" y="3471840"/>
                    <a:ext cx="1547280" cy="1503360"/>
                    <a:chOff x="5853240" y="3471840"/>
                    <a:chExt cx="1547280" cy="150336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5853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66492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66492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58532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5941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678168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678168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5941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5853240" y="5094360"/>
                    <a:ext cx="1547280" cy="1503360"/>
                    <a:chOff x="5853240" y="5094360"/>
                    <a:chExt cx="1547280" cy="1503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5853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66492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66492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58532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5941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678168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678168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5941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7548480" y="228600"/>
                  <a:ext cx="1548000" cy="6369120"/>
                  <a:chOff x="7548480" y="228600"/>
                  <a:chExt cx="1548000" cy="6369120"/>
                </a:xfrm>
              </p:grpSpPr>
              <p:grpSp>
                <p:nvGrpSpPr>
                  <p:cNvPr id="258" name=""/>
                  <p:cNvGrpSpPr/>
                  <p:nvPr/>
                </p:nvGrpSpPr>
                <p:grpSpPr>
                  <a:xfrm>
                    <a:off x="7548480" y="228600"/>
                    <a:ext cx="1548000" cy="1503360"/>
                    <a:chOff x="7548480" y="228600"/>
                    <a:chExt cx="1548000" cy="1503360"/>
                  </a:xfrm>
                </p:grpSpPr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75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83440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83440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75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763740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84772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84772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763740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7" name=""/>
                  <p:cNvGrpSpPr/>
                  <p:nvPr/>
                </p:nvGrpSpPr>
                <p:grpSpPr>
                  <a:xfrm>
                    <a:off x="7548480" y="1851120"/>
                    <a:ext cx="1548000" cy="1503360"/>
                    <a:chOff x="7548480" y="1851120"/>
                    <a:chExt cx="1548000" cy="1503360"/>
                  </a:xfrm>
                </p:grpSpPr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75484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83444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83444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754848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76366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84772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84772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76366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7548480" y="3471840"/>
                    <a:ext cx="1548000" cy="1503360"/>
                    <a:chOff x="7548480" y="3471840"/>
                    <a:chExt cx="1548000" cy="1503360"/>
                  </a:xfrm>
                </p:grpSpPr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75484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83444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83444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754848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76366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84772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84772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76366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5" name=""/>
                  <p:cNvGrpSpPr/>
                  <p:nvPr/>
                </p:nvGrpSpPr>
                <p:grpSpPr>
                  <a:xfrm>
                    <a:off x="7548480" y="5094360"/>
                    <a:ext cx="1548000" cy="1503360"/>
                    <a:chOff x="7548480" y="5094360"/>
                    <a:chExt cx="1548000" cy="1503360"/>
                  </a:xfrm>
                </p:grpSpPr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75484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83444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83444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754848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76366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84772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84772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76366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94" name=""/>
              <p:cNvGrpSpPr/>
              <p:nvPr/>
            </p:nvGrpSpPr>
            <p:grpSpPr>
              <a:xfrm>
                <a:off x="4680" y="108000"/>
                <a:ext cx="9096480" cy="0"/>
                <a:chOff x="4680" y="108000"/>
                <a:chExt cx="9096480" cy="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6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86040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7002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55600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3955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2512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0911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9468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78672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76420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848196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6" name=""/>
            <p:cNvGrpSpPr/>
            <p:nvPr/>
          </p:nvGrpSpPr>
          <p:grpSpPr>
            <a:xfrm>
              <a:off x="533520" y="1905120"/>
              <a:ext cx="8076960" cy="1676160"/>
              <a:chOff x="533520" y="1905120"/>
              <a:chExt cx="8076960" cy="1676160"/>
            </a:xfrm>
          </p:grpSpPr>
          <p:sp>
            <p:nvSpPr>
              <p:cNvPr id="307" name=""/>
              <p:cNvSpPr/>
              <p:nvPr/>
            </p:nvSpPr>
            <p:spPr>
              <a:xfrm>
                <a:off x="4572000" y="1905120"/>
                <a:ext cx="4038480" cy="8380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572000" y="2743200"/>
                <a:ext cx="4038480" cy="8380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33520" y="2743200"/>
                <a:ext cx="403848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33520" y="1905120"/>
                <a:ext cx="4038480" cy="8380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85800" y="2057400"/>
                <a:ext cx="7772400" cy="137160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E3204-C146-4D57-B0B8-31B2E283DBAF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posbul1a" descr=""/>
          <p:cNvPicPr/>
          <p:nvPr/>
        </p:nvPicPr>
        <p:blipFill>
          <a:blip r:embed="rId2"/>
          <a:stretch/>
        </p:blipFill>
        <p:spPr>
          <a:xfrm>
            <a:off x="4456080" y="3403440"/>
            <a:ext cx="246240" cy="246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3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647960" y="609480"/>
            <a:ext cx="41907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800" spc="-1" strike="noStrike">
                <a:solidFill>
                  <a:srgbClr val="000000"/>
                </a:solidFill>
                <a:latin typeface="Times New Roman"/>
              </a:rPr>
              <a:t>ТОПЛИЧКИ ОКРУГ</a:t>
            </a:r>
            <a:endParaRPr b="0" lang="en-US" sz="28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495320" y="1828440"/>
            <a:ext cx="4419720" cy="426708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12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 ОПШТИНА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25800"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це, Житорађа, Куршумлија, Прокупље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25800" indent="0" algn="just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25800" indent="-325800" algn="just">
              <a:lnSpc>
                <a:spcPct val="85000"/>
              </a:lnSpc>
              <a:spcBef>
                <a:spcPts val="1001"/>
              </a:spcBef>
              <a:spcAft>
                <a:spcPts val="10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 СТАНОВНИКА: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1.813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marL="325800" indent="-325800">
              <a:lnSpc>
                <a:spcPct val="85000"/>
              </a:lnSpc>
              <a:spcBef>
                <a:spcPts val="1001"/>
              </a:spcBef>
              <a:spcAft>
                <a:spcPts val="10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ШИНА:</a:t>
            </a:r>
            <a:r>
              <a:rPr b="0" i="1" lang="sr-C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31</a:t>
            </a:r>
            <a:r>
              <a:rPr b="0" i="1" lang="sr-C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м</a:t>
            </a:r>
            <a:r>
              <a:rPr b="0" i="1" lang="sr-C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marL="325800" indent="-325800">
              <a:lnSpc>
                <a:spcPct val="85000"/>
              </a:lnSpc>
              <a:spcBef>
                <a:spcPts val="1001"/>
              </a:spcBef>
              <a:spcAft>
                <a:spcPts val="10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 ПОЉОПРИВРЕДНЕ ПОВРШИНЕ:</a:t>
            </a:r>
            <a:r>
              <a:rPr b="0" i="1" lang="sr-C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,1       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marL="325800" indent="-325800">
              <a:lnSpc>
                <a:spcPct val="85000"/>
              </a:lnSpc>
              <a:spcBef>
                <a:spcPts val="1001"/>
              </a:spcBef>
              <a:spcAft>
                <a:spcPts val="1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ПОВРШИНЕ ПОД ШУМАМА:  41,8              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marL="325800" indent="-325800">
              <a:lnSpc>
                <a:spcPct val="85000"/>
              </a:lnSpc>
              <a:spcBef>
                <a:spcPts val="1001"/>
              </a:spcBef>
              <a:spcAft>
                <a:spcPts val="1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 ЗАПОСЛЕНИХ:  19.812</a:t>
            </a:r>
            <a:r>
              <a:rPr b="1" i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marL="325800" indent="-325800">
              <a:lnSpc>
                <a:spcPct val="85000"/>
              </a:lnSpc>
              <a:spcBef>
                <a:spcPts val="1125"/>
              </a:spcBef>
              <a:spcAft>
                <a:spcPts val="1125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 НЕЗАПОСЛЕНИХ: 10.571</a:t>
            </a:r>
            <a:r>
              <a:rPr b="0" i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80" name="okruzic21" descr=""/>
          <p:cNvPicPr/>
          <p:nvPr/>
        </p:nvPicPr>
        <p:blipFill>
          <a:blip r:embed="rId8"/>
          <a:stretch/>
        </p:blipFill>
        <p:spPr>
          <a:xfrm>
            <a:off x="347760" y="884160"/>
            <a:ext cx="3709800" cy="522612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КОМПАРАТИВНЕ ПРЕДНОСТИ</a:t>
            </a:r>
            <a:endParaRPr b="0" lang="en-US" sz="2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0060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ГЕОГРАФСКИ ПОЛОЖАЈ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АГРОЕКОНОМСКИ УСЛОВИ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КАДРОВСКИ ПОТЕНЦИЈАЛ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ПОВОЉНИ УСЛОВИ ЗА ПРОИЗВОДЊУ ЗДРАВЕ ХРАНЕ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РАЗВИЈЕНА ДРВНА, ТЕКСТИЛНА, ПРЕХРАМБЕНА, ИНДУСТРИЈА ДУВАНА И ИНДУСТРИЈА ЦРНЕ И ОБОЈЕНЕ МЕТАЛУРГИЈЕ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ТУРИЗАМ И УГОСТИТЕЉСТВО: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12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ПРОЛОМ БАЊА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12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ЛУКОВСКА БАЊА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12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КУРШУМЛИЈСКА БАЊА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12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ЂАВОЉА ВАРОШ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12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ЛОВНИ ТУРИЗАМ 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ВОДОТОКОВИ: СЛИВ РЕКЕ ТОПЛИЦЕ И ИЗВОРИШНИ ДЕО ПУСТЕ РЕКЕ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МИНЕРАЛНЕ И ТЕРМОМИНЕРАЛНЕ ВОДЕ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МИНЕРАЛНЕ СИРОВИНЕ И РУДЕ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533520" y="914040"/>
            <a:ext cx="8076960" cy="472428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МИТИРАЈУЋИ ФАКТОРИ БРЖЕГ ПРИВРЕДНОГ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А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609480" indent="0" algn="ctr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60948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spcBef>
                <a:spcPts val="400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ПОРУШЕНИ И ОШТЕЋЕНИ ПРИВРЕДНИ И ИНФРАСТРУКТУРНИ КАПАЦИТЕТИ ЗА ВРЕМЕ НАТО БОМБАРДОВАЊА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НЕДОВОЉНА ИЗГРАЂЕНОСТ ИНФРАСТРУКТУРНИХ ОБЈЕКАТА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ГУБИТАК ТРАДИЦИОНАЛНИХ ТРЖИШТА У ПЕРИОДУ ПРИВРЕДНИХ САНКЦИЈА И РАСПАДА СФРЈ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НЕПОВОЉНА СТРУКТУРА СТАНОВНИШТВА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lvl="1" marL="99072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РИОРИТЕТИ</a:t>
            </a:r>
            <a:endParaRPr b="0" lang="en-US" sz="2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7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ИНФРАСТРУКТУРА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ЗАВРШЕТАК ВИШЕНАМЕНСКОГ СИСТЕМА ”СЕЛОВА”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МАГИСТРАЛНИ ПУТ М-25 ПРОКУПЉЕ-КУРШУМЛИЈА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МАГИСТРАЛНИ ПУТ М-25 (обилазница око Прокупља)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ПРОШИРЕЊЕ И РЕКОНСТРУКЦИЈА ПТТ КАБЛОВСКЕ МРЕЖЕ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marL="609480" indent="0">
              <a:lnSpc>
                <a:spcPct val="6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ЈАВНЕ СЛУЖБЕ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МЕДИЦИНСКИ ЦЕНТАР - НОВА БОЛНИЦА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3T11:27:52Z</dcterms:created>
  <dc:creator>No Name</dc:creator>
  <dc:description/>
  <dc:language>en-US</dc:language>
  <cp:lastModifiedBy>No Name</cp:lastModifiedBy>
  <dcterms:modified xsi:type="dcterms:W3CDTF">2001-10-04T07:15:36Z</dcterms:modified>
  <cp:revision>23</cp:revision>
  <dc:subject/>
  <dc:title>МОРАВИЧКИ ОКРУГ</dc:title>
</cp:coreProperties>
</file>