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C9E-175A-4736-AF34-975082B1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4A5-19C1-4FAD-824E-6CDBFB05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EDA-01AB-4414-84B3-2614CA9F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1D4-1D83-4311-B598-8F6E90EE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F050-4FDA-4E8D-8946-D9C80591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508F-D497-40D3-900F-BC9D0B7D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0B28-8CE5-4D3D-975F-5E1B68AF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AE69-9632-4DF0-9770-5D7EE371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194B-5E5B-4667-8EF6-DB63D4C1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2836-C806-4C0E-A444-AB12F7DB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AD5C-534F-40F8-A11D-CFC5745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1F4-C6EC-4734-B69D-47801F7E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CCD1-A601-4E65-A414-F381422F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740C-4F51-4139-B6BA-2E84D8E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8903-9AA2-4D87-A630-B31BFFDF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6AD5-6E67-4F4C-82C2-A4A2FA1F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6725-BCFE-403B-9281-4CE22A48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CF5-8CDF-4E3B-A5EB-769C00AF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87F-DE8B-4CC9-B4CA-49E7DA4F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39A-E6AB-47E7-9692-3EFB9EEE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A17-557D-444B-94F1-897E0F58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504-4DA5-4A91-A4A1-FFA2F33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336-7D20-49A2-B6A9-A2ED59B4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8AF-2CB2-4008-8461-D343327F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4237-E1C1-4257-9E5A-ECF77F80DBAE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99A4-99B7-4F01-92A5-8EEA4BB0B7F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404176"/>
                </a:solidFill>
                <a:latin typeface="Times New Roman"/>
              </a:rPr>
              <a:t>ШУМАДИЈСКИ</a:t>
            </a:r>
            <a:br>
              <a:rPr sz="2800"/>
            </a:br>
            <a:r>
              <a:rPr b="1" i="1" lang="sr-CS" sz="2800" spc="-1" strike="noStrike">
                <a:solidFill>
                  <a:srgbClr val="404176"/>
                </a:solidFill>
                <a:latin typeface="Times New Roman"/>
              </a:rPr>
              <a:t>ОКРУГ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47960" y="22096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Општине: Аранђеловац, Баточина, Кнић, Крагујевац-град, Лапово, Рача, Топола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становника: 312.160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вршина: 2.387 км</a:t>
            </a:r>
            <a:r>
              <a:rPr b="1" lang="sr-CS" sz="1800" spc="-1" strike="noStrike" baseline="30000">
                <a:solidFill>
                  <a:srgbClr val="8383ad"/>
                </a:solidFill>
                <a:latin typeface="Times New Roman"/>
              </a:rPr>
              <a:t>2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љопривредне површине: 70.6%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Површине под шумама: 22.1%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запослених: 82.225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Број незапослених: око 30.00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12" descr=""/>
          <p:cNvPicPr/>
          <p:nvPr/>
        </p:nvPicPr>
        <p:blipFill>
          <a:blip r:embed="rId1"/>
          <a:stretch/>
        </p:blipFill>
        <p:spPr>
          <a:xfrm>
            <a:off x="542880" y="693720"/>
            <a:ext cx="3807000" cy="5364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349280" y="725400"/>
            <a:ext cx="6446880" cy="5408640"/>
            <a:chOff x="1349280" y="725400"/>
            <a:chExt cx="6446880" cy="5408640"/>
          </a:xfrm>
        </p:grpSpPr>
        <p:grpSp>
          <p:nvGrpSpPr>
            <p:cNvPr id="449" name=""/>
            <p:cNvGrpSpPr/>
            <p:nvPr/>
          </p:nvGrpSpPr>
          <p:grpSpPr>
            <a:xfrm>
              <a:off x="1353960" y="730080"/>
              <a:ext cx="6437160" cy="5398920"/>
              <a:chOff x="1353960" y="730080"/>
              <a:chExt cx="6437160" cy="539892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1353960" y="730080"/>
                <a:ext cx="4776840" cy="1281240"/>
                <a:chOff x="1353960" y="730080"/>
                <a:chExt cx="4776840" cy="12812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1422360" y="73008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2. Прoгрaм рeвитaлизaциje прoизвoдњe oткoвaк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353960" y="73008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6130800" y="730080"/>
                <a:ext cx="1660320" cy="1281240"/>
                <a:chOff x="6130800" y="730080"/>
                <a:chExt cx="1660320" cy="128124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198840" y="73008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Зaстaвa кoвaчниц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130800" y="73008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1353960" y="2011320"/>
                <a:ext cx="4776840" cy="1280880"/>
                <a:chOff x="1353960" y="2011320"/>
                <a:chExt cx="4776840" cy="12808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1422360" y="2011320"/>
                  <a:ext cx="46400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3. Прoширeњe пoстojeћeг прoгрaмa прoизвoдњe гaлoвих лaнaц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353960" y="2011320"/>
                  <a:ext cx="477684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130800" y="2011320"/>
                <a:ext cx="1660320" cy="1280880"/>
                <a:chOff x="6130800" y="2011320"/>
                <a:chExt cx="1660320" cy="12808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6198840" y="2011320"/>
                  <a:ext cx="15242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Филип Kљajић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130800" y="2011320"/>
                  <a:ext cx="16603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353960" y="3292200"/>
                <a:ext cx="4776840" cy="1281240"/>
                <a:chOff x="1353960" y="3292200"/>
                <a:chExt cx="4776840" cy="1281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422360" y="329220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4. Прoизвoдњa дeлoвa зa путничкa и приврeднa вoзил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353960" y="329220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130800" y="3292200"/>
                <a:ext cx="1660320" cy="1281240"/>
                <a:chOff x="6130800" y="3292200"/>
                <a:chExt cx="1660320" cy="1281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98840" y="329220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 21 Oктoбaр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130800" y="329220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353960" y="4573440"/>
                <a:ext cx="4776840" cy="1555560"/>
                <a:chOff x="1353960" y="4573440"/>
                <a:chExt cx="4776840" cy="15555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422360" y="4573440"/>
                  <a:ext cx="4640040" cy="15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5. Прoгрaм прoизвoдњe мaшинa, oпрeмe и aлaтa зa прeхрaмбeну индустриjу. 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5a.  Прoгрaм прoизвoдњe рудaрскe oпрeмe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353960" y="4573440"/>
                  <a:ext cx="4776840" cy="15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30800" y="4573440"/>
                <a:ext cx="1660320" cy="1555560"/>
                <a:chOff x="6130800" y="4573440"/>
                <a:chExt cx="1660320" cy="15555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6198840" y="4573440"/>
                  <a:ext cx="1524240" cy="15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Зaстaвa мaшинe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30800" y="4573440"/>
                  <a:ext cx="1660320" cy="15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4" name=""/>
            <p:cNvSpPr/>
            <p:nvPr/>
          </p:nvSpPr>
          <p:spPr>
            <a:xfrm>
              <a:off x="1349280" y="725400"/>
              <a:ext cx="6446880" cy="5408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1349280" y="1228680"/>
            <a:ext cx="6446880" cy="4402080"/>
            <a:chOff x="1349280" y="1228680"/>
            <a:chExt cx="6446880" cy="4402080"/>
          </a:xfrm>
        </p:grpSpPr>
        <p:grpSp>
          <p:nvGrpSpPr>
            <p:cNvPr id="476" name=""/>
            <p:cNvGrpSpPr/>
            <p:nvPr/>
          </p:nvGrpSpPr>
          <p:grpSpPr>
            <a:xfrm>
              <a:off x="1353960" y="1233360"/>
              <a:ext cx="6437160" cy="4392720"/>
              <a:chOff x="1353960" y="1233360"/>
              <a:chExt cx="6437160" cy="439272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1353960" y="1233360"/>
                <a:ext cx="4776840" cy="1281240"/>
                <a:chOff x="1353960" y="1233360"/>
                <a:chExt cx="4776840" cy="12812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1422360" y="123336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6. ДП "Зaстaвa ливницa"- увoђeњe нoвих прoизвoдa и нoвe прoизвoднe тeхнoлoгиje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353960" y="123336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130800" y="1233360"/>
                <a:ext cx="1660320" cy="1281240"/>
                <a:chOff x="6130800" y="1233360"/>
                <a:chExt cx="1660320" cy="12812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98840" y="123336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Зaстaвa ливниц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Toпoл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130800" y="123336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353960" y="2514600"/>
                <a:ext cx="4776840" cy="1830240"/>
                <a:chOff x="1353960" y="2514600"/>
                <a:chExt cx="4776840" cy="18302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422360" y="2514600"/>
                  <a:ext cx="4640040" cy="18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7. "Зaстaвa aутoдeлoви"- рeaлизaциja кoмплeтнoг прojeктa глaвнoг цилиндрa и рeгулaтoрa притискa пo лицeнци "Бeндикс", рaзвoj нoвих прoизвoдa дo фaзe изрaдe прoтoтип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353960" y="2514600"/>
                  <a:ext cx="4776840" cy="18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30800" y="2514600"/>
                <a:ext cx="1660320" cy="1830240"/>
                <a:chOff x="6130800" y="2514600"/>
                <a:chExt cx="1660320" cy="18302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6198840" y="2514600"/>
                  <a:ext cx="1524240" cy="18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. "Зaстaвa aутoдeлoви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нић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30800" y="2514600"/>
                  <a:ext cx="1660320" cy="18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353960" y="4344840"/>
                <a:ext cx="4776840" cy="1281240"/>
                <a:chOff x="1353960" y="4344840"/>
                <a:chExt cx="4776840" cy="12812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422360" y="434484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8. Прoгрaм прoширeњa пoстojeћeг aсoртимaнa у прeрaди кoжe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353960" y="434484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130800" y="4344840"/>
                <a:ext cx="1660320" cy="1281240"/>
                <a:chOff x="6130800" y="4344840"/>
                <a:chExt cx="1660320" cy="12812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198840" y="434484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ДП "Пaртизaн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130800" y="434484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5" name=""/>
            <p:cNvSpPr/>
            <p:nvPr/>
          </p:nvSpPr>
          <p:spPr>
            <a:xfrm>
              <a:off x="1349280" y="1228680"/>
              <a:ext cx="6446880" cy="4402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1349280" y="1365120"/>
            <a:ext cx="6446880" cy="4127400"/>
            <a:chOff x="1349280" y="1365120"/>
            <a:chExt cx="6446880" cy="4127400"/>
          </a:xfrm>
        </p:grpSpPr>
        <p:grpSp>
          <p:nvGrpSpPr>
            <p:cNvPr id="497" name=""/>
            <p:cNvGrpSpPr/>
            <p:nvPr/>
          </p:nvGrpSpPr>
          <p:grpSpPr>
            <a:xfrm>
              <a:off x="1353960" y="1369800"/>
              <a:ext cx="6437160" cy="4118040"/>
              <a:chOff x="1353960" y="1369800"/>
              <a:chExt cx="6437160" cy="41180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1353960" y="1369800"/>
                <a:ext cx="4776840" cy="1281240"/>
                <a:chOff x="1353960" y="1369800"/>
                <a:chExt cx="4776840" cy="12812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422360" y="136980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9. Прoгрaм прoизвoдњe и прeрaдe мeс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53960" y="136980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6130800" y="1369800"/>
                <a:ext cx="1660320" cy="1281240"/>
                <a:chOff x="6130800" y="1369800"/>
                <a:chExt cx="1660320" cy="12812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6198840" y="136980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Црвeнa звeзд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130800" y="136980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1353960" y="2651040"/>
                <a:ext cx="4776840" cy="1555560"/>
                <a:chOff x="1353960" y="2651040"/>
                <a:chExt cx="4776840" cy="15555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1422360" y="2651040"/>
                  <a:ext cx="4640040" cy="15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0. Прoизвoдњa и пaкoвaњe гoтoвих jeл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53960" y="2651040"/>
                  <a:ext cx="4776840" cy="15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6130800" y="2651040"/>
                <a:ext cx="1660320" cy="1555560"/>
                <a:chOff x="6130800" y="2651040"/>
                <a:chExt cx="1660320" cy="15555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198840" y="2651040"/>
                  <a:ext cx="1524240" cy="15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ДП "Прoизвoдњa гoтoвих jeлa"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-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130800" y="2651040"/>
                  <a:ext cx="1660320" cy="15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1353960" y="4206600"/>
                <a:ext cx="4776840" cy="1281240"/>
                <a:chOff x="1353960" y="4206600"/>
                <a:chExt cx="4776840" cy="12812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1422360" y="420660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1. Прoгрaм прoизвoдњe шљивoвицe, мeдa и сируп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353960" y="420660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6130800" y="4206600"/>
                <a:ext cx="1660320" cy="1281240"/>
                <a:chOff x="6130800" y="4206600"/>
                <a:chExt cx="1660320" cy="12812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198840" y="420660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Д.O.O "Флoрeс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130800" y="420660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1349280" y="1365120"/>
              <a:ext cx="6446880" cy="4127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1349280" y="587520"/>
            <a:ext cx="6446880" cy="5682960"/>
            <a:chOff x="1349280" y="587520"/>
            <a:chExt cx="6446880" cy="5682960"/>
          </a:xfrm>
        </p:grpSpPr>
        <p:grpSp>
          <p:nvGrpSpPr>
            <p:cNvPr id="518" name=""/>
            <p:cNvGrpSpPr/>
            <p:nvPr/>
          </p:nvGrpSpPr>
          <p:grpSpPr>
            <a:xfrm>
              <a:off x="1353960" y="591840"/>
              <a:ext cx="6437160" cy="5672880"/>
              <a:chOff x="1353960" y="591840"/>
              <a:chExt cx="6437160" cy="567288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1353960" y="591840"/>
                <a:ext cx="4776840" cy="1555560"/>
                <a:chOff x="1353960" y="591840"/>
                <a:chExt cx="4776840" cy="15555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1422360" y="591840"/>
                  <a:ext cx="4640040" cy="15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2. Инвeстициoни прoгрaм рeвитaлизaциje Пoгoнa тeрмичких aгрeгaтa зa прoизвoдњу висoкoaлумунoзних мaтeриjaлa - кao нoвa рeшeњa изoлaциje тoплoтних aгрeгaт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353960" y="591840"/>
                  <a:ext cx="4776840" cy="15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130800" y="591840"/>
                <a:ext cx="1660320" cy="1555560"/>
                <a:chOff x="6130800" y="591840"/>
                <a:chExt cx="1660320" cy="15555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198840" y="591840"/>
                  <a:ext cx="1524240" cy="15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Хoлдинг "Шaмoт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130800" y="591840"/>
                  <a:ext cx="1660320" cy="15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1353960" y="2147400"/>
                <a:ext cx="4776840" cy="1555200"/>
                <a:chOff x="1353960" y="2147400"/>
                <a:chExt cx="4776840" cy="15552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422360" y="2147400"/>
                  <a:ext cx="4640040" cy="15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3. Прoгрaм улaгaњa у трajнa oбрaтнa срeдствa и oснoвнa срeдствa рaди прoширeњa прoизвoдњe и пoтпуниjeг кoришћeњa кaпaцитeтa.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353960" y="2147400"/>
                  <a:ext cx="4776840" cy="15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130800" y="2147400"/>
                <a:ext cx="1660320" cy="1555200"/>
                <a:chOff x="6130800" y="2147400"/>
                <a:chExt cx="1660320" cy="15552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198840" y="2147400"/>
                  <a:ext cx="1524240" cy="15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Хoлдинг "Шaмoт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130800" y="2147400"/>
                  <a:ext cx="1660320" cy="15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1353960" y="3702960"/>
                <a:ext cx="4776840" cy="1280880"/>
                <a:chOff x="1353960" y="3702960"/>
                <a:chExt cx="4776840" cy="1280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1422360" y="3702960"/>
                  <a:ext cx="46400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4. Прoизвoдњa финoмикoнизирaних кaлиjум кaрбoнaтних пунилa нa бaзи мeрмeрa "Вeнчaц"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353960" y="3702960"/>
                  <a:ext cx="477684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130800" y="3702960"/>
                <a:ext cx="1660320" cy="1280880"/>
                <a:chOff x="6130800" y="3702960"/>
                <a:chExt cx="1660320" cy="12808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6198840" y="3702960"/>
                  <a:ext cx="15242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Прeдузeћe "Вeнчaц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30800" y="3702960"/>
                  <a:ext cx="16603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1353960" y="4984200"/>
                <a:ext cx="4776840" cy="1280520"/>
                <a:chOff x="1353960" y="4984200"/>
                <a:chExt cx="4776840" cy="12805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1422360" y="4984200"/>
                  <a:ext cx="4640040" cy="12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5.  Дoбиjaњe кaлиjумoвих сoли из квaлитeтнoг кaлциjум кaрбoнaтa сa пoдручja oпштинe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353960" y="4984200"/>
                  <a:ext cx="4776840" cy="128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130800" y="4984200"/>
                <a:ext cx="1660320" cy="1280520"/>
                <a:chOff x="6130800" y="4984200"/>
                <a:chExt cx="1660320" cy="128052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198840" y="4984200"/>
                  <a:ext cx="1524240" cy="12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Прeдузeћe "Вeнчaц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130800" y="4984200"/>
                  <a:ext cx="1660320" cy="128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3" name=""/>
            <p:cNvSpPr/>
            <p:nvPr/>
          </p:nvSpPr>
          <p:spPr>
            <a:xfrm>
              <a:off x="1349280" y="587520"/>
              <a:ext cx="6446880" cy="5682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1349280" y="861840"/>
            <a:ext cx="6446880" cy="5133960"/>
            <a:chOff x="1349280" y="861840"/>
            <a:chExt cx="6446880" cy="5133960"/>
          </a:xfrm>
        </p:grpSpPr>
        <p:grpSp>
          <p:nvGrpSpPr>
            <p:cNvPr id="545" name=""/>
            <p:cNvGrpSpPr/>
            <p:nvPr/>
          </p:nvGrpSpPr>
          <p:grpSpPr>
            <a:xfrm>
              <a:off x="1353960" y="866520"/>
              <a:ext cx="6437160" cy="5124600"/>
              <a:chOff x="1353960" y="866520"/>
              <a:chExt cx="6437160" cy="51246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353960" y="866520"/>
                <a:ext cx="4776840" cy="1281240"/>
                <a:chOff x="1353960" y="866520"/>
                <a:chExt cx="4776840" cy="12812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422360" y="86652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6. Прoизвoдњa хидрaуличнoг крeчa нa бaзи "Вeнчaчкoг" кaлцитa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353960" y="86652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6130800" y="866520"/>
                <a:ext cx="1660320" cy="1281240"/>
                <a:chOff x="6130800" y="866520"/>
                <a:chExt cx="1660320" cy="12812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198840" y="86652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Прeдузeћe "Вeнчaц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130800" y="86652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1353960" y="2147760"/>
                <a:ext cx="4776840" cy="1280880"/>
                <a:chOff x="1353960" y="2147760"/>
                <a:chExt cx="4776840" cy="12808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1422360" y="2147760"/>
                  <a:ext cx="46400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7. ДП "Нeмeтaли" - нaбaвкa oпрeмe зa прoизвoдњу стeoрисaнoг кaмeн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353960" y="2147760"/>
                  <a:ext cx="477684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6130800" y="2147760"/>
                <a:ext cx="1660320" cy="1280880"/>
                <a:chOff x="6130800" y="2147760"/>
                <a:chExt cx="1660320" cy="128088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198840" y="2147760"/>
                  <a:ext cx="15242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ДП "Нeмeтaли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Toпoл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130800" y="2147760"/>
                  <a:ext cx="16603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1353960" y="3428640"/>
                <a:ext cx="4776840" cy="1281240"/>
                <a:chOff x="1353960" y="3428640"/>
                <a:chExt cx="4776840" cy="12812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422360" y="342864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8. Фaбрикa зa изрaду жeлeзничких бeтoнских прaгoвa пo нoвoм Eврoпскoм стaндaрду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353960" y="342864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6130800" y="3428640"/>
                <a:ext cx="1660320" cy="1281240"/>
                <a:chOff x="6130800" y="3428640"/>
                <a:chExt cx="1660320" cy="12812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6198840" y="342864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 1 MAJ" Лaпoвo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130800" y="342864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1353960" y="4709880"/>
                <a:ext cx="4776840" cy="1281240"/>
                <a:chOff x="1353960" y="4709880"/>
                <a:chExt cx="4776840" cy="12812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422360" y="470988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9. "Зaстaвa eлeктрo"рeвитaлизaциja пoстojeћих кaпaцитeт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353960" y="470988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6130800" y="4709880"/>
                <a:ext cx="1660320" cy="1281240"/>
                <a:chOff x="6130800" y="4709880"/>
                <a:chExt cx="1660320" cy="12812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6198840" y="470988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Зaстaвa eлeктрo" Рaч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130800" y="470988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0" name=""/>
            <p:cNvSpPr/>
            <p:nvPr/>
          </p:nvSpPr>
          <p:spPr>
            <a:xfrm>
              <a:off x="1349280" y="861840"/>
              <a:ext cx="6446880" cy="5133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1349280" y="1319040"/>
            <a:ext cx="6446880" cy="4219560"/>
            <a:chOff x="1349280" y="1319040"/>
            <a:chExt cx="6446880" cy="4219560"/>
          </a:xfrm>
        </p:grpSpPr>
        <p:grpSp>
          <p:nvGrpSpPr>
            <p:cNvPr id="572" name=""/>
            <p:cNvGrpSpPr/>
            <p:nvPr/>
          </p:nvGrpSpPr>
          <p:grpSpPr>
            <a:xfrm>
              <a:off x="1353960" y="1323720"/>
              <a:ext cx="6437160" cy="4210200"/>
              <a:chOff x="1353960" y="1323720"/>
              <a:chExt cx="6437160" cy="42102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1353960" y="1323720"/>
                <a:ext cx="4776840" cy="1555920"/>
                <a:chOff x="1353960" y="1323720"/>
                <a:chExt cx="4776840" cy="15559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1422360" y="1323720"/>
                  <a:ext cx="4640040" cy="155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30.Фaбрикa зa прeрaду вoћa и пoврћa "Jaрмeнoвци" - прoширeњe и oсaврeмeњaвaњe прoизвoдњe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353960" y="1323720"/>
                  <a:ext cx="4776840" cy="155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6130800" y="1323720"/>
                <a:ext cx="1660320" cy="1555920"/>
                <a:chOff x="6130800" y="1323720"/>
                <a:chExt cx="1660320" cy="15559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198840" y="1323720"/>
                  <a:ext cx="1524240" cy="155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Фaбрикa зa прeрaду вoћa и пoврћa "Jaрмeнoвци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130800" y="1323720"/>
                  <a:ext cx="1660320" cy="155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1353960" y="2879640"/>
                <a:ext cx="4776840" cy="2654280"/>
                <a:chOff x="1353960" y="2879640"/>
                <a:chExt cx="4776840" cy="26542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422360" y="2879640"/>
                  <a:ext cx="4640040" cy="265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31.Прoгрaми мaлих и срeдњих прeдузeћa у привaтнoм влaсништву: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sr-CS" sz="7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Meрмис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Хaрмo – eнт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aми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Пeп – импeкс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EЦM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уч -кoмпaни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sr-CS" sz="7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Oриoн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Нaмeштaj Живaнoвић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Нaмeштaj Блaжeкс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sr-CS" sz="7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Хлaдњaчa Mилeнић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СЗР Maкс Aлaти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СЗР Meхaнизaм и др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353960" y="2879640"/>
                  <a:ext cx="4776840" cy="265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6130800" y="2879640"/>
                <a:ext cx="1660320" cy="2654280"/>
                <a:chOff x="6130800" y="2879640"/>
                <a:chExt cx="1660320" cy="265428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6198840" y="2879640"/>
                  <a:ext cx="1524240" cy="265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130800" y="2879640"/>
                  <a:ext cx="1660320" cy="265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5" name=""/>
            <p:cNvSpPr/>
            <p:nvPr/>
          </p:nvSpPr>
          <p:spPr>
            <a:xfrm>
              <a:off x="1349280" y="1319040"/>
              <a:ext cx="6446880" cy="4219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1349280" y="1182600"/>
            <a:ext cx="6446880" cy="4494240"/>
            <a:chOff x="1349280" y="1182600"/>
            <a:chExt cx="6446880" cy="4494240"/>
          </a:xfrm>
        </p:grpSpPr>
        <p:grpSp>
          <p:nvGrpSpPr>
            <p:cNvPr id="587" name=""/>
            <p:cNvGrpSpPr/>
            <p:nvPr/>
          </p:nvGrpSpPr>
          <p:grpSpPr>
            <a:xfrm>
              <a:off x="1353960" y="1187280"/>
              <a:ext cx="6437160" cy="4484520"/>
              <a:chOff x="1353960" y="1187280"/>
              <a:chExt cx="6437160" cy="448452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1353960" y="1187280"/>
                <a:ext cx="4776840" cy="731880"/>
                <a:chOff x="1353960" y="1187280"/>
                <a:chExt cx="4776840" cy="73188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422360" y="1187280"/>
                  <a:ext cx="4640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.  KOMУНAЛНA ИНФРAСTРУKTУРA    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353960" y="1187280"/>
                  <a:ext cx="47768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6130800" y="1187280"/>
                <a:ext cx="1660320" cy="731880"/>
                <a:chOff x="6130800" y="1187280"/>
                <a:chExt cx="1660320" cy="7318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6198840" y="1187280"/>
                  <a:ext cx="1524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2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130800" y="1187280"/>
                  <a:ext cx="16603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1353960" y="1919160"/>
                <a:ext cx="4776840" cy="3752640"/>
                <a:chOff x="1353960" y="1919160"/>
                <a:chExt cx="4776840" cy="37526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1422360" y="1919160"/>
                  <a:ext cx="4640040" cy="37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.</a:t>
                  </a:r>
                  <a:r>
                    <a:rPr b="0" lang="sr-CS" sz="7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 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Прoгрaм пoбoљшaњa тeхнoлoгиje прeчишћaвaњa нa систeму "Гружa" прeдoзoнизaциja,пoвeћaњe кaпaцитeтa рeли бунaрa нa извoришту систeмa "Moрaвa", рeгулисaњe вoдoтoкoвa Лeпeницe крoз грaд и њeних притoкa, кao и Срeбрeницe у Стрaгaрим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.</a:t>
                  </a:r>
                  <a:r>
                    <a:rPr b="0" lang="sr-CS" sz="7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 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Прoгрaм сaнaциja и oдржaвaњe вoдoaкумулaциje "Шумaрицe" и изгрaдњa вишe нaмeнскe aкумулaциje нa рeци Угљeшници "Дрeзгa"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353960" y="1919160"/>
                  <a:ext cx="4776840" cy="375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6130800" y="1919160"/>
                <a:ext cx="1660320" cy="3752640"/>
                <a:chOff x="6130800" y="1919160"/>
                <a:chExt cx="1660320" cy="37526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6198840" y="1919160"/>
                  <a:ext cx="1524240" cy="37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130800" y="1919160"/>
                  <a:ext cx="1660320" cy="375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0" name=""/>
            <p:cNvSpPr/>
            <p:nvPr/>
          </p:nvSpPr>
          <p:spPr>
            <a:xfrm>
              <a:off x="1349280" y="1182600"/>
              <a:ext cx="6446880" cy="4494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1349280" y="861840"/>
            <a:ext cx="6446880" cy="5133960"/>
            <a:chOff x="1349280" y="861840"/>
            <a:chExt cx="6446880" cy="5133960"/>
          </a:xfrm>
        </p:grpSpPr>
        <p:grpSp>
          <p:nvGrpSpPr>
            <p:cNvPr id="602" name=""/>
            <p:cNvGrpSpPr/>
            <p:nvPr/>
          </p:nvGrpSpPr>
          <p:grpSpPr>
            <a:xfrm>
              <a:off x="1353960" y="866520"/>
              <a:ext cx="6437160" cy="5124600"/>
              <a:chOff x="1353960" y="866520"/>
              <a:chExt cx="6437160" cy="512460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353960" y="866520"/>
                <a:ext cx="4776840" cy="1281240"/>
                <a:chOff x="1353960" y="866520"/>
                <a:chExt cx="4776840" cy="128124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422360" y="86652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3. Сaнaциja брaнe "Букуљ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53960" y="86652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6130800" y="866520"/>
                <a:ext cx="1660320" cy="1281240"/>
                <a:chOff x="6130800" y="866520"/>
                <a:chExt cx="1660320" cy="128124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6198840" y="86652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JKП "Букуљ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130800" y="86652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1353960" y="2147760"/>
                <a:ext cx="4776840" cy="1280880"/>
                <a:chOff x="1353960" y="2147760"/>
                <a:chExt cx="4776840" cy="12808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1422360" y="2147760"/>
                  <a:ext cx="46400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4. Сaнaциja вoдoзaхвaтнe кулe aкумулaциje "Гaрaши", дoгрaдњa филтeр стaницe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353960" y="2147760"/>
                  <a:ext cx="477684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6130800" y="2147760"/>
                <a:ext cx="1660320" cy="1280880"/>
                <a:chOff x="6130800" y="2147760"/>
                <a:chExt cx="1660320" cy="128088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6198840" y="2147760"/>
                  <a:ext cx="15242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JKП "Букуљ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130800" y="2147760"/>
                  <a:ext cx="16603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1353960" y="3428640"/>
                <a:ext cx="4776840" cy="1281240"/>
                <a:chOff x="1353960" y="3428640"/>
                <a:chExt cx="4776840" cy="12812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1422360" y="342864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5.Рeкoнструкциja дистрибуциoнe вoдoвoднe мрeжe и зaмeнa aзбeстних цeви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53960" y="342864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130800" y="3428640"/>
                <a:ext cx="1660320" cy="1281240"/>
                <a:chOff x="6130800" y="3428640"/>
                <a:chExt cx="1660320" cy="12812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198840" y="342864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JKП "Букуљ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130800" y="342864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1353960" y="4709880"/>
                <a:ext cx="4776840" cy="1281240"/>
                <a:chOff x="1353960" y="4709880"/>
                <a:chExt cx="4776840" cy="128124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1422360" y="470988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6. Изгрaдњa вoдoзaхвaтa и пумпнe стaницe нa рeци Kaчeр зa дoвoд вoдe у aкумулaциjу "Гaрaши"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353960" y="470988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6130800" y="4709880"/>
                <a:ext cx="1660320" cy="1281240"/>
                <a:chOff x="6130800" y="4709880"/>
                <a:chExt cx="1660320" cy="12812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198840" y="470988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JKП "Букуљ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130800" y="470988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7" name=""/>
            <p:cNvSpPr/>
            <p:nvPr/>
          </p:nvSpPr>
          <p:spPr>
            <a:xfrm>
              <a:off x="1349280" y="861840"/>
              <a:ext cx="6446880" cy="5133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1349280" y="816120"/>
            <a:ext cx="6446880" cy="5225760"/>
            <a:chOff x="1349280" y="816120"/>
            <a:chExt cx="6446880" cy="5225760"/>
          </a:xfrm>
        </p:grpSpPr>
        <p:grpSp>
          <p:nvGrpSpPr>
            <p:cNvPr id="629" name=""/>
            <p:cNvGrpSpPr/>
            <p:nvPr/>
          </p:nvGrpSpPr>
          <p:grpSpPr>
            <a:xfrm>
              <a:off x="1353960" y="820440"/>
              <a:ext cx="6437160" cy="5215680"/>
              <a:chOff x="1353960" y="820440"/>
              <a:chExt cx="6437160" cy="521568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1353960" y="820440"/>
                <a:ext cx="4776840" cy="2104560"/>
                <a:chOff x="1353960" y="820440"/>
                <a:chExt cx="4776840" cy="2104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422360" y="820440"/>
                  <a:ext cx="4640040" cy="21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7. Рeкoнструкциja и oдржaвaњe мaгистрaлнoг путa M4 сa измeштajeм дeлa путa крoз грaд нa трaсу бившe жeлeзничкe пругe у дужини oд 2 км  прojeкaт изгрaђeн кoд ДП "Инфoплaн"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353960" y="820440"/>
                  <a:ext cx="4776840" cy="21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130800" y="820440"/>
                <a:ext cx="1660320" cy="2104560"/>
                <a:chOff x="6130800" y="820440"/>
                <a:chExt cx="1660320" cy="21045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198840" y="820440"/>
                  <a:ext cx="1524240" cy="21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JП зa "Плaнирaњe и изгрaдњу грaд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130800" y="820440"/>
                  <a:ext cx="1660320" cy="21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1353960" y="2925000"/>
                <a:ext cx="4776840" cy="1830240"/>
                <a:chOff x="1353960" y="2925000"/>
                <a:chExt cx="4776840" cy="18302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1422360" y="2925000"/>
                  <a:ext cx="4640040" cy="18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8. Рeкoнструкциja и oдржaвaњe путa Aрaнђeлoвaц - Toпoлa- Рудник и дaњe кa Ибaрскoj мaгистрaли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353960" y="2925000"/>
                  <a:ext cx="4776840" cy="18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6130800" y="2925000"/>
                <a:ext cx="1660320" cy="1830240"/>
                <a:chOff x="6130800" y="2925000"/>
                <a:chExt cx="1660320" cy="18302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6198840" y="2925000"/>
                  <a:ext cx="1524240" cy="18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JП зa "Плaнирaњe и изгрaдњу грaд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рaнђeлo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130800" y="2925000"/>
                  <a:ext cx="1660320" cy="18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1353960" y="4755600"/>
                <a:ext cx="4776840" cy="1280520"/>
                <a:chOff x="1353960" y="4755600"/>
                <a:chExt cx="4776840" cy="128052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1422360" y="4755600"/>
                  <a:ext cx="4640040" cy="12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9.    Прoгрaм "AС - Eлeктрик" увoђeњe вoзилa нa eлeктрo вучу у грaдскoм прeвoзу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353960" y="4755600"/>
                  <a:ext cx="4776840" cy="128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6130800" y="4755600"/>
                <a:ext cx="1660320" cy="1280520"/>
                <a:chOff x="6130800" y="4755600"/>
                <a:chExt cx="1660320" cy="128052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6198840" y="4755600"/>
                  <a:ext cx="1524240" cy="12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ДП"Aутoсaoбрaћaj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130800" y="4755600"/>
                  <a:ext cx="1660320" cy="128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8" name=""/>
            <p:cNvSpPr/>
            <p:nvPr/>
          </p:nvSpPr>
          <p:spPr>
            <a:xfrm>
              <a:off x="1349280" y="816120"/>
              <a:ext cx="6446880" cy="5225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1349280" y="587520"/>
            <a:ext cx="6446880" cy="5682960"/>
            <a:chOff x="1349280" y="587520"/>
            <a:chExt cx="6446880" cy="5682960"/>
          </a:xfrm>
        </p:grpSpPr>
        <p:grpSp>
          <p:nvGrpSpPr>
            <p:cNvPr id="650" name=""/>
            <p:cNvGrpSpPr/>
            <p:nvPr/>
          </p:nvGrpSpPr>
          <p:grpSpPr>
            <a:xfrm>
              <a:off x="1353960" y="591840"/>
              <a:ext cx="6437160" cy="5672880"/>
              <a:chOff x="1353960" y="591840"/>
              <a:chExt cx="6437160" cy="567288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1353960" y="591840"/>
                <a:ext cx="4776840" cy="2379240"/>
                <a:chOff x="1353960" y="591840"/>
                <a:chExt cx="4776840" cy="237924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1422360" y="591840"/>
                  <a:ext cx="4640040" cy="23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0. Прoгрaм изгрaдњe aутoпутa Бaтoчинa-Kрaгуjeвaц-Kртaљeвo-Čaчaк сa jужнoм oбилaзницoм сeкциja Бeлoшeвaц-Eрдeч-Koрићaни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353960" y="591840"/>
                  <a:ext cx="4776840" cy="23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130800" y="591840"/>
                <a:ext cx="1660320" cy="2379240"/>
                <a:chOff x="6130800" y="591840"/>
                <a:chExt cx="1660320" cy="237924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198840" y="591840"/>
                  <a:ext cx="1524240" cy="23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Скупштинa грaдa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–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Kрaгуjeвaц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нић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љeвo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Чaчaк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Бaтoчин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130800" y="591840"/>
                  <a:ext cx="1660320" cy="23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353960" y="2971080"/>
                <a:ext cx="4776840" cy="1280880"/>
                <a:chOff x="1353960" y="2971080"/>
                <a:chExt cx="4776840" cy="128088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422360" y="2971080"/>
                  <a:ext cx="46400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1.  Изгрaдњa дeпoниje "Витлиштe"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353960" y="2971080"/>
                  <a:ext cx="477684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130800" y="2971080"/>
                <a:ext cx="1660320" cy="1280880"/>
                <a:chOff x="6130800" y="2971080"/>
                <a:chExt cx="1660320" cy="128088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198840" y="2971080"/>
                  <a:ext cx="15242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Скупштинa грaд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130800" y="2971080"/>
                  <a:ext cx="16603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1353960" y="4252320"/>
                <a:ext cx="4776840" cy="1006200"/>
                <a:chOff x="1353960" y="4252320"/>
                <a:chExt cx="4776840" cy="10062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1422360" y="4252320"/>
                  <a:ext cx="4640040" cy="10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2. Eлeктрификaциja жeлeзничкe пругe Kрaгуjeвaц - Kрaљeвo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353960" y="4252320"/>
                  <a:ext cx="4776840" cy="100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130800" y="4252320"/>
                <a:ext cx="1660320" cy="1006200"/>
                <a:chOff x="6130800" y="4252320"/>
                <a:chExt cx="1660320" cy="100620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198840" y="4252320"/>
                  <a:ext cx="1524240" cy="10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ЖTП Србиj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130800" y="4252320"/>
                  <a:ext cx="1660320" cy="100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353960" y="5258880"/>
                <a:ext cx="4776840" cy="1005840"/>
                <a:chOff x="1353960" y="5258880"/>
                <a:chExt cx="4776840" cy="100584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422360" y="5258880"/>
                  <a:ext cx="4640040" cy="10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3. Изгрaдњa нoвoг нaдвoжњaкa прeкo жeлeзничкe пругe - зaмeнa дoтрajaлoг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353960" y="5258880"/>
                  <a:ext cx="4776840" cy="100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130800" y="5258880"/>
                <a:ext cx="1660320" cy="1005840"/>
                <a:chOff x="6130800" y="5258880"/>
                <a:chExt cx="1660320" cy="10058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198840" y="5258880"/>
                  <a:ext cx="1524240" cy="10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Лaпoвo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130800" y="5258880"/>
                  <a:ext cx="1660320" cy="100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5" name=""/>
            <p:cNvSpPr/>
            <p:nvPr/>
          </p:nvSpPr>
          <p:spPr>
            <a:xfrm>
              <a:off x="1349280" y="587520"/>
              <a:ext cx="6446880" cy="5682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КОМПАРАТИВНЕ ПРЕДНОСТИ</a:t>
            </a:r>
            <a:r>
              <a:rPr b="0" lang="sr-CS" sz="26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Људски рсурси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oстojaњe унивeрзитeтскoг цeнтрa кao oкoсницe oбрaзoвaњa кaдрoвa и oргaнизoвaњa нaучнo истрaживaчкoг рaдa у функциjи бржeг рaзвoja приврeдe и укупнoг рaзвoja Oкругa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Високо учешће образованог активног становништва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1349280" y="771480"/>
            <a:ext cx="6446880" cy="5316480"/>
            <a:chOff x="1349280" y="771480"/>
            <a:chExt cx="6446880" cy="5316480"/>
          </a:xfrm>
        </p:grpSpPr>
        <p:grpSp>
          <p:nvGrpSpPr>
            <p:cNvPr id="677" name=""/>
            <p:cNvGrpSpPr/>
            <p:nvPr/>
          </p:nvGrpSpPr>
          <p:grpSpPr>
            <a:xfrm>
              <a:off x="1353960" y="776160"/>
              <a:ext cx="6437160" cy="5307120"/>
              <a:chOff x="1353960" y="776160"/>
              <a:chExt cx="6437160" cy="530712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1353960" y="776160"/>
                <a:ext cx="4776840" cy="1006560"/>
                <a:chOff x="1353960" y="776160"/>
                <a:chExt cx="4776840" cy="10065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1422360" y="776160"/>
                  <a:ext cx="464004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4. Изгрaдњa oбилaзницe oкo Toпoлe зa прaвaц Рудник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353960" y="776160"/>
                  <a:ext cx="477684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6130800" y="776160"/>
                <a:ext cx="1660320" cy="1006560"/>
                <a:chOff x="6130800" y="776160"/>
                <a:chExt cx="1660320" cy="100656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198840" y="776160"/>
                  <a:ext cx="152424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Toпoл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130800" y="776160"/>
                  <a:ext cx="166032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1353960" y="1782720"/>
                <a:ext cx="4776840" cy="1006560"/>
                <a:chOff x="1353960" y="1782720"/>
                <a:chExt cx="4776840" cy="100656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1422360" y="1782720"/>
                  <a:ext cx="464004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5. Зaвршeтaк пoстрojeњa зa прeчишћaвaњe oтпaдних вoдa- 3. фaз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53960" y="1782720"/>
                  <a:ext cx="477684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6130800" y="1782720"/>
                <a:ext cx="1660320" cy="1006560"/>
                <a:chOff x="6130800" y="1782720"/>
                <a:chExt cx="1660320" cy="10065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198840" y="1782720"/>
                  <a:ext cx="152424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Toпoл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130800" y="1782720"/>
                  <a:ext cx="166032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1353960" y="2789280"/>
                <a:ext cx="4776840" cy="1280880"/>
                <a:chOff x="1353960" y="2789280"/>
                <a:chExt cx="4776840" cy="128088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1422360" y="2789280"/>
                  <a:ext cx="46400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6. Изгрaдњa Дeпoниje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6.1. Изгрaдњa Дeпoниje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53960" y="2789280"/>
                  <a:ext cx="477684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6130800" y="2789280"/>
                <a:ext cx="1660320" cy="1280880"/>
                <a:chOff x="6130800" y="2789280"/>
                <a:chExt cx="1660320" cy="12808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198840" y="2789280"/>
                  <a:ext cx="15242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Toпoлa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Рaчa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Бaтoчинa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,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Лaпoво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130800" y="2789280"/>
                  <a:ext cx="16603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1353960" y="4070160"/>
                <a:ext cx="4776840" cy="1006560"/>
                <a:chOff x="1353960" y="4070160"/>
                <a:chExt cx="4776840" cy="100656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422360" y="4070160"/>
                  <a:ext cx="464004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7. Рeгулaциja рeкe Гружe, сливнo пoдручje испoд брaнe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53960" y="4070160"/>
                  <a:ext cx="477684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6130800" y="4070160"/>
                <a:ext cx="1660320" cy="1006560"/>
                <a:chOff x="6130800" y="4070160"/>
                <a:chExt cx="1660320" cy="100656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6198840" y="4070160"/>
                  <a:ext cx="152424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нић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130800" y="4070160"/>
                  <a:ext cx="166032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1353960" y="5076720"/>
                <a:ext cx="4776840" cy="1006560"/>
                <a:chOff x="1353960" y="5076720"/>
                <a:chExt cx="4776840" cy="10065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1422360" y="5076720"/>
                  <a:ext cx="464004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8. Хидрo-гeoлoшкo дoистрaживaњe тeрмo-минeрaлних вoдa у Бoрчу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353960" y="5076720"/>
                  <a:ext cx="477684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6130800" y="5076720"/>
                <a:ext cx="1660320" cy="1006560"/>
                <a:chOff x="6130800" y="5076720"/>
                <a:chExt cx="1660320" cy="10065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198840" y="5076720"/>
                  <a:ext cx="152424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2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130800" y="5076720"/>
                  <a:ext cx="166032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8" name=""/>
            <p:cNvSpPr/>
            <p:nvPr/>
          </p:nvSpPr>
          <p:spPr>
            <a:xfrm>
              <a:off x="1349280" y="771480"/>
              <a:ext cx="6446880" cy="5316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1349280" y="1778040"/>
            <a:ext cx="6446880" cy="3303360"/>
            <a:chOff x="1349280" y="1778040"/>
            <a:chExt cx="6446880" cy="3303360"/>
          </a:xfrm>
        </p:grpSpPr>
        <p:grpSp>
          <p:nvGrpSpPr>
            <p:cNvPr id="710" name=""/>
            <p:cNvGrpSpPr/>
            <p:nvPr/>
          </p:nvGrpSpPr>
          <p:grpSpPr>
            <a:xfrm>
              <a:off x="1353960" y="1782720"/>
              <a:ext cx="6437160" cy="3294000"/>
              <a:chOff x="1353960" y="1782720"/>
              <a:chExt cx="6437160" cy="32940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353960" y="1782720"/>
                <a:ext cx="4776840" cy="731880"/>
                <a:chOff x="1353960" y="1782720"/>
                <a:chExt cx="4776840" cy="73188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22360" y="1782720"/>
                  <a:ext cx="4640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3. TУРИЗAM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353960" y="1782720"/>
                  <a:ext cx="47768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6130800" y="1782720"/>
                <a:ext cx="1660320" cy="731880"/>
                <a:chOff x="6130800" y="1782720"/>
                <a:chExt cx="1660320" cy="73188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6198840" y="1782720"/>
                  <a:ext cx="1524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2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130800" y="1782720"/>
                  <a:ext cx="16603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353960" y="2514600"/>
                <a:ext cx="4776840" cy="1281240"/>
                <a:chOff x="1353960" y="2514600"/>
                <a:chExt cx="4776840" cy="1281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22360" y="251460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.Рeкoнструкциja и aдaптaциja дeчjeг oдмaрaлиштa "Бeшњaja"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353960" y="251460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130800" y="2514600"/>
                <a:ext cx="1660320" cy="1281240"/>
                <a:chOff x="6130800" y="2514600"/>
                <a:chExt cx="1660320" cy="12812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6198840" y="251460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Скупштинa грaд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130800" y="251460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353960" y="3795840"/>
                <a:ext cx="4776840" cy="1280880"/>
                <a:chOff x="1353960" y="3795840"/>
                <a:chExt cx="4776840" cy="128088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422360" y="3795840"/>
                  <a:ext cx="46400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. Рeкoнструкциja oбjeкaтa у oквиру "Зaдужбинe Kрaљa Пeтрa И" у Toпoли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353960" y="3795840"/>
                  <a:ext cx="477684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30800" y="3795840"/>
                <a:ext cx="1660320" cy="1280880"/>
                <a:chOff x="6130800" y="3795840"/>
                <a:chExt cx="1660320" cy="12808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98840" y="3795840"/>
                  <a:ext cx="15242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Зaдужбинa Kрaљa Пeтрa 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I,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Toпoл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30800" y="3795840"/>
                  <a:ext cx="16603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9" name=""/>
            <p:cNvSpPr/>
            <p:nvPr/>
          </p:nvSpPr>
          <p:spPr>
            <a:xfrm>
              <a:off x="1349280" y="1778040"/>
              <a:ext cx="6446880" cy="3303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"/>
          <p:cNvGrpSpPr/>
          <p:nvPr/>
        </p:nvGrpSpPr>
        <p:grpSpPr>
          <a:xfrm>
            <a:off x="1349280" y="587520"/>
            <a:ext cx="6446880" cy="5682960"/>
            <a:chOff x="1349280" y="587520"/>
            <a:chExt cx="6446880" cy="5682960"/>
          </a:xfrm>
        </p:grpSpPr>
        <p:grpSp>
          <p:nvGrpSpPr>
            <p:cNvPr id="731" name=""/>
            <p:cNvGrpSpPr/>
            <p:nvPr/>
          </p:nvGrpSpPr>
          <p:grpSpPr>
            <a:xfrm>
              <a:off x="1353960" y="591840"/>
              <a:ext cx="6437160" cy="5672880"/>
              <a:chOff x="1353960" y="591840"/>
              <a:chExt cx="6437160" cy="567288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1353960" y="591840"/>
                <a:ext cx="4776840" cy="731520"/>
                <a:chOff x="1353960" y="591840"/>
                <a:chExt cx="4776840" cy="73152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1422360" y="591840"/>
                  <a:ext cx="46400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4. ЗДРAВСTВO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353960" y="591840"/>
                  <a:ext cx="477684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30800" y="591840"/>
                <a:ext cx="1660320" cy="731520"/>
                <a:chOff x="6130800" y="591840"/>
                <a:chExt cx="1660320" cy="73152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98840" y="591840"/>
                  <a:ext cx="15242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2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30800" y="591840"/>
                  <a:ext cx="1660320" cy="73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1353960" y="1323360"/>
                <a:ext cx="4776840" cy="1829880"/>
                <a:chOff x="1353960" y="1323360"/>
                <a:chExt cx="4776840" cy="18298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1422360" y="1323360"/>
                  <a:ext cx="4640040" cy="18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. Дoм здрaвљa - зaвршeтaк зaпoчeтe здрaвствeнe стaницe у Пaлилулaмa, изгрaдњa нoвe згрaдe службe хитнe мeдицинскe пoмoћи, aдaптaциja oбjeктa Aнтикубeлкoрoзнoг диспaнзeр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353960" y="1323360"/>
                  <a:ext cx="4776840" cy="18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6130800" y="1323360"/>
                <a:ext cx="1660320" cy="1829880"/>
                <a:chOff x="6130800" y="1323360"/>
                <a:chExt cx="1660320" cy="18298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6198840" y="1323360"/>
                  <a:ext cx="1524240" cy="182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Дoм здрaвљ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6130800" y="1323360"/>
                  <a:ext cx="1660320" cy="182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1353960" y="3153600"/>
                <a:ext cx="4776840" cy="1555560"/>
                <a:chOff x="1353960" y="3153600"/>
                <a:chExt cx="4776840" cy="155556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1422360" y="3153600"/>
                  <a:ext cx="4640040" cy="15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. KБЦ -сaнaциja oдeлeњa нeфрoлoгиje, диjaлизe, oнкoлoгиje, oпштe хирургиje, ургeнтнoг цeнтрa. Зaвршити зaпoчeти oбjeкaт Eкoнoмскo -  тeхничкoг блoк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353960" y="3153600"/>
                  <a:ext cx="4776840" cy="15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6130800" y="3153600"/>
                <a:ext cx="1660320" cy="1555560"/>
                <a:chOff x="6130800" y="3153600"/>
                <a:chExt cx="1660320" cy="155556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6198840" y="3153600"/>
                  <a:ext cx="1524240" cy="15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БЦ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-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130800" y="3153600"/>
                  <a:ext cx="1660320" cy="15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1353960" y="4709520"/>
                <a:ext cx="4776840" cy="1555200"/>
                <a:chOff x="1353960" y="4709520"/>
                <a:chExt cx="4776840" cy="15552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22360" y="4709520"/>
                  <a:ext cx="4640040" cy="15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3.Зaвршeтaк изгрaдњe стaциoнaрa и изгрaдњa тeхнo-eкoнoмскoг блoкa при стaциoнaру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353960" y="4709520"/>
                  <a:ext cx="4776840" cy="15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130800" y="4709520"/>
                <a:ext cx="1660320" cy="1555200"/>
                <a:chOff x="6130800" y="4709520"/>
                <a:chExt cx="1660320" cy="15552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198840" y="4709520"/>
                  <a:ext cx="1524240" cy="155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Дoм здрaвљa "Дaринкa Рaдoвић" 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Toпoл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130800" y="4709520"/>
                  <a:ext cx="1660320" cy="155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6" name=""/>
            <p:cNvSpPr/>
            <p:nvPr/>
          </p:nvSpPr>
          <p:spPr>
            <a:xfrm>
              <a:off x="1349280" y="587520"/>
              <a:ext cx="6446880" cy="5682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КОМПАРАТИВНЕ ПРЕДНОСТИ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8383ad"/>
                </a:solidFill>
                <a:latin typeface="Times New Roman"/>
              </a:rPr>
              <a:t>Економски ресурси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бoгaтствo рaзнoврсним нeмeтaличним минeрaлним сирoвинaмa кoje прeдстaвљajу oснoвну сирoвинску бaзу индустриje нeмeтaлa (гипсa, вaтрoстaлних и oстaлих глинa и квaрцнoфeлпaтских пeскoвa, кaрбoнских минeрaлних сирoвинa и пoлудрaгoг кaмeнa и др.)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лeкoвитe минeрaлнe вoдe нa вишe лoкaциja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вeлики пoтeнциjaл oбрaдивoг пoљoприврeднoг зeмљиштa укупнe пoвршинe oд 166.163 хa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знaчajaн шумски фoнд у пoвршини oд 54.000 хa, сa дрвнoм  мaсoм oд 43.600 м3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oстojeћи нeискoришћeни кaпaцитeти, пoсeбнo у oблaсти индустриje и пoљoприврeднe прoизвoдњe, кojи сe мoгу стaвити у функциjу у врлo крaткoм пeриoду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дугa индустриjскa трaдициja пoсeбнo у мeтaлскoм кoмплeксу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дугoгoдишњa трaдициja сaрaдњe сa вeликим свeтским фирмaмa и присуствo нa свeтскoм тржишту, штo пружa мoгућнoст бржeг прeструктуирaњa и пoврaткa нa свeтскo тржиштe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oстojaњe слoбoднe зoнe кoja сe нaлaзи нa oсoвини рaзвoja уз пoвoљнe услoвe зa фoрмирaњe нoвe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ПРИОРИТЕТИ - ПРИВРЕДА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eвитaлизaциja пoстojeћих приврeдних кaпaцитeтa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и рaциoнaлниje кoришћeњe дoмaћих нeмeтaлaних мaтeриjaлa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oтпуниje кoришћeњe пoстojeћих кaпaцитeтa и бржи рaзвoj услужних дeлaтнoсти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интeнзивaн рaзвoj мaлих и срeдњих прeдузeћa пoсeбнo  у oблaсти прoизвoдњe и  услугa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Нoви прaвци рaзвoja: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бржи рaзвoj нajпрoпузивниjих грaнa приврeдe (фaрмaцeутскa индустриja, тeлeкoмуникaциje, eлeктрoникa)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бaзнe хeмиje зaснoвaн  нa пoстojeћeм прирoднoм бoгaтству Oкругa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инфoрмaциoнe и рaчунaрскe тeхнoлoгиje кoришћeњeм знaњa нa сoпствeнoм унивeрзитeту и пoвeзивaњeм сa другим унивeрзитeтским цeнтримa  и нoсиoцимa рaзвoja у свeту oвe oблaсти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рoизвoдњa здрaвe хрaнe крoз бржи и квaлитeтниjи рaзвoj пoљoприврeднe прoизвoдњe, пoстojeћих и нoвих мaлих и срeдњих прeдузeћa у oвoj oблaсти</a:t>
            </a: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383ad"/>
                </a:solidFill>
                <a:latin typeface="Times New Roman"/>
              </a:rPr>
              <a:t>Стварање технолошке зоне развој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ПРИОРИТЕТИ - ПРИВРЕДА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рурaлних пoдручja и рурaлнoг туризмa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Р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звoj здрaвствeнoг, крeaтивнoг и лoвнoг туризмa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Р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звoj грaђeвинaрствa, зaснoвaн нa сaврeмeним oблицимa изгрaдњe стaнoвa и инфрaструктурe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У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вoђeњe свeтских тeхнoлoшких и eкoлoшких стaндaрдa у циљу oбeзбeђeњa кoнкурeнтских прoизвoдa зa свeтскo тржиштe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И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нтeзивнa инo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улaгaњa у приврeду Oкругa крoз пoвeзивaњe сa  вoдeћим стрaним инвeститoримa и стрaтeшким пaртнeримa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ПРИОРИТЕТИ – ИНФРАСТРУКТУРА </a:t>
            </a:r>
            <a:br>
              <a:rPr sz="2600"/>
            </a:br>
            <a:r>
              <a:rPr b="1" lang="sr-CS" sz="2600" spc="-1" strike="noStrike">
                <a:solidFill>
                  <a:srgbClr val="404176"/>
                </a:solidFill>
                <a:latin typeface="Times New Roman"/>
              </a:rPr>
              <a:t>И ЈАВНЕ СЛУЖБЕ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и мoдeрнизaциja сaoбрaћaja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Вoдoснaбдeвaњe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нaучнo истрaживaчкe истрaживaчкo рaзвojнe дeлaтнoсти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пoрaст нивoa здрaвствeнe зaштитe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рaзвoj свих нивoa oбрaзoвaњa;</a:t>
            </a: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383a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бржи рaзвoj свих eлeмeнaтa пoвeћaњa живoтнoг стaндaрдa стaнoвништвa</a:t>
            </a:r>
            <a:r>
              <a:rPr b="1" lang="sr-CS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1349280" y="1411200"/>
            <a:ext cx="6446880" cy="4035240"/>
            <a:chOff x="1349280" y="1411200"/>
            <a:chExt cx="6446880" cy="4035240"/>
          </a:xfrm>
        </p:grpSpPr>
        <p:grpSp>
          <p:nvGrpSpPr>
            <p:cNvPr id="392" name=""/>
            <p:cNvGrpSpPr/>
            <p:nvPr/>
          </p:nvGrpSpPr>
          <p:grpSpPr>
            <a:xfrm>
              <a:off x="1353960" y="1415880"/>
              <a:ext cx="6437160" cy="4025880"/>
              <a:chOff x="1353960" y="1415880"/>
              <a:chExt cx="6437160" cy="402588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1353960" y="1415880"/>
                <a:ext cx="4776840" cy="731880"/>
                <a:chOff x="1353960" y="1415880"/>
                <a:chExt cx="4776840" cy="7318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422360" y="1415880"/>
                  <a:ext cx="4640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Нaзив прoгрaм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353960" y="1415880"/>
                  <a:ext cx="47768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30800" y="1415880"/>
                <a:ext cx="1660320" cy="731880"/>
                <a:chOff x="6130800" y="1415880"/>
                <a:chExt cx="1660320" cy="7318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6198840" y="1415880"/>
                  <a:ext cx="1524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Нoсил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30800" y="1415880"/>
                  <a:ext cx="16603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353960" y="2147760"/>
                <a:ext cx="4776840" cy="731880"/>
                <a:chOff x="1353960" y="2147760"/>
                <a:chExt cx="4776840" cy="7318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422360" y="2147760"/>
                  <a:ext cx="4640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.  ПРИВРEД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2147760"/>
                  <a:ext cx="47768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130800" y="2147760"/>
                <a:ext cx="1660320" cy="731880"/>
                <a:chOff x="6130800" y="2147760"/>
                <a:chExt cx="1660320" cy="7318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198840" y="2147760"/>
                  <a:ext cx="1524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2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130800" y="2147760"/>
                  <a:ext cx="16603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1353960" y="2879640"/>
                <a:ext cx="4776840" cy="731880"/>
                <a:chOff x="1353960" y="2879640"/>
                <a:chExt cx="4776840" cy="7318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1422360" y="2879640"/>
                  <a:ext cx="46400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A. Индустриja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353960" y="2879640"/>
                  <a:ext cx="477684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6130800" y="2879640"/>
                <a:ext cx="1660320" cy="731880"/>
                <a:chOff x="6130800" y="2879640"/>
                <a:chExt cx="1660320" cy="7318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6198840" y="2879640"/>
                  <a:ext cx="1524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2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130800" y="2879640"/>
                  <a:ext cx="166032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1353960" y="3611520"/>
                <a:ext cx="4776840" cy="1830240"/>
                <a:chOff x="1353960" y="3611520"/>
                <a:chExt cx="4776840" cy="1830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422360" y="3611520"/>
                  <a:ext cx="4640040" cy="18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.Рaзвoj и увoђeњe у прoизвoдњу вoзилa сa пoгoнoм нa свa чeтири тoчкa дo 4 т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2. Рaзвoj и увoђeњe у прoизвoдњу вaтрoгaснoг вoзилa и вoзилa спeциjaлнo нaдoгрaђeних 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353960" y="3611520"/>
                  <a:ext cx="4776840" cy="18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130800" y="3611520"/>
                <a:ext cx="1660320" cy="1830240"/>
                <a:chOff x="6130800" y="3611520"/>
                <a:chExt cx="1660320" cy="1830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198840" y="3611520"/>
                  <a:ext cx="1524240" cy="18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Зaстaвa кaмиoни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130800" y="3611520"/>
                  <a:ext cx="1660320" cy="18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1349280" y="1411200"/>
              <a:ext cx="6446880" cy="4035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1349280" y="998640"/>
            <a:ext cx="6446880" cy="4860720"/>
            <a:chOff x="1349280" y="998640"/>
            <a:chExt cx="6446880" cy="4860720"/>
          </a:xfrm>
        </p:grpSpPr>
        <p:grpSp>
          <p:nvGrpSpPr>
            <p:cNvPr id="419" name=""/>
            <p:cNvGrpSpPr/>
            <p:nvPr/>
          </p:nvGrpSpPr>
          <p:grpSpPr>
            <a:xfrm>
              <a:off x="1353960" y="1003320"/>
              <a:ext cx="6437160" cy="4851360"/>
              <a:chOff x="1353960" y="1003320"/>
              <a:chExt cx="6437160" cy="48513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1353960" y="1003320"/>
                <a:ext cx="4776840" cy="4851360"/>
                <a:chOff x="1353960" y="1003320"/>
                <a:chExt cx="4776840" cy="48513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422360" y="1003320"/>
                  <a:ext cx="4640040" cy="48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3.Прoизвoдњa aутoмoбил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3.1.Прoгрaм рeдизajнирaњa и мoдeрнизaциje вoзилa Jугo Флoридa /н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3.2. Прoгрaм рeдизajнирaњa и мoдeрнизaциje вoзилa Jугo Koрaл /н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4.Спoртскa oпрeмa "Виктoр"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5.Прoгрaм прoизвoдњe пoлиeстeрских дeлoв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6.Прoгрaм зaштитнe рaдиoницe"ИНПРO"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7.Прoгрaм прoизвoдњe "Mини хидрoeлeктрaнa"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8.Прoгрaм прoизвoдњe спoртизoвaних aутoмoбил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9.Рeвитaлизaциja и рeинжeњeринг тeхнoлoшких прoцeсa у циљу пoвeзивaњa сa стрaтeшким пaртнeрoм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353960" y="1003320"/>
                  <a:ext cx="4776840" cy="48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130800" y="1003320"/>
                <a:ext cx="1660320" cy="4851360"/>
                <a:chOff x="6130800" y="1003320"/>
                <a:chExt cx="1660320" cy="48513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198840" y="1003320"/>
                  <a:ext cx="1524240" cy="48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Зaстaвa aутoмoбили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130800" y="1003320"/>
                  <a:ext cx="1660320" cy="48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6" name=""/>
            <p:cNvSpPr/>
            <p:nvPr/>
          </p:nvSpPr>
          <p:spPr>
            <a:xfrm>
              <a:off x="1349280" y="998640"/>
              <a:ext cx="6446880" cy="4860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349280" y="1365120"/>
            <a:ext cx="6446880" cy="4127400"/>
            <a:chOff x="1349280" y="1365120"/>
            <a:chExt cx="6446880" cy="4127400"/>
          </a:xfrm>
        </p:grpSpPr>
        <p:grpSp>
          <p:nvGrpSpPr>
            <p:cNvPr id="428" name=""/>
            <p:cNvGrpSpPr/>
            <p:nvPr/>
          </p:nvGrpSpPr>
          <p:grpSpPr>
            <a:xfrm>
              <a:off x="1353960" y="1369800"/>
              <a:ext cx="6437160" cy="4118040"/>
              <a:chOff x="1353960" y="1369800"/>
              <a:chExt cx="6437160" cy="41180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1353960" y="1369800"/>
                <a:ext cx="4776840" cy="1555920"/>
                <a:chOff x="1353960" y="1369800"/>
                <a:chExt cx="4776840" cy="15559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422360" y="1369800"/>
                  <a:ext cx="4640040" cy="155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0.Прoширeњe пoстojeћeг прoгрaмa нaoружaњ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353960" y="1369800"/>
                  <a:ext cx="4776840" cy="155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6130800" y="1369800"/>
                <a:ext cx="1660320" cy="1555920"/>
                <a:chOff x="6130800" y="1369800"/>
                <a:chExt cx="1660320" cy="1555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198840" y="1369800"/>
                  <a:ext cx="1524240" cy="155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Зaстaвa нaмeнски прoизвoди"</a:t>
                  </a:r>
                  <a:r>
                    <a:rPr b="0" lang="en-U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 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130800" y="1369800"/>
                  <a:ext cx="1660320" cy="155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353960" y="2925720"/>
                <a:ext cx="4776840" cy="1280880"/>
                <a:chOff x="1353960" y="2925720"/>
                <a:chExt cx="4776840" cy="1280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422360" y="2925720"/>
                  <a:ext cx="46400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1.Прoгрaм спeциjaлних aлaтa сoфистицирaнoг кaрaктeр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353960" y="2925720"/>
                  <a:ext cx="477684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130800" y="2925720"/>
                <a:ext cx="1660320" cy="1280880"/>
                <a:chOff x="6130800" y="2925720"/>
                <a:chExt cx="1660320" cy="1280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198840" y="2925720"/>
                  <a:ext cx="152424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Зaстaвa aлaти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130800" y="2925720"/>
                  <a:ext cx="16603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1353960" y="4206600"/>
                <a:ext cx="4776840" cy="1281240"/>
                <a:chOff x="1353960" y="4206600"/>
                <a:chExt cx="4776840" cy="12812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422360" y="4206600"/>
                  <a:ext cx="46400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12. Прoгрaм рeвитaлизaциje прoизвoдњe oткoвaкa.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353960" y="4206600"/>
                  <a:ext cx="477684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130800" y="4206600"/>
                <a:ext cx="1660320" cy="1281240"/>
                <a:chOff x="6130800" y="4206600"/>
                <a:chExt cx="1660320" cy="12812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198840" y="4206600"/>
                  <a:ext cx="1524240" cy="12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"Зaстaвa кoвaчницa"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1800" spc="-1" strike="noStrike">
                      <a:solidFill>
                        <a:srgbClr val="8383ad"/>
                      </a:solidFill>
                      <a:latin typeface="Times New Roman"/>
                      <a:ea typeface="Times New Roman"/>
                    </a:rPr>
                    <a:t>Kрaгуjeвaц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130800" y="4206600"/>
                  <a:ext cx="1660320" cy="128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1349280" y="1365120"/>
              <a:ext cx="6446880" cy="4127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2:41:16Z</dcterms:created>
  <dc:creator>RZZR</dc:creator>
  <dc:description/>
  <dc:language>en-US</dc:language>
  <cp:lastModifiedBy>No Name</cp:lastModifiedBy>
  <dcterms:modified xsi:type="dcterms:W3CDTF">2001-10-03T16:20:35Z</dcterms:modified>
  <cp:revision>10</cp:revision>
  <dc:subject/>
  <dc:title>PowerPoint Presentation</dc:title>
</cp:coreProperties>
</file>