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5D6-920C-4335-BB5D-79E0F51A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85A-6EDC-47A4-A8F3-E9F49ABE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BCC-7931-4A7E-AEF2-6A289753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6D3-C3DC-4A3A-8612-C7CD2D99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1039-74F1-46C9-A283-D18588B7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6B5D-7005-4234-8EF2-283AC6B5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A9E7-188A-4BDB-82F0-F05B052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DE4-4A3A-4492-8A78-7C184CBC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924F-23D7-4169-A285-766A2D2F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A3D8-6DEC-4BDE-91A5-E5040015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9E66-8BE9-4FC7-904A-75242FAB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0F4-5327-47A6-8D15-A1D48676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7BB7-E5AF-4A6E-854C-A7E19325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86ED-CB48-4855-8A58-A53EF2E9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3652-32CC-45FD-B1E7-596A7704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6C26-E4A7-4D1B-85E3-3082B741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C184-C4DD-4A35-BC78-1710CE11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0E2-8868-4796-9C89-2426D83D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62E-BC44-42F3-AC5C-6C8CCE81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BE8-B4B2-49D0-A74B-C1AE629A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6FA-4969-4163-B0E6-A7C27DBF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593-055F-4572-A914-A528DDCF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C5B-1270-42CB-9E4A-36C1E35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C74-F69F-4ED4-86E9-0E048B9F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5A8-9D0B-43BF-83E3-3B41C8B9FF0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28CB-4496-468F-B1A8-F9C939DF5A2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404176"/>
                </a:solidFill>
                <a:latin typeface="Times New Roman"/>
              </a:rPr>
              <a:t>СРЕМСКИ ОКРУГ</a:t>
            </a:r>
            <a:endParaRPr b="0" lang="en-US" sz="3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Општине: Инђија, Ириг, Пећинци, Рума, Сремска Митровица, Стара Пазова, Шид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становника: 309.981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вршина: 3.486 км</a:t>
            </a:r>
            <a:r>
              <a:rPr b="1" lang="sr-CS" sz="1800" spc="-1" strike="noStrike" baseline="30000">
                <a:solidFill>
                  <a:srgbClr val="8383ad"/>
                </a:solidFill>
                <a:latin typeface="Times New Roman"/>
              </a:rPr>
              <a:t>2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љопривредне површине: 74.8%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вршине под шумама: 12.4%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запослених: 73.797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незапослених: 30.946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7" descr=""/>
          <p:cNvPicPr/>
          <p:nvPr/>
        </p:nvPicPr>
        <p:blipFill>
          <a:blip r:embed="rId8"/>
          <a:stretch/>
        </p:blipFill>
        <p:spPr>
          <a:xfrm>
            <a:off x="554040" y="685800"/>
            <a:ext cx="3817800" cy="5378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6:36:56Z</dcterms:created>
  <dc:creator>RZZR</dc:creator>
  <dc:description/>
  <dc:language>en-US</dc:language>
  <cp:lastModifiedBy>No Name</cp:lastModifiedBy>
  <dcterms:modified xsi:type="dcterms:W3CDTF">2001-10-03T16:55:46Z</dcterms:modified>
  <cp:revision>2</cp:revision>
  <dc:subject/>
  <dc:title>СРЕМСКИ ОКРУГ</dc:title>
</cp:coreProperties>
</file>