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E85-51C6-4C79-B08C-75FE5526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C2F-CD9B-4136-87C8-CF84A0D8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A5F-429B-4528-9420-1F15661A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AE0-C908-4C15-A823-EB430EC5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AB8-4C50-4F05-8683-0B6E2CDF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B6A-C3AA-46D6-A86E-903E0B5E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D5E-CB42-4D76-AEFB-33F0D759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3863-30DD-4951-B320-6F8F2C47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ED7-B17B-4052-A265-5BFCD199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721B-2290-4240-A191-4B8007D1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F75-0728-4A26-A9F8-0E15A77A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34B-B903-4FDF-B9C6-7AFFC245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A5EB-2BF0-4FD8-AF38-3DA8752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C1C5-F3FE-408E-8E60-3CF1D34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ECE3-7CB4-43AD-BC9E-2E78FF5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0A5B-0751-4F4E-B69B-C28D0C8A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5346-A7AC-40A6-8A65-3B9A7C38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F93-1FA4-4436-B5CE-8715E906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E1E-9A59-4D43-9111-F2E64B9C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85C-9946-4D3D-95C7-2C0193EC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EC3-783F-4B3A-A519-F85F955A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0F6-8448-4B3D-A793-2B8A4FE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4C4-BCCA-4188-ABF2-81D66003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4A8-EB8D-4317-ABBC-E60EF46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92E-C41F-47A2-B637-3FD85AA3D402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E81-30EF-434D-B243-BF74EFBAA438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24280" y="83808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700" spc="-1" strike="noStrike">
                <a:solidFill>
                  <a:srgbClr val="404176"/>
                </a:solidFill>
                <a:latin typeface="Times New Roman"/>
              </a:rPr>
              <a:t>SEVERNO-BANATSKI </a:t>
            </a:r>
            <a:br>
              <a:rPr sz="2700"/>
            </a:br>
            <a:r>
              <a:rPr b="1" i="1" lang="sl-SI" sz="2700" spc="-1" strike="noStrike">
                <a:solidFill>
                  <a:srgbClr val="404176"/>
                </a:solidFill>
                <a:latin typeface="Times New Roman"/>
              </a:rPr>
              <a:t>OKRUG</a:t>
            </a:r>
            <a:endParaRPr b="0" lang="en-US" sz="27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724280" y="236196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Opštine: Ada, Kanjiža, Kikinda, Novi Kneževac, Senta, Čoka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Broj stanovnika: 179.783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Površina: 2.329 km</a:t>
            </a:r>
            <a:r>
              <a:rPr b="1" lang="sl-SI" sz="2000" spc="-1" strike="noStrike" baseline="30000">
                <a:solidFill>
                  <a:srgbClr val="8383ad"/>
                </a:solidFill>
                <a:latin typeface="Times New Roman"/>
              </a:rPr>
              <a:t>2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Poljoprivredne površine: 89,1%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Površine pod šumama: 0,7%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Broj zaposlenih: 42.857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Broj nezaposlenih: 17.913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0" name="okruzic3" descr=""/>
          <p:cNvPicPr/>
          <p:nvPr/>
        </p:nvPicPr>
        <p:blipFill>
          <a:blip r:embed="rId8"/>
          <a:stretch/>
        </p:blipFill>
        <p:spPr>
          <a:xfrm>
            <a:off x="542880" y="693720"/>
            <a:ext cx="3807000" cy="53643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KOMPARATIVNE PREDNOSTI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Lokacija okruga na tromeđi tri države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Četiri opštine su pogranične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Potencijali poljoprivrednog zemljišta za proizvodnju zdrave hrane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Značajna malazišta nafte, prirodnog gasa i geotermalnih voda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a Tisa i mreža kanala sistema DTD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 (plovni putevi, navodnjavanje i turizam)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Proizvodni kapaciteti industrije su izvozno orijentisani, a nosioci imaju usvojene sisteme ISO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standarda</a:t>
            </a:r>
            <a:r>
              <a:rPr b="1" lang="sl-SI" sz="20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Dobra ukupna obrazovna struktura stanovništva</a:t>
            </a:r>
            <a:r>
              <a:rPr b="0" lang="sl-SI" sz="1800" spc="-1" strike="noStrike">
                <a:solidFill>
                  <a:srgbClr val="8383ad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PRIORITETI - PRIVREDA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POLJOPRIVREDA: uljane kulture, neke vrste povrća, jagodičasto voće, kvalitetno goveđe moso, jagnježe meso, svinjsko meso, seme ratarskih kultura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INDUSTRIJA: ulaganje u industriju građevinskog materijala, ulaganje u naftnu i hemijsku industriju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,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ekonstrukcija proizvodnih programa metalskog kompleksa preko MSP,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i osvajanje novih tehnologija u prehrambenoj industriji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TURIZAM: 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banjskog turizma (Kanjiža, Kikinda)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,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lovnog turizm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, r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azvoj turizma koji je vezan za reku Tisu kao međunarodnu reku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, t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anzitni turizam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PRIORITETI - INFRASTRUKTURA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Banatske magistral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auto-puta Temišvar-Kikinda-Sombor-Osjek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Kompletna rekonstrukcija putne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, dogradnja i osavremenjavanje postojeće PTT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R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ekonstrukcija elektro-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Završetak gasne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Stavljanje u funkciju kanalske mrež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       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izgradnja zalivnih sistema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uređaja za prečišćavanje otpadnih voda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regionalnog sistema za snabdevanje industrije tehničkom vodom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proširenje starih sistema za snabdevanje pijaćom vodom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postrojenja za dobijanje ispravne pijaće vode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       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gradnja nedostajuće kanalizacione mreže Izgradnja postrojenja za prečišćavanje otpadnih voda</a:t>
            </a:r>
            <a:r>
              <a:rPr b="1" lang="sl-SI" sz="1900" spc="-1" strike="noStrike">
                <a:solidFill>
                  <a:srgbClr val="8383ad"/>
                </a:solidFill>
                <a:latin typeface="Times New Roman"/>
              </a:rPr>
              <a:t>.</a:t>
            </a:r>
            <a:endParaRPr b="0" lang="en-US" sz="19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404176"/>
                </a:solidFill>
                <a:latin typeface="Times New Roman"/>
              </a:rPr>
              <a:t>PRIORITETI – JAVNE SLUŽBE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premanje opština opremom za elektronsko poslovanje i prelazak na E-upravu i povezivanje u mrežu sa republičkim i pokrajinskim organim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       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opremanje zdravstvenih ustanova i preventivnih službi uz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 o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bezbeđivanje kadrov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Obnavljanje škola i osavremenjavanje nastave uz primenu IT i rešavanje problema nedostajućeg kadra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Rekonstrukcija i izgradnja sportskih i rekreativnih objekata i rekonstrukcija objekata kulture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Zaštita spomenika kulture i urbanističke i građevinske baštine</a:t>
            </a:r>
            <a:r>
              <a:rPr b="1" lang="sl-SI" sz="2200" spc="-1" strike="noStrike">
                <a:solidFill>
                  <a:srgbClr val="8383ad"/>
                </a:solidFill>
                <a:latin typeface="Times New Roman"/>
              </a:rPr>
              <a:t>;</a:t>
            </a: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Izrada GUP-a kao jedan od apsolutnih prioriteta 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5:00:56Z</dcterms:created>
  <dc:creator>RZZR</dc:creator>
  <dc:description/>
  <dc:language>en-US</dc:language>
  <cp:lastModifiedBy>No Name</cp:lastModifiedBy>
  <dcterms:modified xsi:type="dcterms:W3CDTF">2001-10-03T17:14:01Z</dcterms:modified>
  <cp:revision>5</cp:revision>
  <dc:subject/>
  <dc:title>PowerPoint Presentation</dc:title>
</cp:coreProperties>
</file>