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4.wmf" ContentType="image/x-wmf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A59F-CCA8-40C0-B025-D3E23676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5C8-3274-4247-8E41-77F8C981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D8B4-EAC2-473C-B013-3E593817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57F5-6815-4AB7-8EAB-07611D2C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EEBA-F379-4EA2-B2D3-C659624A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74D-7789-49E0-A29E-12A51686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467F-DCD9-4E1F-B0C8-FEC56822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63A-5C3D-417F-8E98-6CC9C595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A556-8040-4B13-BB46-5C4E0FAE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4CEF-AC6B-44F5-90F8-A5FE0129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7FE-2DD0-45B9-BD2E-86E008D3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FBEA-3F4A-45DB-BE01-AC175540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6987-3AD2-45D2-9A9F-FA13BDCBF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267080"/>
            <a:ext cx="9144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962520"/>
            <a:ext cx="9144000" cy="304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57600"/>
            <a:ext cx="914400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-763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Times New Roman"/>
              </a:rPr>
              <a:t>Republika Srbija - Severnobački okr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2640" y="6338880"/>
            <a:ext cx="51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ttp://www.severnabacka.sr.gov.y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apa_ok" descr=""/>
          <p:cNvPicPr/>
          <p:nvPr/>
        </p:nvPicPr>
        <p:blipFill>
          <a:blip r:embed="rId1"/>
          <a:stretch/>
        </p:blipFill>
        <p:spPr>
          <a:xfrm>
            <a:off x="3124080" y="2212920"/>
            <a:ext cx="2936880" cy="4264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364760" y="987480"/>
            <a:ext cx="680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Prag Balkana – vrata Evr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Times New Roman"/>
              </a:rPr>
              <a:t>1) Lo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Geografski položaj veoma pogodan za međuregionalnu saradnju (Subotica – Baja – Osijek) i etnocentričnu i regiocentričnu ekspanz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Koridor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Times New Roman"/>
              </a:rPr>
              <a:t>2) Poljoprivre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6765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Proizvodnja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organske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 hrane (uz kombinovanje prirodnih resursa i akumuliranog znanja), za kojom postoji platežno sposobna tražnja na inostranom tržiš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Viši stepen finalizacije postojećih, ali i kreiranje novih proizvoda na temelju postojećih resu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Vinogradarstvo, voćarstvo, povrtlarstvo i cvećarstvo (staklenička proizvodnj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Times New Roman"/>
              </a:rPr>
              <a:t>3) Obrazovni si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re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ža fakulteta i viših šk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Školuje preko 7.000 akadema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ahvaljujući ovoj populaciji možemo lakše saznati, shvatiti i implementirati nove tehnološke, ekonomske, finansijske i kulturne trendove u svim aspektima čovekovog delo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05120" y="457200"/>
            <a:ext cx="541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hr-HR" sz="4400" spc="-1" strike="noStrike">
                <a:solidFill>
                  <a:srgbClr val="ffffcc"/>
                </a:solidFill>
                <a:latin typeface="Times New Roman"/>
              </a:rPr>
              <a:t> Multinacional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2438280"/>
            <a:ext cx="51814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Multinacionalnost i multikulturalnost regiona kao osnova kulturne, ekonomske i svake druge saradnje sa zemljama maticama naših sugrađ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Times New Roman"/>
              </a:rPr>
              <a:t>5) Turiz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Palićko je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Ludoško je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Palićki filmski fest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Subotička gradska kuć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Lovni turiz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2_" descr="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6057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5335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cc"/>
                </a:solidFill>
                <a:latin typeface="Times New Roman"/>
              </a:rPr>
              <a:t>Prioriteti razvoja severnobačkog okru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top2-m" descr=""/>
          <p:cNvPicPr/>
          <p:nvPr/>
        </p:nvPicPr>
        <p:blipFill>
          <a:blip r:embed="rId2"/>
          <a:stretch/>
        </p:blipFill>
        <p:spPr>
          <a:xfrm>
            <a:off x="2133720" y="0"/>
            <a:ext cx="49528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cc"/>
                </a:solidFill>
                <a:latin typeface="Times New Roman"/>
              </a:rPr>
              <a:t>1)</a:t>
            </a:r>
            <a:br>
              <a:rPr sz="3600"/>
            </a:br>
            <a:r>
              <a:rPr b="0" lang="hr-HR" sz="3600" spc="-1" strike="noStrike">
                <a:solidFill>
                  <a:srgbClr val="ffffcc"/>
                </a:solidFill>
                <a:latin typeface="Times New Roman"/>
              </a:rPr>
              <a:t>Stvaranje povoljnih ambijentalnih </a:t>
            </a:r>
            <a:br>
              <a:rPr sz="3600"/>
            </a:br>
            <a:r>
              <a:rPr b="0" lang="hr-HR" sz="3600" spc="-1" strike="noStrike">
                <a:solidFill>
                  <a:srgbClr val="ffffcc"/>
                </a:solidFill>
                <a:latin typeface="Times New Roman"/>
              </a:rPr>
              <a:t>uslova koji će omogućit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Privlačenje kapit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Privlačenje stručnog humanog kapit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Stvaranje uslova za razvoj, transfer, implementaciju, te uspešnu komercijalizaciju novih tehnolog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Produkcija roba i usluga višeg stepena obrade i povećanog izvoza, kao jednog od ciljeva srednjoročnog programa razvoj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epublik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rb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cc"/>
                </a:solidFill>
                <a:latin typeface="Times New Roman"/>
              </a:rPr>
              <a:t>2) </a:t>
            </a:r>
            <a:br>
              <a:rPr sz="3600"/>
            </a:br>
            <a:r>
              <a:rPr b="0" lang="hr-HR" sz="3600" spc="-1" strike="noStrike">
                <a:solidFill>
                  <a:srgbClr val="ffffcc"/>
                </a:solidFill>
                <a:latin typeface="Times New Roman"/>
              </a:rPr>
              <a:t>Iznalaženje atraktivnih programa i stvaranje povoljnog preduzetničkog ambijenta, te pronalaženje strateških partn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289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cc"/>
                </a:solidFill>
                <a:latin typeface="Times New Roman"/>
              </a:rPr>
              <a:t>3) </a:t>
            </a:r>
            <a:br>
              <a:rPr sz="3600"/>
            </a:br>
            <a:r>
              <a:rPr b="0" lang="hr-HR" sz="3600" spc="-1" strike="noStrike">
                <a:solidFill>
                  <a:srgbClr val="ffffcc"/>
                </a:solidFill>
                <a:latin typeface="Times New Roman"/>
              </a:rPr>
              <a:t>Preorijentacija na profitabilnije segmente poljoprivredne proizvodnje, a za koje na ovom području postoje mogućnosti (voćarstvo, povrtarstvo, cvećarstvo, staklenička proizvodnja, iskorištavanje termalnih vod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cc"/>
                </a:solidFill>
                <a:latin typeface="Times New Roman"/>
              </a:rPr>
              <a:t>4)</a:t>
            </a:r>
            <a:br>
              <a:rPr sz="3600"/>
            </a:br>
            <a:r>
              <a:rPr b="0" lang="hr-HR" sz="3600" spc="-1" strike="noStrike">
                <a:solidFill>
                  <a:srgbClr val="ffffcc"/>
                </a:solidFill>
                <a:latin typeface="Times New Roman"/>
              </a:rPr>
              <a:t> Potrebno je razraditi model kombinovanja neformalnih oblika kontinuiranog inoviranja znanja, koristeći pri tome značajne naučno-obrazovne potencijale koji u okrugu postoje, a  sve to uz podršku dostupnih savremenih informacionih tehnologij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Times New Roman"/>
              </a:rPr>
              <a:t>Stanovništ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top2-m" descr=""/>
          <p:cNvPicPr/>
          <p:nvPr/>
        </p:nvPicPr>
        <p:blipFill>
          <a:blip r:embed="rId1"/>
          <a:stretch/>
        </p:blipFill>
        <p:spPr>
          <a:xfrm>
            <a:off x="2133720" y="0"/>
            <a:ext cx="4952880" cy="57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8640" y="5867280"/>
            <a:ext cx="33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~ 200.000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stanov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_" descr="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4190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724280" y="5410080"/>
            <a:ext cx="4419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Subotica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 – 147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Bačka Topola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 – 38.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Mali Iđoš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 – 13.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Times New Roman"/>
              </a:rPr>
              <a:t>Nacionalna struk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top2-m" descr=""/>
          <p:cNvPicPr/>
          <p:nvPr/>
        </p:nvPicPr>
        <p:blipFill>
          <a:blip r:embed="rId1"/>
          <a:stretch/>
        </p:blipFill>
        <p:spPr>
          <a:xfrm>
            <a:off x="2133720" y="0"/>
            <a:ext cx="495288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naci" descr=""/>
          <p:cNvPicPr/>
          <p:nvPr/>
        </p:nvPicPr>
        <p:blipFill>
          <a:blip r:embed="rId2"/>
          <a:stretch/>
        </p:blipFill>
        <p:spPr>
          <a:xfrm>
            <a:off x="2590920" y="2389320"/>
            <a:ext cx="3809880" cy="378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50080" y="5175360"/>
            <a:ext cx="124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Mađ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8,1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91160" y="2095560"/>
            <a:ext cx="187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Jugoslov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12,5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59600" y="167004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Hrvati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8,6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41200" y="214164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Bunjevci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8,2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3280" y="2674800"/>
            <a:ext cx="26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Crnogorci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2,7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14640" y="3132000"/>
            <a:ext cx="20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ostali 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3,8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3320" y="5113440"/>
            <a:ext cx="20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Srbi 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16,1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23720" y="10666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vr</a:t>
            </a:r>
            <a:r>
              <a:rPr b="0" lang="hr-HR" sz="4400" spc="-1" strike="noStrike">
                <a:solidFill>
                  <a:srgbClr val="ffffcc"/>
                </a:solidFill>
                <a:latin typeface="Times New Roman"/>
              </a:rPr>
              <a:t>š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4343400"/>
            <a:ext cx="4495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1800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km</a:t>
            </a:r>
            <a:r>
              <a:rPr b="0" i="1" lang="sr-C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89%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obradive površine, većinom plodne oran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top2-m" descr=""/>
          <p:cNvPicPr/>
          <p:nvPr/>
        </p:nvPicPr>
        <p:blipFill>
          <a:blip r:embed="rId1"/>
          <a:stretch/>
        </p:blipFill>
        <p:spPr>
          <a:xfrm>
            <a:off x="2133720" y="0"/>
            <a:ext cx="495288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sub15" descr="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676520"/>
            <a:ext cx="441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cc"/>
                </a:solidFill>
                <a:latin typeface="Times New Roman"/>
              </a:rPr>
              <a:t>51.090 </a:t>
            </a:r>
            <a:r>
              <a:rPr b="1" i="1" lang="hr-HR" sz="2800" spc="-1" strike="noStrike">
                <a:solidFill>
                  <a:srgbClr val="ffffcc"/>
                </a:solidFill>
                <a:latin typeface="Times New Roman"/>
              </a:rPr>
              <a:t>zaposlen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17.740 -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indust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5.249 -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poljoprivre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2.733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saobraćaj i 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2.351 -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trgov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676520"/>
            <a:ext cx="4495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cc"/>
                </a:solidFill>
                <a:latin typeface="Times New Roman"/>
              </a:rPr>
              <a:t>5.817 </a:t>
            </a:r>
            <a:r>
              <a:rPr b="1" i="1" lang="hr-HR" sz="2800" spc="-1" strike="noStrike">
                <a:solidFill>
                  <a:srgbClr val="ffffcc"/>
                </a:solidFill>
                <a:latin typeface="Times New Roman"/>
              </a:rPr>
              <a:t>preduzeć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810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trgovina i turiz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660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indust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228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poljoprivre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184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građevinar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103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saobraćaj i 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Times New Roman"/>
              </a:rPr>
              <a:t>Zaposle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top2-m" descr=""/>
          <p:cNvPicPr/>
          <p:nvPr/>
        </p:nvPicPr>
        <p:blipFill>
          <a:blip r:embed="rId1"/>
          <a:stretch/>
        </p:blipFill>
        <p:spPr>
          <a:xfrm>
            <a:off x="2133720" y="0"/>
            <a:ext cx="4952880" cy="576360"/>
          </a:xfrm>
          <a:prstGeom prst="rect">
            <a:avLst/>
          </a:prstGeom>
          <a:ln w="0">
            <a:noFill/>
          </a:ln>
        </p:spPr>
      </p:pic>
      <p:pic>
        <p:nvPicPr>
          <p:cNvPr id="73" name="_delta_bike" descr=""/>
          <p:cNvPicPr/>
          <p:nvPr/>
        </p:nvPicPr>
        <p:blipFill>
          <a:blip r:embed="rId2"/>
          <a:stretch/>
        </p:blipFill>
        <p:spPr>
          <a:xfrm>
            <a:off x="76320" y="57913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74" name="_siandsi" descr=""/>
          <p:cNvPicPr/>
          <p:nvPr/>
        </p:nvPicPr>
        <p:blipFill>
          <a:blip r:embed="rId3"/>
          <a:stretch/>
        </p:blipFill>
        <p:spPr>
          <a:xfrm>
            <a:off x="3733920" y="57913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75" name="_podrum_palic" descr=""/>
          <p:cNvPicPr/>
          <p:nvPr/>
        </p:nvPicPr>
        <p:blipFill>
          <a:blip r:embed="rId4"/>
          <a:stretch/>
        </p:blipFill>
        <p:spPr>
          <a:xfrm>
            <a:off x="2819520" y="57913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76" name="_fidelinka" descr=""/>
          <p:cNvPicPr/>
          <p:nvPr/>
        </p:nvPicPr>
        <p:blipFill>
          <a:blip r:embed="rId5"/>
          <a:stretch/>
        </p:blipFill>
        <p:spPr>
          <a:xfrm>
            <a:off x="1905120" y="57913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77" name="_pionir" descr=""/>
          <p:cNvPicPr/>
          <p:nvPr/>
        </p:nvPicPr>
        <p:blipFill>
          <a:blip r:embed="rId6"/>
          <a:stretch/>
        </p:blipFill>
        <p:spPr>
          <a:xfrm>
            <a:off x="5562720" y="57913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78" name="_zeljeznicar" descr=""/>
          <p:cNvPicPr/>
          <p:nvPr/>
        </p:nvPicPr>
        <p:blipFill>
          <a:blip r:embed="rId7"/>
          <a:stretch/>
        </p:blipFill>
        <p:spPr>
          <a:xfrm>
            <a:off x="6477120" y="57913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79" name="_sever" descr=""/>
          <p:cNvPicPr/>
          <p:nvPr/>
        </p:nvPicPr>
        <p:blipFill>
          <a:blip r:embed="rId8"/>
          <a:stretch/>
        </p:blipFill>
        <p:spPr>
          <a:xfrm>
            <a:off x="4648320" y="57913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80" name="_zobnatica" descr=""/>
          <p:cNvPicPr/>
          <p:nvPr/>
        </p:nvPicPr>
        <p:blipFill>
          <a:blip r:embed="rId9"/>
          <a:stretch/>
        </p:blipFill>
        <p:spPr>
          <a:xfrm>
            <a:off x="7391520" y="57913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81" name="_topiko" descr=""/>
          <p:cNvPicPr/>
          <p:nvPr/>
        </p:nvPicPr>
        <p:blipFill>
          <a:blip r:embed="rId10"/>
          <a:stretch/>
        </p:blipFill>
        <p:spPr>
          <a:xfrm>
            <a:off x="990720" y="57913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82" name="_freshandco" descr=""/>
          <p:cNvPicPr/>
          <p:nvPr/>
        </p:nvPicPr>
        <p:blipFill>
          <a:blip r:embed="rId11"/>
          <a:stretch/>
        </p:blipFill>
        <p:spPr>
          <a:xfrm>
            <a:off x="8305920" y="5791320"/>
            <a:ext cx="7999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40080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Palićko je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0"/>
            <a:ext cx="4724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Times New Roman"/>
              </a:rPr>
              <a:t>Znamenit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hoto28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3429000" cy="2577960"/>
          </a:xfrm>
          <a:prstGeom prst="rect">
            <a:avLst/>
          </a:prstGeom>
          <a:ln w="0">
            <a:noFill/>
          </a:ln>
        </p:spPr>
      </p:pic>
      <p:pic>
        <p:nvPicPr>
          <p:cNvPr id="86" name="photo17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3429000" cy="2577960"/>
          </a:xfrm>
          <a:prstGeom prst="rect">
            <a:avLst/>
          </a:prstGeom>
          <a:ln w="0">
            <a:noFill/>
          </a:ln>
        </p:spPr>
      </p:pic>
      <p:pic>
        <p:nvPicPr>
          <p:cNvPr id="87" name="photo24" descr=""/>
          <p:cNvPicPr/>
          <p:nvPr/>
        </p:nvPicPr>
        <p:blipFill>
          <a:blip r:embed="rId3"/>
          <a:stretch/>
        </p:blipFill>
        <p:spPr>
          <a:xfrm>
            <a:off x="5029200" y="914400"/>
            <a:ext cx="3429000" cy="2577960"/>
          </a:xfrm>
          <a:prstGeom prst="rect">
            <a:avLst/>
          </a:prstGeom>
          <a:ln w="0">
            <a:noFill/>
          </a:ln>
        </p:spPr>
      </p:pic>
      <p:pic>
        <p:nvPicPr>
          <p:cNvPr id="88" name="photo6" descr=""/>
          <p:cNvPicPr/>
          <p:nvPr/>
        </p:nvPicPr>
        <p:blipFill>
          <a:blip r:embed="rId4"/>
          <a:stretch/>
        </p:blipFill>
        <p:spPr>
          <a:xfrm>
            <a:off x="5029200" y="3886200"/>
            <a:ext cx="342900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38496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Ludoško je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41316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Zoolo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ški v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3409920"/>
            <a:ext cx="342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Zobn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6384960"/>
            <a:ext cx="4267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Međunarodni Filmski fest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0"/>
            <a:ext cx="4724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Times New Roman"/>
              </a:rPr>
              <a:t>Znamenit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6_" descr=""/>
          <p:cNvPicPr/>
          <p:nvPr/>
        </p:nvPicPr>
        <p:blipFill>
          <a:blip r:embed="rId1"/>
          <a:stretch/>
        </p:blipFill>
        <p:spPr>
          <a:xfrm>
            <a:off x="762120" y="927000"/>
            <a:ext cx="3429000" cy="2578320"/>
          </a:xfrm>
          <a:prstGeom prst="rect">
            <a:avLst/>
          </a:prstGeom>
          <a:ln w="0">
            <a:noFill/>
          </a:ln>
        </p:spPr>
      </p:pic>
      <p:pic>
        <p:nvPicPr>
          <p:cNvPr id="95" name="5_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3429000" cy="2577960"/>
          </a:xfrm>
          <a:prstGeom prst="rect">
            <a:avLst/>
          </a:prstGeom>
          <a:ln w="0">
            <a:noFill/>
          </a:ln>
        </p:spPr>
      </p:pic>
      <p:pic>
        <p:nvPicPr>
          <p:cNvPr id="96" name="7_" descr=""/>
          <p:cNvPicPr/>
          <p:nvPr/>
        </p:nvPicPr>
        <p:blipFill>
          <a:blip r:embed="rId3"/>
          <a:stretch/>
        </p:blipFill>
        <p:spPr>
          <a:xfrm>
            <a:off x="4952880" y="914400"/>
            <a:ext cx="3429000" cy="2577960"/>
          </a:xfrm>
          <a:prstGeom prst="rect">
            <a:avLst/>
          </a:prstGeom>
          <a:ln w="0">
            <a:noFill/>
          </a:ln>
        </p:spPr>
      </p:pic>
      <p:pic>
        <p:nvPicPr>
          <p:cNvPr id="97" name="_palicf" descr=""/>
          <p:cNvPicPr/>
          <p:nvPr/>
        </p:nvPicPr>
        <p:blipFill>
          <a:blip r:embed="rId4"/>
          <a:stretch/>
        </p:blipFill>
        <p:spPr>
          <a:xfrm>
            <a:off x="4952880" y="3886200"/>
            <a:ext cx="342900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4_" descr=""/>
          <p:cNvPicPr/>
          <p:nvPr/>
        </p:nvPicPr>
        <p:blipFill>
          <a:blip r:embed="rId1"/>
          <a:stretch/>
        </p:blipFill>
        <p:spPr>
          <a:xfrm>
            <a:off x="0" y="0"/>
            <a:ext cx="50832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81480" y="7632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Times New Roman"/>
              </a:rPr>
              <a:t>Znamenit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Subotič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Gradska kuć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edna od t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ajlepše grads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uće u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vro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Times New Roman"/>
              </a:rPr>
              <a:t>Komparativne prednosti severnobačkog okru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3T07:43:14Z</dcterms:created>
  <dc:creator>Jelena</dc:creator>
  <dc:description/>
  <dc:language>en-US</dc:language>
  <cp:lastModifiedBy>DG Computers</cp:lastModifiedBy>
  <dcterms:modified xsi:type="dcterms:W3CDTF">2001-10-04T05:56:57Z</dcterms:modified>
  <cp:revision>6</cp:revision>
  <dc:subject/>
  <dc:title>PowerPoint Presentation</dc:title>
</cp:coreProperties>
</file>