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wmf" ContentType="image/x-wmf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5716588" cy="3808413"/>
  <p:notesSz cx="6670675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8ECFA-A960-4CE0-A7A1-4AE0ED739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8400" y="338040"/>
            <a:ext cx="4857480" cy="635040"/>
          </a:xfrm>
          <a:prstGeom prst="rect">
            <a:avLst/>
          </a:prstGeom>
          <a:noFill/>
          <a:ln w="0">
            <a:noFill/>
          </a:ln>
        </p:spPr>
        <p:txBody>
          <a:bodyPr lIns="54720" rIns="54720" tIns="27360" bIns="27360" anchor="ctr">
            <a:noAutofit/>
          </a:bodyPr>
          <a:p>
            <a:pPr indent="0" algn="ctr">
              <a:buNone/>
              <a:tabLst>
                <a:tab algn="l" pos="0"/>
                <a:tab algn="l" pos="544680"/>
                <a:tab algn="l" pos="1089000"/>
                <a:tab algn="l" pos="1633680"/>
                <a:tab algn="l" pos="2178000"/>
                <a:tab algn="l" pos="2722680"/>
                <a:tab algn="l" pos="3267000"/>
                <a:tab algn="l" pos="3811680"/>
                <a:tab algn="l" pos="4356000"/>
                <a:tab algn="l" pos="4900680"/>
                <a:tab algn="l" pos="5445000"/>
                <a:tab algn="l" pos="5989680"/>
                <a:tab algn="l" pos="6534000"/>
                <a:tab algn="l" pos="7078680"/>
                <a:tab algn="l" pos="7623000"/>
                <a:tab algn="l" pos="8167680"/>
                <a:tab algn="l" pos="8712360"/>
                <a:tab algn="l" pos="9256680"/>
                <a:tab algn="l" pos="9801360"/>
                <a:tab algn="l" pos="10345680"/>
                <a:tab algn="l" pos="10890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8400" y="1100160"/>
            <a:ext cx="4857480" cy="1090080"/>
          </a:xfrm>
          <a:prstGeom prst="rect">
            <a:avLst/>
          </a:prstGeom>
          <a:noFill/>
          <a:ln w="0">
            <a:noFill/>
          </a:ln>
        </p:spPr>
        <p:txBody>
          <a:bodyPr lIns="54360" rIns="54360" tIns="27360" bIns="2736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44680"/>
                <a:tab algn="l" pos="1089000"/>
                <a:tab algn="l" pos="1633680"/>
                <a:tab algn="l" pos="2178000"/>
                <a:tab algn="l" pos="2722680"/>
                <a:tab algn="l" pos="3267000"/>
                <a:tab algn="l" pos="3811680"/>
                <a:tab algn="l" pos="4356000"/>
                <a:tab algn="l" pos="4900680"/>
                <a:tab algn="l" pos="5445000"/>
                <a:tab algn="l" pos="5989680"/>
                <a:tab algn="l" pos="6534000"/>
                <a:tab algn="l" pos="7078680"/>
                <a:tab algn="l" pos="7623000"/>
                <a:tab algn="l" pos="8167680"/>
                <a:tab algn="l" pos="8712360"/>
                <a:tab algn="l" pos="9256680"/>
                <a:tab algn="l" pos="9801360"/>
                <a:tab algn="l" pos="10345680"/>
                <a:tab algn="l" pos="1089036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28400" y="2294280"/>
            <a:ext cx="4857480" cy="1090080"/>
          </a:xfrm>
          <a:prstGeom prst="rect">
            <a:avLst/>
          </a:prstGeom>
          <a:noFill/>
          <a:ln w="0">
            <a:noFill/>
          </a:ln>
        </p:spPr>
        <p:txBody>
          <a:bodyPr lIns="54360" rIns="54360" tIns="27360" bIns="2736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44680"/>
                <a:tab algn="l" pos="1089000"/>
                <a:tab algn="l" pos="1633680"/>
                <a:tab algn="l" pos="2178000"/>
                <a:tab algn="l" pos="2722680"/>
                <a:tab algn="l" pos="3267000"/>
                <a:tab algn="l" pos="3811680"/>
                <a:tab algn="l" pos="4356000"/>
                <a:tab algn="l" pos="4900680"/>
                <a:tab algn="l" pos="5445000"/>
                <a:tab algn="l" pos="5989680"/>
                <a:tab algn="l" pos="6534000"/>
                <a:tab algn="l" pos="7078680"/>
                <a:tab algn="l" pos="7623000"/>
                <a:tab algn="l" pos="8167680"/>
                <a:tab algn="l" pos="8712360"/>
                <a:tab algn="l" pos="9256680"/>
                <a:tab algn="l" pos="9801360"/>
                <a:tab algn="l" pos="10345680"/>
                <a:tab algn="l" pos="1089036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3ED9A-EA2A-45C8-BBA4-1D48F49EA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28400" y="338040"/>
            <a:ext cx="4857480" cy="635040"/>
          </a:xfrm>
          <a:prstGeom prst="rect">
            <a:avLst/>
          </a:prstGeom>
          <a:noFill/>
          <a:ln w="0">
            <a:noFill/>
          </a:ln>
        </p:spPr>
        <p:txBody>
          <a:bodyPr lIns="54720" rIns="54720" tIns="27360" bIns="27360" anchor="ctr">
            <a:noAutofit/>
          </a:bodyPr>
          <a:p>
            <a:pPr indent="0" algn="ctr">
              <a:buNone/>
              <a:tabLst>
                <a:tab algn="l" pos="0"/>
                <a:tab algn="l" pos="544680"/>
                <a:tab algn="l" pos="1089000"/>
                <a:tab algn="l" pos="1633680"/>
                <a:tab algn="l" pos="2178000"/>
                <a:tab algn="l" pos="2722680"/>
                <a:tab algn="l" pos="3267000"/>
                <a:tab algn="l" pos="3811680"/>
                <a:tab algn="l" pos="4356000"/>
                <a:tab algn="l" pos="4900680"/>
                <a:tab algn="l" pos="5445000"/>
                <a:tab algn="l" pos="5989680"/>
                <a:tab algn="l" pos="6534000"/>
                <a:tab algn="l" pos="7078680"/>
                <a:tab algn="l" pos="7623000"/>
                <a:tab algn="l" pos="8167680"/>
                <a:tab algn="l" pos="8712360"/>
                <a:tab algn="l" pos="9256680"/>
                <a:tab algn="l" pos="9801360"/>
                <a:tab algn="l" pos="10345680"/>
                <a:tab algn="l" pos="10890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28400" y="1100160"/>
            <a:ext cx="2370240" cy="1090080"/>
          </a:xfrm>
          <a:prstGeom prst="rect">
            <a:avLst/>
          </a:prstGeom>
          <a:noFill/>
          <a:ln w="0">
            <a:noFill/>
          </a:ln>
        </p:spPr>
        <p:txBody>
          <a:bodyPr lIns="54360" rIns="54360" tIns="27360" bIns="2736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44680"/>
                <a:tab algn="l" pos="1089000"/>
                <a:tab algn="l" pos="1633680"/>
                <a:tab algn="l" pos="2178000"/>
                <a:tab algn="l" pos="2722680"/>
                <a:tab algn="l" pos="3267000"/>
                <a:tab algn="l" pos="3811680"/>
                <a:tab algn="l" pos="4356000"/>
                <a:tab algn="l" pos="4900680"/>
                <a:tab algn="l" pos="5445000"/>
                <a:tab algn="l" pos="5989680"/>
                <a:tab algn="l" pos="6534000"/>
                <a:tab algn="l" pos="7078680"/>
                <a:tab algn="l" pos="7623000"/>
                <a:tab algn="l" pos="8167680"/>
                <a:tab algn="l" pos="8712360"/>
                <a:tab algn="l" pos="9256680"/>
                <a:tab algn="l" pos="9801360"/>
                <a:tab algn="l" pos="10345680"/>
                <a:tab algn="l" pos="1089036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917440" y="1100160"/>
            <a:ext cx="2370240" cy="1090080"/>
          </a:xfrm>
          <a:prstGeom prst="rect">
            <a:avLst/>
          </a:prstGeom>
          <a:noFill/>
          <a:ln w="0">
            <a:noFill/>
          </a:ln>
        </p:spPr>
        <p:txBody>
          <a:bodyPr lIns="54360" rIns="54360" tIns="27360" bIns="2736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44680"/>
                <a:tab algn="l" pos="1089000"/>
                <a:tab algn="l" pos="1633680"/>
                <a:tab algn="l" pos="2178000"/>
                <a:tab algn="l" pos="2722680"/>
                <a:tab algn="l" pos="3267000"/>
                <a:tab algn="l" pos="3811680"/>
                <a:tab algn="l" pos="4356000"/>
                <a:tab algn="l" pos="4900680"/>
                <a:tab algn="l" pos="5445000"/>
                <a:tab algn="l" pos="5989680"/>
                <a:tab algn="l" pos="6534000"/>
                <a:tab algn="l" pos="7078680"/>
                <a:tab algn="l" pos="7623000"/>
                <a:tab algn="l" pos="8167680"/>
                <a:tab algn="l" pos="8712360"/>
                <a:tab algn="l" pos="9256680"/>
                <a:tab algn="l" pos="9801360"/>
                <a:tab algn="l" pos="10345680"/>
                <a:tab algn="l" pos="1089036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28400" y="2294280"/>
            <a:ext cx="2370240" cy="1090080"/>
          </a:xfrm>
          <a:prstGeom prst="rect">
            <a:avLst/>
          </a:prstGeom>
          <a:noFill/>
          <a:ln w="0">
            <a:noFill/>
          </a:ln>
        </p:spPr>
        <p:txBody>
          <a:bodyPr lIns="54360" rIns="54360" tIns="27360" bIns="2736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44680"/>
                <a:tab algn="l" pos="1089000"/>
                <a:tab algn="l" pos="1633680"/>
                <a:tab algn="l" pos="2178000"/>
                <a:tab algn="l" pos="2722680"/>
                <a:tab algn="l" pos="3267000"/>
                <a:tab algn="l" pos="3811680"/>
                <a:tab algn="l" pos="4356000"/>
                <a:tab algn="l" pos="4900680"/>
                <a:tab algn="l" pos="5445000"/>
                <a:tab algn="l" pos="5989680"/>
                <a:tab algn="l" pos="6534000"/>
                <a:tab algn="l" pos="7078680"/>
                <a:tab algn="l" pos="7623000"/>
                <a:tab algn="l" pos="8167680"/>
                <a:tab algn="l" pos="8712360"/>
                <a:tab algn="l" pos="9256680"/>
                <a:tab algn="l" pos="9801360"/>
                <a:tab algn="l" pos="10345680"/>
                <a:tab algn="l" pos="1089036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2917440" y="2294280"/>
            <a:ext cx="2370240" cy="1090080"/>
          </a:xfrm>
          <a:prstGeom prst="rect">
            <a:avLst/>
          </a:prstGeom>
          <a:noFill/>
          <a:ln w="0">
            <a:noFill/>
          </a:ln>
        </p:spPr>
        <p:txBody>
          <a:bodyPr lIns="54360" rIns="54360" tIns="27360" bIns="2736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44680"/>
                <a:tab algn="l" pos="1089000"/>
                <a:tab algn="l" pos="1633680"/>
                <a:tab algn="l" pos="2178000"/>
                <a:tab algn="l" pos="2722680"/>
                <a:tab algn="l" pos="3267000"/>
                <a:tab algn="l" pos="3811680"/>
                <a:tab algn="l" pos="4356000"/>
                <a:tab algn="l" pos="4900680"/>
                <a:tab algn="l" pos="5445000"/>
                <a:tab algn="l" pos="5989680"/>
                <a:tab algn="l" pos="6534000"/>
                <a:tab algn="l" pos="7078680"/>
                <a:tab algn="l" pos="7623000"/>
                <a:tab algn="l" pos="8167680"/>
                <a:tab algn="l" pos="8712360"/>
                <a:tab algn="l" pos="9256680"/>
                <a:tab algn="l" pos="9801360"/>
                <a:tab algn="l" pos="10345680"/>
                <a:tab algn="l" pos="1089036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2A5EE-FBEA-4531-BD89-26936550E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28400" y="338040"/>
            <a:ext cx="4857480" cy="635040"/>
          </a:xfrm>
          <a:prstGeom prst="rect">
            <a:avLst/>
          </a:prstGeom>
          <a:noFill/>
          <a:ln w="0">
            <a:noFill/>
          </a:ln>
        </p:spPr>
        <p:txBody>
          <a:bodyPr lIns="54720" rIns="54720" tIns="27360" bIns="27360" anchor="ctr">
            <a:noAutofit/>
          </a:bodyPr>
          <a:p>
            <a:pPr indent="0" algn="ctr">
              <a:buNone/>
              <a:tabLst>
                <a:tab algn="l" pos="0"/>
                <a:tab algn="l" pos="544680"/>
                <a:tab algn="l" pos="1089000"/>
                <a:tab algn="l" pos="1633680"/>
                <a:tab algn="l" pos="2178000"/>
                <a:tab algn="l" pos="2722680"/>
                <a:tab algn="l" pos="3267000"/>
                <a:tab algn="l" pos="3811680"/>
                <a:tab algn="l" pos="4356000"/>
                <a:tab algn="l" pos="4900680"/>
                <a:tab algn="l" pos="5445000"/>
                <a:tab algn="l" pos="5989680"/>
                <a:tab algn="l" pos="6534000"/>
                <a:tab algn="l" pos="7078680"/>
                <a:tab algn="l" pos="7623000"/>
                <a:tab algn="l" pos="8167680"/>
                <a:tab algn="l" pos="8712360"/>
                <a:tab algn="l" pos="9256680"/>
                <a:tab algn="l" pos="9801360"/>
                <a:tab algn="l" pos="10345680"/>
                <a:tab algn="l" pos="10890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28400" y="1100160"/>
            <a:ext cx="1563840" cy="1090080"/>
          </a:xfrm>
          <a:prstGeom prst="rect">
            <a:avLst/>
          </a:prstGeom>
          <a:noFill/>
          <a:ln w="0">
            <a:noFill/>
          </a:ln>
        </p:spPr>
        <p:txBody>
          <a:bodyPr lIns="54360" rIns="54360" tIns="27360" bIns="2736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44680"/>
                <a:tab algn="l" pos="1089000"/>
                <a:tab algn="l" pos="1633680"/>
                <a:tab algn="l" pos="2178000"/>
                <a:tab algn="l" pos="2722680"/>
                <a:tab algn="l" pos="3267000"/>
                <a:tab algn="l" pos="3811680"/>
                <a:tab algn="l" pos="4356000"/>
                <a:tab algn="l" pos="4900680"/>
                <a:tab algn="l" pos="5445000"/>
                <a:tab algn="l" pos="5989680"/>
                <a:tab algn="l" pos="6534000"/>
                <a:tab algn="l" pos="7078680"/>
                <a:tab algn="l" pos="7623000"/>
                <a:tab algn="l" pos="8167680"/>
                <a:tab algn="l" pos="8712360"/>
                <a:tab algn="l" pos="9256680"/>
                <a:tab algn="l" pos="9801360"/>
                <a:tab algn="l" pos="10345680"/>
                <a:tab algn="l" pos="1089036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070720" y="1100160"/>
            <a:ext cx="1563840" cy="1090080"/>
          </a:xfrm>
          <a:prstGeom prst="rect">
            <a:avLst/>
          </a:prstGeom>
          <a:noFill/>
          <a:ln w="0">
            <a:noFill/>
          </a:ln>
        </p:spPr>
        <p:txBody>
          <a:bodyPr lIns="54360" rIns="54360" tIns="27360" bIns="2736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44680"/>
                <a:tab algn="l" pos="1089000"/>
                <a:tab algn="l" pos="1633680"/>
                <a:tab algn="l" pos="2178000"/>
                <a:tab algn="l" pos="2722680"/>
                <a:tab algn="l" pos="3267000"/>
                <a:tab algn="l" pos="3811680"/>
                <a:tab algn="l" pos="4356000"/>
                <a:tab algn="l" pos="4900680"/>
                <a:tab algn="l" pos="5445000"/>
                <a:tab algn="l" pos="5989680"/>
                <a:tab algn="l" pos="6534000"/>
                <a:tab algn="l" pos="7078680"/>
                <a:tab algn="l" pos="7623000"/>
                <a:tab algn="l" pos="8167680"/>
                <a:tab algn="l" pos="8712360"/>
                <a:tab algn="l" pos="9256680"/>
                <a:tab algn="l" pos="9801360"/>
                <a:tab algn="l" pos="10345680"/>
                <a:tab algn="l" pos="1089036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3713400" y="1100160"/>
            <a:ext cx="1563840" cy="1090080"/>
          </a:xfrm>
          <a:prstGeom prst="rect">
            <a:avLst/>
          </a:prstGeom>
          <a:noFill/>
          <a:ln w="0">
            <a:noFill/>
          </a:ln>
        </p:spPr>
        <p:txBody>
          <a:bodyPr lIns="54360" rIns="54360" tIns="27360" bIns="2736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44680"/>
                <a:tab algn="l" pos="1089000"/>
                <a:tab algn="l" pos="1633680"/>
                <a:tab algn="l" pos="2178000"/>
                <a:tab algn="l" pos="2722680"/>
                <a:tab algn="l" pos="3267000"/>
                <a:tab algn="l" pos="3811680"/>
                <a:tab algn="l" pos="4356000"/>
                <a:tab algn="l" pos="4900680"/>
                <a:tab algn="l" pos="5445000"/>
                <a:tab algn="l" pos="5989680"/>
                <a:tab algn="l" pos="6534000"/>
                <a:tab algn="l" pos="7078680"/>
                <a:tab algn="l" pos="7623000"/>
                <a:tab algn="l" pos="8167680"/>
                <a:tab algn="l" pos="8712360"/>
                <a:tab algn="l" pos="9256680"/>
                <a:tab algn="l" pos="9801360"/>
                <a:tab algn="l" pos="10345680"/>
                <a:tab algn="l" pos="1089036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28400" y="2294280"/>
            <a:ext cx="1563840" cy="1090080"/>
          </a:xfrm>
          <a:prstGeom prst="rect">
            <a:avLst/>
          </a:prstGeom>
          <a:noFill/>
          <a:ln w="0">
            <a:noFill/>
          </a:ln>
        </p:spPr>
        <p:txBody>
          <a:bodyPr lIns="54360" rIns="54360" tIns="27360" bIns="2736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44680"/>
                <a:tab algn="l" pos="1089000"/>
                <a:tab algn="l" pos="1633680"/>
                <a:tab algn="l" pos="2178000"/>
                <a:tab algn="l" pos="2722680"/>
                <a:tab algn="l" pos="3267000"/>
                <a:tab algn="l" pos="3811680"/>
                <a:tab algn="l" pos="4356000"/>
                <a:tab algn="l" pos="4900680"/>
                <a:tab algn="l" pos="5445000"/>
                <a:tab algn="l" pos="5989680"/>
                <a:tab algn="l" pos="6534000"/>
                <a:tab algn="l" pos="7078680"/>
                <a:tab algn="l" pos="7623000"/>
                <a:tab algn="l" pos="8167680"/>
                <a:tab algn="l" pos="8712360"/>
                <a:tab algn="l" pos="9256680"/>
                <a:tab algn="l" pos="9801360"/>
                <a:tab algn="l" pos="10345680"/>
                <a:tab algn="l" pos="1089036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070720" y="2294280"/>
            <a:ext cx="1563840" cy="1090080"/>
          </a:xfrm>
          <a:prstGeom prst="rect">
            <a:avLst/>
          </a:prstGeom>
          <a:noFill/>
          <a:ln w="0">
            <a:noFill/>
          </a:ln>
        </p:spPr>
        <p:txBody>
          <a:bodyPr lIns="54360" rIns="54360" tIns="27360" bIns="2736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44680"/>
                <a:tab algn="l" pos="1089000"/>
                <a:tab algn="l" pos="1633680"/>
                <a:tab algn="l" pos="2178000"/>
                <a:tab algn="l" pos="2722680"/>
                <a:tab algn="l" pos="3267000"/>
                <a:tab algn="l" pos="3811680"/>
                <a:tab algn="l" pos="4356000"/>
                <a:tab algn="l" pos="4900680"/>
                <a:tab algn="l" pos="5445000"/>
                <a:tab algn="l" pos="5989680"/>
                <a:tab algn="l" pos="6534000"/>
                <a:tab algn="l" pos="7078680"/>
                <a:tab algn="l" pos="7623000"/>
                <a:tab algn="l" pos="8167680"/>
                <a:tab algn="l" pos="8712360"/>
                <a:tab algn="l" pos="9256680"/>
                <a:tab algn="l" pos="9801360"/>
                <a:tab algn="l" pos="10345680"/>
                <a:tab algn="l" pos="1089036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3713400" y="2294280"/>
            <a:ext cx="1563840" cy="1090080"/>
          </a:xfrm>
          <a:prstGeom prst="rect">
            <a:avLst/>
          </a:prstGeom>
          <a:noFill/>
          <a:ln w="0">
            <a:noFill/>
          </a:ln>
        </p:spPr>
        <p:txBody>
          <a:bodyPr lIns="54360" rIns="54360" tIns="27360" bIns="2736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44680"/>
                <a:tab algn="l" pos="1089000"/>
                <a:tab algn="l" pos="1633680"/>
                <a:tab algn="l" pos="2178000"/>
                <a:tab algn="l" pos="2722680"/>
                <a:tab algn="l" pos="3267000"/>
                <a:tab algn="l" pos="3811680"/>
                <a:tab algn="l" pos="4356000"/>
                <a:tab algn="l" pos="4900680"/>
                <a:tab algn="l" pos="5445000"/>
                <a:tab algn="l" pos="5989680"/>
                <a:tab algn="l" pos="6534000"/>
                <a:tab algn="l" pos="7078680"/>
                <a:tab algn="l" pos="7623000"/>
                <a:tab algn="l" pos="8167680"/>
                <a:tab algn="l" pos="8712360"/>
                <a:tab algn="l" pos="9256680"/>
                <a:tab algn="l" pos="9801360"/>
                <a:tab algn="l" pos="10345680"/>
                <a:tab algn="l" pos="1089036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94A35-5947-4C50-8429-3BACCF35A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28581-541A-4591-BFC6-A9F40DEB3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28400" y="338040"/>
            <a:ext cx="4857480" cy="635040"/>
          </a:xfrm>
          <a:prstGeom prst="rect">
            <a:avLst/>
          </a:prstGeom>
          <a:noFill/>
          <a:ln w="0">
            <a:noFill/>
          </a:ln>
        </p:spPr>
        <p:txBody>
          <a:bodyPr lIns="54720" rIns="54720" tIns="27360" bIns="27360" anchor="ctr">
            <a:noAutofit/>
          </a:bodyPr>
          <a:p>
            <a:pPr indent="0" algn="ctr">
              <a:buNone/>
              <a:tabLst>
                <a:tab algn="l" pos="0"/>
                <a:tab algn="l" pos="544680"/>
                <a:tab algn="l" pos="1089000"/>
                <a:tab algn="l" pos="1633680"/>
                <a:tab algn="l" pos="2178000"/>
                <a:tab algn="l" pos="2722680"/>
                <a:tab algn="l" pos="3267000"/>
                <a:tab algn="l" pos="3811680"/>
                <a:tab algn="l" pos="4356000"/>
                <a:tab algn="l" pos="4900680"/>
                <a:tab algn="l" pos="5445000"/>
                <a:tab algn="l" pos="5989680"/>
                <a:tab algn="l" pos="6534000"/>
                <a:tab algn="l" pos="7078680"/>
                <a:tab algn="l" pos="7623000"/>
                <a:tab algn="l" pos="8167680"/>
                <a:tab algn="l" pos="8712360"/>
                <a:tab algn="l" pos="9256680"/>
                <a:tab algn="l" pos="9801360"/>
                <a:tab algn="l" pos="10345680"/>
                <a:tab algn="l" pos="10890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28400" y="1100160"/>
            <a:ext cx="485748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buNone/>
              <a:tabLst>
                <a:tab algn="l" pos="0"/>
                <a:tab algn="l" pos="544680"/>
                <a:tab algn="l" pos="1089000"/>
                <a:tab algn="l" pos="1633680"/>
                <a:tab algn="l" pos="2178000"/>
                <a:tab algn="l" pos="2722680"/>
                <a:tab algn="l" pos="3267000"/>
                <a:tab algn="l" pos="3811680"/>
                <a:tab algn="l" pos="4356000"/>
                <a:tab algn="l" pos="4900680"/>
                <a:tab algn="l" pos="5445000"/>
                <a:tab algn="l" pos="5989680"/>
                <a:tab algn="l" pos="6534000"/>
                <a:tab algn="l" pos="7078680"/>
                <a:tab algn="l" pos="7623000"/>
                <a:tab algn="l" pos="8167680"/>
                <a:tab algn="l" pos="8712360"/>
                <a:tab algn="l" pos="9256680"/>
                <a:tab algn="l" pos="9801360"/>
                <a:tab algn="l" pos="10345680"/>
                <a:tab algn="l" pos="1089036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F79F8-3806-4E6B-9F70-279DB0E81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28400" y="338040"/>
            <a:ext cx="4857480" cy="635040"/>
          </a:xfrm>
          <a:prstGeom prst="rect">
            <a:avLst/>
          </a:prstGeom>
          <a:noFill/>
          <a:ln w="0">
            <a:noFill/>
          </a:ln>
        </p:spPr>
        <p:txBody>
          <a:bodyPr lIns="54720" rIns="54720" tIns="27360" bIns="27360" anchor="ctr">
            <a:noAutofit/>
          </a:bodyPr>
          <a:p>
            <a:pPr indent="0" algn="ctr">
              <a:buNone/>
              <a:tabLst>
                <a:tab algn="l" pos="0"/>
                <a:tab algn="l" pos="544680"/>
                <a:tab algn="l" pos="1089000"/>
                <a:tab algn="l" pos="1633680"/>
                <a:tab algn="l" pos="2178000"/>
                <a:tab algn="l" pos="2722680"/>
                <a:tab algn="l" pos="3267000"/>
                <a:tab algn="l" pos="3811680"/>
                <a:tab algn="l" pos="4356000"/>
                <a:tab algn="l" pos="4900680"/>
                <a:tab algn="l" pos="5445000"/>
                <a:tab algn="l" pos="5989680"/>
                <a:tab algn="l" pos="6534000"/>
                <a:tab algn="l" pos="7078680"/>
                <a:tab algn="l" pos="7623000"/>
                <a:tab algn="l" pos="8167680"/>
                <a:tab algn="l" pos="8712360"/>
                <a:tab algn="l" pos="9256680"/>
                <a:tab algn="l" pos="9801360"/>
                <a:tab algn="l" pos="10345680"/>
                <a:tab algn="l" pos="10890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28400" y="1100160"/>
            <a:ext cx="4857480" cy="2286000"/>
          </a:xfrm>
          <a:prstGeom prst="rect">
            <a:avLst/>
          </a:prstGeom>
          <a:noFill/>
          <a:ln w="0">
            <a:noFill/>
          </a:ln>
        </p:spPr>
        <p:txBody>
          <a:bodyPr lIns="54360" rIns="54360" tIns="27360" bIns="2736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44680"/>
                <a:tab algn="l" pos="1089000"/>
                <a:tab algn="l" pos="1633680"/>
                <a:tab algn="l" pos="2178000"/>
                <a:tab algn="l" pos="2722680"/>
                <a:tab algn="l" pos="3267000"/>
                <a:tab algn="l" pos="3811680"/>
                <a:tab algn="l" pos="4356000"/>
                <a:tab algn="l" pos="4900680"/>
                <a:tab algn="l" pos="5445000"/>
                <a:tab algn="l" pos="5989680"/>
                <a:tab algn="l" pos="6534000"/>
                <a:tab algn="l" pos="7078680"/>
                <a:tab algn="l" pos="7623000"/>
                <a:tab algn="l" pos="8167680"/>
                <a:tab algn="l" pos="8712360"/>
                <a:tab algn="l" pos="9256680"/>
                <a:tab algn="l" pos="9801360"/>
                <a:tab algn="l" pos="10345680"/>
                <a:tab algn="l" pos="1089036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4EF48-2FAF-4E94-9933-045FFC98A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28400" y="338040"/>
            <a:ext cx="4857480" cy="635040"/>
          </a:xfrm>
          <a:prstGeom prst="rect">
            <a:avLst/>
          </a:prstGeom>
          <a:noFill/>
          <a:ln w="0">
            <a:noFill/>
          </a:ln>
        </p:spPr>
        <p:txBody>
          <a:bodyPr lIns="54720" rIns="54720" tIns="27360" bIns="27360" anchor="ctr">
            <a:noAutofit/>
          </a:bodyPr>
          <a:p>
            <a:pPr indent="0" algn="ctr">
              <a:buNone/>
              <a:tabLst>
                <a:tab algn="l" pos="0"/>
                <a:tab algn="l" pos="544680"/>
                <a:tab algn="l" pos="1089000"/>
                <a:tab algn="l" pos="1633680"/>
                <a:tab algn="l" pos="2178000"/>
                <a:tab algn="l" pos="2722680"/>
                <a:tab algn="l" pos="3267000"/>
                <a:tab algn="l" pos="3811680"/>
                <a:tab algn="l" pos="4356000"/>
                <a:tab algn="l" pos="4900680"/>
                <a:tab algn="l" pos="5445000"/>
                <a:tab algn="l" pos="5989680"/>
                <a:tab algn="l" pos="6534000"/>
                <a:tab algn="l" pos="7078680"/>
                <a:tab algn="l" pos="7623000"/>
                <a:tab algn="l" pos="8167680"/>
                <a:tab algn="l" pos="8712360"/>
                <a:tab algn="l" pos="9256680"/>
                <a:tab algn="l" pos="9801360"/>
                <a:tab algn="l" pos="10345680"/>
                <a:tab algn="l" pos="10890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28400" y="1100160"/>
            <a:ext cx="2370240" cy="2286000"/>
          </a:xfrm>
          <a:prstGeom prst="rect">
            <a:avLst/>
          </a:prstGeom>
          <a:noFill/>
          <a:ln w="0">
            <a:noFill/>
          </a:ln>
        </p:spPr>
        <p:txBody>
          <a:bodyPr lIns="54360" rIns="54360" tIns="27360" bIns="2736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44680"/>
                <a:tab algn="l" pos="1089000"/>
                <a:tab algn="l" pos="1633680"/>
                <a:tab algn="l" pos="2178000"/>
                <a:tab algn="l" pos="2722680"/>
                <a:tab algn="l" pos="3267000"/>
                <a:tab algn="l" pos="3811680"/>
                <a:tab algn="l" pos="4356000"/>
                <a:tab algn="l" pos="4900680"/>
                <a:tab algn="l" pos="5445000"/>
                <a:tab algn="l" pos="5989680"/>
                <a:tab algn="l" pos="6534000"/>
                <a:tab algn="l" pos="7078680"/>
                <a:tab algn="l" pos="7623000"/>
                <a:tab algn="l" pos="8167680"/>
                <a:tab algn="l" pos="8712360"/>
                <a:tab algn="l" pos="9256680"/>
                <a:tab algn="l" pos="9801360"/>
                <a:tab algn="l" pos="10345680"/>
                <a:tab algn="l" pos="1089036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17440" y="1100160"/>
            <a:ext cx="2370240" cy="2286000"/>
          </a:xfrm>
          <a:prstGeom prst="rect">
            <a:avLst/>
          </a:prstGeom>
          <a:noFill/>
          <a:ln w="0">
            <a:noFill/>
          </a:ln>
        </p:spPr>
        <p:txBody>
          <a:bodyPr lIns="54360" rIns="54360" tIns="27360" bIns="2736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44680"/>
                <a:tab algn="l" pos="1089000"/>
                <a:tab algn="l" pos="1633680"/>
                <a:tab algn="l" pos="2178000"/>
                <a:tab algn="l" pos="2722680"/>
                <a:tab algn="l" pos="3267000"/>
                <a:tab algn="l" pos="3811680"/>
                <a:tab algn="l" pos="4356000"/>
                <a:tab algn="l" pos="4900680"/>
                <a:tab algn="l" pos="5445000"/>
                <a:tab algn="l" pos="5989680"/>
                <a:tab algn="l" pos="6534000"/>
                <a:tab algn="l" pos="7078680"/>
                <a:tab algn="l" pos="7623000"/>
                <a:tab algn="l" pos="8167680"/>
                <a:tab algn="l" pos="8712360"/>
                <a:tab algn="l" pos="9256680"/>
                <a:tab algn="l" pos="9801360"/>
                <a:tab algn="l" pos="10345680"/>
                <a:tab algn="l" pos="1089036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1C485-8E88-4359-A103-B7FC50DB2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28400" y="338040"/>
            <a:ext cx="4857480" cy="635040"/>
          </a:xfrm>
          <a:prstGeom prst="rect">
            <a:avLst/>
          </a:prstGeom>
          <a:noFill/>
          <a:ln w="0">
            <a:noFill/>
          </a:ln>
        </p:spPr>
        <p:txBody>
          <a:bodyPr lIns="54720" rIns="54720" tIns="27360" bIns="27360" anchor="ctr">
            <a:noAutofit/>
          </a:bodyPr>
          <a:p>
            <a:pPr indent="0" algn="ctr">
              <a:buNone/>
              <a:tabLst>
                <a:tab algn="l" pos="0"/>
                <a:tab algn="l" pos="544680"/>
                <a:tab algn="l" pos="1089000"/>
                <a:tab algn="l" pos="1633680"/>
                <a:tab algn="l" pos="2178000"/>
                <a:tab algn="l" pos="2722680"/>
                <a:tab algn="l" pos="3267000"/>
                <a:tab algn="l" pos="3811680"/>
                <a:tab algn="l" pos="4356000"/>
                <a:tab algn="l" pos="4900680"/>
                <a:tab algn="l" pos="5445000"/>
                <a:tab algn="l" pos="5989680"/>
                <a:tab algn="l" pos="6534000"/>
                <a:tab algn="l" pos="7078680"/>
                <a:tab algn="l" pos="7623000"/>
                <a:tab algn="l" pos="8167680"/>
                <a:tab algn="l" pos="8712360"/>
                <a:tab algn="l" pos="9256680"/>
                <a:tab algn="l" pos="9801360"/>
                <a:tab algn="l" pos="10345680"/>
                <a:tab algn="l" pos="10890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B87A2-CF90-437E-816A-E33DAC7DA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28400" y="338040"/>
            <a:ext cx="4857480" cy="29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tabLst>
                <a:tab algn="l" pos="0"/>
                <a:tab algn="l" pos="544680"/>
                <a:tab algn="l" pos="1089000"/>
                <a:tab algn="l" pos="1633680"/>
                <a:tab algn="l" pos="2178000"/>
                <a:tab algn="l" pos="2722680"/>
                <a:tab algn="l" pos="3267000"/>
                <a:tab algn="l" pos="3811680"/>
                <a:tab algn="l" pos="4356000"/>
                <a:tab algn="l" pos="4900680"/>
                <a:tab algn="l" pos="5445000"/>
                <a:tab algn="l" pos="5989680"/>
                <a:tab algn="l" pos="6534000"/>
                <a:tab algn="l" pos="7078680"/>
                <a:tab algn="l" pos="7623000"/>
                <a:tab algn="l" pos="8167680"/>
                <a:tab algn="l" pos="8712360"/>
                <a:tab algn="l" pos="9256680"/>
                <a:tab algn="l" pos="9801360"/>
                <a:tab algn="l" pos="10345680"/>
                <a:tab algn="l" pos="1089036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C6B8E-094B-4091-8FB8-18AD440A8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28400" y="338040"/>
            <a:ext cx="4857480" cy="635040"/>
          </a:xfrm>
          <a:prstGeom prst="rect">
            <a:avLst/>
          </a:prstGeom>
          <a:noFill/>
          <a:ln w="0">
            <a:noFill/>
          </a:ln>
        </p:spPr>
        <p:txBody>
          <a:bodyPr lIns="54720" rIns="54720" tIns="27360" bIns="27360" anchor="ctr">
            <a:noAutofit/>
          </a:bodyPr>
          <a:p>
            <a:pPr indent="0" algn="ctr">
              <a:buNone/>
              <a:tabLst>
                <a:tab algn="l" pos="0"/>
                <a:tab algn="l" pos="544680"/>
                <a:tab algn="l" pos="1089000"/>
                <a:tab algn="l" pos="1633680"/>
                <a:tab algn="l" pos="2178000"/>
                <a:tab algn="l" pos="2722680"/>
                <a:tab algn="l" pos="3267000"/>
                <a:tab algn="l" pos="3811680"/>
                <a:tab algn="l" pos="4356000"/>
                <a:tab algn="l" pos="4900680"/>
                <a:tab algn="l" pos="5445000"/>
                <a:tab algn="l" pos="5989680"/>
                <a:tab algn="l" pos="6534000"/>
                <a:tab algn="l" pos="7078680"/>
                <a:tab algn="l" pos="7623000"/>
                <a:tab algn="l" pos="8167680"/>
                <a:tab algn="l" pos="8712360"/>
                <a:tab algn="l" pos="9256680"/>
                <a:tab algn="l" pos="9801360"/>
                <a:tab algn="l" pos="10345680"/>
                <a:tab algn="l" pos="10890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28400" y="1100160"/>
            <a:ext cx="2370240" cy="1090080"/>
          </a:xfrm>
          <a:prstGeom prst="rect">
            <a:avLst/>
          </a:prstGeom>
          <a:noFill/>
          <a:ln w="0">
            <a:noFill/>
          </a:ln>
        </p:spPr>
        <p:txBody>
          <a:bodyPr lIns="54360" rIns="54360" tIns="27360" bIns="2736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44680"/>
                <a:tab algn="l" pos="1089000"/>
                <a:tab algn="l" pos="1633680"/>
                <a:tab algn="l" pos="2178000"/>
                <a:tab algn="l" pos="2722680"/>
                <a:tab algn="l" pos="3267000"/>
                <a:tab algn="l" pos="3811680"/>
                <a:tab algn="l" pos="4356000"/>
                <a:tab algn="l" pos="4900680"/>
                <a:tab algn="l" pos="5445000"/>
                <a:tab algn="l" pos="5989680"/>
                <a:tab algn="l" pos="6534000"/>
                <a:tab algn="l" pos="7078680"/>
                <a:tab algn="l" pos="7623000"/>
                <a:tab algn="l" pos="8167680"/>
                <a:tab algn="l" pos="8712360"/>
                <a:tab algn="l" pos="9256680"/>
                <a:tab algn="l" pos="9801360"/>
                <a:tab algn="l" pos="10345680"/>
                <a:tab algn="l" pos="1089036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2917440" y="1100160"/>
            <a:ext cx="2370240" cy="2286000"/>
          </a:xfrm>
          <a:prstGeom prst="rect">
            <a:avLst/>
          </a:prstGeom>
          <a:noFill/>
          <a:ln w="0">
            <a:noFill/>
          </a:ln>
        </p:spPr>
        <p:txBody>
          <a:bodyPr lIns="54360" rIns="54360" tIns="27360" bIns="2736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44680"/>
                <a:tab algn="l" pos="1089000"/>
                <a:tab algn="l" pos="1633680"/>
                <a:tab algn="l" pos="2178000"/>
                <a:tab algn="l" pos="2722680"/>
                <a:tab algn="l" pos="3267000"/>
                <a:tab algn="l" pos="3811680"/>
                <a:tab algn="l" pos="4356000"/>
                <a:tab algn="l" pos="4900680"/>
                <a:tab algn="l" pos="5445000"/>
                <a:tab algn="l" pos="5989680"/>
                <a:tab algn="l" pos="6534000"/>
                <a:tab algn="l" pos="7078680"/>
                <a:tab algn="l" pos="7623000"/>
                <a:tab algn="l" pos="8167680"/>
                <a:tab algn="l" pos="8712360"/>
                <a:tab algn="l" pos="9256680"/>
                <a:tab algn="l" pos="9801360"/>
                <a:tab algn="l" pos="10345680"/>
                <a:tab algn="l" pos="1089036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28400" y="2294280"/>
            <a:ext cx="2370240" cy="1090080"/>
          </a:xfrm>
          <a:prstGeom prst="rect">
            <a:avLst/>
          </a:prstGeom>
          <a:noFill/>
          <a:ln w="0">
            <a:noFill/>
          </a:ln>
        </p:spPr>
        <p:txBody>
          <a:bodyPr lIns="54360" rIns="54360" tIns="27360" bIns="2736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44680"/>
                <a:tab algn="l" pos="1089000"/>
                <a:tab algn="l" pos="1633680"/>
                <a:tab algn="l" pos="2178000"/>
                <a:tab algn="l" pos="2722680"/>
                <a:tab algn="l" pos="3267000"/>
                <a:tab algn="l" pos="3811680"/>
                <a:tab algn="l" pos="4356000"/>
                <a:tab algn="l" pos="4900680"/>
                <a:tab algn="l" pos="5445000"/>
                <a:tab algn="l" pos="5989680"/>
                <a:tab algn="l" pos="6534000"/>
                <a:tab algn="l" pos="7078680"/>
                <a:tab algn="l" pos="7623000"/>
                <a:tab algn="l" pos="8167680"/>
                <a:tab algn="l" pos="8712360"/>
                <a:tab algn="l" pos="9256680"/>
                <a:tab algn="l" pos="9801360"/>
                <a:tab algn="l" pos="10345680"/>
                <a:tab algn="l" pos="1089036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4DD49-8E05-4914-8224-E30DC464B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28400" y="338040"/>
            <a:ext cx="4857480" cy="635040"/>
          </a:xfrm>
          <a:prstGeom prst="rect">
            <a:avLst/>
          </a:prstGeom>
          <a:noFill/>
          <a:ln w="0">
            <a:noFill/>
          </a:ln>
        </p:spPr>
        <p:txBody>
          <a:bodyPr lIns="54720" rIns="54720" tIns="27360" bIns="27360" anchor="ctr">
            <a:noAutofit/>
          </a:bodyPr>
          <a:p>
            <a:pPr indent="0" algn="ctr">
              <a:buNone/>
              <a:tabLst>
                <a:tab algn="l" pos="0"/>
                <a:tab algn="l" pos="544680"/>
                <a:tab algn="l" pos="1089000"/>
                <a:tab algn="l" pos="1633680"/>
                <a:tab algn="l" pos="2178000"/>
                <a:tab algn="l" pos="2722680"/>
                <a:tab algn="l" pos="3267000"/>
                <a:tab algn="l" pos="3811680"/>
                <a:tab algn="l" pos="4356000"/>
                <a:tab algn="l" pos="4900680"/>
                <a:tab algn="l" pos="5445000"/>
                <a:tab algn="l" pos="5989680"/>
                <a:tab algn="l" pos="6534000"/>
                <a:tab algn="l" pos="7078680"/>
                <a:tab algn="l" pos="7623000"/>
                <a:tab algn="l" pos="8167680"/>
                <a:tab algn="l" pos="8712360"/>
                <a:tab algn="l" pos="9256680"/>
                <a:tab algn="l" pos="9801360"/>
                <a:tab algn="l" pos="10345680"/>
                <a:tab algn="l" pos="10890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28400" y="1100160"/>
            <a:ext cx="485748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buNone/>
              <a:tabLst>
                <a:tab algn="l" pos="0"/>
                <a:tab algn="l" pos="544680"/>
                <a:tab algn="l" pos="1089000"/>
                <a:tab algn="l" pos="1633680"/>
                <a:tab algn="l" pos="2178000"/>
                <a:tab algn="l" pos="2722680"/>
                <a:tab algn="l" pos="3267000"/>
                <a:tab algn="l" pos="3811680"/>
                <a:tab algn="l" pos="4356000"/>
                <a:tab algn="l" pos="4900680"/>
                <a:tab algn="l" pos="5445000"/>
                <a:tab algn="l" pos="5989680"/>
                <a:tab algn="l" pos="6534000"/>
                <a:tab algn="l" pos="7078680"/>
                <a:tab algn="l" pos="7623000"/>
                <a:tab algn="l" pos="8167680"/>
                <a:tab algn="l" pos="8712360"/>
                <a:tab algn="l" pos="9256680"/>
                <a:tab algn="l" pos="9801360"/>
                <a:tab algn="l" pos="10345680"/>
                <a:tab algn="l" pos="1089036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80F98-E09F-4871-B9A8-7E3C9410D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28400" y="338040"/>
            <a:ext cx="4857480" cy="635040"/>
          </a:xfrm>
          <a:prstGeom prst="rect">
            <a:avLst/>
          </a:prstGeom>
          <a:noFill/>
          <a:ln w="0">
            <a:noFill/>
          </a:ln>
        </p:spPr>
        <p:txBody>
          <a:bodyPr lIns="54720" rIns="54720" tIns="27360" bIns="27360" anchor="ctr">
            <a:noAutofit/>
          </a:bodyPr>
          <a:p>
            <a:pPr indent="0" algn="ctr">
              <a:buNone/>
              <a:tabLst>
                <a:tab algn="l" pos="0"/>
                <a:tab algn="l" pos="544680"/>
                <a:tab algn="l" pos="1089000"/>
                <a:tab algn="l" pos="1633680"/>
                <a:tab algn="l" pos="2178000"/>
                <a:tab algn="l" pos="2722680"/>
                <a:tab algn="l" pos="3267000"/>
                <a:tab algn="l" pos="3811680"/>
                <a:tab algn="l" pos="4356000"/>
                <a:tab algn="l" pos="4900680"/>
                <a:tab algn="l" pos="5445000"/>
                <a:tab algn="l" pos="5989680"/>
                <a:tab algn="l" pos="6534000"/>
                <a:tab algn="l" pos="7078680"/>
                <a:tab algn="l" pos="7623000"/>
                <a:tab algn="l" pos="8167680"/>
                <a:tab algn="l" pos="8712360"/>
                <a:tab algn="l" pos="9256680"/>
                <a:tab algn="l" pos="9801360"/>
                <a:tab algn="l" pos="10345680"/>
                <a:tab algn="l" pos="10890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28400" y="1100160"/>
            <a:ext cx="2370240" cy="2286000"/>
          </a:xfrm>
          <a:prstGeom prst="rect">
            <a:avLst/>
          </a:prstGeom>
          <a:noFill/>
          <a:ln w="0">
            <a:noFill/>
          </a:ln>
        </p:spPr>
        <p:txBody>
          <a:bodyPr lIns="54360" rIns="54360" tIns="27360" bIns="2736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44680"/>
                <a:tab algn="l" pos="1089000"/>
                <a:tab algn="l" pos="1633680"/>
                <a:tab algn="l" pos="2178000"/>
                <a:tab algn="l" pos="2722680"/>
                <a:tab algn="l" pos="3267000"/>
                <a:tab algn="l" pos="3811680"/>
                <a:tab algn="l" pos="4356000"/>
                <a:tab algn="l" pos="4900680"/>
                <a:tab algn="l" pos="5445000"/>
                <a:tab algn="l" pos="5989680"/>
                <a:tab algn="l" pos="6534000"/>
                <a:tab algn="l" pos="7078680"/>
                <a:tab algn="l" pos="7623000"/>
                <a:tab algn="l" pos="8167680"/>
                <a:tab algn="l" pos="8712360"/>
                <a:tab algn="l" pos="9256680"/>
                <a:tab algn="l" pos="9801360"/>
                <a:tab algn="l" pos="10345680"/>
                <a:tab algn="l" pos="1089036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2917440" y="1100160"/>
            <a:ext cx="2370240" cy="1090080"/>
          </a:xfrm>
          <a:prstGeom prst="rect">
            <a:avLst/>
          </a:prstGeom>
          <a:noFill/>
          <a:ln w="0">
            <a:noFill/>
          </a:ln>
        </p:spPr>
        <p:txBody>
          <a:bodyPr lIns="54360" rIns="54360" tIns="27360" bIns="2736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44680"/>
                <a:tab algn="l" pos="1089000"/>
                <a:tab algn="l" pos="1633680"/>
                <a:tab algn="l" pos="2178000"/>
                <a:tab algn="l" pos="2722680"/>
                <a:tab algn="l" pos="3267000"/>
                <a:tab algn="l" pos="3811680"/>
                <a:tab algn="l" pos="4356000"/>
                <a:tab algn="l" pos="4900680"/>
                <a:tab algn="l" pos="5445000"/>
                <a:tab algn="l" pos="5989680"/>
                <a:tab algn="l" pos="6534000"/>
                <a:tab algn="l" pos="7078680"/>
                <a:tab algn="l" pos="7623000"/>
                <a:tab algn="l" pos="8167680"/>
                <a:tab algn="l" pos="8712360"/>
                <a:tab algn="l" pos="9256680"/>
                <a:tab algn="l" pos="9801360"/>
                <a:tab algn="l" pos="10345680"/>
                <a:tab algn="l" pos="1089036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917440" y="2294280"/>
            <a:ext cx="2370240" cy="1090080"/>
          </a:xfrm>
          <a:prstGeom prst="rect">
            <a:avLst/>
          </a:prstGeom>
          <a:noFill/>
          <a:ln w="0">
            <a:noFill/>
          </a:ln>
        </p:spPr>
        <p:txBody>
          <a:bodyPr lIns="54360" rIns="54360" tIns="27360" bIns="2736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44680"/>
                <a:tab algn="l" pos="1089000"/>
                <a:tab algn="l" pos="1633680"/>
                <a:tab algn="l" pos="2178000"/>
                <a:tab algn="l" pos="2722680"/>
                <a:tab algn="l" pos="3267000"/>
                <a:tab algn="l" pos="3811680"/>
                <a:tab algn="l" pos="4356000"/>
                <a:tab algn="l" pos="4900680"/>
                <a:tab algn="l" pos="5445000"/>
                <a:tab algn="l" pos="5989680"/>
                <a:tab algn="l" pos="6534000"/>
                <a:tab algn="l" pos="7078680"/>
                <a:tab algn="l" pos="7623000"/>
                <a:tab algn="l" pos="8167680"/>
                <a:tab algn="l" pos="8712360"/>
                <a:tab algn="l" pos="9256680"/>
                <a:tab algn="l" pos="9801360"/>
                <a:tab algn="l" pos="10345680"/>
                <a:tab algn="l" pos="1089036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3E95A-EC67-41F5-8276-6164B9681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28400" y="338040"/>
            <a:ext cx="4857480" cy="635040"/>
          </a:xfrm>
          <a:prstGeom prst="rect">
            <a:avLst/>
          </a:prstGeom>
          <a:noFill/>
          <a:ln w="0">
            <a:noFill/>
          </a:ln>
        </p:spPr>
        <p:txBody>
          <a:bodyPr lIns="54720" rIns="54720" tIns="27360" bIns="27360" anchor="ctr">
            <a:noAutofit/>
          </a:bodyPr>
          <a:p>
            <a:pPr indent="0" algn="ctr">
              <a:buNone/>
              <a:tabLst>
                <a:tab algn="l" pos="0"/>
                <a:tab algn="l" pos="544680"/>
                <a:tab algn="l" pos="1089000"/>
                <a:tab algn="l" pos="1633680"/>
                <a:tab algn="l" pos="2178000"/>
                <a:tab algn="l" pos="2722680"/>
                <a:tab algn="l" pos="3267000"/>
                <a:tab algn="l" pos="3811680"/>
                <a:tab algn="l" pos="4356000"/>
                <a:tab algn="l" pos="4900680"/>
                <a:tab algn="l" pos="5445000"/>
                <a:tab algn="l" pos="5989680"/>
                <a:tab algn="l" pos="6534000"/>
                <a:tab algn="l" pos="7078680"/>
                <a:tab algn="l" pos="7623000"/>
                <a:tab algn="l" pos="8167680"/>
                <a:tab algn="l" pos="8712360"/>
                <a:tab algn="l" pos="9256680"/>
                <a:tab algn="l" pos="9801360"/>
                <a:tab algn="l" pos="10345680"/>
                <a:tab algn="l" pos="10890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28400" y="1100160"/>
            <a:ext cx="2370240" cy="1090080"/>
          </a:xfrm>
          <a:prstGeom prst="rect">
            <a:avLst/>
          </a:prstGeom>
          <a:noFill/>
          <a:ln w="0">
            <a:noFill/>
          </a:ln>
        </p:spPr>
        <p:txBody>
          <a:bodyPr lIns="54360" rIns="54360" tIns="27360" bIns="2736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44680"/>
                <a:tab algn="l" pos="1089000"/>
                <a:tab algn="l" pos="1633680"/>
                <a:tab algn="l" pos="2178000"/>
                <a:tab algn="l" pos="2722680"/>
                <a:tab algn="l" pos="3267000"/>
                <a:tab algn="l" pos="3811680"/>
                <a:tab algn="l" pos="4356000"/>
                <a:tab algn="l" pos="4900680"/>
                <a:tab algn="l" pos="5445000"/>
                <a:tab algn="l" pos="5989680"/>
                <a:tab algn="l" pos="6534000"/>
                <a:tab algn="l" pos="7078680"/>
                <a:tab algn="l" pos="7623000"/>
                <a:tab algn="l" pos="8167680"/>
                <a:tab algn="l" pos="8712360"/>
                <a:tab algn="l" pos="9256680"/>
                <a:tab algn="l" pos="9801360"/>
                <a:tab algn="l" pos="10345680"/>
                <a:tab algn="l" pos="1089036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917440" y="1100160"/>
            <a:ext cx="2370240" cy="1090080"/>
          </a:xfrm>
          <a:prstGeom prst="rect">
            <a:avLst/>
          </a:prstGeom>
          <a:noFill/>
          <a:ln w="0">
            <a:noFill/>
          </a:ln>
        </p:spPr>
        <p:txBody>
          <a:bodyPr lIns="54360" rIns="54360" tIns="27360" bIns="2736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44680"/>
                <a:tab algn="l" pos="1089000"/>
                <a:tab algn="l" pos="1633680"/>
                <a:tab algn="l" pos="2178000"/>
                <a:tab algn="l" pos="2722680"/>
                <a:tab algn="l" pos="3267000"/>
                <a:tab algn="l" pos="3811680"/>
                <a:tab algn="l" pos="4356000"/>
                <a:tab algn="l" pos="4900680"/>
                <a:tab algn="l" pos="5445000"/>
                <a:tab algn="l" pos="5989680"/>
                <a:tab algn="l" pos="6534000"/>
                <a:tab algn="l" pos="7078680"/>
                <a:tab algn="l" pos="7623000"/>
                <a:tab algn="l" pos="8167680"/>
                <a:tab algn="l" pos="8712360"/>
                <a:tab algn="l" pos="9256680"/>
                <a:tab algn="l" pos="9801360"/>
                <a:tab algn="l" pos="10345680"/>
                <a:tab algn="l" pos="1089036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28400" y="2294280"/>
            <a:ext cx="4857480" cy="1090080"/>
          </a:xfrm>
          <a:prstGeom prst="rect">
            <a:avLst/>
          </a:prstGeom>
          <a:noFill/>
          <a:ln w="0">
            <a:noFill/>
          </a:ln>
        </p:spPr>
        <p:txBody>
          <a:bodyPr lIns="54360" rIns="54360" tIns="27360" bIns="2736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44680"/>
                <a:tab algn="l" pos="1089000"/>
                <a:tab algn="l" pos="1633680"/>
                <a:tab algn="l" pos="2178000"/>
                <a:tab algn="l" pos="2722680"/>
                <a:tab algn="l" pos="3267000"/>
                <a:tab algn="l" pos="3811680"/>
                <a:tab algn="l" pos="4356000"/>
                <a:tab algn="l" pos="4900680"/>
                <a:tab algn="l" pos="5445000"/>
                <a:tab algn="l" pos="5989680"/>
                <a:tab algn="l" pos="6534000"/>
                <a:tab algn="l" pos="7078680"/>
                <a:tab algn="l" pos="7623000"/>
                <a:tab algn="l" pos="8167680"/>
                <a:tab algn="l" pos="8712360"/>
                <a:tab algn="l" pos="9256680"/>
                <a:tab algn="l" pos="9801360"/>
                <a:tab algn="l" pos="10345680"/>
                <a:tab algn="l" pos="1089036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BC6EA-B995-4BB7-A03D-8776ACDDC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28400" y="338040"/>
            <a:ext cx="4857480" cy="635040"/>
          </a:xfrm>
          <a:prstGeom prst="rect">
            <a:avLst/>
          </a:prstGeom>
          <a:noFill/>
          <a:ln w="0">
            <a:noFill/>
          </a:ln>
        </p:spPr>
        <p:txBody>
          <a:bodyPr lIns="54720" rIns="54720" tIns="27360" bIns="27360" anchor="ctr">
            <a:noAutofit/>
          </a:bodyPr>
          <a:p>
            <a:pPr indent="0" algn="ctr">
              <a:buNone/>
              <a:tabLst>
                <a:tab algn="l" pos="0"/>
                <a:tab algn="l" pos="544680"/>
                <a:tab algn="l" pos="1089000"/>
                <a:tab algn="l" pos="1633680"/>
                <a:tab algn="l" pos="2178000"/>
                <a:tab algn="l" pos="2722680"/>
                <a:tab algn="l" pos="3267000"/>
                <a:tab algn="l" pos="3811680"/>
                <a:tab algn="l" pos="4356000"/>
                <a:tab algn="l" pos="4900680"/>
                <a:tab algn="l" pos="5445000"/>
                <a:tab algn="l" pos="5989680"/>
                <a:tab algn="l" pos="6534000"/>
                <a:tab algn="l" pos="7078680"/>
                <a:tab algn="l" pos="7623000"/>
                <a:tab algn="l" pos="8167680"/>
                <a:tab algn="l" pos="8712360"/>
                <a:tab algn="l" pos="9256680"/>
                <a:tab algn="l" pos="9801360"/>
                <a:tab algn="l" pos="10345680"/>
                <a:tab algn="l" pos="10890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28400" y="1100160"/>
            <a:ext cx="4857480" cy="1090080"/>
          </a:xfrm>
          <a:prstGeom prst="rect">
            <a:avLst/>
          </a:prstGeom>
          <a:noFill/>
          <a:ln w="0">
            <a:noFill/>
          </a:ln>
        </p:spPr>
        <p:txBody>
          <a:bodyPr lIns="54360" rIns="54360" tIns="27360" bIns="2736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44680"/>
                <a:tab algn="l" pos="1089000"/>
                <a:tab algn="l" pos="1633680"/>
                <a:tab algn="l" pos="2178000"/>
                <a:tab algn="l" pos="2722680"/>
                <a:tab algn="l" pos="3267000"/>
                <a:tab algn="l" pos="3811680"/>
                <a:tab algn="l" pos="4356000"/>
                <a:tab algn="l" pos="4900680"/>
                <a:tab algn="l" pos="5445000"/>
                <a:tab algn="l" pos="5989680"/>
                <a:tab algn="l" pos="6534000"/>
                <a:tab algn="l" pos="7078680"/>
                <a:tab algn="l" pos="7623000"/>
                <a:tab algn="l" pos="8167680"/>
                <a:tab algn="l" pos="8712360"/>
                <a:tab algn="l" pos="9256680"/>
                <a:tab algn="l" pos="9801360"/>
                <a:tab algn="l" pos="10345680"/>
                <a:tab algn="l" pos="1089036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400" y="2294280"/>
            <a:ext cx="4857480" cy="1090080"/>
          </a:xfrm>
          <a:prstGeom prst="rect">
            <a:avLst/>
          </a:prstGeom>
          <a:noFill/>
          <a:ln w="0">
            <a:noFill/>
          </a:ln>
        </p:spPr>
        <p:txBody>
          <a:bodyPr lIns="54360" rIns="54360" tIns="27360" bIns="2736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44680"/>
                <a:tab algn="l" pos="1089000"/>
                <a:tab algn="l" pos="1633680"/>
                <a:tab algn="l" pos="2178000"/>
                <a:tab algn="l" pos="2722680"/>
                <a:tab algn="l" pos="3267000"/>
                <a:tab algn="l" pos="3811680"/>
                <a:tab algn="l" pos="4356000"/>
                <a:tab algn="l" pos="4900680"/>
                <a:tab algn="l" pos="5445000"/>
                <a:tab algn="l" pos="5989680"/>
                <a:tab algn="l" pos="6534000"/>
                <a:tab algn="l" pos="7078680"/>
                <a:tab algn="l" pos="7623000"/>
                <a:tab algn="l" pos="8167680"/>
                <a:tab algn="l" pos="8712360"/>
                <a:tab algn="l" pos="9256680"/>
                <a:tab algn="l" pos="9801360"/>
                <a:tab algn="l" pos="10345680"/>
                <a:tab algn="l" pos="1089036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6B90E-59A1-4770-9B26-160527A59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28400" y="338040"/>
            <a:ext cx="4857480" cy="635040"/>
          </a:xfrm>
          <a:prstGeom prst="rect">
            <a:avLst/>
          </a:prstGeom>
          <a:noFill/>
          <a:ln w="0">
            <a:noFill/>
          </a:ln>
        </p:spPr>
        <p:txBody>
          <a:bodyPr lIns="54720" rIns="54720" tIns="27360" bIns="27360" anchor="ctr">
            <a:noAutofit/>
          </a:bodyPr>
          <a:p>
            <a:pPr indent="0" algn="ctr">
              <a:buNone/>
              <a:tabLst>
                <a:tab algn="l" pos="0"/>
                <a:tab algn="l" pos="544680"/>
                <a:tab algn="l" pos="1089000"/>
                <a:tab algn="l" pos="1633680"/>
                <a:tab algn="l" pos="2178000"/>
                <a:tab algn="l" pos="2722680"/>
                <a:tab algn="l" pos="3267000"/>
                <a:tab algn="l" pos="3811680"/>
                <a:tab algn="l" pos="4356000"/>
                <a:tab algn="l" pos="4900680"/>
                <a:tab algn="l" pos="5445000"/>
                <a:tab algn="l" pos="5989680"/>
                <a:tab algn="l" pos="6534000"/>
                <a:tab algn="l" pos="7078680"/>
                <a:tab algn="l" pos="7623000"/>
                <a:tab algn="l" pos="8167680"/>
                <a:tab algn="l" pos="8712360"/>
                <a:tab algn="l" pos="9256680"/>
                <a:tab algn="l" pos="9801360"/>
                <a:tab algn="l" pos="10345680"/>
                <a:tab algn="l" pos="10890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28400" y="1100160"/>
            <a:ext cx="2370240" cy="1090080"/>
          </a:xfrm>
          <a:prstGeom prst="rect">
            <a:avLst/>
          </a:prstGeom>
          <a:noFill/>
          <a:ln w="0">
            <a:noFill/>
          </a:ln>
        </p:spPr>
        <p:txBody>
          <a:bodyPr lIns="54360" rIns="54360" tIns="27360" bIns="2736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44680"/>
                <a:tab algn="l" pos="1089000"/>
                <a:tab algn="l" pos="1633680"/>
                <a:tab algn="l" pos="2178000"/>
                <a:tab algn="l" pos="2722680"/>
                <a:tab algn="l" pos="3267000"/>
                <a:tab algn="l" pos="3811680"/>
                <a:tab algn="l" pos="4356000"/>
                <a:tab algn="l" pos="4900680"/>
                <a:tab algn="l" pos="5445000"/>
                <a:tab algn="l" pos="5989680"/>
                <a:tab algn="l" pos="6534000"/>
                <a:tab algn="l" pos="7078680"/>
                <a:tab algn="l" pos="7623000"/>
                <a:tab algn="l" pos="8167680"/>
                <a:tab algn="l" pos="8712360"/>
                <a:tab algn="l" pos="9256680"/>
                <a:tab algn="l" pos="9801360"/>
                <a:tab algn="l" pos="10345680"/>
                <a:tab algn="l" pos="1089036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917440" y="1100160"/>
            <a:ext cx="2370240" cy="1090080"/>
          </a:xfrm>
          <a:prstGeom prst="rect">
            <a:avLst/>
          </a:prstGeom>
          <a:noFill/>
          <a:ln w="0">
            <a:noFill/>
          </a:ln>
        </p:spPr>
        <p:txBody>
          <a:bodyPr lIns="54360" rIns="54360" tIns="27360" bIns="2736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44680"/>
                <a:tab algn="l" pos="1089000"/>
                <a:tab algn="l" pos="1633680"/>
                <a:tab algn="l" pos="2178000"/>
                <a:tab algn="l" pos="2722680"/>
                <a:tab algn="l" pos="3267000"/>
                <a:tab algn="l" pos="3811680"/>
                <a:tab algn="l" pos="4356000"/>
                <a:tab algn="l" pos="4900680"/>
                <a:tab algn="l" pos="5445000"/>
                <a:tab algn="l" pos="5989680"/>
                <a:tab algn="l" pos="6534000"/>
                <a:tab algn="l" pos="7078680"/>
                <a:tab algn="l" pos="7623000"/>
                <a:tab algn="l" pos="8167680"/>
                <a:tab algn="l" pos="8712360"/>
                <a:tab algn="l" pos="9256680"/>
                <a:tab algn="l" pos="9801360"/>
                <a:tab algn="l" pos="10345680"/>
                <a:tab algn="l" pos="1089036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28400" y="2294280"/>
            <a:ext cx="2370240" cy="1090080"/>
          </a:xfrm>
          <a:prstGeom prst="rect">
            <a:avLst/>
          </a:prstGeom>
          <a:noFill/>
          <a:ln w="0">
            <a:noFill/>
          </a:ln>
        </p:spPr>
        <p:txBody>
          <a:bodyPr lIns="54360" rIns="54360" tIns="27360" bIns="2736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44680"/>
                <a:tab algn="l" pos="1089000"/>
                <a:tab algn="l" pos="1633680"/>
                <a:tab algn="l" pos="2178000"/>
                <a:tab algn="l" pos="2722680"/>
                <a:tab algn="l" pos="3267000"/>
                <a:tab algn="l" pos="3811680"/>
                <a:tab algn="l" pos="4356000"/>
                <a:tab algn="l" pos="4900680"/>
                <a:tab algn="l" pos="5445000"/>
                <a:tab algn="l" pos="5989680"/>
                <a:tab algn="l" pos="6534000"/>
                <a:tab algn="l" pos="7078680"/>
                <a:tab algn="l" pos="7623000"/>
                <a:tab algn="l" pos="8167680"/>
                <a:tab algn="l" pos="8712360"/>
                <a:tab algn="l" pos="9256680"/>
                <a:tab algn="l" pos="9801360"/>
                <a:tab algn="l" pos="10345680"/>
                <a:tab algn="l" pos="1089036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917440" y="2294280"/>
            <a:ext cx="2370240" cy="1090080"/>
          </a:xfrm>
          <a:prstGeom prst="rect">
            <a:avLst/>
          </a:prstGeom>
          <a:noFill/>
          <a:ln w="0">
            <a:noFill/>
          </a:ln>
        </p:spPr>
        <p:txBody>
          <a:bodyPr lIns="54360" rIns="54360" tIns="27360" bIns="2736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44680"/>
                <a:tab algn="l" pos="1089000"/>
                <a:tab algn="l" pos="1633680"/>
                <a:tab algn="l" pos="2178000"/>
                <a:tab algn="l" pos="2722680"/>
                <a:tab algn="l" pos="3267000"/>
                <a:tab algn="l" pos="3811680"/>
                <a:tab algn="l" pos="4356000"/>
                <a:tab algn="l" pos="4900680"/>
                <a:tab algn="l" pos="5445000"/>
                <a:tab algn="l" pos="5989680"/>
                <a:tab algn="l" pos="6534000"/>
                <a:tab algn="l" pos="7078680"/>
                <a:tab algn="l" pos="7623000"/>
                <a:tab algn="l" pos="8167680"/>
                <a:tab algn="l" pos="8712360"/>
                <a:tab algn="l" pos="9256680"/>
                <a:tab algn="l" pos="9801360"/>
                <a:tab algn="l" pos="10345680"/>
                <a:tab algn="l" pos="1089036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19B95-18D0-4F2C-AF20-0DFDEFCF1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28400" y="338040"/>
            <a:ext cx="4857480" cy="635040"/>
          </a:xfrm>
          <a:prstGeom prst="rect">
            <a:avLst/>
          </a:prstGeom>
          <a:noFill/>
          <a:ln w="0">
            <a:noFill/>
          </a:ln>
        </p:spPr>
        <p:txBody>
          <a:bodyPr lIns="54720" rIns="54720" tIns="27360" bIns="27360" anchor="ctr">
            <a:noAutofit/>
          </a:bodyPr>
          <a:p>
            <a:pPr indent="0" algn="ctr">
              <a:buNone/>
              <a:tabLst>
                <a:tab algn="l" pos="0"/>
                <a:tab algn="l" pos="544680"/>
                <a:tab algn="l" pos="1089000"/>
                <a:tab algn="l" pos="1633680"/>
                <a:tab algn="l" pos="2178000"/>
                <a:tab algn="l" pos="2722680"/>
                <a:tab algn="l" pos="3267000"/>
                <a:tab algn="l" pos="3811680"/>
                <a:tab algn="l" pos="4356000"/>
                <a:tab algn="l" pos="4900680"/>
                <a:tab algn="l" pos="5445000"/>
                <a:tab algn="l" pos="5989680"/>
                <a:tab algn="l" pos="6534000"/>
                <a:tab algn="l" pos="7078680"/>
                <a:tab algn="l" pos="7623000"/>
                <a:tab algn="l" pos="8167680"/>
                <a:tab algn="l" pos="8712360"/>
                <a:tab algn="l" pos="9256680"/>
                <a:tab algn="l" pos="9801360"/>
                <a:tab algn="l" pos="10345680"/>
                <a:tab algn="l" pos="10890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28400" y="1100160"/>
            <a:ext cx="1563840" cy="1090080"/>
          </a:xfrm>
          <a:prstGeom prst="rect">
            <a:avLst/>
          </a:prstGeom>
          <a:noFill/>
          <a:ln w="0">
            <a:noFill/>
          </a:ln>
        </p:spPr>
        <p:txBody>
          <a:bodyPr lIns="54360" rIns="54360" tIns="27360" bIns="2736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44680"/>
                <a:tab algn="l" pos="1089000"/>
                <a:tab algn="l" pos="1633680"/>
                <a:tab algn="l" pos="2178000"/>
                <a:tab algn="l" pos="2722680"/>
                <a:tab algn="l" pos="3267000"/>
                <a:tab algn="l" pos="3811680"/>
                <a:tab algn="l" pos="4356000"/>
                <a:tab algn="l" pos="4900680"/>
                <a:tab algn="l" pos="5445000"/>
                <a:tab algn="l" pos="5989680"/>
                <a:tab algn="l" pos="6534000"/>
                <a:tab algn="l" pos="7078680"/>
                <a:tab algn="l" pos="7623000"/>
                <a:tab algn="l" pos="8167680"/>
                <a:tab algn="l" pos="8712360"/>
                <a:tab algn="l" pos="9256680"/>
                <a:tab algn="l" pos="9801360"/>
                <a:tab algn="l" pos="10345680"/>
                <a:tab algn="l" pos="1089036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2070720" y="1100160"/>
            <a:ext cx="1563840" cy="1090080"/>
          </a:xfrm>
          <a:prstGeom prst="rect">
            <a:avLst/>
          </a:prstGeom>
          <a:noFill/>
          <a:ln w="0">
            <a:noFill/>
          </a:ln>
        </p:spPr>
        <p:txBody>
          <a:bodyPr lIns="54360" rIns="54360" tIns="27360" bIns="2736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44680"/>
                <a:tab algn="l" pos="1089000"/>
                <a:tab algn="l" pos="1633680"/>
                <a:tab algn="l" pos="2178000"/>
                <a:tab algn="l" pos="2722680"/>
                <a:tab algn="l" pos="3267000"/>
                <a:tab algn="l" pos="3811680"/>
                <a:tab algn="l" pos="4356000"/>
                <a:tab algn="l" pos="4900680"/>
                <a:tab algn="l" pos="5445000"/>
                <a:tab algn="l" pos="5989680"/>
                <a:tab algn="l" pos="6534000"/>
                <a:tab algn="l" pos="7078680"/>
                <a:tab algn="l" pos="7623000"/>
                <a:tab algn="l" pos="8167680"/>
                <a:tab algn="l" pos="8712360"/>
                <a:tab algn="l" pos="9256680"/>
                <a:tab algn="l" pos="9801360"/>
                <a:tab algn="l" pos="10345680"/>
                <a:tab algn="l" pos="1089036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3713400" y="1100160"/>
            <a:ext cx="1563840" cy="1090080"/>
          </a:xfrm>
          <a:prstGeom prst="rect">
            <a:avLst/>
          </a:prstGeom>
          <a:noFill/>
          <a:ln w="0">
            <a:noFill/>
          </a:ln>
        </p:spPr>
        <p:txBody>
          <a:bodyPr lIns="54360" rIns="54360" tIns="27360" bIns="2736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44680"/>
                <a:tab algn="l" pos="1089000"/>
                <a:tab algn="l" pos="1633680"/>
                <a:tab algn="l" pos="2178000"/>
                <a:tab algn="l" pos="2722680"/>
                <a:tab algn="l" pos="3267000"/>
                <a:tab algn="l" pos="3811680"/>
                <a:tab algn="l" pos="4356000"/>
                <a:tab algn="l" pos="4900680"/>
                <a:tab algn="l" pos="5445000"/>
                <a:tab algn="l" pos="5989680"/>
                <a:tab algn="l" pos="6534000"/>
                <a:tab algn="l" pos="7078680"/>
                <a:tab algn="l" pos="7623000"/>
                <a:tab algn="l" pos="8167680"/>
                <a:tab algn="l" pos="8712360"/>
                <a:tab algn="l" pos="9256680"/>
                <a:tab algn="l" pos="9801360"/>
                <a:tab algn="l" pos="10345680"/>
                <a:tab algn="l" pos="1089036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28400" y="2294280"/>
            <a:ext cx="1563840" cy="1090080"/>
          </a:xfrm>
          <a:prstGeom prst="rect">
            <a:avLst/>
          </a:prstGeom>
          <a:noFill/>
          <a:ln w="0">
            <a:noFill/>
          </a:ln>
        </p:spPr>
        <p:txBody>
          <a:bodyPr lIns="54360" rIns="54360" tIns="27360" bIns="2736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44680"/>
                <a:tab algn="l" pos="1089000"/>
                <a:tab algn="l" pos="1633680"/>
                <a:tab algn="l" pos="2178000"/>
                <a:tab algn="l" pos="2722680"/>
                <a:tab algn="l" pos="3267000"/>
                <a:tab algn="l" pos="3811680"/>
                <a:tab algn="l" pos="4356000"/>
                <a:tab algn="l" pos="4900680"/>
                <a:tab algn="l" pos="5445000"/>
                <a:tab algn="l" pos="5989680"/>
                <a:tab algn="l" pos="6534000"/>
                <a:tab algn="l" pos="7078680"/>
                <a:tab algn="l" pos="7623000"/>
                <a:tab algn="l" pos="8167680"/>
                <a:tab algn="l" pos="8712360"/>
                <a:tab algn="l" pos="9256680"/>
                <a:tab algn="l" pos="9801360"/>
                <a:tab algn="l" pos="10345680"/>
                <a:tab algn="l" pos="1089036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2070720" y="2294280"/>
            <a:ext cx="1563840" cy="1090080"/>
          </a:xfrm>
          <a:prstGeom prst="rect">
            <a:avLst/>
          </a:prstGeom>
          <a:noFill/>
          <a:ln w="0">
            <a:noFill/>
          </a:ln>
        </p:spPr>
        <p:txBody>
          <a:bodyPr lIns="54360" rIns="54360" tIns="27360" bIns="2736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44680"/>
                <a:tab algn="l" pos="1089000"/>
                <a:tab algn="l" pos="1633680"/>
                <a:tab algn="l" pos="2178000"/>
                <a:tab algn="l" pos="2722680"/>
                <a:tab algn="l" pos="3267000"/>
                <a:tab algn="l" pos="3811680"/>
                <a:tab algn="l" pos="4356000"/>
                <a:tab algn="l" pos="4900680"/>
                <a:tab algn="l" pos="5445000"/>
                <a:tab algn="l" pos="5989680"/>
                <a:tab algn="l" pos="6534000"/>
                <a:tab algn="l" pos="7078680"/>
                <a:tab algn="l" pos="7623000"/>
                <a:tab algn="l" pos="8167680"/>
                <a:tab algn="l" pos="8712360"/>
                <a:tab algn="l" pos="9256680"/>
                <a:tab algn="l" pos="9801360"/>
                <a:tab algn="l" pos="10345680"/>
                <a:tab algn="l" pos="1089036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3713400" y="2294280"/>
            <a:ext cx="1563840" cy="1090080"/>
          </a:xfrm>
          <a:prstGeom prst="rect">
            <a:avLst/>
          </a:prstGeom>
          <a:noFill/>
          <a:ln w="0">
            <a:noFill/>
          </a:ln>
        </p:spPr>
        <p:txBody>
          <a:bodyPr lIns="54360" rIns="54360" tIns="27360" bIns="2736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44680"/>
                <a:tab algn="l" pos="1089000"/>
                <a:tab algn="l" pos="1633680"/>
                <a:tab algn="l" pos="2178000"/>
                <a:tab algn="l" pos="2722680"/>
                <a:tab algn="l" pos="3267000"/>
                <a:tab algn="l" pos="3811680"/>
                <a:tab algn="l" pos="4356000"/>
                <a:tab algn="l" pos="4900680"/>
                <a:tab algn="l" pos="5445000"/>
                <a:tab algn="l" pos="5989680"/>
                <a:tab algn="l" pos="6534000"/>
                <a:tab algn="l" pos="7078680"/>
                <a:tab algn="l" pos="7623000"/>
                <a:tab algn="l" pos="8167680"/>
                <a:tab algn="l" pos="8712360"/>
                <a:tab algn="l" pos="9256680"/>
                <a:tab algn="l" pos="9801360"/>
                <a:tab algn="l" pos="10345680"/>
                <a:tab algn="l" pos="1089036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35FC4-9EA4-4FE7-B7C9-F36F7FC89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28400" y="338040"/>
            <a:ext cx="4857480" cy="635040"/>
          </a:xfrm>
          <a:prstGeom prst="rect">
            <a:avLst/>
          </a:prstGeom>
          <a:noFill/>
          <a:ln w="0">
            <a:noFill/>
          </a:ln>
        </p:spPr>
        <p:txBody>
          <a:bodyPr lIns="54720" rIns="54720" tIns="27360" bIns="27360" anchor="ctr">
            <a:noAutofit/>
          </a:bodyPr>
          <a:p>
            <a:pPr indent="0" algn="ctr">
              <a:buNone/>
              <a:tabLst>
                <a:tab algn="l" pos="0"/>
                <a:tab algn="l" pos="544680"/>
                <a:tab algn="l" pos="1089000"/>
                <a:tab algn="l" pos="1633680"/>
                <a:tab algn="l" pos="2178000"/>
                <a:tab algn="l" pos="2722680"/>
                <a:tab algn="l" pos="3267000"/>
                <a:tab algn="l" pos="3811680"/>
                <a:tab algn="l" pos="4356000"/>
                <a:tab algn="l" pos="4900680"/>
                <a:tab algn="l" pos="5445000"/>
                <a:tab algn="l" pos="5989680"/>
                <a:tab algn="l" pos="6534000"/>
                <a:tab algn="l" pos="7078680"/>
                <a:tab algn="l" pos="7623000"/>
                <a:tab algn="l" pos="8167680"/>
                <a:tab algn="l" pos="8712360"/>
                <a:tab algn="l" pos="9256680"/>
                <a:tab algn="l" pos="9801360"/>
                <a:tab algn="l" pos="10345680"/>
                <a:tab algn="l" pos="10890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28400" y="1100160"/>
            <a:ext cx="4857480" cy="2286000"/>
          </a:xfrm>
          <a:prstGeom prst="rect">
            <a:avLst/>
          </a:prstGeom>
          <a:noFill/>
          <a:ln w="0">
            <a:noFill/>
          </a:ln>
        </p:spPr>
        <p:txBody>
          <a:bodyPr lIns="54360" rIns="54360" tIns="27360" bIns="2736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44680"/>
                <a:tab algn="l" pos="1089000"/>
                <a:tab algn="l" pos="1633680"/>
                <a:tab algn="l" pos="2178000"/>
                <a:tab algn="l" pos="2722680"/>
                <a:tab algn="l" pos="3267000"/>
                <a:tab algn="l" pos="3811680"/>
                <a:tab algn="l" pos="4356000"/>
                <a:tab algn="l" pos="4900680"/>
                <a:tab algn="l" pos="5445000"/>
                <a:tab algn="l" pos="5989680"/>
                <a:tab algn="l" pos="6534000"/>
                <a:tab algn="l" pos="7078680"/>
                <a:tab algn="l" pos="7623000"/>
                <a:tab algn="l" pos="8167680"/>
                <a:tab algn="l" pos="8712360"/>
                <a:tab algn="l" pos="9256680"/>
                <a:tab algn="l" pos="9801360"/>
                <a:tab algn="l" pos="10345680"/>
                <a:tab algn="l" pos="1089036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BEC0C-F481-45DC-8142-B30E77164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8400" y="338040"/>
            <a:ext cx="4857480" cy="635040"/>
          </a:xfrm>
          <a:prstGeom prst="rect">
            <a:avLst/>
          </a:prstGeom>
          <a:noFill/>
          <a:ln w="0">
            <a:noFill/>
          </a:ln>
        </p:spPr>
        <p:txBody>
          <a:bodyPr lIns="54720" rIns="54720" tIns="27360" bIns="27360" anchor="ctr">
            <a:noAutofit/>
          </a:bodyPr>
          <a:p>
            <a:pPr indent="0" algn="ctr">
              <a:buNone/>
              <a:tabLst>
                <a:tab algn="l" pos="0"/>
                <a:tab algn="l" pos="544680"/>
                <a:tab algn="l" pos="1089000"/>
                <a:tab algn="l" pos="1633680"/>
                <a:tab algn="l" pos="2178000"/>
                <a:tab algn="l" pos="2722680"/>
                <a:tab algn="l" pos="3267000"/>
                <a:tab algn="l" pos="3811680"/>
                <a:tab algn="l" pos="4356000"/>
                <a:tab algn="l" pos="4900680"/>
                <a:tab algn="l" pos="5445000"/>
                <a:tab algn="l" pos="5989680"/>
                <a:tab algn="l" pos="6534000"/>
                <a:tab algn="l" pos="7078680"/>
                <a:tab algn="l" pos="7623000"/>
                <a:tab algn="l" pos="8167680"/>
                <a:tab algn="l" pos="8712360"/>
                <a:tab algn="l" pos="9256680"/>
                <a:tab algn="l" pos="9801360"/>
                <a:tab algn="l" pos="10345680"/>
                <a:tab algn="l" pos="10890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28400" y="1100160"/>
            <a:ext cx="2370240" cy="2286000"/>
          </a:xfrm>
          <a:prstGeom prst="rect">
            <a:avLst/>
          </a:prstGeom>
          <a:noFill/>
          <a:ln w="0">
            <a:noFill/>
          </a:ln>
        </p:spPr>
        <p:txBody>
          <a:bodyPr lIns="54360" rIns="54360" tIns="27360" bIns="2736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44680"/>
                <a:tab algn="l" pos="1089000"/>
                <a:tab algn="l" pos="1633680"/>
                <a:tab algn="l" pos="2178000"/>
                <a:tab algn="l" pos="2722680"/>
                <a:tab algn="l" pos="3267000"/>
                <a:tab algn="l" pos="3811680"/>
                <a:tab algn="l" pos="4356000"/>
                <a:tab algn="l" pos="4900680"/>
                <a:tab algn="l" pos="5445000"/>
                <a:tab algn="l" pos="5989680"/>
                <a:tab algn="l" pos="6534000"/>
                <a:tab algn="l" pos="7078680"/>
                <a:tab algn="l" pos="7623000"/>
                <a:tab algn="l" pos="8167680"/>
                <a:tab algn="l" pos="8712360"/>
                <a:tab algn="l" pos="9256680"/>
                <a:tab algn="l" pos="9801360"/>
                <a:tab algn="l" pos="10345680"/>
                <a:tab algn="l" pos="1089036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2917440" y="1100160"/>
            <a:ext cx="2370240" cy="2286000"/>
          </a:xfrm>
          <a:prstGeom prst="rect">
            <a:avLst/>
          </a:prstGeom>
          <a:noFill/>
          <a:ln w="0">
            <a:noFill/>
          </a:ln>
        </p:spPr>
        <p:txBody>
          <a:bodyPr lIns="54360" rIns="54360" tIns="27360" bIns="2736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44680"/>
                <a:tab algn="l" pos="1089000"/>
                <a:tab algn="l" pos="1633680"/>
                <a:tab algn="l" pos="2178000"/>
                <a:tab algn="l" pos="2722680"/>
                <a:tab algn="l" pos="3267000"/>
                <a:tab algn="l" pos="3811680"/>
                <a:tab algn="l" pos="4356000"/>
                <a:tab algn="l" pos="4900680"/>
                <a:tab algn="l" pos="5445000"/>
                <a:tab algn="l" pos="5989680"/>
                <a:tab algn="l" pos="6534000"/>
                <a:tab algn="l" pos="7078680"/>
                <a:tab algn="l" pos="7623000"/>
                <a:tab algn="l" pos="8167680"/>
                <a:tab algn="l" pos="8712360"/>
                <a:tab algn="l" pos="9256680"/>
                <a:tab algn="l" pos="9801360"/>
                <a:tab algn="l" pos="10345680"/>
                <a:tab algn="l" pos="1089036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AC3C6-539E-4FC5-8297-A38F7A670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28400" y="338040"/>
            <a:ext cx="4857480" cy="635040"/>
          </a:xfrm>
          <a:prstGeom prst="rect">
            <a:avLst/>
          </a:prstGeom>
          <a:noFill/>
          <a:ln w="0">
            <a:noFill/>
          </a:ln>
        </p:spPr>
        <p:txBody>
          <a:bodyPr lIns="54720" rIns="54720" tIns="27360" bIns="27360" anchor="ctr">
            <a:noAutofit/>
          </a:bodyPr>
          <a:p>
            <a:pPr indent="0" algn="ctr">
              <a:buNone/>
              <a:tabLst>
                <a:tab algn="l" pos="0"/>
                <a:tab algn="l" pos="544680"/>
                <a:tab algn="l" pos="1089000"/>
                <a:tab algn="l" pos="1633680"/>
                <a:tab algn="l" pos="2178000"/>
                <a:tab algn="l" pos="2722680"/>
                <a:tab algn="l" pos="3267000"/>
                <a:tab algn="l" pos="3811680"/>
                <a:tab algn="l" pos="4356000"/>
                <a:tab algn="l" pos="4900680"/>
                <a:tab algn="l" pos="5445000"/>
                <a:tab algn="l" pos="5989680"/>
                <a:tab algn="l" pos="6534000"/>
                <a:tab algn="l" pos="7078680"/>
                <a:tab algn="l" pos="7623000"/>
                <a:tab algn="l" pos="8167680"/>
                <a:tab algn="l" pos="8712360"/>
                <a:tab algn="l" pos="9256680"/>
                <a:tab algn="l" pos="9801360"/>
                <a:tab algn="l" pos="10345680"/>
                <a:tab algn="l" pos="10890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B25B4-C514-4574-B8A6-C798A35EB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28400" y="338040"/>
            <a:ext cx="4857480" cy="29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tabLst>
                <a:tab algn="l" pos="0"/>
                <a:tab algn="l" pos="544680"/>
                <a:tab algn="l" pos="1089000"/>
                <a:tab algn="l" pos="1633680"/>
                <a:tab algn="l" pos="2178000"/>
                <a:tab algn="l" pos="2722680"/>
                <a:tab algn="l" pos="3267000"/>
                <a:tab algn="l" pos="3811680"/>
                <a:tab algn="l" pos="4356000"/>
                <a:tab algn="l" pos="4900680"/>
                <a:tab algn="l" pos="5445000"/>
                <a:tab algn="l" pos="5989680"/>
                <a:tab algn="l" pos="6534000"/>
                <a:tab algn="l" pos="7078680"/>
                <a:tab algn="l" pos="7623000"/>
                <a:tab algn="l" pos="8167680"/>
                <a:tab algn="l" pos="8712360"/>
                <a:tab algn="l" pos="9256680"/>
                <a:tab algn="l" pos="9801360"/>
                <a:tab algn="l" pos="10345680"/>
                <a:tab algn="l" pos="1089036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335F4-E8AD-442D-B869-B0B390567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28400" y="338040"/>
            <a:ext cx="4857480" cy="635040"/>
          </a:xfrm>
          <a:prstGeom prst="rect">
            <a:avLst/>
          </a:prstGeom>
          <a:noFill/>
          <a:ln w="0">
            <a:noFill/>
          </a:ln>
        </p:spPr>
        <p:txBody>
          <a:bodyPr lIns="54720" rIns="54720" tIns="27360" bIns="27360" anchor="ctr">
            <a:noAutofit/>
          </a:bodyPr>
          <a:p>
            <a:pPr indent="0" algn="ctr">
              <a:buNone/>
              <a:tabLst>
                <a:tab algn="l" pos="0"/>
                <a:tab algn="l" pos="544680"/>
                <a:tab algn="l" pos="1089000"/>
                <a:tab algn="l" pos="1633680"/>
                <a:tab algn="l" pos="2178000"/>
                <a:tab algn="l" pos="2722680"/>
                <a:tab algn="l" pos="3267000"/>
                <a:tab algn="l" pos="3811680"/>
                <a:tab algn="l" pos="4356000"/>
                <a:tab algn="l" pos="4900680"/>
                <a:tab algn="l" pos="5445000"/>
                <a:tab algn="l" pos="5989680"/>
                <a:tab algn="l" pos="6534000"/>
                <a:tab algn="l" pos="7078680"/>
                <a:tab algn="l" pos="7623000"/>
                <a:tab algn="l" pos="8167680"/>
                <a:tab algn="l" pos="8712360"/>
                <a:tab algn="l" pos="9256680"/>
                <a:tab algn="l" pos="9801360"/>
                <a:tab algn="l" pos="10345680"/>
                <a:tab algn="l" pos="10890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28400" y="1100160"/>
            <a:ext cx="2370240" cy="1090080"/>
          </a:xfrm>
          <a:prstGeom prst="rect">
            <a:avLst/>
          </a:prstGeom>
          <a:noFill/>
          <a:ln w="0">
            <a:noFill/>
          </a:ln>
        </p:spPr>
        <p:txBody>
          <a:bodyPr lIns="54360" rIns="54360" tIns="27360" bIns="2736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44680"/>
                <a:tab algn="l" pos="1089000"/>
                <a:tab algn="l" pos="1633680"/>
                <a:tab algn="l" pos="2178000"/>
                <a:tab algn="l" pos="2722680"/>
                <a:tab algn="l" pos="3267000"/>
                <a:tab algn="l" pos="3811680"/>
                <a:tab algn="l" pos="4356000"/>
                <a:tab algn="l" pos="4900680"/>
                <a:tab algn="l" pos="5445000"/>
                <a:tab algn="l" pos="5989680"/>
                <a:tab algn="l" pos="6534000"/>
                <a:tab algn="l" pos="7078680"/>
                <a:tab algn="l" pos="7623000"/>
                <a:tab algn="l" pos="8167680"/>
                <a:tab algn="l" pos="8712360"/>
                <a:tab algn="l" pos="9256680"/>
                <a:tab algn="l" pos="9801360"/>
                <a:tab algn="l" pos="10345680"/>
                <a:tab algn="l" pos="1089036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2917440" y="1100160"/>
            <a:ext cx="2370240" cy="2286000"/>
          </a:xfrm>
          <a:prstGeom prst="rect">
            <a:avLst/>
          </a:prstGeom>
          <a:noFill/>
          <a:ln w="0">
            <a:noFill/>
          </a:ln>
        </p:spPr>
        <p:txBody>
          <a:bodyPr lIns="54360" rIns="54360" tIns="27360" bIns="2736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44680"/>
                <a:tab algn="l" pos="1089000"/>
                <a:tab algn="l" pos="1633680"/>
                <a:tab algn="l" pos="2178000"/>
                <a:tab algn="l" pos="2722680"/>
                <a:tab algn="l" pos="3267000"/>
                <a:tab algn="l" pos="3811680"/>
                <a:tab algn="l" pos="4356000"/>
                <a:tab algn="l" pos="4900680"/>
                <a:tab algn="l" pos="5445000"/>
                <a:tab algn="l" pos="5989680"/>
                <a:tab algn="l" pos="6534000"/>
                <a:tab algn="l" pos="7078680"/>
                <a:tab algn="l" pos="7623000"/>
                <a:tab algn="l" pos="8167680"/>
                <a:tab algn="l" pos="8712360"/>
                <a:tab algn="l" pos="9256680"/>
                <a:tab algn="l" pos="9801360"/>
                <a:tab algn="l" pos="10345680"/>
                <a:tab algn="l" pos="1089036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28400" y="2294280"/>
            <a:ext cx="2370240" cy="1090080"/>
          </a:xfrm>
          <a:prstGeom prst="rect">
            <a:avLst/>
          </a:prstGeom>
          <a:noFill/>
          <a:ln w="0">
            <a:noFill/>
          </a:ln>
        </p:spPr>
        <p:txBody>
          <a:bodyPr lIns="54360" rIns="54360" tIns="27360" bIns="2736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44680"/>
                <a:tab algn="l" pos="1089000"/>
                <a:tab algn="l" pos="1633680"/>
                <a:tab algn="l" pos="2178000"/>
                <a:tab algn="l" pos="2722680"/>
                <a:tab algn="l" pos="3267000"/>
                <a:tab algn="l" pos="3811680"/>
                <a:tab algn="l" pos="4356000"/>
                <a:tab algn="l" pos="4900680"/>
                <a:tab algn="l" pos="5445000"/>
                <a:tab algn="l" pos="5989680"/>
                <a:tab algn="l" pos="6534000"/>
                <a:tab algn="l" pos="7078680"/>
                <a:tab algn="l" pos="7623000"/>
                <a:tab algn="l" pos="8167680"/>
                <a:tab algn="l" pos="8712360"/>
                <a:tab algn="l" pos="9256680"/>
                <a:tab algn="l" pos="9801360"/>
                <a:tab algn="l" pos="10345680"/>
                <a:tab algn="l" pos="1089036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1CB97-F368-4A7F-ADBB-CD9BD4A9A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28400" y="338040"/>
            <a:ext cx="4857480" cy="635040"/>
          </a:xfrm>
          <a:prstGeom prst="rect">
            <a:avLst/>
          </a:prstGeom>
          <a:noFill/>
          <a:ln w="0">
            <a:noFill/>
          </a:ln>
        </p:spPr>
        <p:txBody>
          <a:bodyPr lIns="54720" rIns="54720" tIns="27360" bIns="27360" anchor="ctr">
            <a:noAutofit/>
          </a:bodyPr>
          <a:p>
            <a:pPr indent="0" algn="ctr">
              <a:buNone/>
              <a:tabLst>
                <a:tab algn="l" pos="0"/>
                <a:tab algn="l" pos="544680"/>
                <a:tab algn="l" pos="1089000"/>
                <a:tab algn="l" pos="1633680"/>
                <a:tab algn="l" pos="2178000"/>
                <a:tab algn="l" pos="2722680"/>
                <a:tab algn="l" pos="3267000"/>
                <a:tab algn="l" pos="3811680"/>
                <a:tab algn="l" pos="4356000"/>
                <a:tab algn="l" pos="4900680"/>
                <a:tab algn="l" pos="5445000"/>
                <a:tab algn="l" pos="5989680"/>
                <a:tab algn="l" pos="6534000"/>
                <a:tab algn="l" pos="7078680"/>
                <a:tab algn="l" pos="7623000"/>
                <a:tab algn="l" pos="8167680"/>
                <a:tab algn="l" pos="8712360"/>
                <a:tab algn="l" pos="9256680"/>
                <a:tab algn="l" pos="9801360"/>
                <a:tab algn="l" pos="10345680"/>
                <a:tab algn="l" pos="10890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28400" y="1100160"/>
            <a:ext cx="2370240" cy="2286000"/>
          </a:xfrm>
          <a:prstGeom prst="rect">
            <a:avLst/>
          </a:prstGeom>
          <a:noFill/>
          <a:ln w="0">
            <a:noFill/>
          </a:ln>
        </p:spPr>
        <p:txBody>
          <a:bodyPr lIns="54360" rIns="54360" tIns="27360" bIns="2736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44680"/>
                <a:tab algn="l" pos="1089000"/>
                <a:tab algn="l" pos="1633680"/>
                <a:tab algn="l" pos="2178000"/>
                <a:tab algn="l" pos="2722680"/>
                <a:tab algn="l" pos="3267000"/>
                <a:tab algn="l" pos="3811680"/>
                <a:tab algn="l" pos="4356000"/>
                <a:tab algn="l" pos="4900680"/>
                <a:tab algn="l" pos="5445000"/>
                <a:tab algn="l" pos="5989680"/>
                <a:tab algn="l" pos="6534000"/>
                <a:tab algn="l" pos="7078680"/>
                <a:tab algn="l" pos="7623000"/>
                <a:tab algn="l" pos="8167680"/>
                <a:tab algn="l" pos="8712360"/>
                <a:tab algn="l" pos="9256680"/>
                <a:tab algn="l" pos="9801360"/>
                <a:tab algn="l" pos="10345680"/>
                <a:tab algn="l" pos="1089036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2917440" y="1100160"/>
            <a:ext cx="2370240" cy="1090080"/>
          </a:xfrm>
          <a:prstGeom prst="rect">
            <a:avLst/>
          </a:prstGeom>
          <a:noFill/>
          <a:ln w="0">
            <a:noFill/>
          </a:ln>
        </p:spPr>
        <p:txBody>
          <a:bodyPr lIns="54360" rIns="54360" tIns="27360" bIns="2736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44680"/>
                <a:tab algn="l" pos="1089000"/>
                <a:tab algn="l" pos="1633680"/>
                <a:tab algn="l" pos="2178000"/>
                <a:tab algn="l" pos="2722680"/>
                <a:tab algn="l" pos="3267000"/>
                <a:tab algn="l" pos="3811680"/>
                <a:tab algn="l" pos="4356000"/>
                <a:tab algn="l" pos="4900680"/>
                <a:tab algn="l" pos="5445000"/>
                <a:tab algn="l" pos="5989680"/>
                <a:tab algn="l" pos="6534000"/>
                <a:tab algn="l" pos="7078680"/>
                <a:tab algn="l" pos="7623000"/>
                <a:tab algn="l" pos="8167680"/>
                <a:tab algn="l" pos="8712360"/>
                <a:tab algn="l" pos="9256680"/>
                <a:tab algn="l" pos="9801360"/>
                <a:tab algn="l" pos="10345680"/>
                <a:tab algn="l" pos="1089036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917440" y="2294280"/>
            <a:ext cx="2370240" cy="1090080"/>
          </a:xfrm>
          <a:prstGeom prst="rect">
            <a:avLst/>
          </a:prstGeom>
          <a:noFill/>
          <a:ln w="0">
            <a:noFill/>
          </a:ln>
        </p:spPr>
        <p:txBody>
          <a:bodyPr lIns="54360" rIns="54360" tIns="27360" bIns="2736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44680"/>
                <a:tab algn="l" pos="1089000"/>
                <a:tab algn="l" pos="1633680"/>
                <a:tab algn="l" pos="2178000"/>
                <a:tab algn="l" pos="2722680"/>
                <a:tab algn="l" pos="3267000"/>
                <a:tab algn="l" pos="3811680"/>
                <a:tab algn="l" pos="4356000"/>
                <a:tab algn="l" pos="4900680"/>
                <a:tab algn="l" pos="5445000"/>
                <a:tab algn="l" pos="5989680"/>
                <a:tab algn="l" pos="6534000"/>
                <a:tab algn="l" pos="7078680"/>
                <a:tab algn="l" pos="7623000"/>
                <a:tab algn="l" pos="8167680"/>
                <a:tab algn="l" pos="8712360"/>
                <a:tab algn="l" pos="9256680"/>
                <a:tab algn="l" pos="9801360"/>
                <a:tab algn="l" pos="10345680"/>
                <a:tab algn="l" pos="1089036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FD1DE-FE83-4499-872E-9C34A3662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28400" y="338040"/>
            <a:ext cx="4857480" cy="635040"/>
          </a:xfrm>
          <a:prstGeom prst="rect">
            <a:avLst/>
          </a:prstGeom>
          <a:noFill/>
          <a:ln w="0">
            <a:noFill/>
          </a:ln>
        </p:spPr>
        <p:txBody>
          <a:bodyPr lIns="54720" rIns="54720" tIns="27360" bIns="27360" anchor="ctr">
            <a:noAutofit/>
          </a:bodyPr>
          <a:p>
            <a:pPr indent="0" algn="ctr">
              <a:buNone/>
              <a:tabLst>
                <a:tab algn="l" pos="0"/>
                <a:tab algn="l" pos="544680"/>
                <a:tab algn="l" pos="1089000"/>
                <a:tab algn="l" pos="1633680"/>
                <a:tab algn="l" pos="2178000"/>
                <a:tab algn="l" pos="2722680"/>
                <a:tab algn="l" pos="3267000"/>
                <a:tab algn="l" pos="3811680"/>
                <a:tab algn="l" pos="4356000"/>
                <a:tab algn="l" pos="4900680"/>
                <a:tab algn="l" pos="5445000"/>
                <a:tab algn="l" pos="5989680"/>
                <a:tab algn="l" pos="6534000"/>
                <a:tab algn="l" pos="7078680"/>
                <a:tab algn="l" pos="7623000"/>
                <a:tab algn="l" pos="8167680"/>
                <a:tab algn="l" pos="8712360"/>
                <a:tab algn="l" pos="9256680"/>
                <a:tab algn="l" pos="9801360"/>
                <a:tab algn="l" pos="10345680"/>
                <a:tab algn="l" pos="10890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28400" y="1100160"/>
            <a:ext cx="2370240" cy="1090080"/>
          </a:xfrm>
          <a:prstGeom prst="rect">
            <a:avLst/>
          </a:prstGeom>
          <a:noFill/>
          <a:ln w="0">
            <a:noFill/>
          </a:ln>
        </p:spPr>
        <p:txBody>
          <a:bodyPr lIns="54360" rIns="54360" tIns="27360" bIns="2736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44680"/>
                <a:tab algn="l" pos="1089000"/>
                <a:tab algn="l" pos="1633680"/>
                <a:tab algn="l" pos="2178000"/>
                <a:tab algn="l" pos="2722680"/>
                <a:tab algn="l" pos="3267000"/>
                <a:tab algn="l" pos="3811680"/>
                <a:tab algn="l" pos="4356000"/>
                <a:tab algn="l" pos="4900680"/>
                <a:tab algn="l" pos="5445000"/>
                <a:tab algn="l" pos="5989680"/>
                <a:tab algn="l" pos="6534000"/>
                <a:tab algn="l" pos="7078680"/>
                <a:tab algn="l" pos="7623000"/>
                <a:tab algn="l" pos="8167680"/>
                <a:tab algn="l" pos="8712360"/>
                <a:tab algn="l" pos="9256680"/>
                <a:tab algn="l" pos="9801360"/>
                <a:tab algn="l" pos="10345680"/>
                <a:tab algn="l" pos="1089036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917440" y="1100160"/>
            <a:ext cx="2370240" cy="1090080"/>
          </a:xfrm>
          <a:prstGeom prst="rect">
            <a:avLst/>
          </a:prstGeom>
          <a:noFill/>
          <a:ln w="0">
            <a:noFill/>
          </a:ln>
        </p:spPr>
        <p:txBody>
          <a:bodyPr lIns="54360" rIns="54360" tIns="27360" bIns="2736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44680"/>
                <a:tab algn="l" pos="1089000"/>
                <a:tab algn="l" pos="1633680"/>
                <a:tab algn="l" pos="2178000"/>
                <a:tab algn="l" pos="2722680"/>
                <a:tab algn="l" pos="3267000"/>
                <a:tab algn="l" pos="3811680"/>
                <a:tab algn="l" pos="4356000"/>
                <a:tab algn="l" pos="4900680"/>
                <a:tab algn="l" pos="5445000"/>
                <a:tab algn="l" pos="5989680"/>
                <a:tab algn="l" pos="6534000"/>
                <a:tab algn="l" pos="7078680"/>
                <a:tab algn="l" pos="7623000"/>
                <a:tab algn="l" pos="8167680"/>
                <a:tab algn="l" pos="8712360"/>
                <a:tab algn="l" pos="9256680"/>
                <a:tab algn="l" pos="9801360"/>
                <a:tab algn="l" pos="10345680"/>
                <a:tab algn="l" pos="1089036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28400" y="2294280"/>
            <a:ext cx="4857480" cy="1090080"/>
          </a:xfrm>
          <a:prstGeom prst="rect">
            <a:avLst/>
          </a:prstGeom>
          <a:noFill/>
          <a:ln w="0">
            <a:noFill/>
          </a:ln>
        </p:spPr>
        <p:txBody>
          <a:bodyPr lIns="54360" rIns="54360" tIns="27360" bIns="2736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44680"/>
                <a:tab algn="l" pos="1089000"/>
                <a:tab algn="l" pos="1633680"/>
                <a:tab algn="l" pos="2178000"/>
                <a:tab algn="l" pos="2722680"/>
                <a:tab algn="l" pos="3267000"/>
                <a:tab algn="l" pos="3811680"/>
                <a:tab algn="l" pos="4356000"/>
                <a:tab algn="l" pos="4900680"/>
                <a:tab algn="l" pos="5445000"/>
                <a:tab algn="l" pos="5989680"/>
                <a:tab algn="l" pos="6534000"/>
                <a:tab algn="l" pos="7078680"/>
                <a:tab algn="l" pos="7623000"/>
                <a:tab algn="l" pos="8167680"/>
                <a:tab algn="l" pos="8712360"/>
                <a:tab algn="l" pos="9256680"/>
                <a:tab algn="l" pos="9801360"/>
                <a:tab algn="l" pos="10345680"/>
                <a:tab algn="l" pos="1089036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D88AF-C1D6-4CFC-857C-20F0545E5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5256720" y="1440"/>
            <a:ext cx="10964880" cy="7604280"/>
            <a:chOff x="-5256720" y="1440"/>
            <a:chExt cx="10964880" cy="7604280"/>
          </a:xfrm>
        </p:grpSpPr>
        <p:sp>
          <p:nvSpPr>
            <p:cNvPr id="1" name=""/>
            <p:cNvSpPr/>
            <p:nvPr/>
          </p:nvSpPr>
          <p:spPr>
            <a:xfrm>
              <a:off x="3367800" y="881280"/>
              <a:ext cx="2340360" cy="292212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ffffdd"/>
                </a:gs>
                <a:gs pos="100000">
                  <a:srgbClr val="75756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5256720" y="1440"/>
              <a:ext cx="10513440" cy="7604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ffff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28400" y="338040"/>
            <a:ext cx="4857480" cy="635040"/>
          </a:xfrm>
          <a:prstGeom prst="rect">
            <a:avLst/>
          </a:prstGeom>
          <a:noFill/>
          <a:ln w="0">
            <a:noFill/>
          </a:ln>
        </p:spPr>
        <p:txBody>
          <a:bodyPr lIns="54720" rIns="54720" tIns="27360" bIns="27360" anchor="ctr">
            <a:noAutofit/>
          </a:bodyPr>
          <a:p>
            <a:pPr indent="0" algn="ctr">
              <a:buNone/>
              <a:tabLst>
                <a:tab algn="l" pos="0"/>
                <a:tab algn="l" pos="544680"/>
                <a:tab algn="l" pos="1089000"/>
                <a:tab algn="l" pos="1633680"/>
                <a:tab algn="l" pos="2178000"/>
                <a:tab algn="l" pos="2722680"/>
                <a:tab algn="l" pos="3267000"/>
                <a:tab algn="l" pos="3811680"/>
                <a:tab algn="l" pos="4356000"/>
                <a:tab algn="l" pos="4900680"/>
                <a:tab algn="l" pos="5445000"/>
                <a:tab algn="l" pos="5989680"/>
                <a:tab algn="l" pos="6534000"/>
                <a:tab algn="l" pos="7078680"/>
                <a:tab algn="l" pos="7623000"/>
                <a:tab algn="l" pos="8167680"/>
                <a:tab algn="l" pos="8712360"/>
                <a:tab algn="l" pos="9256680"/>
                <a:tab algn="l" pos="9801360"/>
                <a:tab algn="l" pos="10345680"/>
                <a:tab algn="l" pos="10890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428400" y="3471840"/>
            <a:ext cx="1190520" cy="254160"/>
          </a:xfrm>
          <a:prstGeom prst="rect">
            <a:avLst/>
          </a:prstGeom>
          <a:noFill/>
          <a:ln w="0">
            <a:noFill/>
          </a:ln>
        </p:spPr>
        <p:txBody>
          <a:bodyPr lIns="54720" rIns="54720" tIns="27360" bIns="27360" anchor="ctr">
            <a:noAutofit/>
          </a:bodyPr>
          <a:lstStyle>
            <a:lvl1pPr indent="0">
              <a:buNone/>
              <a:tabLst>
                <a:tab algn="l" pos="0"/>
                <a:tab algn="l" pos="544680"/>
                <a:tab algn="l" pos="1089000"/>
                <a:tab algn="l" pos="1633680"/>
                <a:tab algn="l" pos="2178000"/>
                <a:tab algn="l" pos="2722680"/>
                <a:tab algn="l" pos="3267000"/>
                <a:tab algn="l" pos="3811680"/>
                <a:tab algn="l" pos="4356000"/>
                <a:tab algn="l" pos="4900680"/>
                <a:tab algn="l" pos="5445000"/>
                <a:tab algn="l" pos="5989680"/>
                <a:tab algn="l" pos="6534000"/>
                <a:tab algn="l" pos="7078680"/>
                <a:tab algn="l" pos="7623000"/>
                <a:tab algn="l" pos="8167680"/>
                <a:tab algn="l" pos="8712360"/>
                <a:tab algn="l" pos="9256680"/>
                <a:tab algn="l" pos="9801360"/>
                <a:tab algn="l" pos="10345680"/>
                <a:tab algn="l" pos="1089036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544680"/>
                <a:tab algn="l" pos="1089000"/>
                <a:tab algn="l" pos="1633680"/>
                <a:tab algn="l" pos="2178000"/>
                <a:tab algn="l" pos="2722680"/>
                <a:tab algn="l" pos="3267000"/>
                <a:tab algn="l" pos="3811680"/>
                <a:tab algn="l" pos="4356000"/>
                <a:tab algn="l" pos="4900680"/>
                <a:tab algn="l" pos="5445000"/>
                <a:tab algn="l" pos="5989680"/>
                <a:tab algn="l" pos="6534000"/>
                <a:tab algn="l" pos="7078680"/>
                <a:tab algn="l" pos="7623000"/>
                <a:tab algn="l" pos="8167680"/>
                <a:tab algn="l" pos="8712360"/>
                <a:tab algn="l" pos="9256680"/>
                <a:tab algn="l" pos="9801360"/>
                <a:tab algn="l" pos="10345680"/>
                <a:tab algn="l" pos="108903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1952280" y="3471840"/>
            <a:ext cx="1809720" cy="254160"/>
          </a:xfrm>
          <a:prstGeom prst="rect">
            <a:avLst/>
          </a:prstGeom>
          <a:noFill/>
          <a:ln w="0">
            <a:noFill/>
          </a:ln>
        </p:spPr>
        <p:txBody>
          <a:bodyPr lIns="54720" rIns="54720" tIns="27360" bIns="27360" anchor="ctr">
            <a:noAutofit/>
          </a:bodyPr>
          <a:lstStyle>
            <a:lvl1pPr indent="0" algn="ctr">
              <a:buNone/>
              <a:tabLst>
                <a:tab algn="l" pos="0"/>
                <a:tab algn="l" pos="544680"/>
                <a:tab algn="l" pos="1089000"/>
                <a:tab algn="l" pos="1633680"/>
                <a:tab algn="l" pos="2178000"/>
                <a:tab algn="l" pos="2722680"/>
                <a:tab algn="l" pos="3267000"/>
                <a:tab algn="l" pos="3811680"/>
                <a:tab algn="l" pos="4356000"/>
                <a:tab algn="l" pos="4900680"/>
                <a:tab algn="l" pos="5445000"/>
                <a:tab algn="l" pos="5989680"/>
                <a:tab algn="l" pos="6534000"/>
                <a:tab algn="l" pos="7078680"/>
                <a:tab algn="l" pos="7623000"/>
                <a:tab algn="l" pos="8167680"/>
                <a:tab algn="l" pos="8712360"/>
                <a:tab algn="l" pos="9256680"/>
                <a:tab algn="l" pos="9801360"/>
                <a:tab algn="l" pos="10345680"/>
                <a:tab algn="l" pos="10890360"/>
              </a:tabLst>
              <a:defRPr b="0" lang="en-GB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544680"/>
                <a:tab algn="l" pos="1089000"/>
                <a:tab algn="l" pos="1633680"/>
                <a:tab algn="l" pos="2178000"/>
                <a:tab algn="l" pos="2722680"/>
                <a:tab algn="l" pos="3267000"/>
                <a:tab algn="l" pos="3811680"/>
                <a:tab algn="l" pos="4356000"/>
                <a:tab algn="l" pos="4900680"/>
                <a:tab algn="l" pos="5445000"/>
                <a:tab algn="l" pos="5989680"/>
                <a:tab algn="l" pos="6534000"/>
                <a:tab algn="l" pos="7078680"/>
                <a:tab algn="l" pos="7623000"/>
                <a:tab algn="l" pos="8167680"/>
                <a:tab algn="l" pos="8712360"/>
                <a:tab algn="l" pos="9256680"/>
                <a:tab algn="l" pos="9801360"/>
                <a:tab algn="l" pos="10345680"/>
                <a:tab algn="l" pos="1089036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4095360" y="3471840"/>
            <a:ext cx="1190520" cy="254160"/>
          </a:xfrm>
          <a:prstGeom prst="rect">
            <a:avLst/>
          </a:prstGeom>
          <a:noFill/>
          <a:ln w="0">
            <a:noFill/>
          </a:ln>
        </p:spPr>
        <p:txBody>
          <a:bodyPr lIns="54720" rIns="54720" tIns="27360" bIns="27360" anchor="ctr">
            <a:noAutofit/>
          </a:bodyPr>
          <a:lstStyle>
            <a:lvl1pPr indent="0" algn="r">
              <a:buNone/>
              <a:tabLst>
                <a:tab algn="l" pos="0"/>
                <a:tab algn="l" pos="544680"/>
                <a:tab algn="l" pos="1089000"/>
                <a:tab algn="l" pos="1633680"/>
                <a:tab algn="l" pos="2178000"/>
                <a:tab algn="l" pos="2722680"/>
                <a:tab algn="l" pos="3267000"/>
                <a:tab algn="l" pos="3811680"/>
                <a:tab algn="l" pos="4356000"/>
                <a:tab algn="l" pos="4900680"/>
                <a:tab algn="l" pos="5445000"/>
                <a:tab algn="l" pos="5989680"/>
                <a:tab algn="l" pos="6534000"/>
                <a:tab algn="l" pos="7078680"/>
                <a:tab algn="l" pos="7623000"/>
                <a:tab algn="l" pos="8167680"/>
                <a:tab algn="l" pos="8712360"/>
                <a:tab algn="l" pos="9256680"/>
                <a:tab algn="l" pos="9801360"/>
                <a:tab algn="l" pos="10345680"/>
                <a:tab algn="l" pos="10890360"/>
              </a:tabLst>
              <a:defRPr b="0" lang="en-GB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544680"/>
                <a:tab algn="l" pos="1089000"/>
                <a:tab algn="l" pos="1633680"/>
                <a:tab algn="l" pos="2178000"/>
                <a:tab algn="l" pos="2722680"/>
                <a:tab algn="l" pos="3267000"/>
                <a:tab algn="l" pos="3811680"/>
                <a:tab algn="l" pos="4356000"/>
                <a:tab algn="l" pos="4900680"/>
                <a:tab algn="l" pos="5445000"/>
                <a:tab algn="l" pos="5989680"/>
                <a:tab algn="l" pos="6534000"/>
                <a:tab algn="l" pos="7078680"/>
                <a:tab algn="l" pos="7623000"/>
                <a:tab algn="l" pos="8167680"/>
                <a:tab algn="l" pos="8712360"/>
                <a:tab algn="l" pos="9256680"/>
                <a:tab algn="l" pos="9801360"/>
                <a:tab algn="l" pos="10345680"/>
                <a:tab algn="l" pos="10890360"/>
              </a:tabLst>
            </a:pPr>
            <a:fld id="{D84F3269-CBD5-4B2E-A110-1BE393B05156}" type="slidenum"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28400" y="1100160"/>
            <a:ext cx="4857480" cy="2286000"/>
          </a:xfrm>
          <a:prstGeom prst="rect">
            <a:avLst/>
          </a:prstGeom>
          <a:noFill/>
          <a:ln w="0">
            <a:noFill/>
          </a:ln>
        </p:spPr>
        <p:txBody>
          <a:bodyPr lIns="54360" rIns="54360" tIns="27360" bIns="27360" anchor="t">
            <a:normAutofit fontScale="93000"/>
          </a:bodyPr>
          <a:p>
            <a:pPr marL="190440" indent="-190440">
              <a:spcBef>
                <a:spcPts val="476"/>
              </a:spcBef>
              <a:buClr>
                <a:srgbClr val="ffffdd"/>
              </a:buClr>
              <a:buSzPct val="80000"/>
              <a:buFont typeface="Wingdings" charset="2"/>
              <a:buChar char=""/>
              <a:tabLst>
                <a:tab algn="l" pos="544680"/>
                <a:tab algn="l" pos="1089000"/>
                <a:tab algn="l" pos="1633680"/>
                <a:tab algn="l" pos="2178000"/>
                <a:tab algn="l" pos="2722680"/>
                <a:tab algn="l" pos="3267000"/>
                <a:tab algn="l" pos="3811680"/>
                <a:tab algn="l" pos="4356000"/>
                <a:tab algn="l" pos="4900680"/>
                <a:tab algn="l" pos="5445000"/>
                <a:tab algn="l" pos="5989680"/>
                <a:tab algn="l" pos="6534000"/>
                <a:tab algn="l" pos="7078680"/>
                <a:tab algn="l" pos="7623000"/>
                <a:tab algn="l" pos="8167680"/>
                <a:tab algn="l" pos="8712360"/>
                <a:tab algn="l" pos="9256680"/>
                <a:tab algn="l" pos="9801360"/>
                <a:tab algn="l" pos="10345680"/>
                <a:tab algn="l" pos="108903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411480" indent="-159120">
              <a:spcBef>
                <a:spcPts val="476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544680"/>
                <a:tab algn="l" pos="1089000"/>
                <a:tab algn="l" pos="1633680"/>
                <a:tab algn="l" pos="2178000"/>
                <a:tab algn="l" pos="2722680"/>
                <a:tab algn="l" pos="3267000"/>
                <a:tab algn="l" pos="3811680"/>
                <a:tab algn="l" pos="4356000"/>
                <a:tab algn="l" pos="4900680"/>
                <a:tab algn="l" pos="5445000"/>
                <a:tab algn="l" pos="5989680"/>
                <a:tab algn="l" pos="6534000"/>
                <a:tab algn="l" pos="7078680"/>
                <a:tab algn="l" pos="7623000"/>
                <a:tab algn="l" pos="8167680"/>
                <a:tab algn="l" pos="8712360"/>
                <a:tab algn="l" pos="9256680"/>
                <a:tab algn="l" pos="9801360"/>
                <a:tab algn="l" pos="10345680"/>
                <a:tab algn="l" pos="108903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2" marL="633240" indent="-126720">
              <a:spcBef>
                <a:spcPts val="476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544680"/>
                <a:tab algn="l" pos="1089000"/>
                <a:tab algn="l" pos="1633680"/>
                <a:tab algn="l" pos="2178000"/>
                <a:tab algn="l" pos="2722680"/>
                <a:tab algn="l" pos="3267000"/>
                <a:tab algn="l" pos="3811680"/>
                <a:tab algn="l" pos="4356000"/>
                <a:tab algn="l" pos="4900680"/>
                <a:tab algn="l" pos="5445000"/>
                <a:tab algn="l" pos="5989680"/>
                <a:tab algn="l" pos="6534000"/>
                <a:tab algn="l" pos="7078680"/>
                <a:tab algn="l" pos="7623000"/>
                <a:tab algn="l" pos="8167680"/>
                <a:tab algn="l" pos="8712360"/>
                <a:tab algn="l" pos="9256680"/>
                <a:tab algn="l" pos="9801360"/>
                <a:tab algn="l" pos="10345680"/>
                <a:tab algn="l" pos="108903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3" marL="885600" indent="-126720">
              <a:spcBef>
                <a:spcPts val="476"/>
              </a:spcBef>
              <a:buClr>
                <a:srgbClr val="000000"/>
              </a:buClr>
              <a:buFont typeface="Times New Roman"/>
              <a:buChar char="–"/>
              <a:tabLst>
                <a:tab algn="l" pos="544680"/>
                <a:tab algn="l" pos="1089000"/>
                <a:tab algn="l" pos="1633680"/>
                <a:tab algn="l" pos="2178000"/>
                <a:tab algn="l" pos="2722680"/>
                <a:tab algn="l" pos="3267000"/>
                <a:tab algn="l" pos="3811680"/>
                <a:tab algn="l" pos="4356000"/>
                <a:tab algn="l" pos="4900680"/>
                <a:tab algn="l" pos="5445000"/>
                <a:tab algn="l" pos="5989680"/>
                <a:tab algn="l" pos="6534000"/>
                <a:tab algn="l" pos="7078680"/>
                <a:tab algn="l" pos="7623000"/>
                <a:tab algn="l" pos="8167680"/>
                <a:tab algn="l" pos="8712360"/>
                <a:tab algn="l" pos="9256680"/>
                <a:tab algn="l" pos="9801360"/>
                <a:tab algn="l" pos="10345680"/>
                <a:tab algn="l" pos="108903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4" marL="1138320" indent="-125280">
              <a:spcBef>
                <a:spcPts val="476"/>
              </a:spcBef>
              <a:buClr>
                <a:srgbClr val="ffffff"/>
              </a:buClr>
              <a:buFont typeface="Times New Roman"/>
              <a:buChar char="•"/>
              <a:tabLst>
                <a:tab algn="l" pos="544680"/>
                <a:tab algn="l" pos="1089000"/>
                <a:tab algn="l" pos="1633680"/>
                <a:tab algn="l" pos="2178000"/>
                <a:tab algn="l" pos="2722680"/>
                <a:tab algn="l" pos="3267000"/>
                <a:tab algn="l" pos="3811680"/>
                <a:tab algn="l" pos="4356000"/>
                <a:tab algn="l" pos="4900680"/>
                <a:tab algn="l" pos="5445000"/>
                <a:tab algn="l" pos="5989680"/>
                <a:tab algn="l" pos="6534000"/>
                <a:tab algn="l" pos="7078680"/>
                <a:tab algn="l" pos="7623000"/>
                <a:tab algn="l" pos="8167680"/>
                <a:tab algn="l" pos="8712360"/>
                <a:tab algn="l" pos="9256680"/>
                <a:tab algn="l" pos="9801360"/>
                <a:tab algn="l" pos="10345680"/>
                <a:tab algn="l" pos="108903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5" marL="1138320" indent="-125280"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544680"/>
                <a:tab algn="l" pos="1089000"/>
                <a:tab algn="l" pos="1633680"/>
                <a:tab algn="l" pos="2178000"/>
                <a:tab algn="l" pos="2722680"/>
                <a:tab algn="l" pos="3267000"/>
                <a:tab algn="l" pos="3811680"/>
                <a:tab algn="l" pos="4356000"/>
                <a:tab algn="l" pos="4900680"/>
                <a:tab algn="l" pos="5445000"/>
                <a:tab algn="l" pos="5989680"/>
                <a:tab algn="l" pos="6534000"/>
                <a:tab algn="l" pos="7078680"/>
                <a:tab algn="l" pos="7623000"/>
                <a:tab algn="l" pos="8167680"/>
                <a:tab algn="l" pos="8712360"/>
                <a:tab algn="l" pos="9256680"/>
                <a:tab algn="l" pos="9801360"/>
                <a:tab algn="l" pos="10345680"/>
                <a:tab algn="l" pos="108903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6" marL="1138320" indent="-125280"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544680"/>
                <a:tab algn="l" pos="1089000"/>
                <a:tab algn="l" pos="1633680"/>
                <a:tab algn="l" pos="2178000"/>
                <a:tab algn="l" pos="2722680"/>
                <a:tab algn="l" pos="3267000"/>
                <a:tab algn="l" pos="3811680"/>
                <a:tab algn="l" pos="4356000"/>
                <a:tab algn="l" pos="4900680"/>
                <a:tab algn="l" pos="5445000"/>
                <a:tab algn="l" pos="5989680"/>
                <a:tab algn="l" pos="6534000"/>
                <a:tab algn="l" pos="7078680"/>
                <a:tab algn="l" pos="7623000"/>
                <a:tab algn="l" pos="8167680"/>
                <a:tab algn="l" pos="8712360"/>
                <a:tab algn="l" pos="9256680"/>
                <a:tab algn="l" pos="9801360"/>
                <a:tab algn="l" pos="10345680"/>
                <a:tab algn="l" pos="108903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4852080" y="810720"/>
            <a:ext cx="10566720" cy="5997960"/>
            <a:chOff x="-4852080" y="810720"/>
            <a:chExt cx="10566720" cy="5997960"/>
          </a:xfrm>
        </p:grpSpPr>
        <p:sp>
          <p:nvSpPr>
            <p:cNvPr id="45" name=""/>
            <p:cNvSpPr/>
            <p:nvPr/>
          </p:nvSpPr>
          <p:spPr>
            <a:xfrm>
              <a:off x="2044080" y="1504800"/>
              <a:ext cx="3670560" cy="23050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ffffdd"/>
                </a:gs>
                <a:gs pos="100000">
                  <a:srgbClr val="75756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4852080" y="810720"/>
              <a:ext cx="8408520" cy="5997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ffff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07840" y="423720"/>
            <a:ext cx="4857480" cy="635040"/>
          </a:xfrm>
          <a:prstGeom prst="rect">
            <a:avLst/>
          </a:prstGeom>
          <a:noFill/>
          <a:ln w="0">
            <a:noFill/>
          </a:ln>
        </p:spPr>
        <p:txBody>
          <a:bodyPr lIns="54720" rIns="54720" tIns="27360" bIns="27360" anchor="b">
            <a:noAutofit/>
          </a:bodyPr>
          <a:p>
            <a:pPr indent="0" algn="ctr">
              <a:buNone/>
              <a:tabLst>
                <a:tab algn="l" pos="0"/>
                <a:tab algn="l" pos="544680"/>
                <a:tab algn="l" pos="1089000"/>
                <a:tab algn="l" pos="1633680"/>
                <a:tab algn="l" pos="2178000"/>
                <a:tab algn="l" pos="2722680"/>
                <a:tab algn="l" pos="3267000"/>
                <a:tab algn="l" pos="3811680"/>
                <a:tab algn="l" pos="4356000"/>
                <a:tab algn="l" pos="4900680"/>
                <a:tab algn="l" pos="5445000"/>
                <a:tab algn="l" pos="5989680"/>
                <a:tab algn="l" pos="6534000"/>
                <a:tab algn="l" pos="7078680"/>
                <a:tab algn="l" pos="7623000"/>
                <a:tab algn="l" pos="8167680"/>
                <a:tab algn="l" pos="8712360"/>
                <a:tab algn="l" pos="9256680"/>
                <a:tab algn="l" pos="9801360"/>
                <a:tab algn="l" pos="10345680"/>
                <a:tab algn="l" pos="10890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28400" y="3471840"/>
            <a:ext cx="1190520" cy="254160"/>
          </a:xfrm>
          <a:prstGeom prst="rect">
            <a:avLst/>
          </a:prstGeom>
          <a:noFill/>
          <a:ln w="0">
            <a:noFill/>
          </a:ln>
        </p:spPr>
        <p:txBody>
          <a:bodyPr lIns="54720" rIns="54720" tIns="27360" bIns="27360" anchor="ctr">
            <a:noAutofit/>
          </a:bodyPr>
          <a:lstStyle>
            <a:lvl1pPr indent="0">
              <a:buNone/>
              <a:tabLst>
                <a:tab algn="l" pos="0"/>
                <a:tab algn="l" pos="544680"/>
                <a:tab algn="l" pos="1089000"/>
                <a:tab algn="l" pos="1633680"/>
                <a:tab algn="l" pos="2178000"/>
                <a:tab algn="l" pos="2722680"/>
                <a:tab algn="l" pos="3267000"/>
                <a:tab algn="l" pos="3811680"/>
                <a:tab algn="l" pos="4356000"/>
                <a:tab algn="l" pos="4900680"/>
                <a:tab algn="l" pos="5445000"/>
                <a:tab algn="l" pos="5989680"/>
                <a:tab algn="l" pos="6534000"/>
                <a:tab algn="l" pos="7078680"/>
                <a:tab algn="l" pos="7623000"/>
                <a:tab algn="l" pos="8167680"/>
                <a:tab algn="l" pos="8712360"/>
                <a:tab algn="l" pos="9256680"/>
                <a:tab algn="l" pos="9801360"/>
                <a:tab algn="l" pos="10345680"/>
                <a:tab algn="l" pos="1089036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544680"/>
                <a:tab algn="l" pos="1089000"/>
                <a:tab algn="l" pos="1633680"/>
                <a:tab algn="l" pos="2178000"/>
                <a:tab algn="l" pos="2722680"/>
                <a:tab algn="l" pos="3267000"/>
                <a:tab algn="l" pos="3811680"/>
                <a:tab algn="l" pos="4356000"/>
                <a:tab algn="l" pos="4900680"/>
                <a:tab algn="l" pos="5445000"/>
                <a:tab algn="l" pos="5989680"/>
                <a:tab algn="l" pos="6534000"/>
                <a:tab algn="l" pos="7078680"/>
                <a:tab algn="l" pos="7623000"/>
                <a:tab algn="l" pos="8167680"/>
                <a:tab algn="l" pos="8712360"/>
                <a:tab algn="l" pos="9256680"/>
                <a:tab algn="l" pos="9801360"/>
                <a:tab algn="l" pos="10345680"/>
                <a:tab algn="l" pos="108903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1952280" y="3471840"/>
            <a:ext cx="1809720" cy="254160"/>
          </a:xfrm>
          <a:prstGeom prst="rect">
            <a:avLst/>
          </a:prstGeom>
          <a:noFill/>
          <a:ln w="0">
            <a:noFill/>
          </a:ln>
        </p:spPr>
        <p:txBody>
          <a:bodyPr lIns="54720" rIns="54720" tIns="27360" bIns="27360" anchor="ctr">
            <a:noAutofit/>
          </a:bodyPr>
          <a:lstStyle>
            <a:lvl1pPr indent="0" algn="ctr">
              <a:buNone/>
              <a:tabLst>
                <a:tab algn="l" pos="0"/>
                <a:tab algn="l" pos="544680"/>
                <a:tab algn="l" pos="1089000"/>
                <a:tab algn="l" pos="1633680"/>
                <a:tab algn="l" pos="2178000"/>
                <a:tab algn="l" pos="2722680"/>
                <a:tab algn="l" pos="3267000"/>
                <a:tab algn="l" pos="3811680"/>
                <a:tab algn="l" pos="4356000"/>
                <a:tab algn="l" pos="4900680"/>
                <a:tab algn="l" pos="5445000"/>
                <a:tab algn="l" pos="5989680"/>
                <a:tab algn="l" pos="6534000"/>
                <a:tab algn="l" pos="7078680"/>
                <a:tab algn="l" pos="7623000"/>
                <a:tab algn="l" pos="8167680"/>
                <a:tab algn="l" pos="8712360"/>
                <a:tab algn="l" pos="9256680"/>
                <a:tab algn="l" pos="9801360"/>
                <a:tab algn="l" pos="10345680"/>
                <a:tab algn="l" pos="10890360"/>
              </a:tabLst>
              <a:defRPr b="0" lang="en-GB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544680"/>
                <a:tab algn="l" pos="1089000"/>
                <a:tab algn="l" pos="1633680"/>
                <a:tab algn="l" pos="2178000"/>
                <a:tab algn="l" pos="2722680"/>
                <a:tab algn="l" pos="3267000"/>
                <a:tab algn="l" pos="3811680"/>
                <a:tab algn="l" pos="4356000"/>
                <a:tab algn="l" pos="4900680"/>
                <a:tab algn="l" pos="5445000"/>
                <a:tab algn="l" pos="5989680"/>
                <a:tab algn="l" pos="6534000"/>
                <a:tab algn="l" pos="7078680"/>
                <a:tab algn="l" pos="7623000"/>
                <a:tab algn="l" pos="8167680"/>
                <a:tab algn="l" pos="8712360"/>
                <a:tab algn="l" pos="9256680"/>
                <a:tab algn="l" pos="9801360"/>
                <a:tab algn="l" pos="10345680"/>
                <a:tab algn="l" pos="1089036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4095360" y="3471840"/>
            <a:ext cx="1190520" cy="254160"/>
          </a:xfrm>
          <a:prstGeom prst="rect">
            <a:avLst/>
          </a:prstGeom>
          <a:noFill/>
          <a:ln w="0">
            <a:noFill/>
          </a:ln>
        </p:spPr>
        <p:txBody>
          <a:bodyPr lIns="54720" rIns="54720" tIns="27360" bIns="27360" anchor="ctr">
            <a:noAutofit/>
          </a:bodyPr>
          <a:lstStyle>
            <a:lvl1pPr indent="0" algn="r">
              <a:buNone/>
              <a:tabLst>
                <a:tab algn="l" pos="0"/>
                <a:tab algn="l" pos="544680"/>
                <a:tab algn="l" pos="1089000"/>
                <a:tab algn="l" pos="1633680"/>
                <a:tab algn="l" pos="2178000"/>
                <a:tab algn="l" pos="2722680"/>
                <a:tab algn="l" pos="3267000"/>
                <a:tab algn="l" pos="3811680"/>
                <a:tab algn="l" pos="4356000"/>
                <a:tab algn="l" pos="4900680"/>
                <a:tab algn="l" pos="5445000"/>
                <a:tab algn="l" pos="5989680"/>
                <a:tab algn="l" pos="6534000"/>
                <a:tab algn="l" pos="7078680"/>
                <a:tab algn="l" pos="7623000"/>
                <a:tab algn="l" pos="8167680"/>
                <a:tab algn="l" pos="8712360"/>
                <a:tab algn="l" pos="9256680"/>
                <a:tab algn="l" pos="9801360"/>
                <a:tab algn="l" pos="10345680"/>
                <a:tab algn="l" pos="10890360"/>
              </a:tabLst>
              <a:defRPr b="0" lang="en-GB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544680"/>
                <a:tab algn="l" pos="1089000"/>
                <a:tab algn="l" pos="1633680"/>
                <a:tab algn="l" pos="2178000"/>
                <a:tab algn="l" pos="2722680"/>
                <a:tab algn="l" pos="3267000"/>
                <a:tab algn="l" pos="3811680"/>
                <a:tab algn="l" pos="4356000"/>
                <a:tab algn="l" pos="4900680"/>
                <a:tab algn="l" pos="5445000"/>
                <a:tab algn="l" pos="5989680"/>
                <a:tab algn="l" pos="6534000"/>
                <a:tab algn="l" pos="7078680"/>
                <a:tab algn="l" pos="7623000"/>
                <a:tab algn="l" pos="8167680"/>
                <a:tab algn="l" pos="8712360"/>
                <a:tab algn="l" pos="9256680"/>
                <a:tab algn="l" pos="9801360"/>
                <a:tab algn="l" pos="10345680"/>
                <a:tab algn="l" pos="10890360"/>
              </a:tabLst>
            </a:pPr>
            <a:fld id="{263CACBD-B233-428A-A273-46E5067899E1}" type="slidenum"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4114800" cy="533160"/>
          </a:xfrm>
          <a:prstGeom prst="rect">
            <a:avLst/>
          </a:prstGeom>
          <a:gradFill rotWithShape="0">
            <a:gsLst>
              <a:gs pos="0">
                <a:srgbClr val="f4f4d3"/>
              </a:gs>
              <a:gs pos="100000">
                <a:srgbClr val="ffffdd"/>
              </a:gs>
            </a:gsLst>
            <a:lin ang="8100000"/>
          </a:gradFill>
          <a:ln w="0">
            <a:noFill/>
          </a:ln>
          <a:effectLst>
            <a:outerShdw dist="17819" dir="2700000" blurRad="0" rotWithShape="0">
              <a:srgbClr val="989884"/>
            </a:outerShdw>
          </a:effectLst>
        </p:spPr>
        <p:txBody>
          <a:bodyPr lIns="54720" rIns="54720" tIns="27360" bIns="27360" anchor="ctr">
            <a:noAutofit/>
          </a:bodyPr>
          <a:p>
            <a:pPr indent="0">
              <a:buNone/>
              <a:tabLst>
                <a:tab algn="l" pos="0"/>
                <a:tab algn="l" pos="544680"/>
                <a:tab algn="l" pos="1089000"/>
                <a:tab algn="l" pos="1633680"/>
                <a:tab algn="l" pos="2178000"/>
                <a:tab algn="l" pos="2722680"/>
                <a:tab algn="l" pos="3267000"/>
                <a:tab algn="l" pos="3811680"/>
                <a:tab algn="l" pos="4356000"/>
                <a:tab algn="l" pos="4900680"/>
                <a:tab algn="l" pos="5445000"/>
                <a:tab algn="l" pos="5989680"/>
                <a:tab algn="l" pos="6534000"/>
                <a:tab algn="l" pos="7078680"/>
                <a:tab algn="l" pos="7623000"/>
                <a:tab algn="l" pos="8167680"/>
                <a:tab algn="l" pos="8712360"/>
                <a:tab algn="l" pos="9256680"/>
                <a:tab algn="l" pos="9801360"/>
                <a:tab algn="l" pos="10345680"/>
                <a:tab algn="l" pos="1089036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DUNAVSKI OKRU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09120" y="914040"/>
            <a:ext cx="3429000" cy="1143000"/>
          </a:xfrm>
          <a:prstGeom prst="rect">
            <a:avLst/>
          </a:prstGeom>
          <a:noFill/>
          <a:ln w="0">
            <a:noFill/>
          </a:ln>
        </p:spPr>
        <p:txBody>
          <a:bodyPr lIns="54360" rIns="54360" tIns="27360" bIns="27360" anchor="t">
            <a:normAutofit/>
          </a:bodyPr>
          <a:p>
            <a:pPr marL="2048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544680"/>
                <a:tab algn="l" pos="1089000"/>
                <a:tab algn="l" pos="1633680"/>
                <a:tab algn="l" pos="2178000"/>
                <a:tab algn="l" pos="2722680"/>
                <a:tab algn="l" pos="3267000"/>
                <a:tab algn="l" pos="3811680"/>
                <a:tab algn="l" pos="4356000"/>
                <a:tab algn="l" pos="4900680"/>
                <a:tab algn="l" pos="5445000"/>
                <a:tab algn="l" pos="5989680"/>
                <a:tab algn="l" pos="6534000"/>
                <a:tab algn="l" pos="7078680"/>
                <a:tab algn="l" pos="7623000"/>
                <a:tab algn="l" pos="8167680"/>
                <a:tab algn="l" pos="8712360"/>
                <a:tab algn="l" pos="9256680"/>
                <a:tab algn="l" pos="9801360"/>
                <a:tab algn="l" pos="10345680"/>
                <a:tab algn="l" pos="108903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Smederev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048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544680"/>
                <a:tab algn="l" pos="1089000"/>
                <a:tab algn="l" pos="1633680"/>
                <a:tab algn="l" pos="2178000"/>
                <a:tab algn="l" pos="2722680"/>
                <a:tab algn="l" pos="3267000"/>
                <a:tab algn="l" pos="3811680"/>
                <a:tab algn="l" pos="4356000"/>
                <a:tab algn="l" pos="4900680"/>
                <a:tab algn="l" pos="5445000"/>
                <a:tab algn="l" pos="5989680"/>
                <a:tab algn="l" pos="6534000"/>
                <a:tab algn="l" pos="7078680"/>
                <a:tab algn="l" pos="7623000"/>
                <a:tab algn="l" pos="8167680"/>
                <a:tab algn="l" pos="8712360"/>
                <a:tab algn="l" pos="9256680"/>
                <a:tab algn="l" pos="9801360"/>
                <a:tab algn="l" pos="10345680"/>
                <a:tab algn="l" pos="108903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Smederevska Palank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048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544680"/>
                <a:tab algn="l" pos="1089000"/>
                <a:tab algn="l" pos="1633680"/>
                <a:tab algn="l" pos="2178000"/>
                <a:tab algn="l" pos="2722680"/>
                <a:tab algn="l" pos="3267000"/>
                <a:tab algn="l" pos="3811680"/>
                <a:tab algn="l" pos="4356000"/>
                <a:tab algn="l" pos="4900680"/>
                <a:tab algn="l" pos="5445000"/>
                <a:tab algn="l" pos="5989680"/>
                <a:tab algn="l" pos="6534000"/>
                <a:tab algn="l" pos="7078680"/>
                <a:tab algn="l" pos="7623000"/>
                <a:tab algn="l" pos="8167680"/>
                <a:tab algn="l" pos="8712360"/>
                <a:tab algn="l" pos="9256680"/>
                <a:tab algn="l" pos="9801360"/>
                <a:tab algn="l" pos="10345680"/>
                <a:tab algn="l" pos="108903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Velika Pla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33520" y="2209680"/>
            <a:ext cx="4114800" cy="0"/>
          </a:xfrm>
          <a:prstGeom prst="line">
            <a:avLst/>
          </a:prstGeom>
          <a:ln w="1260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3657600"/>
            <a:ext cx="50292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0880" y="2362320"/>
            <a:ext cx="4191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360" rIns="54360" tIns="27360" bIns="27360" anchor="t">
            <a:normAutofit fontScale="98000"/>
          </a:bodyPr>
          <a:p>
            <a:pPr marL="200520" indent="-200520"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544680"/>
                <a:tab algn="l" pos="1089000"/>
                <a:tab algn="l" pos="1633680"/>
                <a:tab algn="l" pos="2178000"/>
                <a:tab algn="l" pos="2722680"/>
                <a:tab algn="l" pos="3267000"/>
                <a:tab algn="l" pos="3811680"/>
                <a:tab algn="l" pos="4356000"/>
                <a:tab algn="l" pos="4900680"/>
                <a:tab algn="l" pos="5445000"/>
                <a:tab algn="l" pos="5989680"/>
                <a:tab algn="l" pos="6534000"/>
                <a:tab algn="l" pos="7078680"/>
                <a:tab algn="l" pos="7623000"/>
                <a:tab algn="l" pos="8167680"/>
                <a:tab algn="l" pos="8712360"/>
                <a:tab algn="l" pos="9256680"/>
                <a:tab algn="l" pos="9801360"/>
                <a:tab algn="l" pos="10345680"/>
                <a:tab algn="l" pos="1089036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RESURS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00520" indent="-200520" algn="ctr">
              <a:spcBef>
                <a:spcPts val="550"/>
              </a:spcBef>
              <a:tabLst>
                <a:tab algn="l" pos="0"/>
                <a:tab algn="l" pos="544680"/>
                <a:tab algn="l" pos="1089000"/>
                <a:tab algn="l" pos="1633680"/>
                <a:tab algn="l" pos="2178000"/>
                <a:tab algn="l" pos="2722680"/>
                <a:tab algn="l" pos="3267000"/>
                <a:tab algn="l" pos="3811680"/>
                <a:tab algn="l" pos="4356000"/>
                <a:tab algn="l" pos="4900680"/>
                <a:tab algn="l" pos="5445000"/>
                <a:tab algn="l" pos="5989680"/>
                <a:tab algn="l" pos="6534000"/>
                <a:tab algn="l" pos="7078680"/>
                <a:tab algn="l" pos="7623000"/>
                <a:tab algn="l" pos="8167680"/>
                <a:tab algn="l" pos="8712360"/>
                <a:tab algn="l" pos="9256680"/>
                <a:tab algn="l" pos="9801360"/>
                <a:tab algn="l" pos="10345680"/>
                <a:tab algn="l" pos="1089036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00520" indent="-200520" algn="r">
              <a:spcBef>
                <a:spcPts val="550"/>
              </a:spcBef>
              <a:tabLst>
                <a:tab algn="l" pos="0"/>
                <a:tab algn="l" pos="544680"/>
                <a:tab algn="l" pos="1089000"/>
                <a:tab algn="l" pos="1633680"/>
                <a:tab algn="l" pos="2178000"/>
                <a:tab algn="l" pos="2722680"/>
                <a:tab algn="l" pos="3267000"/>
                <a:tab algn="l" pos="3811680"/>
                <a:tab algn="l" pos="4356000"/>
                <a:tab algn="l" pos="4900680"/>
                <a:tab algn="l" pos="5445000"/>
                <a:tab algn="l" pos="5989680"/>
                <a:tab algn="l" pos="6534000"/>
                <a:tab algn="l" pos="7078680"/>
                <a:tab algn="l" pos="7623000"/>
                <a:tab algn="l" pos="8167680"/>
                <a:tab algn="l" pos="8712360"/>
                <a:tab algn="l" pos="9256680"/>
                <a:tab algn="l" pos="9801360"/>
                <a:tab algn="l" pos="10345680"/>
                <a:tab algn="l" pos="1089036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KOMPARATIVNE PREDNOST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609480" y="762120"/>
            <a:ext cx="4648320" cy="274320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989879"/>
            </a:outerShdw>
          </a:effectLst>
        </p:spPr>
        <p:txBody>
          <a:bodyPr lIns="54360" rIns="54360" tIns="27360" bIns="27360" anchor="t">
            <a:normAutofit/>
          </a:bodyPr>
          <a:p>
            <a:pPr marL="20484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544680"/>
                <a:tab algn="l" pos="1089000"/>
                <a:tab algn="l" pos="1633680"/>
                <a:tab algn="l" pos="2178000"/>
                <a:tab algn="l" pos="2722680"/>
                <a:tab algn="l" pos="3267000"/>
                <a:tab algn="l" pos="3811680"/>
                <a:tab algn="l" pos="4356000"/>
                <a:tab algn="l" pos="4900680"/>
                <a:tab algn="l" pos="5445000"/>
                <a:tab algn="l" pos="5989680"/>
                <a:tab algn="l" pos="6534000"/>
                <a:tab algn="l" pos="7078680"/>
                <a:tab algn="l" pos="7623000"/>
                <a:tab algn="l" pos="8167680"/>
                <a:tab algn="l" pos="8712360"/>
                <a:tab algn="l" pos="9256680"/>
                <a:tab algn="l" pos="9801360"/>
                <a:tab algn="l" pos="10345680"/>
                <a:tab algn="l" pos="108903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Lociran na najatraktivnijem delu priobalja Dunava u Srbiji - pristupačna obala pogodna za industriju, turizam i spor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0484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544680"/>
                <a:tab algn="l" pos="1089000"/>
                <a:tab algn="l" pos="1633680"/>
                <a:tab algn="l" pos="2178000"/>
                <a:tab algn="l" pos="2722680"/>
                <a:tab algn="l" pos="3267000"/>
                <a:tab algn="l" pos="3811680"/>
                <a:tab algn="l" pos="4356000"/>
                <a:tab algn="l" pos="4900680"/>
                <a:tab algn="l" pos="5445000"/>
                <a:tab algn="l" pos="5989680"/>
                <a:tab algn="l" pos="6534000"/>
                <a:tab algn="l" pos="7078680"/>
                <a:tab algn="l" pos="7623000"/>
                <a:tab algn="l" pos="8167680"/>
                <a:tab algn="l" pos="8712360"/>
                <a:tab algn="l" pos="9256680"/>
                <a:tab algn="l" pos="9801360"/>
                <a:tab algn="l" pos="10345680"/>
                <a:tab algn="l" pos="1089036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. Važno infrastrukturno čvorište u Srbiji: tri magistralne saobraćajnice evropskog značaja, plovni put Dunavom, auto put Budimpešta - Beograd - Niš - Solun - Atina i železnička pruga istom tras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0484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544680"/>
                <a:tab algn="l" pos="1089000"/>
                <a:tab algn="l" pos="1633680"/>
                <a:tab algn="l" pos="2178000"/>
                <a:tab algn="l" pos="2722680"/>
                <a:tab algn="l" pos="3267000"/>
                <a:tab algn="l" pos="3811680"/>
                <a:tab algn="l" pos="4356000"/>
                <a:tab algn="l" pos="4900680"/>
                <a:tab algn="l" pos="5445000"/>
                <a:tab algn="l" pos="5989680"/>
                <a:tab algn="l" pos="6534000"/>
                <a:tab algn="l" pos="7078680"/>
                <a:tab algn="l" pos="7623000"/>
                <a:tab algn="l" pos="8167680"/>
                <a:tab algn="l" pos="8712360"/>
                <a:tab algn="l" pos="9256680"/>
                <a:tab algn="l" pos="9801360"/>
                <a:tab algn="l" pos="10345680"/>
                <a:tab algn="l" pos="1089036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3. Značajan turistički potencijal: kulturno-istorijski objekti, banja Palanački Kiseljak, Vodeni centar Jugovo, lovni i tranzitni turiza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0484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544680"/>
                <a:tab algn="l" pos="1089000"/>
                <a:tab algn="l" pos="1633680"/>
                <a:tab algn="l" pos="2178000"/>
                <a:tab algn="l" pos="2722680"/>
                <a:tab algn="l" pos="3267000"/>
                <a:tab algn="l" pos="3811680"/>
                <a:tab algn="l" pos="4356000"/>
                <a:tab algn="l" pos="4900680"/>
                <a:tab algn="l" pos="5445000"/>
                <a:tab algn="l" pos="5989680"/>
                <a:tab algn="l" pos="6534000"/>
                <a:tab algn="l" pos="7078680"/>
                <a:tab algn="l" pos="7623000"/>
                <a:tab algn="l" pos="8167680"/>
                <a:tab algn="l" pos="8712360"/>
                <a:tab algn="l" pos="9256680"/>
                <a:tab algn="l" pos="9801360"/>
                <a:tab algn="l" pos="10345680"/>
                <a:tab algn="l" pos="1089036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4. Veliki kapaciteti prehrambene industrije po osnovu potencijala u primarnoj proizvodnji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0484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544680"/>
                <a:tab algn="l" pos="1089000"/>
                <a:tab algn="l" pos="1633680"/>
                <a:tab algn="l" pos="2178000"/>
                <a:tab algn="l" pos="2722680"/>
                <a:tab algn="l" pos="3267000"/>
                <a:tab algn="l" pos="3811680"/>
                <a:tab algn="l" pos="4356000"/>
                <a:tab algn="l" pos="4900680"/>
                <a:tab algn="l" pos="5445000"/>
                <a:tab algn="l" pos="5989680"/>
                <a:tab algn="l" pos="6534000"/>
                <a:tab algn="l" pos="7078680"/>
                <a:tab algn="l" pos="7623000"/>
                <a:tab algn="l" pos="8167680"/>
                <a:tab algn="l" pos="8712360"/>
                <a:tab algn="l" pos="9256680"/>
                <a:tab algn="l" pos="9801360"/>
                <a:tab algn="l" pos="10345680"/>
                <a:tab algn="l" pos="1089036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5. Institucionalna podrška privrednom razvoju: Slobodna zona, Luka Smederevo, Centar za stočarstvo i Centar za povrtarstv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33520" y="304920"/>
            <a:ext cx="4724280" cy="380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98797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4720" rIns="54720" tIns="27360" bIns="273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44680"/>
                <a:tab algn="l" pos="1089000"/>
                <a:tab algn="l" pos="1633680"/>
                <a:tab algn="l" pos="2178000"/>
                <a:tab algn="l" pos="2722680"/>
                <a:tab algn="l" pos="3267000"/>
                <a:tab algn="l" pos="3811680"/>
                <a:tab algn="l" pos="4356000"/>
                <a:tab algn="l" pos="4900680"/>
                <a:tab algn="l" pos="5445000"/>
                <a:tab algn="l" pos="5989680"/>
                <a:tab algn="l" pos="6534000"/>
                <a:tab algn="l" pos="7078680"/>
                <a:tab algn="l" pos="7623000"/>
                <a:tab algn="l" pos="8167680"/>
                <a:tab algn="l" pos="8712360"/>
                <a:tab algn="l" pos="9256680"/>
                <a:tab algn="l" pos="9801360"/>
                <a:tab algn="l" pos="10345680"/>
                <a:tab algn="l" pos="10890360"/>
              </a:tabLst>
            </a:pPr>
            <a:r>
              <a:rPr b="1" lang="hr-HR" sz="2000" spc="-1" strike="noStrike">
                <a:solidFill>
                  <a:srgbClr val="010000"/>
                </a:solidFill>
                <a:latin typeface="Times New Roman"/>
              </a:rPr>
              <a:t>PREDNOSTI OKRUGA</a:t>
            </a:r>
            <a:r>
              <a:rPr b="0" lang="hr-HR" sz="2600" spc="-1" strike="noStrike" u="sng">
                <a:solidFill>
                  <a:srgbClr val="000000"/>
                </a:solidFill>
                <a:uFillTx/>
                <a:latin typeface="Impact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28760" y="380520"/>
            <a:ext cx="4829040" cy="50004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989879"/>
            </a:outerShdw>
          </a:effectLst>
        </p:spPr>
        <p:txBody>
          <a:bodyPr lIns="54720" rIns="54720" tIns="27360" bIns="273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44680"/>
                <a:tab algn="l" pos="1089000"/>
                <a:tab algn="l" pos="1633680"/>
                <a:tab algn="l" pos="2178000"/>
                <a:tab algn="l" pos="2722680"/>
                <a:tab algn="l" pos="3267000"/>
                <a:tab algn="l" pos="3811680"/>
                <a:tab algn="l" pos="4356000"/>
                <a:tab algn="l" pos="4900680"/>
                <a:tab algn="l" pos="5445000"/>
                <a:tab algn="l" pos="5989680"/>
                <a:tab algn="l" pos="6534000"/>
                <a:tab algn="l" pos="7078680"/>
                <a:tab algn="l" pos="7623000"/>
                <a:tab algn="l" pos="8167680"/>
                <a:tab algn="l" pos="8712360"/>
                <a:tab algn="l" pos="9256680"/>
                <a:tab algn="l" pos="9801360"/>
                <a:tab algn="l" pos="10345680"/>
                <a:tab algn="l" pos="10890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ORITETNI PROGRA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28760" y="1066320"/>
            <a:ext cx="4905360" cy="25146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ffffff"/>
            </a:outerShdw>
          </a:effectLst>
        </p:spPr>
        <p:txBody>
          <a:bodyPr lIns="54360" rIns="54360" tIns="27360" bIns="27360" anchor="t">
            <a:normAutofit/>
          </a:bodyPr>
          <a:p>
            <a:pPr marL="204840" indent="0">
              <a:spcBef>
                <a:spcPts val="451"/>
              </a:spcBef>
              <a:buNone/>
              <a:tabLst>
                <a:tab algn="l" pos="0"/>
                <a:tab algn="l" pos="544680"/>
                <a:tab algn="l" pos="1089000"/>
                <a:tab algn="l" pos="1633680"/>
                <a:tab algn="l" pos="2178000"/>
                <a:tab algn="l" pos="2722680"/>
                <a:tab algn="l" pos="3267000"/>
                <a:tab algn="l" pos="3811680"/>
                <a:tab algn="l" pos="4356000"/>
                <a:tab algn="l" pos="4900680"/>
                <a:tab algn="l" pos="5445000"/>
                <a:tab algn="l" pos="5989680"/>
                <a:tab algn="l" pos="6534000"/>
                <a:tab algn="l" pos="7078680"/>
                <a:tab algn="l" pos="7623000"/>
                <a:tab algn="l" pos="8167680"/>
                <a:tab algn="l" pos="8712360"/>
                <a:tab algn="l" pos="9256680"/>
                <a:tab algn="l" pos="9801360"/>
                <a:tab algn="l" pos="10345680"/>
                <a:tab algn="l" pos="10890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 Premeštanje i izgradnja Luke Smederev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04840" indent="0">
              <a:spcBef>
                <a:spcPts val="451"/>
              </a:spcBef>
              <a:buNone/>
              <a:tabLst>
                <a:tab algn="l" pos="0"/>
                <a:tab algn="l" pos="544680"/>
                <a:tab algn="l" pos="1089000"/>
                <a:tab algn="l" pos="1633680"/>
                <a:tab algn="l" pos="2178000"/>
                <a:tab algn="l" pos="2722680"/>
                <a:tab algn="l" pos="3267000"/>
                <a:tab algn="l" pos="3811680"/>
                <a:tab algn="l" pos="4356000"/>
                <a:tab algn="l" pos="4900680"/>
                <a:tab algn="l" pos="5445000"/>
                <a:tab algn="l" pos="5989680"/>
                <a:tab algn="l" pos="6534000"/>
                <a:tab algn="l" pos="7078680"/>
                <a:tab algn="l" pos="7623000"/>
                <a:tab algn="l" pos="8167680"/>
                <a:tab algn="l" pos="8712360"/>
                <a:tab algn="l" pos="9256680"/>
                <a:tab algn="l" pos="9801360"/>
                <a:tab algn="l" pos="10345680"/>
                <a:tab algn="l" pos="10890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 Restrukturiranje poljoprivrednih preduzeća: Godomin, Voćar i Šumadij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04840" indent="0">
              <a:spcBef>
                <a:spcPts val="451"/>
              </a:spcBef>
              <a:buNone/>
              <a:tabLst>
                <a:tab algn="l" pos="0"/>
                <a:tab algn="l" pos="544680"/>
                <a:tab algn="l" pos="1089000"/>
                <a:tab algn="l" pos="1633680"/>
                <a:tab algn="l" pos="2178000"/>
                <a:tab algn="l" pos="2722680"/>
                <a:tab algn="l" pos="3267000"/>
                <a:tab algn="l" pos="3811680"/>
                <a:tab algn="l" pos="4356000"/>
                <a:tab algn="l" pos="4900680"/>
                <a:tab algn="l" pos="5445000"/>
                <a:tab algn="l" pos="5989680"/>
                <a:tab algn="l" pos="6534000"/>
                <a:tab algn="l" pos="7078680"/>
                <a:tab algn="l" pos="7623000"/>
                <a:tab algn="l" pos="8167680"/>
                <a:tab algn="l" pos="8712360"/>
                <a:tab algn="l" pos="9256680"/>
                <a:tab algn="l" pos="9801360"/>
                <a:tab algn="l" pos="10345680"/>
                <a:tab algn="l" pos="10890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. Revitalizacija turističkog komplek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04840" indent="0">
              <a:spcBef>
                <a:spcPts val="451"/>
              </a:spcBef>
              <a:buNone/>
              <a:tabLst>
                <a:tab algn="l" pos="0"/>
                <a:tab algn="l" pos="544680"/>
                <a:tab algn="l" pos="1089000"/>
                <a:tab algn="l" pos="1633680"/>
                <a:tab algn="l" pos="2178000"/>
                <a:tab algn="l" pos="2722680"/>
                <a:tab algn="l" pos="3267000"/>
                <a:tab algn="l" pos="3811680"/>
                <a:tab algn="l" pos="4356000"/>
                <a:tab algn="l" pos="4900680"/>
                <a:tab algn="l" pos="5445000"/>
                <a:tab algn="l" pos="5989680"/>
                <a:tab algn="l" pos="6534000"/>
                <a:tab algn="l" pos="7078680"/>
                <a:tab algn="l" pos="7623000"/>
                <a:tab algn="l" pos="8167680"/>
                <a:tab algn="l" pos="8712360"/>
                <a:tab algn="l" pos="9256680"/>
                <a:tab algn="l" pos="9801360"/>
                <a:tab algn="l" pos="10345680"/>
                <a:tab algn="l" pos="10890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. Sanacija i izgradnja infrastrukture Slobodne zone Smederev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04840" indent="0">
              <a:spcBef>
                <a:spcPts val="451"/>
              </a:spcBef>
              <a:buNone/>
              <a:tabLst>
                <a:tab algn="l" pos="0"/>
                <a:tab algn="l" pos="544680"/>
                <a:tab algn="l" pos="1089000"/>
                <a:tab algn="l" pos="1633680"/>
                <a:tab algn="l" pos="2178000"/>
                <a:tab algn="l" pos="2722680"/>
                <a:tab algn="l" pos="3267000"/>
                <a:tab algn="l" pos="3811680"/>
                <a:tab algn="l" pos="4356000"/>
                <a:tab algn="l" pos="4900680"/>
                <a:tab algn="l" pos="5445000"/>
                <a:tab algn="l" pos="5989680"/>
                <a:tab algn="l" pos="6534000"/>
                <a:tab algn="l" pos="7078680"/>
                <a:tab algn="l" pos="7623000"/>
                <a:tab algn="l" pos="8167680"/>
                <a:tab algn="l" pos="8712360"/>
                <a:tab algn="l" pos="9256680"/>
                <a:tab algn="l" pos="9801360"/>
                <a:tab algn="l" pos="10345680"/>
                <a:tab algn="l" pos="10890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5. Sanacija sistema vodosnabdevanja i izgradnja instalacija za preradu otpadnih vo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971440" y="228600"/>
            <a:ext cx="2514600" cy="838080"/>
          </a:xfrm>
          <a:prstGeom prst="rect">
            <a:avLst/>
          </a:prstGeom>
          <a:noFill/>
          <a:ln w="0">
            <a:noFill/>
          </a:ln>
        </p:spPr>
        <p:txBody>
          <a:bodyPr lIns="54720" rIns="54720" tIns="27360" bIns="2736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544680"/>
                <a:tab algn="l" pos="1089000"/>
                <a:tab algn="l" pos="1633680"/>
                <a:tab algn="l" pos="2178000"/>
                <a:tab algn="l" pos="2722680"/>
                <a:tab algn="l" pos="3267000"/>
                <a:tab algn="l" pos="3811680"/>
                <a:tab algn="l" pos="4356000"/>
                <a:tab algn="l" pos="4900680"/>
                <a:tab algn="l" pos="5445000"/>
                <a:tab algn="l" pos="5989680"/>
                <a:tab algn="l" pos="6534000"/>
                <a:tab algn="l" pos="7078680"/>
                <a:tab algn="l" pos="7623000"/>
                <a:tab algn="l" pos="8167680"/>
                <a:tab algn="l" pos="8712360"/>
                <a:tab algn="l" pos="9256680"/>
                <a:tab algn="l" pos="9801360"/>
                <a:tab algn="l" pos="10345680"/>
                <a:tab algn="l" pos="10890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PODUNAVSKI OKRU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676520" y="1600200"/>
            <a:ext cx="380880" cy="2286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533520" y="457200"/>
          <a:ext cx="2286000" cy="304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457200"/>
                    <a:ext cx="2286000" cy="3048120"/>
                  </a:xfrm>
                  <a:prstGeom prst="rect">
                    <a:avLst/>
                  </a:prstGeom>
                  <a:ln w="12600">
                    <a:solidFill>
                      <a:srgbClr val="0033cc"/>
                    </a:solidFill>
                    <a:miter/>
                  </a:ln>
                  <a:effectLst>
                    <a:outerShdw dist="107932" dir="13500000" blurRad="0" rotWithShape="0">
                      <a:srgbClr val="3399ff"/>
                    </a:outerShdw>
                  </a:effectLst>
                </p:spPr>
              </p:pic>
            </p:oleObj>
          </a:graphicData>
        </a:graphic>
      </p:graphicFrame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200400" y="1219320"/>
            <a:ext cx="2286000" cy="2209680"/>
          </a:xfrm>
          <a:prstGeom prst="rect">
            <a:avLst/>
          </a:prstGeom>
          <a:noFill/>
          <a:ln w="0">
            <a:noFill/>
          </a:ln>
        </p:spPr>
        <p:txBody>
          <a:bodyPr lIns="54360" rIns="54360" tIns="27360" bIns="27360" anchor="t">
            <a:normAutofit/>
          </a:bodyPr>
          <a:p>
            <a:pPr marL="204840" indent="-204840">
              <a:spcBef>
                <a:spcPts val="451"/>
              </a:spcBef>
              <a:buClr>
                <a:srgbClr val="0033cc"/>
              </a:buClr>
              <a:buSzPct val="80000"/>
              <a:buFont typeface="Monotype Sorts" charset="2"/>
              <a:buChar char=""/>
              <a:tabLst>
                <a:tab algn="l" pos="544680"/>
                <a:tab algn="l" pos="1089000"/>
                <a:tab algn="l" pos="1633680"/>
                <a:tab algn="l" pos="2178000"/>
                <a:tab algn="l" pos="2722680"/>
                <a:tab algn="l" pos="3267000"/>
                <a:tab algn="l" pos="3811680"/>
                <a:tab algn="l" pos="4356000"/>
                <a:tab algn="l" pos="4900680"/>
                <a:tab algn="l" pos="5445000"/>
                <a:tab algn="l" pos="5989680"/>
                <a:tab algn="l" pos="6534000"/>
                <a:tab algn="l" pos="7078680"/>
                <a:tab algn="l" pos="7623000"/>
                <a:tab algn="l" pos="8167680"/>
                <a:tab algn="l" pos="8712360"/>
                <a:tab algn="l" pos="9256680"/>
                <a:tab algn="l" pos="9801360"/>
                <a:tab algn="l" pos="10345680"/>
                <a:tab algn="l" pos="10890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ovr</a:t>
            </a: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šina 1.245 km</a:t>
            </a:r>
            <a:r>
              <a:rPr b="1" lang="sl-SI" sz="1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04840" indent="-204840">
              <a:spcBef>
                <a:spcPts val="451"/>
              </a:spcBef>
              <a:buClr>
                <a:srgbClr val="0033cc"/>
              </a:buClr>
              <a:buSzPct val="80000"/>
              <a:buFont typeface="Monotype Sorts" charset="2"/>
              <a:buChar char=""/>
              <a:tabLst>
                <a:tab algn="l" pos="544680"/>
                <a:tab algn="l" pos="1089000"/>
                <a:tab algn="l" pos="1633680"/>
                <a:tab algn="l" pos="2178000"/>
                <a:tab algn="l" pos="2722680"/>
                <a:tab algn="l" pos="3267000"/>
                <a:tab algn="l" pos="3811680"/>
                <a:tab algn="l" pos="4356000"/>
                <a:tab algn="l" pos="4900680"/>
                <a:tab algn="l" pos="5445000"/>
                <a:tab algn="l" pos="5989680"/>
                <a:tab algn="l" pos="6534000"/>
                <a:tab algn="l" pos="7078680"/>
                <a:tab algn="l" pos="7623000"/>
                <a:tab algn="l" pos="8167680"/>
                <a:tab algn="l" pos="8712360"/>
                <a:tab algn="l" pos="9256680"/>
                <a:tab algn="l" pos="9801360"/>
                <a:tab algn="l" pos="10345680"/>
                <a:tab algn="l" pos="10890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50.000 stanovnik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04840" indent="-204840">
              <a:spcBef>
                <a:spcPts val="451"/>
              </a:spcBef>
              <a:buClr>
                <a:srgbClr val="0033cc"/>
              </a:buClr>
              <a:buSzPct val="80000"/>
              <a:buFont typeface="Monotype Sorts" charset="2"/>
              <a:buChar char=""/>
              <a:tabLst>
                <a:tab algn="l" pos="544680"/>
                <a:tab algn="l" pos="1089000"/>
                <a:tab algn="l" pos="1633680"/>
                <a:tab algn="l" pos="2178000"/>
                <a:tab algn="l" pos="2722680"/>
                <a:tab algn="l" pos="3267000"/>
                <a:tab algn="l" pos="3811680"/>
                <a:tab algn="l" pos="4356000"/>
                <a:tab algn="l" pos="4900680"/>
                <a:tab algn="l" pos="5445000"/>
                <a:tab algn="l" pos="5989680"/>
                <a:tab algn="l" pos="6534000"/>
                <a:tab algn="l" pos="7078680"/>
                <a:tab algn="l" pos="7623000"/>
                <a:tab algn="l" pos="8167680"/>
                <a:tab algn="l" pos="8712360"/>
                <a:tab algn="l" pos="9256680"/>
                <a:tab algn="l" pos="9801360"/>
                <a:tab algn="l" pos="10345680"/>
                <a:tab algn="l" pos="10890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oljoprivredno zemljište - 8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04840" indent="-204840">
              <a:spcBef>
                <a:spcPts val="451"/>
              </a:spcBef>
              <a:buClr>
                <a:srgbClr val="0033cc"/>
              </a:buClr>
              <a:buSzPct val="80000"/>
              <a:buFont typeface="Monotype Sorts" charset="2"/>
              <a:buChar char=""/>
              <a:tabLst>
                <a:tab algn="l" pos="544680"/>
                <a:tab algn="l" pos="1089000"/>
                <a:tab algn="l" pos="1633680"/>
                <a:tab algn="l" pos="2178000"/>
                <a:tab algn="l" pos="2722680"/>
                <a:tab algn="l" pos="3267000"/>
                <a:tab algn="l" pos="3811680"/>
                <a:tab algn="l" pos="4356000"/>
                <a:tab algn="l" pos="4900680"/>
                <a:tab algn="l" pos="5445000"/>
                <a:tab algn="l" pos="5989680"/>
                <a:tab algn="l" pos="6534000"/>
                <a:tab algn="l" pos="7078680"/>
                <a:tab algn="l" pos="7623000"/>
                <a:tab algn="l" pos="8167680"/>
                <a:tab algn="l" pos="8712360"/>
                <a:tab algn="l" pos="9256680"/>
                <a:tab algn="l" pos="9801360"/>
                <a:tab algn="l" pos="10345680"/>
                <a:tab algn="l" pos="10890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eke: Dunav, Morava, Jasenica, Ralja, Jezava, Rač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3505320"/>
            <a:ext cx="2666880" cy="0"/>
          </a:xfrm>
          <a:prstGeom prst="line">
            <a:avLst/>
          </a:prstGeom>
          <a:ln w="1260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2362320" cy="500040"/>
          </a:xfrm>
          <a:prstGeom prst="rect">
            <a:avLst/>
          </a:prstGeom>
          <a:noFill/>
          <a:ln w="0">
            <a:noFill/>
          </a:ln>
        </p:spPr>
        <p:txBody>
          <a:bodyPr lIns="54720" rIns="54720" tIns="27360" bIns="273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44680"/>
                <a:tab algn="l" pos="1089000"/>
                <a:tab algn="l" pos="1633680"/>
                <a:tab algn="l" pos="2178000"/>
                <a:tab algn="l" pos="2722680"/>
                <a:tab algn="l" pos="3267000"/>
                <a:tab algn="l" pos="3811680"/>
                <a:tab algn="l" pos="4356000"/>
                <a:tab algn="l" pos="4900680"/>
                <a:tab algn="l" pos="5445000"/>
                <a:tab algn="l" pos="5989680"/>
                <a:tab algn="l" pos="6534000"/>
                <a:tab algn="l" pos="7078680"/>
                <a:tab algn="l" pos="7623000"/>
                <a:tab algn="l" pos="8167680"/>
                <a:tab algn="l" pos="8712360"/>
                <a:tab algn="l" pos="9256680"/>
                <a:tab algn="l" pos="9801360"/>
                <a:tab algn="l" pos="10345680"/>
                <a:tab algn="l" pos="10890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SMEDEREV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895120" y="337680"/>
            <a:ext cx="2514600" cy="3243240"/>
          </a:xfrm>
          <a:prstGeom prst="rect">
            <a:avLst/>
          </a:prstGeom>
          <a:noFill/>
          <a:ln w="0">
            <a:noFill/>
          </a:ln>
        </p:spPr>
        <p:txBody>
          <a:bodyPr lIns="54360" rIns="54360" tIns="27360" bIns="27360" anchor="t">
            <a:normAutofit fontScale="99000"/>
          </a:bodyPr>
          <a:p>
            <a:pPr marL="202680" indent="-202680">
              <a:spcBef>
                <a:spcPts val="34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544680"/>
                <a:tab algn="l" pos="1089000"/>
                <a:tab algn="l" pos="1633680"/>
                <a:tab algn="l" pos="2178000"/>
                <a:tab algn="l" pos="2722680"/>
                <a:tab algn="l" pos="3267000"/>
                <a:tab algn="l" pos="3811680"/>
                <a:tab algn="l" pos="4356000"/>
                <a:tab algn="l" pos="4900680"/>
                <a:tab algn="l" pos="5445000"/>
                <a:tab algn="l" pos="5989680"/>
                <a:tab algn="l" pos="6534000"/>
                <a:tab algn="l" pos="7078680"/>
                <a:tab algn="l" pos="7623000"/>
                <a:tab algn="l" pos="8167680"/>
                <a:tab algn="l" pos="8712360"/>
                <a:tab algn="l" pos="9256680"/>
                <a:tab algn="l" pos="9801360"/>
                <a:tab algn="l" pos="10345680"/>
                <a:tab algn="l" pos="1089036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0" lang="hr-HR" sz="1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 se na spoju dva velika re</a:t>
            </a:r>
            <a:r>
              <a:rPr b="0" lang="hr-HR" sz="14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a toka</a:t>
            </a:r>
            <a:r>
              <a:rPr b="0" lang="hr-HR" sz="1400" spc="-1" strike="noStrike">
                <a:solidFill>
                  <a:srgbClr val="000000"/>
                </a:solidFill>
                <a:latin typeface="Times New Roman"/>
              </a:rPr>
              <a:t>: Dunava i Velike Mora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02680" indent="-202680">
              <a:spcBef>
                <a:spcPts val="34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544680"/>
                <a:tab algn="l" pos="1089000"/>
                <a:tab algn="l" pos="1633680"/>
                <a:tab algn="l" pos="2178000"/>
                <a:tab algn="l" pos="2722680"/>
                <a:tab algn="l" pos="3267000"/>
                <a:tab algn="l" pos="3811680"/>
                <a:tab algn="l" pos="4356000"/>
                <a:tab algn="l" pos="4900680"/>
                <a:tab algn="l" pos="5445000"/>
                <a:tab algn="l" pos="5989680"/>
                <a:tab algn="l" pos="6534000"/>
                <a:tab algn="l" pos="7078680"/>
                <a:tab algn="l" pos="7623000"/>
                <a:tab algn="l" pos="8167680"/>
                <a:tab algn="l" pos="8712360"/>
                <a:tab algn="l" pos="9256680"/>
                <a:tab algn="l" pos="9801360"/>
                <a:tab algn="l" pos="10345680"/>
                <a:tab algn="l" pos="1089036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Times New Roman"/>
              </a:rPr>
              <a:t>oko 140.000 stanovnika (15,4% poljoprivrednog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02680" indent="-202680">
              <a:spcBef>
                <a:spcPts val="34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544680"/>
                <a:tab algn="l" pos="1089000"/>
                <a:tab algn="l" pos="1633680"/>
                <a:tab algn="l" pos="2178000"/>
                <a:tab algn="l" pos="2722680"/>
                <a:tab algn="l" pos="3267000"/>
                <a:tab algn="l" pos="3811680"/>
                <a:tab algn="l" pos="4356000"/>
                <a:tab algn="l" pos="4900680"/>
                <a:tab algn="l" pos="5445000"/>
                <a:tab algn="l" pos="5989680"/>
                <a:tab algn="l" pos="6534000"/>
                <a:tab algn="l" pos="7078680"/>
                <a:tab algn="l" pos="7623000"/>
                <a:tab algn="l" pos="8167680"/>
                <a:tab algn="l" pos="8712360"/>
                <a:tab algn="l" pos="9256680"/>
                <a:tab algn="l" pos="9801360"/>
                <a:tab algn="l" pos="10345680"/>
                <a:tab algn="l" pos="1089036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Times New Roman"/>
              </a:rPr>
              <a:t>površina teritorije opštine - 481,76 km</a:t>
            </a:r>
            <a:r>
              <a:rPr b="0" lang="hr-HR" sz="1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02680" indent="-202680">
              <a:spcBef>
                <a:spcPts val="34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544680"/>
                <a:tab algn="l" pos="1089000"/>
                <a:tab algn="l" pos="1633680"/>
                <a:tab algn="l" pos="2178000"/>
                <a:tab algn="l" pos="2722680"/>
                <a:tab algn="l" pos="3267000"/>
                <a:tab algn="l" pos="3811680"/>
                <a:tab algn="l" pos="4356000"/>
                <a:tab algn="l" pos="4900680"/>
                <a:tab algn="l" pos="5445000"/>
                <a:tab algn="l" pos="5989680"/>
                <a:tab algn="l" pos="6534000"/>
                <a:tab algn="l" pos="7078680"/>
                <a:tab algn="l" pos="7623000"/>
                <a:tab algn="l" pos="8167680"/>
                <a:tab algn="l" pos="8712360"/>
                <a:tab algn="l" pos="9256680"/>
                <a:tab algn="l" pos="9801360"/>
                <a:tab algn="l" pos="10345680"/>
                <a:tab algn="l" pos="1089036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Times New Roman"/>
              </a:rPr>
              <a:t>prostire se u pravcu istok - zapad u dužini od 33 k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sa maksimalnom </a:t>
            </a:r>
            <a:r>
              <a:rPr b="0" lang="hr-HR" sz="1400" spc="-1" strike="noStrike">
                <a:solidFill>
                  <a:srgbClr val="000000"/>
                </a:solidFill>
                <a:latin typeface="Times New Roman"/>
              </a:rPr>
              <a:t>š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rinom od 29 k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02680" indent="-202680">
              <a:spcBef>
                <a:spcPts val="34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544680"/>
                <a:tab algn="l" pos="1089000"/>
                <a:tab algn="l" pos="1633680"/>
                <a:tab algn="l" pos="2178000"/>
                <a:tab algn="l" pos="2722680"/>
                <a:tab algn="l" pos="3267000"/>
                <a:tab algn="l" pos="3811680"/>
                <a:tab algn="l" pos="4356000"/>
                <a:tab algn="l" pos="4900680"/>
                <a:tab algn="l" pos="5445000"/>
                <a:tab algn="l" pos="5989680"/>
                <a:tab algn="l" pos="6534000"/>
                <a:tab algn="l" pos="7078680"/>
                <a:tab algn="l" pos="7623000"/>
                <a:tab algn="l" pos="8167680"/>
                <a:tab algn="l" pos="8712360"/>
                <a:tab algn="l" pos="9256680"/>
                <a:tab algn="l" pos="9801360"/>
                <a:tab algn="l" pos="10345680"/>
                <a:tab algn="l" pos="1089036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Times New Roman"/>
              </a:rPr>
              <a:t>poljoprivredno zemljište 81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02680" indent="-202680">
              <a:spcBef>
                <a:spcPts val="34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544680"/>
                <a:tab algn="l" pos="1089000"/>
                <a:tab algn="l" pos="1633680"/>
                <a:tab algn="l" pos="2178000"/>
                <a:tab algn="l" pos="2722680"/>
                <a:tab algn="l" pos="3267000"/>
                <a:tab algn="l" pos="3811680"/>
                <a:tab algn="l" pos="4356000"/>
                <a:tab algn="l" pos="4900680"/>
                <a:tab algn="l" pos="5445000"/>
                <a:tab algn="l" pos="5989680"/>
                <a:tab algn="l" pos="6534000"/>
                <a:tab algn="l" pos="7078680"/>
                <a:tab algn="l" pos="7623000"/>
                <a:tab algn="l" pos="8167680"/>
                <a:tab algn="l" pos="8712360"/>
                <a:tab algn="l" pos="9256680"/>
                <a:tab algn="l" pos="9801360"/>
                <a:tab algn="l" pos="10345680"/>
                <a:tab algn="l" pos="1089036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Times New Roman"/>
              </a:rPr>
              <a:t>ravničarska / brdska teritorija - 45% : 55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457200" y="990720"/>
          <a:ext cx="1981080" cy="250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990720"/>
                    <a:ext cx="1981080" cy="2504880"/>
                  </a:xfrm>
                  <a:prstGeom prst="rect">
                    <a:avLst/>
                  </a:prstGeom>
                  <a:ln w="12600">
                    <a:solidFill>
                      <a:srgbClr val="0033cc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880" y="338040"/>
            <a:ext cx="4905360" cy="635040"/>
          </a:xfrm>
          <a:prstGeom prst="rect">
            <a:avLst/>
          </a:prstGeom>
          <a:noFill/>
          <a:ln w="0">
            <a:noFill/>
          </a:ln>
        </p:spPr>
        <p:txBody>
          <a:bodyPr lIns="54720" rIns="54720" tIns="27360" bIns="273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44680"/>
                <a:tab algn="l" pos="1089000"/>
                <a:tab algn="l" pos="1633680"/>
                <a:tab algn="l" pos="2178000"/>
                <a:tab algn="l" pos="2722680"/>
                <a:tab algn="l" pos="3267000"/>
                <a:tab algn="l" pos="3811680"/>
                <a:tab algn="l" pos="4356000"/>
                <a:tab algn="l" pos="4900680"/>
                <a:tab algn="l" pos="5445000"/>
                <a:tab algn="l" pos="5989680"/>
                <a:tab algn="l" pos="6534000"/>
                <a:tab algn="l" pos="7078680"/>
                <a:tab algn="l" pos="7623000"/>
                <a:tab algn="l" pos="8167680"/>
                <a:tab algn="l" pos="8712360"/>
                <a:tab algn="l" pos="9256680"/>
                <a:tab algn="l" pos="9801360"/>
                <a:tab algn="l" pos="10345680"/>
                <a:tab algn="l" pos="10890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SMEDEREVSKA PALANK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743200" y="1100160"/>
            <a:ext cx="2543040" cy="2286000"/>
          </a:xfrm>
          <a:prstGeom prst="rect">
            <a:avLst/>
          </a:prstGeom>
          <a:noFill/>
          <a:ln w="0">
            <a:noFill/>
          </a:ln>
        </p:spPr>
        <p:txBody>
          <a:bodyPr lIns="54360" rIns="54360" tIns="27360" bIns="27360" anchor="t">
            <a:normAutofit/>
          </a:bodyPr>
          <a:p>
            <a:pPr marL="204840" indent="-204840"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544680"/>
                <a:tab algn="l" pos="1089000"/>
                <a:tab algn="l" pos="1633680"/>
                <a:tab algn="l" pos="2178000"/>
                <a:tab algn="l" pos="2722680"/>
                <a:tab algn="l" pos="3267000"/>
                <a:tab algn="l" pos="3811680"/>
                <a:tab algn="l" pos="4356000"/>
                <a:tab algn="l" pos="4900680"/>
                <a:tab algn="l" pos="5445000"/>
                <a:tab algn="l" pos="5989680"/>
                <a:tab algn="l" pos="6534000"/>
                <a:tab algn="l" pos="7078680"/>
                <a:tab algn="l" pos="7623000"/>
                <a:tab algn="l" pos="8167680"/>
                <a:tab algn="l" pos="8712360"/>
                <a:tab algn="l" pos="9256680"/>
                <a:tab algn="l" pos="9801360"/>
                <a:tab algn="l" pos="10345680"/>
                <a:tab algn="l" pos="1089036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Times New Roman"/>
              </a:rPr>
              <a:t>oko 60.000 stanovnika (58% poljoprivredno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04840" indent="-204840"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544680"/>
                <a:tab algn="l" pos="1089000"/>
                <a:tab algn="l" pos="1633680"/>
                <a:tab algn="l" pos="2178000"/>
                <a:tab algn="l" pos="2722680"/>
                <a:tab algn="l" pos="3267000"/>
                <a:tab algn="l" pos="3811680"/>
                <a:tab algn="l" pos="4356000"/>
                <a:tab algn="l" pos="4900680"/>
                <a:tab algn="l" pos="5445000"/>
                <a:tab algn="l" pos="5989680"/>
                <a:tab algn="l" pos="6534000"/>
                <a:tab algn="l" pos="7078680"/>
                <a:tab algn="l" pos="7623000"/>
                <a:tab algn="l" pos="8167680"/>
                <a:tab algn="l" pos="8712360"/>
                <a:tab algn="l" pos="9256680"/>
                <a:tab algn="l" pos="9801360"/>
                <a:tab algn="l" pos="10345680"/>
                <a:tab algn="l" pos="1089036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Times New Roman"/>
              </a:rPr>
              <a:t>površina teritorije opštine - 422 km</a:t>
            </a:r>
            <a:r>
              <a:rPr b="0" lang="hr-HR" sz="1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04840" indent="-204840"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544680"/>
                <a:tab algn="l" pos="1089000"/>
                <a:tab algn="l" pos="1633680"/>
                <a:tab algn="l" pos="2178000"/>
                <a:tab algn="l" pos="2722680"/>
                <a:tab algn="l" pos="3267000"/>
                <a:tab algn="l" pos="3811680"/>
                <a:tab algn="l" pos="4356000"/>
                <a:tab algn="l" pos="4900680"/>
                <a:tab algn="l" pos="5445000"/>
                <a:tab algn="l" pos="5989680"/>
                <a:tab algn="l" pos="6534000"/>
                <a:tab algn="l" pos="7078680"/>
                <a:tab algn="l" pos="7623000"/>
                <a:tab algn="l" pos="8167680"/>
                <a:tab algn="l" pos="8712360"/>
                <a:tab algn="l" pos="9256680"/>
                <a:tab algn="l" pos="9801360"/>
                <a:tab algn="l" pos="10345680"/>
                <a:tab algn="l" pos="1089036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Times New Roman"/>
              </a:rPr>
              <a:t>poljoprivredno zemljište 86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04840" indent="-204840"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544680"/>
                <a:tab algn="l" pos="1089000"/>
                <a:tab algn="l" pos="1633680"/>
                <a:tab algn="l" pos="2178000"/>
                <a:tab algn="l" pos="2722680"/>
                <a:tab algn="l" pos="3267000"/>
                <a:tab algn="l" pos="3811680"/>
                <a:tab algn="l" pos="4356000"/>
                <a:tab algn="l" pos="4900680"/>
                <a:tab algn="l" pos="5445000"/>
                <a:tab algn="l" pos="5989680"/>
                <a:tab algn="l" pos="6534000"/>
                <a:tab algn="l" pos="7078680"/>
                <a:tab algn="l" pos="7623000"/>
                <a:tab algn="l" pos="8167680"/>
                <a:tab algn="l" pos="8712360"/>
                <a:tab algn="l" pos="9256680"/>
                <a:tab algn="l" pos="9801360"/>
                <a:tab algn="l" pos="10345680"/>
                <a:tab algn="l" pos="1089036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Times New Roman"/>
              </a:rPr>
              <a:t>ravničarska / brdska teritorija - 90% : 10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990720"/>
          <a:ext cx="1981080" cy="243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990720"/>
                    <a:ext cx="1981080" cy="2438280"/>
                  </a:xfrm>
                  <a:prstGeom prst="rect">
                    <a:avLst/>
                  </a:prstGeom>
                  <a:ln w="12600">
                    <a:solidFill>
                      <a:srgbClr val="0033cc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338040"/>
            <a:ext cx="4905360" cy="635040"/>
          </a:xfrm>
          <a:prstGeom prst="rect">
            <a:avLst/>
          </a:prstGeom>
          <a:noFill/>
          <a:ln w="0">
            <a:noFill/>
          </a:ln>
        </p:spPr>
        <p:txBody>
          <a:bodyPr lIns="54720" rIns="54720" tIns="27360" bIns="273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44680"/>
                <a:tab algn="l" pos="1089000"/>
                <a:tab algn="l" pos="1633680"/>
                <a:tab algn="l" pos="2178000"/>
                <a:tab algn="l" pos="2722680"/>
                <a:tab algn="l" pos="3267000"/>
                <a:tab algn="l" pos="3811680"/>
                <a:tab algn="l" pos="4356000"/>
                <a:tab algn="l" pos="4900680"/>
                <a:tab algn="l" pos="5445000"/>
                <a:tab algn="l" pos="5989680"/>
                <a:tab algn="l" pos="6534000"/>
                <a:tab algn="l" pos="7078680"/>
                <a:tab algn="l" pos="7623000"/>
                <a:tab algn="l" pos="8167680"/>
                <a:tab algn="l" pos="8712360"/>
                <a:tab algn="l" pos="9256680"/>
                <a:tab algn="l" pos="9801360"/>
                <a:tab algn="l" pos="10345680"/>
                <a:tab algn="l" pos="10890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VELIKA PLAN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7760" y="1100160"/>
            <a:ext cx="2361960" cy="2286000"/>
          </a:xfrm>
          <a:prstGeom prst="rect">
            <a:avLst/>
          </a:prstGeom>
          <a:noFill/>
          <a:ln w="0">
            <a:noFill/>
          </a:ln>
        </p:spPr>
        <p:txBody>
          <a:bodyPr lIns="54360" rIns="54360" tIns="27360" bIns="27360" anchor="t">
            <a:normAutofit/>
          </a:bodyPr>
          <a:p>
            <a:pPr marL="204840" indent="-204840"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544680"/>
                <a:tab algn="l" pos="1089000"/>
                <a:tab algn="l" pos="1633680"/>
                <a:tab algn="l" pos="2178000"/>
                <a:tab algn="l" pos="2722680"/>
                <a:tab algn="l" pos="3267000"/>
                <a:tab algn="l" pos="3811680"/>
                <a:tab algn="l" pos="4356000"/>
                <a:tab algn="l" pos="4900680"/>
                <a:tab algn="l" pos="5445000"/>
                <a:tab algn="l" pos="5989680"/>
                <a:tab algn="l" pos="6534000"/>
                <a:tab algn="l" pos="7078680"/>
                <a:tab algn="l" pos="7623000"/>
                <a:tab algn="l" pos="8167680"/>
                <a:tab algn="l" pos="8712360"/>
                <a:tab algn="l" pos="9256680"/>
                <a:tab algn="l" pos="9801360"/>
                <a:tab algn="l" pos="10345680"/>
                <a:tab algn="l" pos="1089036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Times New Roman"/>
              </a:rPr>
              <a:t>51.150 stanovnika (35% poljoprivredno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04840" indent="-204840"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544680"/>
                <a:tab algn="l" pos="1089000"/>
                <a:tab algn="l" pos="1633680"/>
                <a:tab algn="l" pos="2178000"/>
                <a:tab algn="l" pos="2722680"/>
                <a:tab algn="l" pos="3267000"/>
                <a:tab algn="l" pos="3811680"/>
                <a:tab algn="l" pos="4356000"/>
                <a:tab algn="l" pos="4900680"/>
                <a:tab algn="l" pos="5445000"/>
                <a:tab algn="l" pos="5989680"/>
                <a:tab algn="l" pos="6534000"/>
                <a:tab algn="l" pos="7078680"/>
                <a:tab algn="l" pos="7623000"/>
                <a:tab algn="l" pos="8167680"/>
                <a:tab algn="l" pos="8712360"/>
                <a:tab algn="l" pos="9256680"/>
                <a:tab algn="l" pos="9801360"/>
                <a:tab algn="l" pos="10345680"/>
                <a:tab algn="l" pos="1089036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Times New Roman"/>
              </a:rPr>
              <a:t>površina teritorije opštine - 343 km</a:t>
            </a:r>
            <a:r>
              <a:rPr b="0" lang="hr-HR" sz="1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04840" indent="-204840"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544680"/>
                <a:tab algn="l" pos="1089000"/>
                <a:tab algn="l" pos="1633680"/>
                <a:tab algn="l" pos="2178000"/>
                <a:tab algn="l" pos="2722680"/>
                <a:tab algn="l" pos="3267000"/>
                <a:tab algn="l" pos="3811680"/>
                <a:tab algn="l" pos="4356000"/>
                <a:tab algn="l" pos="4900680"/>
                <a:tab algn="l" pos="5445000"/>
                <a:tab algn="l" pos="5989680"/>
                <a:tab algn="l" pos="6534000"/>
                <a:tab algn="l" pos="7078680"/>
                <a:tab algn="l" pos="7623000"/>
                <a:tab algn="l" pos="8167680"/>
                <a:tab algn="l" pos="8712360"/>
                <a:tab algn="l" pos="9256680"/>
                <a:tab algn="l" pos="9801360"/>
                <a:tab algn="l" pos="10345680"/>
                <a:tab algn="l" pos="1089036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Times New Roman"/>
              </a:rPr>
              <a:t>poljoprivredno zemljište 75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04840" indent="-204840"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544680"/>
                <a:tab algn="l" pos="1089000"/>
                <a:tab algn="l" pos="1633680"/>
                <a:tab algn="l" pos="2178000"/>
                <a:tab algn="l" pos="2722680"/>
                <a:tab algn="l" pos="3267000"/>
                <a:tab algn="l" pos="3811680"/>
                <a:tab algn="l" pos="4356000"/>
                <a:tab algn="l" pos="4900680"/>
                <a:tab algn="l" pos="5445000"/>
                <a:tab algn="l" pos="5989680"/>
                <a:tab algn="l" pos="6534000"/>
                <a:tab algn="l" pos="7078680"/>
                <a:tab algn="l" pos="7623000"/>
                <a:tab algn="l" pos="8167680"/>
                <a:tab algn="l" pos="8712360"/>
                <a:tab algn="l" pos="9256680"/>
                <a:tab algn="l" pos="9801360"/>
                <a:tab algn="l" pos="10345680"/>
                <a:tab algn="l" pos="1089036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Times New Roman"/>
              </a:rPr>
              <a:t>ravničarska / brdska teritorija - 70% : 30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7200" y="990720"/>
          <a:ext cx="2133720" cy="243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990720"/>
                    <a:ext cx="2133720" cy="2438280"/>
                  </a:xfrm>
                  <a:prstGeom prst="rect">
                    <a:avLst/>
                  </a:prstGeom>
                  <a:ln w="12600">
                    <a:solidFill>
                      <a:srgbClr val="0033cc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28400" y="338040"/>
            <a:ext cx="4857480" cy="424080"/>
          </a:xfrm>
          <a:prstGeom prst="rect">
            <a:avLst/>
          </a:prstGeom>
          <a:noFill/>
          <a:ln w="0">
            <a:noFill/>
          </a:ln>
        </p:spPr>
        <p:txBody>
          <a:bodyPr lIns="54720" rIns="54720" tIns="27360" bIns="273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44680"/>
                <a:tab algn="l" pos="1089000"/>
                <a:tab algn="l" pos="1633680"/>
                <a:tab algn="l" pos="2178000"/>
                <a:tab algn="l" pos="2722680"/>
                <a:tab algn="l" pos="3267000"/>
                <a:tab algn="l" pos="3811680"/>
                <a:tab algn="l" pos="4356000"/>
                <a:tab algn="l" pos="4900680"/>
                <a:tab algn="l" pos="5445000"/>
                <a:tab algn="l" pos="5989680"/>
                <a:tab algn="l" pos="6534000"/>
                <a:tab algn="l" pos="7078680"/>
                <a:tab algn="l" pos="7623000"/>
                <a:tab algn="l" pos="8167680"/>
                <a:tab algn="l" pos="8712360"/>
                <a:tab algn="l" pos="9256680"/>
                <a:tab algn="l" pos="9801360"/>
                <a:tab algn="l" pos="10345680"/>
                <a:tab algn="l" pos="10890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VREDNA INFRASTRUKT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28760" y="1100160"/>
            <a:ext cx="2466720" cy="248112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50000">
                <a:srgbClr val="fefedb"/>
              </a:gs>
              <a:gs pos="100000">
                <a:srgbClr val="ffffcc"/>
              </a:gs>
            </a:gsLst>
            <a:lin ang="8100000"/>
          </a:gradFill>
          <a:ln w="0">
            <a:noFill/>
          </a:ln>
        </p:spPr>
        <p:txBody>
          <a:bodyPr lIns="54360" rIns="54360" tIns="27360" bIns="27360" anchor="t">
            <a:normAutofit fontScale="99000"/>
          </a:bodyPr>
          <a:p>
            <a:pPr marL="202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544680"/>
                <a:tab algn="l" pos="1089000"/>
                <a:tab algn="l" pos="1633680"/>
                <a:tab algn="l" pos="2178000"/>
                <a:tab algn="l" pos="2722680"/>
                <a:tab algn="l" pos="3267000"/>
                <a:tab algn="l" pos="3811680"/>
                <a:tab algn="l" pos="4356000"/>
                <a:tab algn="l" pos="4900680"/>
                <a:tab algn="l" pos="5445000"/>
                <a:tab algn="l" pos="5989680"/>
                <a:tab algn="l" pos="6534000"/>
                <a:tab algn="l" pos="7078680"/>
                <a:tab algn="l" pos="7623000"/>
                <a:tab algn="l" pos="8167680"/>
                <a:tab algn="l" pos="8712360"/>
                <a:tab algn="l" pos="9256680"/>
                <a:tab algn="l" pos="9801360"/>
                <a:tab algn="l" pos="10345680"/>
                <a:tab algn="l" pos="1089036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Putev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38120" indent="-169560">
              <a:lnSpc>
                <a:spcPct val="140000"/>
              </a:lnSpc>
              <a:spcBef>
                <a:spcPts val="349"/>
              </a:spcBef>
              <a:buClr>
                <a:srgbClr val="000000"/>
              </a:buClr>
              <a:buSzPct val="90000"/>
              <a:buFont typeface="Wingdings" charset="2"/>
              <a:buChar char=""/>
              <a:tabLst>
                <a:tab algn="l" pos="544680"/>
                <a:tab algn="l" pos="1089000"/>
                <a:tab algn="l" pos="1633680"/>
                <a:tab algn="l" pos="2178000"/>
                <a:tab algn="l" pos="2722680"/>
                <a:tab algn="l" pos="3267000"/>
                <a:tab algn="l" pos="3811680"/>
                <a:tab algn="l" pos="4356000"/>
                <a:tab algn="l" pos="4900680"/>
                <a:tab algn="l" pos="5445000"/>
                <a:tab algn="l" pos="5989680"/>
                <a:tab algn="l" pos="6534000"/>
                <a:tab algn="l" pos="7078680"/>
                <a:tab algn="l" pos="7623000"/>
                <a:tab algn="l" pos="8167680"/>
                <a:tab algn="l" pos="8712360"/>
                <a:tab algn="l" pos="9256680"/>
                <a:tab algn="l" pos="9801360"/>
                <a:tab algn="l" pos="10345680"/>
                <a:tab algn="l" pos="108903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lokalni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- 650 k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38120" indent="-1695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SzPct val="90000"/>
              <a:buFont typeface="Wingdings" charset="2"/>
              <a:buChar char=""/>
              <a:tabLst>
                <a:tab algn="l" pos="544680"/>
                <a:tab algn="l" pos="1089000"/>
                <a:tab algn="l" pos="1633680"/>
                <a:tab algn="l" pos="2178000"/>
                <a:tab algn="l" pos="2722680"/>
                <a:tab algn="l" pos="3267000"/>
                <a:tab algn="l" pos="3811680"/>
                <a:tab algn="l" pos="4356000"/>
                <a:tab algn="l" pos="4900680"/>
                <a:tab algn="l" pos="5445000"/>
                <a:tab algn="l" pos="5989680"/>
                <a:tab algn="l" pos="6534000"/>
                <a:tab algn="l" pos="7078680"/>
                <a:tab algn="l" pos="7623000"/>
                <a:tab algn="l" pos="8167680"/>
                <a:tab algn="l" pos="8712360"/>
                <a:tab algn="l" pos="9256680"/>
                <a:tab algn="l" pos="9801360"/>
                <a:tab algn="l" pos="10345680"/>
                <a:tab algn="l" pos="108903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regionalni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- 228 k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38120" indent="-1695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SzPct val="90000"/>
              <a:buFont typeface="Wingdings" charset="2"/>
              <a:buChar char=""/>
              <a:tabLst>
                <a:tab algn="l" pos="544680"/>
                <a:tab algn="l" pos="1089000"/>
                <a:tab algn="l" pos="1633680"/>
                <a:tab algn="l" pos="2178000"/>
                <a:tab algn="l" pos="2722680"/>
                <a:tab algn="l" pos="3267000"/>
                <a:tab algn="l" pos="3811680"/>
                <a:tab algn="l" pos="4356000"/>
                <a:tab algn="l" pos="4900680"/>
                <a:tab algn="l" pos="5445000"/>
                <a:tab algn="l" pos="5989680"/>
                <a:tab algn="l" pos="6534000"/>
                <a:tab algn="l" pos="7078680"/>
                <a:tab algn="l" pos="7623000"/>
                <a:tab algn="l" pos="8167680"/>
                <a:tab algn="l" pos="8712360"/>
                <a:tab algn="l" pos="9256680"/>
                <a:tab algn="l" pos="9801360"/>
                <a:tab algn="l" pos="10345680"/>
                <a:tab algn="l" pos="108903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gistralni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-   90 k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38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544680"/>
                <a:tab algn="l" pos="1089000"/>
                <a:tab algn="l" pos="1633680"/>
                <a:tab algn="l" pos="2178000"/>
                <a:tab algn="l" pos="2722680"/>
                <a:tab algn="l" pos="3267000"/>
                <a:tab algn="l" pos="3811680"/>
                <a:tab algn="l" pos="4356000"/>
                <a:tab algn="l" pos="4900680"/>
                <a:tab algn="l" pos="5445000"/>
                <a:tab algn="l" pos="5989680"/>
                <a:tab algn="l" pos="6534000"/>
                <a:tab algn="l" pos="7078680"/>
                <a:tab algn="l" pos="7623000"/>
                <a:tab algn="l" pos="8167680"/>
                <a:tab algn="l" pos="8712360"/>
                <a:tab algn="l" pos="9256680"/>
                <a:tab algn="l" pos="9801360"/>
                <a:tab algn="l" pos="10345680"/>
                <a:tab algn="l" pos="108903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38120" indent="-169560">
              <a:lnSpc>
                <a:spcPct val="90000"/>
              </a:lnSpc>
              <a:spcBef>
                <a:spcPts val="349"/>
              </a:spcBef>
              <a:buClr>
                <a:srgbClr val="a50021"/>
              </a:buClr>
              <a:buSzPct val="90000"/>
              <a:buFont typeface="Wingdings" charset="2"/>
              <a:buChar char=""/>
              <a:tabLst>
                <a:tab algn="l" pos="544680"/>
                <a:tab algn="l" pos="1089000"/>
                <a:tab algn="l" pos="1633680"/>
                <a:tab algn="l" pos="2178000"/>
                <a:tab algn="l" pos="2722680"/>
                <a:tab algn="l" pos="3267000"/>
                <a:tab algn="l" pos="3811680"/>
                <a:tab algn="l" pos="4356000"/>
                <a:tab algn="l" pos="4900680"/>
                <a:tab algn="l" pos="5445000"/>
                <a:tab algn="l" pos="5989680"/>
                <a:tab algn="l" pos="6534000"/>
                <a:tab algn="l" pos="7078680"/>
                <a:tab algn="l" pos="7623000"/>
                <a:tab algn="l" pos="8167680"/>
                <a:tab algn="l" pos="8712360"/>
                <a:tab algn="l" pos="9256680"/>
                <a:tab algn="l" pos="9801360"/>
                <a:tab algn="l" pos="10345680"/>
                <a:tab algn="l" pos="108903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nedostatak sredstava za izgradnju i održavanj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38120" indent="-169560">
              <a:lnSpc>
                <a:spcPct val="90000"/>
              </a:lnSpc>
              <a:spcBef>
                <a:spcPts val="349"/>
              </a:spcBef>
              <a:buClr>
                <a:srgbClr val="a50021"/>
              </a:buClr>
              <a:buSzPct val="90000"/>
              <a:buFont typeface="Wingdings" charset="2"/>
              <a:buChar char=""/>
              <a:tabLst>
                <a:tab algn="l" pos="544680"/>
                <a:tab algn="l" pos="1089000"/>
                <a:tab algn="l" pos="1633680"/>
                <a:tab algn="l" pos="2178000"/>
                <a:tab algn="l" pos="2722680"/>
                <a:tab algn="l" pos="3267000"/>
                <a:tab algn="l" pos="3811680"/>
                <a:tab algn="l" pos="4356000"/>
                <a:tab algn="l" pos="4900680"/>
                <a:tab algn="l" pos="5445000"/>
                <a:tab algn="l" pos="5989680"/>
                <a:tab algn="l" pos="6534000"/>
                <a:tab algn="l" pos="7078680"/>
                <a:tab algn="l" pos="7623000"/>
                <a:tab algn="l" pos="8167680"/>
                <a:tab algn="l" pos="8712360"/>
                <a:tab algn="l" pos="9256680"/>
                <a:tab algn="l" pos="9801360"/>
                <a:tab algn="l" pos="10345680"/>
                <a:tab algn="l" pos="108903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rioritet: gradska saobraćajna infrastruktu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2933280" y="1100160"/>
            <a:ext cx="2476440" cy="164304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50000">
                <a:srgbClr val="e5e5b7"/>
              </a:gs>
              <a:gs pos="100000">
                <a:srgbClr val="ffffcc"/>
              </a:gs>
            </a:gsLst>
            <a:lin ang="8100000"/>
          </a:gradFill>
          <a:ln w="0">
            <a:noFill/>
          </a:ln>
        </p:spPr>
        <p:txBody>
          <a:bodyPr lIns="54360" rIns="54360" tIns="27360" bIns="27360" anchor="t">
            <a:normAutofit/>
          </a:bodyPr>
          <a:p>
            <a:pPr marL="204840" indent="0">
              <a:spcBef>
                <a:spcPts val="451"/>
              </a:spcBef>
              <a:buNone/>
              <a:tabLst>
                <a:tab algn="l" pos="0"/>
                <a:tab algn="l" pos="544680"/>
                <a:tab algn="l" pos="1089000"/>
                <a:tab algn="l" pos="1633680"/>
                <a:tab algn="l" pos="2178000"/>
                <a:tab algn="l" pos="2722680"/>
                <a:tab algn="l" pos="3267000"/>
                <a:tab algn="l" pos="3811680"/>
                <a:tab algn="l" pos="4356000"/>
                <a:tab algn="l" pos="4900680"/>
                <a:tab algn="l" pos="5445000"/>
                <a:tab algn="l" pos="5989680"/>
                <a:tab algn="l" pos="6534000"/>
                <a:tab algn="l" pos="7078680"/>
                <a:tab algn="l" pos="7623000"/>
                <a:tab algn="l" pos="8167680"/>
                <a:tab algn="l" pos="8712360"/>
                <a:tab algn="l" pos="9256680"/>
                <a:tab algn="l" pos="9801360"/>
                <a:tab algn="l" pos="10345680"/>
                <a:tab algn="l" pos="1089036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Energetik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42800" indent="-171360">
              <a:lnSpc>
                <a:spcPct val="110000"/>
              </a:lnSpc>
              <a:spcBef>
                <a:spcPts val="349"/>
              </a:spcBef>
              <a:buClr>
                <a:srgbClr val="000000"/>
              </a:buClr>
              <a:buSzPct val="90000"/>
              <a:buFont typeface="Wingdings" charset="2"/>
              <a:buChar char=""/>
              <a:tabLst>
                <a:tab algn="l" pos="544680"/>
                <a:tab algn="l" pos="1089000"/>
                <a:tab algn="l" pos="1633680"/>
                <a:tab algn="l" pos="2178000"/>
                <a:tab algn="l" pos="2722680"/>
                <a:tab algn="l" pos="3267000"/>
                <a:tab algn="l" pos="3811680"/>
                <a:tab algn="l" pos="4356000"/>
                <a:tab algn="l" pos="4900680"/>
                <a:tab algn="l" pos="5445000"/>
                <a:tab algn="l" pos="5989680"/>
                <a:tab algn="l" pos="6534000"/>
                <a:tab algn="l" pos="7078680"/>
                <a:tab algn="l" pos="7623000"/>
                <a:tab algn="l" pos="8167680"/>
                <a:tab algn="l" pos="8712360"/>
                <a:tab algn="l" pos="9256680"/>
                <a:tab algn="l" pos="9801360"/>
                <a:tab algn="l" pos="10345680"/>
                <a:tab algn="l" pos="108903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alekovodna mreža - 900 k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42800" indent="-1713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SzPct val="90000"/>
              <a:buFont typeface="Wingdings" charset="2"/>
              <a:buChar char=""/>
              <a:tabLst>
                <a:tab algn="l" pos="544680"/>
                <a:tab algn="l" pos="1089000"/>
                <a:tab algn="l" pos="1633680"/>
                <a:tab algn="l" pos="2178000"/>
                <a:tab algn="l" pos="2722680"/>
                <a:tab algn="l" pos="3267000"/>
                <a:tab algn="l" pos="3811680"/>
                <a:tab algn="l" pos="4356000"/>
                <a:tab algn="l" pos="4900680"/>
                <a:tab algn="l" pos="5445000"/>
                <a:tab algn="l" pos="5989680"/>
                <a:tab algn="l" pos="6534000"/>
                <a:tab algn="l" pos="7078680"/>
                <a:tab algn="l" pos="7623000"/>
                <a:tab algn="l" pos="8167680"/>
                <a:tab algn="l" pos="8712360"/>
                <a:tab algn="l" pos="9256680"/>
                <a:tab algn="l" pos="9801360"/>
                <a:tab algn="l" pos="10345680"/>
                <a:tab algn="l" pos="108903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niskonaponska mreža - 2.250 k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42800" indent="-1713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SzPct val="90000"/>
              <a:buFont typeface="Wingdings" charset="2"/>
              <a:buChar char=""/>
              <a:tabLst>
                <a:tab algn="l" pos="544680"/>
                <a:tab algn="l" pos="1089000"/>
                <a:tab algn="l" pos="1633680"/>
                <a:tab algn="l" pos="2178000"/>
                <a:tab algn="l" pos="2722680"/>
                <a:tab algn="l" pos="3267000"/>
                <a:tab algn="l" pos="3811680"/>
                <a:tab algn="l" pos="4356000"/>
                <a:tab algn="l" pos="4900680"/>
                <a:tab algn="l" pos="5445000"/>
                <a:tab algn="l" pos="5989680"/>
                <a:tab algn="l" pos="6534000"/>
                <a:tab algn="l" pos="7078680"/>
                <a:tab algn="l" pos="7623000"/>
                <a:tab algn="l" pos="8167680"/>
                <a:tab algn="l" pos="8712360"/>
                <a:tab algn="l" pos="9256680"/>
                <a:tab algn="l" pos="9801360"/>
                <a:tab algn="l" pos="10345680"/>
                <a:tab algn="l" pos="108903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tepen elektrifikacije - 100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28400" y="338040"/>
            <a:ext cx="4857480" cy="424080"/>
          </a:xfrm>
          <a:prstGeom prst="rect">
            <a:avLst/>
          </a:prstGeom>
          <a:noFill/>
          <a:ln w="0">
            <a:noFill/>
          </a:ln>
        </p:spPr>
        <p:txBody>
          <a:bodyPr lIns="54720" rIns="54720" tIns="27360" bIns="273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44680"/>
                <a:tab algn="l" pos="1089000"/>
                <a:tab algn="l" pos="1633680"/>
                <a:tab algn="l" pos="2178000"/>
                <a:tab algn="l" pos="2722680"/>
                <a:tab algn="l" pos="3267000"/>
                <a:tab algn="l" pos="3811680"/>
                <a:tab algn="l" pos="4356000"/>
                <a:tab algn="l" pos="4900680"/>
                <a:tab algn="l" pos="5445000"/>
                <a:tab algn="l" pos="5989680"/>
                <a:tab algn="l" pos="6534000"/>
                <a:tab algn="l" pos="7078680"/>
                <a:tab algn="l" pos="7623000"/>
                <a:tab algn="l" pos="8167680"/>
                <a:tab algn="l" pos="8712360"/>
                <a:tab algn="l" pos="9256680"/>
                <a:tab algn="l" pos="9801360"/>
                <a:tab algn="l" pos="10345680"/>
                <a:tab algn="l" pos="10890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VREDNA INFRASTRUKT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28400" y="990720"/>
            <a:ext cx="2352600" cy="239544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c1c19a"/>
              </a:gs>
            </a:gsLst>
            <a:lin ang="8100000"/>
          </a:gradFill>
          <a:ln w="0">
            <a:noFill/>
          </a:ln>
          <a:effectLst>
            <a:outerShdw dist="107932" dir="8100000" blurRad="0" rotWithShape="0">
              <a:srgbClr val="ffffff"/>
            </a:outerShdw>
          </a:effectLst>
        </p:spPr>
        <p:txBody>
          <a:bodyPr lIns="54360" rIns="54360" tIns="27360" bIns="27360" anchor="t">
            <a:normAutofit/>
          </a:bodyPr>
          <a:p>
            <a:pPr marL="204840" indent="0">
              <a:spcBef>
                <a:spcPts val="451"/>
              </a:spcBef>
              <a:buNone/>
              <a:tabLst>
                <a:tab algn="l" pos="0"/>
                <a:tab algn="l" pos="544680"/>
                <a:tab algn="l" pos="1089000"/>
                <a:tab algn="l" pos="1633680"/>
                <a:tab algn="l" pos="2178000"/>
                <a:tab algn="l" pos="2722680"/>
                <a:tab algn="l" pos="3267000"/>
                <a:tab algn="l" pos="3811680"/>
                <a:tab algn="l" pos="4356000"/>
                <a:tab algn="l" pos="4900680"/>
                <a:tab algn="l" pos="5445000"/>
                <a:tab algn="l" pos="5989680"/>
                <a:tab algn="l" pos="6534000"/>
                <a:tab algn="l" pos="7078680"/>
                <a:tab algn="l" pos="7623000"/>
                <a:tab algn="l" pos="8167680"/>
                <a:tab algn="l" pos="8712360"/>
                <a:tab algn="l" pos="9256680"/>
                <a:tab algn="l" pos="9801360"/>
                <a:tab algn="l" pos="10345680"/>
                <a:tab algn="l" pos="1089036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PTT saobraća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42800" indent="-171360">
              <a:lnSpc>
                <a:spcPct val="90000"/>
              </a:lnSpc>
              <a:spcBef>
                <a:spcPts val="349"/>
              </a:spcBef>
              <a:buClr>
                <a:srgbClr val="0033cc"/>
              </a:buClr>
              <a:buSzPct val="90000"/>
              <a:buFont typeface="Wingdings" charset="2"/>
              <a:buChar char=""/>
              <a:tabLst>
                <a:tab algn="l" pos="544680"/>
                <a:tab algn="l" pos="1089000"/>
                <a:tab algn="l" pos="1633680"/>
                <a:tab algn="l" pos="2178000"/>
                <a:tab algn="l" pos="2722680"/>
                <a:tab algn="l" pos="3267000"/>
                <a:tab algn="l" pos="3811680"/>
                <a:tab algn="l" pos="4356000"/>
                <a:tab algn="l" pos="4900680"/>
                <a:tab algn="l" pos="5445000"/>
                <a:tab algn="l" pos="5989680"/>
                <a:tab algn="l" pos="6534000"/>
                <a:tab algn="l" pos="7078680"/>
                <a:tab algn="l" pos="7623000"/>
                <a:tab algn="l" pos="8167680"/>
                <a:tab algn="l" pos="8712360"/>
                <a:tab algn="l" pos="9256680"/>
                <a:tab algn="l" pos="9801360"/>
                <a:tab algn="l" pos="10345680"/>
                <a:tab algn="l" pos="108903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broj telefonskih pretplatnika - 51.06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42800" indent="-171360">
              <a:lnSpc>
                <a:spcPct val="90000"/>
              </a:lnSpc>
              <a:spcBef>
                <a:spcPts val="349"/>
              </a:spcBef>
              <a:buClr>
                <a:srgbClr val="0033cc"/>
              </a:buClr>
              <a:buSzPct val="90000"/>
              <a:buFont typeface="Wingdings" charset="2"/>
              <a:buChar char=""/>
              <a:tabLst>
                <a:tab algn="l" pos="544680"/>
                <a:tab algn="l" pos="1089000"/>
                <a:tab algn="l" pos="1633680"/>
                <a:tab algn="l" pos="2178000"/>
                <a:tab algn="l" pos="2722680"/>
                <a:tab algn="l" pos="3267000"/>
                <a:tab algn="l" pos="3811680"/>
                <a:tab algn="l" pos="4356000"/>
                <a:tab algn="l" pos="4900680"/>
                <a:tab algn="l" pos="5445000"/>
                <a:tab algn="l" pos="5989680"/>
                <a:tab algn="l" pos="6534000"/>
                <a:tab algn="l" pos="7078680"/>
                <a:tab algn="l" pos="7623000"/>
                <a:tab algn="l" pos="8167680"/>
                <a:tab algn="l" pos="8712360"/>
                <a:tab algn="l" pos="9256680"/>
                <a:tab algn="l" pos="9801360"/>
                <a:tab algn="l" pos="10345680"/>
                <a:tab algn="l" pos="108903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kapacitet - 63.27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428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544680"/>
                <a:tab algn="l" pos="1089000"/>
                <a:tab algn="l" pos="1633680"/>
                <a:tab algn="l" pos="2178000"/>
                <a:tab algn="l" pos="2722680"/>
                <a:tab algn="l" pos="3267000"/>
                <a:tab algn="l" pos="3811680"/>
                <a:tab algn="l" pos="4356000"/>
                <a:tab algn="l" pos="4900680"/>
                <a:tab algn="l" pos="5445000"/>
                <a:tab algn="l" pos="5989680"/>
                <a:tab algn="l" pos="6534000"/>
                <a:tab algn="l" pos="7078680"/>
                <a:tab algn="l" pos="7623000"/>
                <a:tab algn="l" pos="8167680"/>
                <a:tab algn="l" pos="8712360"/>
                <a:tab algn="l" pos="9256680"/>
                <a:tab algn="l" pos="9801360"/>
                <a:tab algn="l" pos="10345680"/>
                <a:tab algn="l" pos="108903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42800" indent="-171360">
              <a:spcBef>
                <a:spcPts val="349"/>
              </a:spcBef>
              <a:buClr>
                <a:srgbClr val="a50021"/>
              </a:buClr>
              <a:buSzPct val="90000"/>
              <a:buFont typeface="Wingdings" charset="2"/>
              <a:buChar char=""/>
              <a:tabLst>
                <a:tab algn="l" pos="544680"/>
                <a:tab algn="l" pos="1089000"/>
                <a:tab algn="l" pos="1633680"/>
                <a:tab algn="l" pos="2178000"/>
                <a:tab algn="l" pos="2722680"/>
                <a:tab algn="l" pos="3267000"/>
                <a:tab algn="l" pos="3811680"/>
                <a:tab algn="l" pos="4356000"/>
                <a:tab algn="l" pos="4900680"/>
                <a:tab algn="l" pos="5445000"/>
                <a:tab algn="l" pos="5989680"/>
                <a:tab algn="l" pos="6534000"/>
                <a:tab algn="l" pos="7078680"/>
                <a:tab algn="l" pos="7623000"/>
                <a:tab algn="l" pos="8167680"/>
                <a:tab algn="l" pos="8712360"/>
                <a:tab algn="l" pos="9256680"/>
                <a:tab algn="l" pos="9801360"/>
                <a:tab algn="l" pos="10345680"/>
                <a:tab algn="l" pos="108903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rioritet: zamena starih reonskih telefonskih centrala za 8.000 priključak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2933640" y="990360"/>
            <a:ext cx="2324160" cy="24382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c1c19a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ffffff"/>
            </a:outerShdw>
          </a:effectLst>
        </p:spPr>
        <p:txBody>
          <a:bodyPr lIns="54360" rIns="54360" tIns="27360" bIns="27360" anchor="t">
            <a:normAutofit/>
          </a:bodyPr>
          <a:p>
            <a:pPr marL="204840" indent="0">
              <a:spcBef>
                <a:spcPts val="451"/>
              </a:spcBef>
              <a:buNone/>
              <a:tabLst>
                <a:tab algn="l" pos="0"/>
                <a:tab algn="l" pos="544680"/>
                <a:tab algn="l" pos="1089000"/>
                <a:tab algn="l" pos="1633680"/>
                <a:tab algn="l" pos="2178000"/>
                <a:tab algn="l" pos="2722680"/>
                <a:tab algn="l" pos="3267000"/>
                <a:tab algn="l" pos="3811680"/>
                <a:tab algn="l" pos="4356000"/>
                <a:tab algn="l" pos="4900680"/>
                <a:tab algn="l" pos="5445000"/>
                <a:tab algn="l" pos="5989680"/>
                <a:tab algn="l" pos="6534000"/>
                <a:tab algn="l" pos="7078680"/>
                <a:tab algn="l" pos="7623000"/>
                <a:tab algn="l" pos="8167680"/>
                <a:tab algn="l" pos="8712360"/>
                <a:tab algn="l" pos="9256680"/>
                <a:tab algn="l" pos="9801360"/>
                <a:tab algn="l" pos="10345680"/>
                <a:tab algn="l" pos="1089036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Vodoprivre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428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544680"/>
                <a:tab algn="l" pos="1089000"/>
                <a:tab algn="l" pos="1633680"/>
                <a:tab algn="l" pos="2178000"/>
                <a:tab algn="l" pos="2722680"/>
                <a:tab algn="l" pos="3267000"/>
                <a:tab algn="l" pos="3811680"/>
                <a:tab algn="l" pos="4356000"/>
                <a:tab algn="l" pos="4900680"/>
                <a:tab algn="l" pos="5445000"/>
                <a:tab algn="l" pos="5989680"/>
                <a:tab algn="l" pos="6534000"/>
                <a:tab algn="l" pos="7078680"/>
                <a:tab algn="l" pos="7623000"/>
                <a:tab algn="l" pos="8167680"/>
                <a:tab algn="l" pos="8712360"/>
                <a:tab algn="l" pos="9256680"/>
                <a:tab algn="l" pos="9801360"/>
                <a:tab algn="l" pos="10345680"/>
                <a:tab algn="l" pos="108903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42800" indent="-171360">
              <a:lnSpc>
                <a:spcPct val="90000"/>
              </a:lnSpc>
              <a:spcBef>
                <a:spcPts val="349"/>
              </a:spcBef>
              <a:buClr>
                <a:srgbClr val="a50021"/>
              </a:buClr>
              <a:buSzPct val="90000"/>
              <a:buFont typeface="Wingdings" charset="2"/>
              <a:buChar char=""/>
              <a:tabLst>
                <a:tab algn="l" pos="544680"/>
                <a:tab algn="l" pos="1089000"/>
                <a:tab algn="l" pos="1633680"/>
                <a:tab algn="l" pos="2178000"/>
                <a:tab algn="l" pos="2722680"/>
                <a:tab algn="l" pos="3267000"/>
                <a:tab algn="l" pos="3811680"/>
                <a:tab algn="l" pos="4356000"/>
                <a:tab algn="l" pos="4900680"/>
                <a:tab algn="l" pos="5445000"/>
                <a:tab algn="l" pos="5989680"/>
                <a:tab algn="l" pos="6534000"/>
                <a:tab algn="l" pos="7078680"/>
                <a:tab algn="l" pos="7623000"/>
                <a:tab algn="l" pos="8167680"/>
                <a:tab algn="l" pos="8712360"/>
                <a:tab algn="l" pos="9256680"/>
                <a:tab algn="l" pos="9801360"/>
                <a:tab algn="l" pos="10345680"/>
                <a:tab algn="l" pos="108903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rioriteti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42800" indent="-171360">
              <a:lnSpc>
                <a:spcPct val="90000"/>
              </a:lnSpc>
              <a:spcBef>
                <a:spcPts val="349"/>
              </a:spcBef>
              <a:buClr>
                <a:srgbClr val="0033cc"/>
              </a:buClr>
              <a:buSzPct val="90000"/>
              <a:buFont typeface="Monotype Sorts" charset="2"/>
              <a:buChar char=""/>
              <a:tabLst>
                <a:tab algn="l" pos="544680"/>
                <a:tab algn="l" pos="1089000"/>
                <a:tab algn="l" pos="1633680"/>
                <a:tab algn="l" pos="2178000"/>
                <a:tab algn="l" pos="2722680"/>
                <a:tab algn="l" pos="3267000"/>
                <a:tab algn="l" pos="3811680"/>
                <a:tab algn="l" pos="4356000"/>
                <a:tab algn="l" pos="4900680"/>
                <a:tab algn="l" pos="5445000"/>
                <a:tab algn="l" pos="5989680"/>
                <a:tab algn="l" pos="6534000"/>
                <a:tab algn="l" pos="7078680"/>
                <a:tab algn="l" pos="7623000"/>
                <a:tab algn="l" pos="8167680"/>
                <a:tab algn="l" pos="8712360"/>
                <a:tab algn="l" pos="9256680"/>
                <a:tab algn="l" pos="9801360"/>
                <a:tab algn="l" pos="10345680"/>
                <a:tab algn="l" pos="108903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anacija opštinskih vodosiste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42800" indent="-171360">
              <a:lnSpc>
                <a:spcPct val="90000"/>
              </a:lnSpc>
              <a:spcBef>
                <a:spcPts val="349"/>
              </a:spcBef>
              <a:buClr>
                <a:srgbClr val="0033cc"/>
              </a:buClr>
              <a:buSzPct val="90000"/>
              <a:buFont typeface="Monotype Sorts" charset="2"/>
              <a:buChar char=""/>
              <a:tabLst>
                <a:tab algn="l" pos="544680"/>
                <a:tab algn="l" pos="1089000"/>
                <a:tab algn="l" pos="1633680"/>
                <a:tab algn="l" pos="2178000"/>
                <a:tab algn="l" pos="2722680"/>
                <a:tab algn="l" pos="3267000"/>
                <a:tab algn="l" pos="3811680"/>
                <a:tab algn="l" pos="4356000"/>
                <a:tab algn="l" pos="4900680"/>
                <a:tab algn="l" pos="5445000"/>
                <a:tab algn="l" pos="5989680"/>
                <a:tab algn="l" pos="6534000"/>
                <a:tab algn="l" pos="7078680"/>
                <a:tab algn="l" pos="7623000"/>
                <a:tab algn="l" pos="8167680"/>
                <a:tab algn="l" pos="8712360"/>
                <a:tab algn="l" pos="9256680"/>
                <a:tab algn="l" pos="9801360"/>
                <a:tab algn="l" pos="10345680"/>
                <a:tab algn="l" pos="108903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zgradnja fabrike za prečišćavanje vod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04840" indent="0">
              <a:spcBef>
                <a:spcPts val="425"/>
              </a:spcBef>
              <a:buNone/>
              <a:tabLst>
                <a:tab algn="l" pos="0"/>
                <a:tab algn="l" pos="544680"/>
                <a:tab algn="l" pos="1089000"/>
                <a:tab algn="l" pos="1633680"/>
                <a:tab algn="l" pos="2178000"/>
                <a:tab algn="l" pos="2722680"/>
                <a:tab algn="l" pos="3267000"/>
                <a:tab algn="l" pos="3811680"/>
                <a:tab algn="l" pos="4356000"/>
                <a:tab algn="l" pos="4900680"/>
                <a:tab algn="l" pos="5445000"/>
                <a:tab algn="l" pos="5989680"/>
                <a:tab algn="l" pos="6534000"/>
                <a:tab algn="l" pos="7078680"/>
                <a:tab algn="l" pos="7623000"/>
                <a:tab algn="l" pos="8167680"/>
                <a:tab algn="l" pos="8712360"/>
                <a:tab algn="l" pos="9256680"/>
                <a:tab algn="l" pos="9801360"/>
                <a:tab algn="l" pos="10345680"/>
                <a:tab algn="l" pos="1089036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28400" y="338040"/>
            <a:ext cx="5057640" cy="34776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989879"/>
            </a:outerShdw>
          </a:effectLst>
        </p:spPr>
        <p:txBody>
          <a:bodyPr lIns="54720" rIns="54720" tIns="27360" bIns="273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44680"/>
                <a:tab algn="l" pos="1089000"/>
                <a:tab algn="l" pos="1633680"/>
                <a:tab algn="l" pos="2178000"/>
                <a:tab algn="l" pos="2722680"/>
                <a:tab algn="l" pos="3267000"/>
                <a:tab algn="l" pos="3811680"/>
                <a:tab algn="l" pos="4356000"/>
                <a:tab algn="l" pos="4900680"/>
                <a:tab algn="l" pos="5445000"/>
                <a:tab algn="l" pos="5989680"/>
                <a:tab algn="l" pos="6534000"/>
                <a:tab algn="l" pos="7078680"/>
                <a:tab algn="l" pos="7623000"/>
                <a:tab algn="l" pos="8167680"/>
                <a:tab algn="l" pos="8712360"/>
                <a:tab algn="l" pos="9256680"/>
                <a:tab algn="l" pos="9801360"/>
                <a:tab algn="l" pos="10345680"/>
                <a:tab algn="l" pos="10890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VRE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28760" y="837720"/>
            <a:ext cx="2619360" cy="16002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987979"/>
            </a:outerShdw>
          </a:effectLst>
        </p:spPr>
        <p:txBody>
          <a:bodyPr lIns="54360" rIns="54360" tIns="27360" bIns="27360" anchor="t">
            <a:normAutofit/>
          </a:bodyPr>
          <a:p>
            <a:pPr marL="204840" indent="0">
              <a:spcBef>
                <a:spcPts val="451"/>
              </a:spcBef>
              <a:buNone/>
              <a:tabLst>
                <a:tab algn="l" pos="0"/>
                <a:tab algn="l" pos="544680"/>
                <a:tab algn="l" pos="1089000"/>
                <a:tab algn="l" pos="1633680"/>
                <a:tab algn="l" pos="2178000"/>
                <a:tab algn="l" pos="2722680"/>
                <a:tab algn="l" pos="3267000"/>
                <a:tab algn="l" pos="3811680"/>
                <a:tab algn="l" pos="4356000"/>
                <a:tab algn="l" pos="4900680"/>
                <a:tab algn="l" pos="5445000"/>
                <a:tab algn="l" pos="5989680"/>
                <a:tab algn="l" pos="6534000"/>
                <a:tab algn="l" pos="7078680"/>
                <a:tab algn="l" pos="7623000"/>
                <a:tab algn="l" pos="8167680"/>
                <a:tab algn="l" pos="8712360"/>
                <a:tab algn="l" pos="9256680"/>
                <a:tab algn="l" pos="9801360"/>
                <a:tab algn="l" pos="10345680"/>
                <a:tab algn="l" pos="1089036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Poljoprivre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42800" indent="-171360">
              <a:spcBef>
                <a:spcPts val="349"/>
              </a:spcBef>
              <a:buClr>
                <a:srgbClr val="0033cc"/>
              </a:buClr>
              <a:buSzPct val="90000"/>
              <a:buFont typeface="Monotype Sorts" charset="2"/>
              <a:buChar char=""/>
              <a:tabLst>
                <a:tab algn="l" pos="544680"/>
                <a:tab algn="l" pos="1089000"/>
                <a:tab algn="l" pos="1633680"/>
                <a:tab algn="l" pos="2178000"/>
                <a:tab algn="l" pos="2722680"/>
                <a:tab algn="l" pos="3267000"/>
                <a:tab algn="l" pos="3811680"/>
                <a:tab algn="l" pos="4356000"/>
                <a:tab algn="l" pos="4900680"/>
                <a:tab algn="l" pos="5445000"/>
                <a:tab algn="l" pos="5989680"/>
                <a:tab algn="l" pos="6534000"/>
                <a:tab algn="l" pos="7078680"/>
                <a:tab algn="l" pos="7623000"/>
                <a:tab algn="l" pos="8167680"/>
                <a:tab algn="l" pos="8712360"/>
                <a:tab algn="l" pos="9256680"/>
                <a:tab algn="l" pos="9801360"/>
                <a:tab algn="l" pos="10345680"/>
                <a:tab algn="l" pos="10890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tastvo - 64.000 h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42800" indent="-171360">
              <a:spcBef>
                <a:spcPts val="349"/>
              </a:spcBef>
              <a:buClr>
                <a:srgbClr val="0033cc"/>
              </a:buClr>
              <a:buSzPct val="90000"/>
              <a:buFont typeface="Monotype Sorts" charset="2"/>
              <a:buChar char=""/>
              <a:tabLst>
                <a:tab algn="l" pos="544680"/>
                <a:tab algn="l" pos="1089000"/>
                <a:tab algn="l" pos="1633680"/>
                <a:tab algn="l" pos="2178000"/>
                <a:tab algn="l" pos="2722680"/>
                <a:tab algn="l" pos="3267000"/>
                <a:tab algn="l" pos="3811680"/>
                <a:tab algn="l" pos="4356000"/>
                <a:tab algn="l" pos="4900680"/>
                <a:tab algn="l" pos="5445000"/>
                <a:tab algn="l" pos="5989680"/>
                <a:tab algn="l" pos="6534000"/>
                <a:tab algn="l" pos="7078680"/>
                <a:tab algn="l" pos="7623000"/>
                <a:tab algn="l" pos="8167680"/>
                <a:tab algn="l" pos="8712360"/>
                <a:tab algn="l" pos="9256680"/>
                <a:tab algn="l" pos="9801360"/>
                <a:tab algn="l" pos="10345680"/>
                <a:tab algn="l" pos="10890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oćarstvo - 7.000 h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42800" indent="-171360">
              <a:spcBef>
                <a:spcPts val="349"/>
              </a:spcBef>
              <a:buClr>
                <a:srgbClr val="0033cc"/>
              </a:buClr>
              <a:buSzPct val="90000"/>
              <a:buFont typeface="Monotype Sorts" charset="2"/>
              <a:buChar char=""/>
              <a:tabLst>
                <a:tab algn="l" pos="544680"/>
                <a:tab algn="l" pos="1089000"/>
                <a:tab algn="l" pos="1633680"/>
                <a:tab algn="l" pos="2178000"/>
                <a:tab algn="l" pos="2722680"/>
                <a:tab algn="l" pos="3267000"/>
                <a:tab algn="l" pos="3811680"/>
                <a:tab algn="l" pos="4356000"/>
                <a:tab algn="l" pos="4900680"/>
                <a:tab algn="l" pos="5445000"/>
                <a:tab algn="l" pos="5989680"/>
                <a:tab algn="l" pos="6534000"/>
                <a:tab algn="l" pos="7078680"/>
                <a:tab algn="l" pos="7623000"/>
                <a:tab algn="l" pos="8167680"/>
                <a:tab algn="l" pos="8712360"/>
                <a:tab algn="l" pos="9256680"/>
                <a:tab algn="l" pos="9801360"/>
                <a:tab algn="l" pos="10345680"/>
                <a:tab algn="l" pos="10890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nogradarstvo - 3.600 h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42800" indent="-171360">
              <a:spcBef>
                <a:spcPts val="349"/>
              </a:spcBef>
              <a:buClr>
                <a:srgbClr val="0033cc"/>
              </a:buClr>
              <a:buSzPct val="90000"/>
              <a:buFont typeface="Monotype Sorts" charset="2"/>
              <a:buChar char=""/>
              <a:tabLst>
                <a:tab algn="l" pos="544680"/>
                <a:tab algn="l" pos="1089000"/>
                <a:tab algn="l" pos="1633680"/>
                <a:tab algn="l" pos="2178000"/>
                <a:tab algn="l" pos="2722680"/>
                <a:tab algn="l" pos="3267000"/>
                <a:tab algn="l" pos="3811680"/>
                <a:tab algn="l" pos="4356000"/>
                <a:tab algn="l" pos="4900680"/>
                <a:tab algn="l" pos="5445000"/>
                <a:tab algn="l" pos="5989680"/>
                <a:tab algn="l" pos="6534000"/>
                <a:tab algn="l" pos="7078680"/>
                <a:tab algn="l" pos="7623000"/>
                <a:tab algn="l" pos="8167680"/>
                <a:tab algn="l" pos="8712360"/>
                <a:tab algn="l" pos="9256680"/>
                <a:tab algn="l" pos="9801360"/>
                <a:tab algn="l" pos="10345680"/>
                <a:tab algn="l" pos="10890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točarstvo - 9.000 junadi i 20.000 svinj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00400" y="2286000"/>
            <a:ext cx="2286000" cy="129528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  <a:effectLst>
            <a:outerShdw dist="153753" dir="2700000" blurRad="0" rotWithShape="0">
              <a:srgbClr val="009879"/>
            </a:outerShdw>
          </a:effectLst>
        </p:spPr>
        <p:txBody>
          <a:bodyPr lIns="54360" rIns="54360" tIns="27360" bIns="27360" anchor="t">
            <a:normAutofit/>
          </a:bodyPr>
          <a:p>
            <a:pPr marL="204840" indent="0">
              <a:spcBef>
                <a:spcPts val="451"/>
              </a:spcBef>
              <a:buNone/>
              <a:tabLst>
                <a:tab algn="l" pos="0"/>
                <a:tab algn="l" pos="544680"/>
                <a:tab algn="l" pos="1089000"/>
                <a:tab algn="l" pos="1633680"/>
                <a:tab algn="l" pos="2178000"/>
                <a:tab algn="l" pos="2722680"/>
                <a:tab algn="l" pos="3267000"/>
                <a:tab algn="l" pos="3811680"/>
                <a:tab algn="l" pos="4356000"/>
                <a:tab algn="l" pos="4900680"/>
                <a:tab algn="l" pos="5445000"/>
                <a:tab algn="l" pos="5989680"/>
                <a:tab algn="l" pos="6534000"/>
                <a:tab algn="l" pos="7078680"/>
                <a:tab algn="l" pos="7623000"/>
                <a:tab algn="l" pos="8167680"/>
                <a:tab algn="l" pos="8712360"/>
                <a:tab algn="l" pos="9256680"/>
                <a:tab algn="l" pos="9801360"/>
                <a:tab algn="l" pos="10345680"/>
                <a:tab algn="l" pos="1089036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Šumarstv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04840" indent="-204840">
              <a:lnSpc>
                <a:spcPct val="110000"/>
              </a:lnSpc>
              <a:spcBef>
                <a:spcPts val="349"/>
              </a:spcBef>
              <a:buClr>
                <a:srgbClr val="0033cc"/>
              </a:buClr>
              <a:buSzPct val="80000"/>
              <a:buFont typeface="Monotype Sorts" charset="2"/>
              <a:buChar char=""/>
              <a:tabLst>
                <a:tab algn="l" pos="544680"/>
                <a:tab algn="l" pos="1089000"/>
                <a:tab algn="l" pos="1633680"/>
                <a:tab algn="l" pos="2178000"/>
                <a:tab algn="l" pos="2722680"/>
                <a:tab algn="l" pos="3267000"/>
                <a:tab algn="l" pos="3811680"/>
                <a:tab algn="l" pos="4356000"/>
                <a:tab algn="l" pos="4900680"/>
                <a:tab algn="l" pos="5445000"/>
                <a:tab algn="l" pos="5989680"/>
                <a:tab algn="l" pos="6534000"/>
                <a:tab algn="l" pos="7078680"/>
                <a:tab algn="l" pos="7623000"/>
                <a:tab algn="l" pos="8167680"/>
                <a:tab algn="l" pos="8712360"/>
                <a:tab algn="l" pos="9256680"/>
                <a:tab algn="l" pos="9801360"/>
                <a:tab algn="l" pos="10345680"/>
                <a:tab algn="l" pos="10890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vršina: 8.200 h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04840" indent="-204840">
              <a:lnSpc>
                <a:spcPct val="110000"/>
              </a:lnSpc>
              <a:spcBef>
                <a:spcPts val="349"/>
              </a:spcBef>
              <a:buClr>
                <a:srgbClr val="0033cc"/>
              </a:buClr>
              <a:buSzPct val="80000"/>
              <a:buFont typeface="Monotype Sorts" charset="2"/>
              <a:buChar char=""/>
              <a:tabLst>
                <a:tab algn="l" pos="544680"/>
                <a:tab algn="l" pos="1089000"/>
                <a:tab algn="l" pos="1633680"/>
                <a:tab algn="l" pos="2178000"/>
                <a:tab algn="l" pos="2722680"/>
                <a:tab algn="l" pos="3267000"/>
                <a:tab algn="l" pos="3811680"/>
                <a:tab algn="l" pos="4356000"/>
                <a:tab algn="l" pos="4900680"/>
                <a:tab algn="l" pos="5445000"/>
                <a:tab algn="l" pos="5989680"/>
                <a:tab algn="l" pos="6534000"/>
                <a:tab algn="l" pos="7078680"/>
                <a:tab algn="l" pos="7623000"/>
                <a:tab algn="l" pos="8167680"/>
                <a:tab algn="l" pos="8712360"/>
                <a:tab algn="l" pos="9256680"/>
                <a:tab algn="l" pos="9801360"/>
                <a:tab algn="l" pos="10345680"/>
                <a:tab algn="l" pos="10890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rvna masa: 26.500 m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04840" indent="-204840">
              <a:lnSpc>
                <a:spcPct val="110000"/>
              </a:lnSpc>
              <a:spcBef>
                <a:spcPts val="349"/>
              </a:spcBef>
              <a:buClr>
                <a:srgbClr val="0033cc"/>
              </a:buClr>
              <a:buSzPct val="80000"/>
              <a:buFont typeface="Monotype Sorts" charset="2"/>
              <a:buChar char=""/>
              <a:tabLst>
                <a:tab algn="l" pos="544680"/>
                <a:tab algn="l" pos="1089000"/>
                <a:tab algn="l" pos="1633680"/>
                <a:tab algn="l" pos="2178000"/>
                <a:tab algn="l" pos="2722680"/>
                <a:tab algn="l" pos="3267000"/>
                <a:tab algn="l" pos="3811680"/>
                <a:tab algn="l" pos="4356000"/>
                <a:tab algn="l" pos="4900680"/>
                <a:tab algn="l" pos="5445000"/>
                <a:tab algn="l" pos="5989680"/>
                <a:tab algn="l" pos="6534000"/>
                <a:tab algn="l" pos="7078680"/>
                <a:tab algn="l" pos="7623000"/>
                <a:tab algn="l" pos="8167680"/>
                <a:tab algn="l" pos="8712360"/>
                <a:tab algn="l" pos="9256680"/>
                <a:tab algn="l" pos="9801360"/>
                <a:tab algn="l" pos="10345680"/>
                <a:tab algn="l" pos="10890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grem, jasen, hrast, topol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7200" y="2590920"/>
            <a:ext cx="2552760" cy="99036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53753" dir="2700000" blurRad="0" rotWithShape="0">
              <a:srgbClr val="98987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4360" rIns="54360" tIns="27360" bIns="27360" anchor="t">
            <a:normAutofit/>
          </a:bodyPr>
          <a:p>
            <a:pPr marL="204840" indent="-204840">
              <a:spcBef>
                <a:spcPts val="451"/>
              </a:spcBef>
              <a:tabLst>
                <a:tab algn="l" pos="0"/>
                <a:tab algn="l" pos="544680"/>
                <a:tab algn="l" pos="1089000"/>
                <a:tab algn="l" pos="1633680"/>
                <a:tab algn="l" pos="2178000"/>
                <a:tab algn="l" pos="2722680"/>
                <a:tab algn="l" pos="3267000"/>
                <a:tab algn="l" pos="3811680"/>
                <a:tab algn="l" pos="4356000"/>
                <a:tab algn="l" pos="4900680"/>
                <a:tab algn="l" pos="5445000"/>
                <a:tab algn="l" pos="5989680"/>
                <a:tab algn="l" pos="6534000"/>
                <a:tab algn="l" pos="7078680"/>
                <a:tab algn="l" pos="7623000"/>
                <a:tab algn="l" pos="8167680"/>
                <a:tab algn="l" pos="8712360"/>
                <a:tab algn="l" pos="9256680"/>
                <a:tab algn="l" pos="9801360"/>
                <a:tab algn="l" pos="10345680"/>
                <a:tab algn="l" pos="1089036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Turizam i ugostiteljstv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04840" indent="-204840">
              <a:spcBef>
                <a:spcPts val="349"/>
              </a:spcBef>
              <a:buClr>
                <a:srgbClr val="0033cc"/>
              </a:buClr>
              <a:buSzPct val="80000"/>
              <a:buFont typeface="Monotype Sorts" charset="2"/>
              <a:buChar char=""/>
              <a:tabLst>
                <a:tab algn="l" pos="544680"/>
                <a:tab algn="l" pos="1089000"/>
                <a:tab algn="l" pos="1633680"/>
                <a:tab algn="l" pos="2178000"/>
                <a:tab algn="l" pos="2722680"/>
                <a:tab algn="l" pos="3267000"/>
                <a:tab algn="l" pos="3811680"/>
                <a:tab algn="l" pos="4356000"/>
                <a:tab algn="l" pos="4900680"/>
                <a:tab algn="l" pos="5445000"/>
                <a:tab algn="l" pos="5989680"/>
                <a:tab algn="l" pos="6534000"/>
                <a:tab algn="l" pos="7078680"/>
                <a:tab algn="l" pos="7623000"/>
                <a:tab algn="l" pos="8167680"/>
                <a:tab algn="l" pos="8712360"/>
                <a:tab algn="l" pos="9256680"/>
                <a:tab algn="l" pos="9801360"/>
                <a:tab algn="l" pos="10345680"/>
                <a:tab algn="l" pos="10890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bjekti: pet hotela i pet motel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04840" indent="-204840">
              <a:spcBef>
                <a:spcPts val="349"/>
              </a:spcBef>
              <a:buClr>
                <a:srgbClr val="0033cc"/>
              </a:buClr>
              <a:buSzPct val="80000"/>
              <a:buFont typeface="Monotype Sorts" charset="2"/>
              <a:buChar char=""/>
              <a:tabLst>
                <a:tab algn="l" pos="544680"/>
                <a:tab algn="l" pos="1089000"/>
                <a:tab algn="l" pos="1633680"/>
                <a:tab algn="l" pos="2178000"/>
                <a:tab algn="l" pos="2722680"/>
                <a:tab algn="l" pos="3267000"/>
                <a:tab algn="l" pos="3811680"/>
                <a:tab algn="l" pos="4356000"/>
                <a:tab algn="l" pos="4900680"/>
                <a:tab algn="l" pos="5445000"/>
                <a:tab algn="l" pos="5989680"/>
                <a:tab algn="l" pos="6534000"/>
                <a:tab algn="l" pos="7078680"/>
                <a:tab algn="l" pos="7623000"/>
                <a:tab algn="l" pos="8167680"/>
                <a:tab algn="l" pos="8712360"/>
                <a:tab algn="l" pos="9256680"/>
                <a:tab algn="l" pos="9801360"/>
                <a:tab algn="l" pos="10345680"/>
                <a:tab algn="l" pos="10890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meštajni kapaciteti: oko 5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838080"/>
            <a:ext cx="2286000" cy="129564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4360" rIns="54360" tIns="27360" bIns="27360" anchor="t">
            <a:normAutofit/>
          </a:bodyPr>
          <a:p>
            <a:pPr marL="204840" indent="-204840">
              <a:spcBef>
                <a:spcPts val="451"/>
              </a:spcBef>
              <a:tabLst>
                <a:tab algn="l" pos="0"/>
                <a:tab algn="l" pos="544680"/>
                <a:tab algn="l" pos="1089000"/>
                <a:tab algn="l" pos="1633680"/>
                <a:tab algn="l" pos="2178000"/>
                <a:tab algn="l" pos="2722680"/>
                <a:tab algn="l" pos="3267000"/>
                <a:tab algn="l" pos="3811680"/>
                <a:tab algn="l" pos="4356000"/>
                <a:tab algn="l" pos="4900680"/>
                <a:tab algn="l" pos="5445000"/>
                <a:tab algn="l" pos="5989680"/>
                <a:tab algn="l" pos="6534000"/>
                <a:tab algn="l" pos="7078680"/>
                <a:tab algn="l" pos="7623000"/>
                <a:tab algn="l" pos="8167680"/>
                <a:tab algn="l" pos="8712360"/>
                <a:tab algn="l" pos="9256680"/>
                <a:tab algn="l" pos="9801360"/>
                <a:tab algn="l" pos="10345680"/>
                <a:tab algn="l" pos="1089036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Industrij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04840" indent="-204840">
              <a:spcBef>
                <a:spcPts val="349"/>
              </a:spcBef>
              <a:buClr>
                <a:srgbClr val="0033cc"/>
              </a:buClr>
              <a:buSzPct val="80000"/>
              <a:buFont typeface="Monotype Sorts" charset="2"/>
              <a:buChar char=""/>
              <a:tabLst>
                <a:tab algn="l" pos="544680"/>
                <a:tab algn="l" pos="1089000"/>
                <a:tab algn="l" pos="1633680"/>
                <a:tab algn="l" pos="2178000"/>
                <a:tab algn="l" pos="2722680"/>
                <a:tab algn="l" pos="3267000"/>
                <a:tab algn="l" pos="3811680"/>
                <a:tab algn="l" pos="4356000"/>
                <a:tab algn="l" pos="4900680"/>
                <a:tab algn="l" pos="5445000"/>
                <a:tab algn="l" pos="5989680"/>
                <a:tab algn="l" pos="6534000"/>
                <a:tab algn="l" pos="7078680"/>
                <a:tab algn="l" pos="7623000"/>
                <a:tab algn="l" pos="8167680"/>
                <a:tab algn="l" pos="8712360"/>
                <a:tab algn="l" pos="9256680"/>
                <a:tab algn="l" pos="9801360"/>
                <a:tab algn="l" pos="10345680"/>
                <a:tab algn="l" pos="10890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seće oblasti: crna metalurgija, metaloprerađivačka i mašinska industrij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28760" y="380520"/>
            <a:ext cx="4829040" cy="38124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53753" dir="2700000" blurRad="0" rotWithShape="0">
              <a:srgbClr val="989879"/>
            </a:outerShdw>
          </a:effectLst>
        </p:spPr>
        <p:txBody>
          <a:bodyPr lIns="54720" rIns="54720" tIns="27360" bIns="273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44680"/>
                <a:tab algn="l" pos="1089000"/>
                <a:tab algn="l" pos="1633680"/>
                <a:tab algn="l" pos="2178000"/>
                <a:tab algn="l" pos="2722680"/>
                <a:tab algn="l" pos="3267000"/>
                <a:tab algn="l" pos="3811680"/>
                <a:tab algn="l" pos="4356000"/>
                <a:tab algn="l" pos="4900680"/>
                <a:tab algn="l" pos="5445000"/>
                <a:tab algn="l" pos="5989680"/>
                <a:tab algn="l" pos="6534000"/>
                <a:tab algn="l" pos="7078680"/>
                <a:tab algn="l" pos="7623000"/>
                <a:tab algn="l" pos="8167680"/>
                <a:tab algn="l" pos="8712360"/>
                <a:tab algn="l" pos="9256680"/>
                <a:tab algn="l" pos="9801360"/>
                <a:tab algn="l" pos="10345680"/>
                <a:tab algn="l" pos="10890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ZAPOSLEN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28400" y="1099800"/>
            <a:ext cx="1933560" cy="2328840"/>
          </a:xfrm>
          <a:prstGeom prst="rect">
            <a:avLst/>
          </a:prstGeom>
          <a:noFill/>
          <a:ln w="0">
            <a:noFill/>
          </a:ln>
        </p:spPr>
        <p:txBody>
          <a:bodyPr lIns="54360" rIns="54360" tIns="27360" bIns="27360" anchor="t">
            <a:normAutofit fontScale="99000"/>
          </a:bodyPr>
          <a:p>
            <a:pPr marL="202680" indent="-202680">
              <a:spcBef>
                <a:spcPts val="451"/>
              </a:spcBef>
              <a:buClr>
                <a:srgbClr val="000000"/>
              </a:buClr>
              <a:buSzPct val="80000"/>
              <a:buFont typeface="Monotype Sorts" charset="2"/>
              <a:buChar char=""/>
              <a:tabLst>
                <a:tab algn="l" pos="544680"/>
                <a:tab algn="l" pos="1089000"/>
                <a:tab algn="l" pos="1633680"/>
                <a:tab algn="l" pos="2178000"/>
                <a:tab algn="l" pos="2722680"/>
                <a:tab algn="l" pos="3267000"/>
                <a:tab algn="l" pos="3811680"/>
                <a:tab algn="l" pos="4356000"/>
                <a:tab algn="l" pos="4900680"/>
                <a:tab algn="l" pos="5445000"/>
                <a:tab algn="l" pos="5989680"/>
                <a:tab algn="l" pos="6534000"/>
                <a:tab algn="l" pos="7078680"/>
                <a:tab algn="l" pos="7623000"/>
                <a:tab algn="l" pos="8167680"/>
                <a:tab algn="l" pos="8712360"/>
                <a:tab algn="l" pos="9256680"/>
                <a:tab algn="l" pos="9801360"/>
                <a:tab algn="l" pos="10345680"/>
                <a:tab algn="l" pos="10890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oj zaposlenih 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02680" indent="0">
              <a:spcBef>
                <a:spcPts val="451"/>
              </a:spcBef>
              <a:buNone/>
              <a:tabLst>
                <a:tab algn="l" pos="0"/>
                <a:tab algn="l" pos="544680"/>
                <a:tab algn="l" pos="1089000"/>
                <a:tab algn="l" pos="1633680"/>
                <a:tab algn="l" pos="2178000"/>
                <a:tab algn="l" pos="2722680"/>
                <a:tab algn="l" pos="3267000"/>
                <a:tab algn="l" pos="3811680"/>
                <a:tab algn="l" pos="4356000"/>
                <a:tab algn="l" pos="4900680"/>
                <a:tab algn="l" pos="5445000"/>
                <a:tab algn="l" pos="5989680"/>
                <a:tab algn="l" pos="6534000"/>
                <a:tab algn="l" pos="7078680"/>
                <a:tab algn="l" pos="7623000"/>
                <a:tab algn="l" pos="8167680"/>
                <a:tab algn="l" pos="8712360"/>
                <a:tab algn="l" pos="9256680"/>
                <a:tab algn="l" pos="9801360"/>
                <a:tab algn="l" pos="10345680"/>
                <a:tab algn="l" pos="10890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02680" indent="0">
              <a:spcBef>
                <a:spcPts val="451"/>
              </a:spcBef>
              <a:buNone/>
              <a:tabLst>
                <a:tab algn="l" pos="0"/>
                <a:tab algn="l" pos="544680"/>
                <a:tab algn="l" pos="1089000"/>
                <a:tab algn="l" pos="1633680"/>
                <a:tab algn="l" pos="2178000"/>
                <a:tab algn="l" pos="2722680"/>
                <a:tab algn="l" pos="3267000"/>
                <a:tab algn="l" pos="3811680"/>
                <a:tab algn="l" pos="4356000"/>
                <a:tab algn="l" pos="4900680"/>
                <a:tab algn="l" pos="5445000"/>
                <a:tab algn="l" pos="5989680"/>
                <a:tab algn="l" pos="6534000"/>
                <a:tab algn="l" pos="7078680"/>
                <a:tab algn="l" pos="7623000"/>
                <a:tab algn="l" pos="8167680"/>
                <a:tab algn="l" pos="8712360"/>
                <a:tab algn="l" pos="9256680"/>
                <a:tab algn="l" pos="9801360"/>
                <a:tab algn="l" pos="10345680"/>
                <a:tab algn="l" pos="10890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02680" indent="0">
              <a:spcBef>
                <a:spcPts val="451"/>
              </a:spcBef>
              <a:buNone/>
              <a:tabLst>
                <a:tab algn="l" pos="0"/>
                <a:tab algn="l" pos="544680"/>
                <a:tab algn="l" pos="1089000"/>
                <a:tab algn="l" pos="1633680"/>
                <a:tab algn="l" pos="2178000"/>
                <a:tab algn="l" pos="2722680"/>
                <a:tab algn="l" pos="3267000"/>
                <a:tab algn="l" pos="3811680"/>
                <a:tab algn="l" pos="4356000"/>
                <a:tab algn="l" pos="4900680"/>
                <a:tab algn="l" pos="5445000"/>
                <a:tab algn="l" pos="5989680"/>
                <a:tab algn="l" pos="6534000"/>
                <a:tab algn="l" pos="7078680"/>
                <a:tab algn="l" pos="7623000"/>
                <a:tab algn="l" pos="8167680"/>
                <a:tab algn="l" pos="8712360"/>
                <a:tab algn="l" pos="9256680"/>
                <a:tab algn="l" pos="9801360"/>
                <a:tab algn="l" pos="10345680"/>
                <a:tab algn="l" pos="10890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02680" indent="0">
              <a:spcBef>
                <a:spcPts val="451"/>
              </a:spcBef>
              <a:buNone/>
              <a:tabLst>
                <a:tab algn="l" pos="0"/>
                <a:tab algn="l" pos="544680"/>
                <a:tab algn="l" pos="1089000"/>
                <a:tab algn="l" pos="1633680"/>
                <a:tab algn="l" pos="2178000"/>
                <a:tab algn="l" pos="2722680"/>
                <a:tab algn="l" pos="3267000"/>
                <a:tab algn="l" pos="3811680"/>
                <a:tab algn="l" pos="4356000"/>
                <a:tab algn="l" pos="4900680"/>
                <a:tab algn="l" pos="5445000"/>
                <a:tab algn="l" pos="5989680"/>
                <a:tab algn="l" pos="6534000"/>
                <a:tab algn="l" pos="7078680"/>
                <a:tab algn="l" pos="7623000"/>
                <a:tab algn="l" pos="8167680"/>
                <a:tab algn="l" pos="8712360"/>
                <a:tab algn="l" pos="9256680"/>
                <a:tab algn="l" pos="9801360"/>
                <a:tab algn="l" pos="10345680"/>
                <a:tab algn="l" pos="10890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02680" indent="-202680">
              <a:spcBef>
                <a:spcPts val="451"/>
              </a:spcBef>
              <a:buClr>
                <a:srgbClr val="000000"/>
              </a:buClr>
              <a:buSzPct val="80000"/>
              <a:buFont typeface="Monotype Sorts" charset="2"/>
              <a:buChar char=""/>
              <a:tabLst>
                <a:tab algn="l" pos="544680"/>
                <a:tab algn="l" pos="1089000"/>
                <a:tab algn="l" pos="1633680"/>
                <a:tab algn="l" pos="2178000"/>
                <a:tab algn="l" pos="2722680"/>
                <a:tab algn="l" pos="3267000"/>
                <a:tab algn="l" pos="3811680"/>
                <a:tab algn="l" pos="4356000"/>
                <a:tab algn="l" pos="4900680"/>
                <a:tab algn="l" pos="5445000"/>
                <a:tab algn="l" pos="5989680"/>
                <a:tab algn="l" pos="6534000"/>
                <a:tab algn="l" pos="7078680"/>
                <a:tab algn="l" pos="7623000"/>
                <a:tab algn="l" pos="8167680"/>
                <a:tab algn="l" pos="8712360"/>
                <a:tab algn="l" pos="9256680"/>
                <a:tab algn="l" pos="9801360"/>
                <a:tab algn="l" pos="10345680"/>
                <a:tab algn="l" pos="10890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oj nezaposlenih - 19.82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2590920" y="914400"/>
          <a:ext cx="2819160" cy="270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914400"/>
                    <a:ext cx="2819160" cy="27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"/>
          <p:cNvSpPr txBox="1"/>
          <p:nvPr/>
        </p:nvSpPr>
        <p:spPr>
          <a:xfrm>
            <a:off x="685800" y="1523880"/>
            <a:ext cx="106668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3399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58.410</a:t>
            </a:r>
            <a:endParaRPr b="0" lang="en-US" sz="2400" spc="1" strike="noStrike">
              <a:ln w="0">
                <a:noFill/>
              </a:ln>
              <a:solidFill>
                <a:srgbClr val="333399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20T19:13:02Z</dcterms:created>
  <dc:creator>Korisnik 5</dc:creator>
  <dc:description/>
  <dc:language>en-US</dc:language>
  <cp:lastModifiedBy>No Name</cp:lastModifiedBy>
  <cp:lastPrinted>2000-12-20T20:03:24Z</cp:lastPrinted>
  <dcterms:modified xsi:type="dcterms:W3CDTF">2001-10-03T15:25:27Z</dcterms:modified>
  <cp:revision>147</cp:revision>
  <dc:subject/>
  <dc:title>No Slide Title</dc:title>
</cp:coreProperties>
</file>