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91A-D3FD-4873-85B3-75D92D15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03E-CDAA-4D0A-8BF2-EE3DA811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931-74ED-44A6-ACF3-3860BA78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F05-25CF-401B-9554-6C8ADB10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CA7-C6C9-4B22-ACAE-D19400E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561-17CB-4B78-9DAF-4AF6293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173-5902-443B-A757-334A03E1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E4D-5CD4-4FE9-B518-2F1A298A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614-3C17-4D71-956F-5F05104B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06B-252A-4136-98FE-1E98B96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332-6BEC-4B7C-BC61-941191AA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940-E333-401B-A351-0BE03B91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23E4-6FD7-47D1-9D71-4A10A6BB8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EDNJOROCNI PROGRA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OG RAZVOJA SRB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7335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ROTSKI  OKRU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STI  PRIOR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6386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ef0f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UVANJE POSTOJECIH USPESNIH PRIVREDNIH SUBJEKATA I REVITALIZACIJA POTENCIJALNO DOBR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RISCENJE PRIRODNIH RESURSA STARE PLANINE ZA PROIZVODNJU ZDRAVE HR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 FARM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SADI JAGODICASTOG VOCA, LESNIKA 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KOVITO I AROMATICNO BIL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TIVIRANJE KAPACITETA SLOBODNE CARINSKE ZONE “PIRO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RISCENJE HIDRO-POTENCIJALA NI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NA I ZELEZNICKA INFRASTRUK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ROPSKA MAGISTRALA E-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KTRIFIKACIJA ZELEZNICE NIS-DIMITROVG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KALNA PUTNA M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762120"/>
            <a:ext cx="7620120" cy="5029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SOV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BRIKE ZA EKSPLOATACIJU CISTE V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RIZAM I UGOSTITELJ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IMSKI, SPORTSKI, LOVNI, SEOSKI, MANASTI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ZIVLJAVANJE TRADICIONALNIH ZAN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LIMARST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NCARST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ALNI MEDIJSKI C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EBNI  PRIOR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NI GEO-PRE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BUSKA STA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RTSKA H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ISCAVANJE OTPADNIH V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LIVNI SIST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OSKI VODOV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REMANJE SKOLA I BOLNICA SAVREMENOM DIJAGNOSTICKOM OPREMOM I UCIL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kasrbije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364644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514600"/>
            <a:ext cx="701064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LK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43434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342900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457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...  NA POLA PUTA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95920" y="4124160"/>
            <a:ext cx="823680" cy="671760"/>
          </a:xfrm>
          <a:custGeom>
            <a:avLst/>
            <a:gdLst/>
            <a:ahLst/>
            <a:rect l="l" t="t" r="r" b="b"/>
            <a:pathLst>
              <a:path w="519" h="423">
                <a:moveTo>
                  <a:pt x="282" y="0"/>
                </a:moveTo>
                <a:cubicBezTo>
                  <a:pt x="247" y="4"/>
                  <a:pt x="211" y="6"/>
                  <a:pt x="176" y="12"/>
                </a:cubicBezTo>
                <a:cubicBezTo>
                  <a:pt x="164" y="14"/>
                  <a:pt x="150" y="14"/>
                  <a:pt x="141" y="23"/>
                </a:cubicBezTo>
                <a:cubicBezTo>
                  <a:pt x="132" y="32"/>
                  <a:pt x="137" y="49"/>
                  <a:pt x="129" y="59"/>
                </a:cubicBezTo>
                <a:cubicBezTo>
                  <a:pt x="120" y="70"/>
                  <a:pt x="106" y="74"/>
                  <a:pt x="94" y="82"/>
                </a:cubicBezTo>
                <a:cubicBezTo>
                  <a:pt x="76" y="153"/>
                  <a:pt x="23" y="202"/>
                  <a:pt x="0" y="270"/>
                </a:cubicBezTo>
                <a:cubicBezTo>
                  <a:pt x="31" y="361"/>
                  <a:pt x="13" y="382"/>
                  <a:pt x="106" y="411"/>
                </a:cubicBezTo>
                <a:cubicBezTo>
                  <a:pt x="173" y="390"/>
                  <a:pt x="240" y="401"/>
                  <a:pt x="306" y="423"/>
                </a:cubicBezTo>
                <a:cubicBezTo>
                  <a:pt x="340" y="372"/>
                  <a:pt x="352" y="379"/>
                  <a:pt x="411" y="364"/>
                </a:cubicBezTo>
                <a:cubicBezTo>
                  <a:pt x="505" y="227"/>
                  <a:pt x="375" y="422"/>
                  <a:pt x="447" y="294"/>
                </a:cubicBezTo>
                <a:cubicBezTo>
                  <a:pt x="515" y="173"/>
                  <a:pt x="479" y="267"/>
                  <a:pt x="506" y="188"/>
                </a:cubicBezTo>
                <a:cubicBezTo>
                  <a:pt x="482" y="69"/>
                  <a:pt x="519" y="165"/>
                  <a:pt x="459" y="117"/>
                </a:cubicBezTo>
                <a:cubicBezTo>
                  <a:pt x="404" y="73"/>
                  <a:pt x="461" y="94"/>
                  <a:pt x="423" y="47"/>
                </a:cubicBezTo>
                <a:cubicBezTo>
                  <a:pt x="398" y="15"/>
                  <a:pt x="341" y="9"/>
                  <a:pt x="306" y="0"/>
                </a:cubicBezTo>
                <a:cubicBezTo>
                  <a:pt x="265" y="14"/>
                  <a:pt x="261" y="21"/>
                  <a:pt x="282" y="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STI PODACI O OKRU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RUG  -  117.193 STANOVNIKA  NA  2.764 km2       43/k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PSTINE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BUSN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19.3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A PALAN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16.5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MITROVGR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13.48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R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67.77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 OPSTINSKA SEDISTA  I  216 S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RBA  -  74,7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GARA  -  14.5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GOSLOVENA  - 7.11%   ROMA  -  2.00%   OSTALI   1.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OSLJENIH  -  27.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ZAPOSLJENIH  -  11.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SEK BRUTO ZARADE ZA AVGUST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BUSN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77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IROT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4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LA PALANKA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09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MITROVGRAD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742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RUG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18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PROSEK U REPUBLICI SRBIJI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 -  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9.799  dina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V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191120" cy="5410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MLJ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RADIVO - 41.754 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E - 46.698 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NJACI - 29.599 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PLODNO - 5.259 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 RAVNICARS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 BRDSKO-PLANINS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A PLANINA (2.169 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RLJISKE PL. (1.210 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VA PLANINA (1.200 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6920" y="1066320"/>
            <a:ext cx="3581280" cy="5410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S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N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OC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ITNICKA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TANSKA RE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Z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RGOV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UMU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“PIR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KO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LJ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UP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LO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DNO I MINERALNO BL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MENI UGAL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EZ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VENI BOK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JANI SKRILJ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TONITSKA G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ZDRAVSTV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SV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MEDICINSKI C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DOMA ZDRAV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 AMBUL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0 LEK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 SREDNJEG MED. OSOB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NOVNE SK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000 UCE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0 PROSV. RAD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REDNJE I VISE SK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500 UCE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PROFE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NICKI I ZELEZNICKI KORID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   -   SO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895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895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743200"/>
            <a:ext cx="30492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2743200"/>
            <a:ext cx="30492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2743200"/>
            <a:ext cx="304920" cy="304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743200"/>
            <a:ext cx="30492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743200"/>
            <a:ext cx="30456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5053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PALANKA      PIR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DIMITROVGRAD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MPARATIVNE PRED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SKI POLOZ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GRANICNI OK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ROPSKA MAGISTRALA E-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I RESURSI U USLOVIMA EKOLOSKI CISTE SRE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DRAVA H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TA V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-POTENCIJAL NISAVE I PRIT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 “MALIH” H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a 200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NI 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IMITIRAJUCI FAK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ZAK NIVO PRIVREDNIH KAPAC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STARELA OPR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P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ZGUBLJENA TRZ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E STANJE PUTNE I ZELEZNICKE INFRASTRUK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DOSTATAK SREDSTAVA ZA KREDITIRANJE M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ONSKA REGU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CIJA STANOVN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O – G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RUG – DRUGI REG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1:28:39Z</dcterms:created>
  <dc:creator>Dragan</dc:creator>
  <dc:description/>
  <dc:language>en-US</dc:language>
  <cp:lastModifiedBy> </cp:lastModifiedBy>
  <dcterms:modified xsi:type="dcterms:W3CDTF">2001-10-03T16:48:28Z</dcterms:modified>
  <cp:revision>23</cp:revision>
  <dc:subject/>
  <dc:title>SREDNJOROCNI PROGRAM EKONOMSKOG RAZVOJA SRBIJE</dc:title>
</cp:coreProperties>
</file>