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F86-E812-4BAA-89F9-8EB251D8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F85-4CEB-4D36-BAA6-3F909AE2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88D-2A9C-4C61-9444-8EF2E3C9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A92-0E3D-450C-981C-B5D54820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F640-C221-4436-BDFF-067A8710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B52B-DC74-48A8-A9A0-36A183A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EC87-A587-4CB3-8AEF-F65E5DA1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6738-8F9E-4163-A9EE-8C092D1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7DB-025B-4068-B47C-9709096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0044-CB41-4AC6-B447-79E0D120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7F01-C593-46AE-A1FF-6DEDDE6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43C-928C-4BBB-9778-62B90740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ACF9-1509-41D1-BA7E-883994DE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24DF-7ED6-4CA8-AF13-0D4D6B0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95B-D1A3-450E-9804-0DC4CF1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53A2-AA89-4BEF-8989-B56C733E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40AE-081D-4F7F-B1D0-2EADBC86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A53-B4C6-4916-A845-F49DAEBB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3F6-F491-43EF-833B-764F8598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A38-3957-43A4-8839-EC170A3C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74F-9766-40BA-9CBE-3F14E02D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0A5-07D5-408F-B5FF-D0BBDA83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884-5BBD-4118-9121-5F03FEF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907-0F1C-428F-A4A1-40768E2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8154-D73F-4493-A346-B17CBFD6541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29D1-D4EF-4A5E-AC30-4E401FDD32B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95320" y="6858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ИШАВСКИ ОКРУГ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95320" y="1676520"/>
            <a:ext cx="4419720" cy="441936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ПШТИН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инац,  Гаџин Хан, Дољевац, Мерошина, Ниш - град, Ражањ, Сврљиг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СТАНОВНИКА: 396.043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 :  7.292 км</a:t>
            </a:r>
            <a:r>
              <a:rPr b="0" i="1" lang="sr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 ПОЉОПРИВРЕДНЕ ПОВРШИНЕ: 65,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ПОВРШИНЕ ПОД ШУМАМА: 10,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ЗАПОСЛЕНИХ:  95.69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ЕЗАПОСЛЕНИХ: 54.43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20" descr=""/>
          <p:cNvPicPr/>
          <p:nvPr/>
        </p:nvPicPr>
        <p:blipFill>
          <a:blip r:embed="rId8"/>
          <a:stretch/>
        </p:blipFill>
        <p:spPr>
          <a:xfrm>
            <a:off x="338040" y="895320"/>
            <a:ext cx="3714840" cy="52340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КОМПАРАТИВНЕ ПРЕДНОСТИ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ОВОЉАН ГЕОГРАФСКИ ПОЛОЖАЈ – РАСКРСНИЦА ДРУМСКОГ,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ЖЕЛЕЗНИЧКОГ И АВИО САОБРАЋАЈ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КАДРОВСКИ РЕСУРСИ – УНИВЕРЗИТЕТ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ЛОДНО ПОЉОПРИВРЕДНО ЗЕМЉИШТ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ТУРИСТИЧКЕ ДЕСТИНАЦИЈЕ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НИШКА БАЊ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ВА ПЛАНИН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ИЋЕВАЧКА И ЈЕЛАШНИЧКА КЛИСУР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АЛИ И ВЕЛИКИ ЈАСТРЕБАЦ, КОПАОНИК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ЦЕРЈАНСКА И ПРЕКОНОШКА ПЕЋИН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БОВАН И ОБЛАЧИНСКО ЈЕЗЕРО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ИНЕРАЛНЕ СИРОВИНЕ И МИНЕРАЛНЕ ВОД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ЗГРАЂЕНИ ПРЕРАЂИВАЧКИ КАПАЦИТЕТ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ИРАЈУЋИ ФАКТОРИ БРЖЕГ ПРИВРЕДНОГ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АЗВОЈНО ЗАОСТАЈАЊЕ У ОДНОСУ НА УЖЕ И ШИР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КРУЖЕЊ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ВЕЛИКА РАТНА РАЗАРАЊА НИША 1999. ГОДИНЕ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ДОСТАТАК ТРАЈНИХ ОБРТНИХ СРЕДСТАВА ЗА РАЗВОЈ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ДОВОЉНА  ИЗГРАЂЕНОСТ И ОПРЕМЉЕНОСТ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ИНФРАСТРУКТУРНИХ ОБЈЕКАТ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ДЕМОГРАФСКО ПРАЖЊЕЊЕ НЕРАЗВИЈЕНИХ ОПШТИНА СА ПОДРУЧЈА ОКРУГ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ОГОРШАЊЕ СТАРОСНЕ СТРУКТУРЕ ПОЉОПРИВРЕДНОГ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ТАНОВНИШТВ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ПРИОРИТЕТИ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5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РИОРИТЕТИ (ИНТЕР)НАЦИОНАЛНОГ ЗНАЧАЈ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4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75000"/>
              </a:lnSpc>
              <a:spcBef>
                <a:spcPts val="1837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ПУТ Е-75 НИШ-МАКЕДОНСКА ГРАНИЦ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75000"/>
              </a:lnSpc>
              <a:spcBef>
                <a:spcPts val="1837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ПУТ Е-80 НИШ-БУГАРСКА ГРАНИЦ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75000"/>
              </a:lnSpc>
              <a:spcBef>
                <a:spcPts val="18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ВИЛНИ АЕРОДРОМ У НИШУ (КОМПЛЕТИРАЊЕ ИНФРАСТРУКТУРЕ)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75000"/>
              </a:lnSpc>
              <a:spcBef>
                <a:spcPts val="18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ФИКАЦИЈА ПРУГЕ НИШ-ДИМИТРОВГРАД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75000"/>
              </a:lnSpc>
              <a:spcBef>
                <a:spcPts val="1837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ЈА И ЕЛЕКТРИФИКАЦИЈА ПРУГЕ НИШ-КОСОВО ПОЉЕ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75000"/>
              </a:lnSpc>
              <a:spcBef>
                <a:spcPts val="1837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ДЊА МАГИСТРАЛНОГ ПУТА КЛАДОВО-НИШ-ПРИШТИН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18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ТЕХНОЛОШКИ ПАРК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1837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ЕТАК И ОПРЕМАЊЕ МОНО БЛОКА НОВОГ КЛИНИЧКОГ ЦЕНТРА У НИШУ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РИОРИТЕТИ РЕГИОНАЛНОГ ЗНАЧАЈ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И ГАСОВОД ПАРАЋИН-НИШ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ОД НИШ-БУГАРСКА ГРАНИЦ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НИ ВОДОПРИВРЕДНИ СИСТЕМ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”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ВА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ИОНАЛНИ ВОДОПРИВРЕДНИ СИСТЕМ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ВАН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ЗА ВОДОСНАБДЕВАЊЕ БРЕСТОВАЦ-БОЈНИК- ДОЉЕВАЦ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ЈА И ОПРЕМАЊЕ ОБЈЕКТА (МИН ИНСТИТУТ) ЗА ПОТРЕБЕ ПМФ У НИШУ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876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ДЊА ЈУЖНЕ ЗАОБИЛАЗНИЦЕ НИШ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РИОРИТЕТИ ЛОКАЛНОГ ЗНАЧАЈА 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ВНИ СИСТЕМ АКУМУЛАЦИЈЕ «БОВАН»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ЕТАК ИЗГРАДЊЕ ФАБРИКЕ ЗА ПРОИЗВОДЊУ, ПРЕРАДУ И ЗАМРЗАВАЊЕ ВОЋА У ДОЊЕМ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НИКУ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КА ВОДЕ У МЕРОШИНИ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 СОЛАРНИХ КОЛЕКТОРА «ЈУГОТЕРМ»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КРУЖИВАЊЕ СИСТЕМА ВОДОСНАБДЕВАЊА НИША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ДЊА ТОПЛАНЕ-ЕЛЕКТРАНЕ У НИШУ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А СМЕЋА У НИШУ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РЕДНО-ТУРИСТИЧКИ КОМПЛЕКС «ЖЕНЕВА» У НИШКОЈ БАЊИ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876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И ЗА ПРЕРАДУ ШУМСКИХ ПЛОДОВА И ЛЕКОВИТОГ БИЉА – РАЖА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876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И РАЗВОЈА СТОЧАРСТВА - СВРЉИГ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1:27:52Z</dcterms:created>
  <dc:creator>No Name</dc:creator>
  <dc:description/>
  <dc:language>en-US</dc:language>
  <cp:lastModifiedBy>No Name</cp:lastModifiedBy>
  <dcterms:modified xsi:type="dcterms:W3CDTF">2001-10-03T17:10:18Z</dcterms:modified>
  <cp:revision>26</cp:revision>
  <dc:subject/>
  <dc:title>МОРАВИЧКИ ОКРУГ</dc:title>
</cp:coreProperties>
</file>