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3EE-04F1-42A8-B8A2-F930C94A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6A6E-A9A1-4C38-93AB-AFC3DA08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1A8F-E542-4BB3-9D5D-A3FE7471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FC5E-D44E-405F-ACC4-0D640D4E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1E2E-F676-4877-8D8D-A016F60A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6D17-7B81-4870-BFFA-B17EC2C4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AB76-AC1E-41F1-8548-D1815E82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E4D9-0030-49A3-93FC-097D3E8D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2E04-CB6D-4E32-A095-F5A318B6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34A8-4437-46C4-B91D-79C04E94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2835-73D7-4D7B-B4EB-1405C595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782A-714E-4C0C-A733-C8BA1817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6E9F-6527-4374-8829-BC9C56C4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3146-6F69-40E4-949A-56504025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5790-CFE1-43DE-A156-C34C9576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B835-0A1F-4B0B-B7FB-A484E4C3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496B-72AD-40B9-BBAC-C1917111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96B7-DD08-4FFB-A553-67504F56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C40D-3917-4B9C-B75D-F91F6F56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007F-B24B-4D92-8C86-DA5BF637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AEC7-E0B9-4C2D-B12A-3272A889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FC6E-6DC5-4D61-8B78-24F6E428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40A3-6A7E-4B9D-A116-963AFEA6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E58E-6733-4C16-ADC1-C82D2EFD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1F9A-571E-4328-858D-94540DF3F44B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C25D-DAA5-4167-A2EA-BC0546BA11A4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47960" y="609480"/>
            <a:ext cx="4190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РАВИЧКИ ОКРУГ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495320" y="1828440"/>
            <a:ext cx="4419720" cy="42670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ОПШТИНА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Горњи Милановац, Чачак, Лучани, Ивањица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9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СТАНОВНИКА: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Times New Roman"/>
              </a:rPr>
              <a:t>230.748</a:t>
            </a: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А : 3.</a:t>
            </a:r>
            <a:r>
              <a:rPr b="0" i="1" lang="sr-CS" sz="1600" spc="-1" strike="noStrike">
                <a:solidFill>
                  <a:srgbClr val="000000"/>
                </a:solidFill>
                <a:latin typeface="Times New Roman"/>
              </a:rPr>
              <a:t>016</a:t>
            </a: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</a:t>
            </a:r>
            <a:r>
              <a:rPr b="0" i="1" lang="sr-C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 ПОЉОПРИВРЕДНЕ ПОВРШИНЕ: </a:t>
            </a:r>
            <a:r>
              <a:rPr b="0" i="1" lang="sr-CS" sz="1600" spc="-1" strike="noStrike">
                <a:solidFill>
                  <a:srgbClr val="000000"/>
                </a:solidFill>
                <a:latin typeface="Times New Roman"/>
              </a:rPr>
              <a:t>59,1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ПОВРШИНЕ ПОД ШУМАМА: </a:t>
            </a:r>
            <a:r>
              <a:rPr b="0" i="1" lang="sr-CS" sz="1600" spc="-1" strike="noStrike">
                <a:solidFill>
                  <a:srgbClr val="000000"/>
                </a:solidFill>
                <a:latin typeface="Times New Roman"/>
              </a:rPr>
              <a:t>36,1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ЗАПОСЛЕНИХ: </a:t>
            </a:r>
            <a:r>
              <a:rPr b="0" i="1" lang="sr-CS" sz="1600" spc="-1" strike="noStrike">
                <a:solidFill>
                  <a:srgbClr val="000000"/>
                </a:solidFill>
                <a:latin typeface="Times New Roman"/>
              </a:rPr>
              <a:t>59.595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НЕЗАПОСЛЕНИХ: </a:t>
            </a:r>
            <a:r>
              <a:rPr b="0" i="1" lang="sr-CS" sz="1600" spc="-1" strike="noStrike">
                <a:solidFill>
                  <a:srgbClr val="000000"/>
                </a:solidFill>
                <a:latin typeface="Times New Roman"/>
              </a:rPr>
              <a:t>19.947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0" name="okruzic17" descr=""/>
          <p:cNvPicPr/>
          <p:nvPr/>
        </p:nvPicPr>
        <p:blipFill>
          <a:blip r:embed="rId8"/>
          <a:stretch/>
        </p:blipFill>
        <p:spPr>
          <a:xfrm>
            <a:off x="347760" y="884160"/>
            <a:ext cx="3709800" cy="522612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МПАРАТИВНЕ ПРЕДНОСТИ</a:t>
            </a: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42670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463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ВОЉНА ПРИВРЕДНА СТРУКТУР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АЗВИЈЕНО ПРИВАТНО ПРЕДУЗЕТНИШТВО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ЕЛАТИВНО ВИСОК НИВО ПЛАТНОГ ПРОМЕТ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АЗВИЈЕНА ПОЉОПРИВРЕД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ЗАНИМЉИВА ТУРИСТИЧКА ПОНУД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СТОЈАЊЕ ВИСОКООБРАЗОВНИХ И НАУЧНИХ УСТАНОВ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ВОЉНЕ ЕКОЛОШКЕ ОКОЛНОСТИ ЗА ПРОИЗВОДЊУ ЗДРАВЕ ХРАНЕ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ОЛИДАН КАДРОВСКИ ПОТЕНЦИЈАЛ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ИОРИТЕТИ</a:t>
            </a: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3124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ИВРЕД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289160" indent="-429480">
              <a:lnSpc>
                <a:spcPct val="80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РЕВИТАЛИЗАЦИЈА КАПАЦИТЕТА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47000" indent="-357840">
              <a:lnSpc>
                <a:spcPct val="80000"/>
              </a:lnSpc>
              <a:spcBef>
                <a:spcPts val="1250"/>
              </a:spcBef>
              <a:buClr>
                <a:srgbClr val="8383ad"/>
              </a:buClr>
              <a:buSzPct val="6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ЛОБОДА” - ЧАЧАК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47000" indent="-357840">
              <a:lnSpc>
                <a:spcPct val="80000"/>
              </a:lnSpc>
              <a:spcBef>
                <a:spcPts val="1250"/>
              </a:spcBef>
              <a:buClr>
                <a:srgbClr val="8383ad"/>
              </a:buClr>
              <a:buSzPct val="6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ИЛАН БЛАГОЈЕВИЋ” – ЛУЧАНИ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47000" indent="-357840">
              <a:lnSpc>
                <a:spcPct val="80000"/>
              </a:lnSpc>
              <a:spcBef>
                <a:spcPts val="1250"/>
              </a:spcBef>
              <a:buClr>
                <a:srgbClr val="8383ad"/>
              </a:buClr>
              <a:buSzPct val="6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ИК “ТАКОВО” – ГОРЊИ МИЛАНОВАЦ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9309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НФРАСТРУКТУР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289160" indent="-429480">
              <a:lnSpc>
                <a:spcPct val="8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ЗГРАДЊА ВИТАЛНИХ КОМУНАЛНИХ ОБЈЕКАТ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289160" indent="-429480">
              <a:lnSpc>
                <a:spcPct val="8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ЗГРАДЊА АКУМУЛАЦИЈЕ - БРАНА “СВРАЧКОВО”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289160" indent="-429480">
              <a:lnSpc>
                <a:spcPct val="8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ЕДОСТАТАК ДЕПОНИЈ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289160" indent="-429480">
              <a:lnSpc>
                <a:spcPct val="80000"/>
              </a:lnSpc>
              <a:spcBef>
                <a:spcPts val="125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ЗГРАДЊА ПУТНЕ МРЕЖЕ И ПАРКИНГ ПРОСТОР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5727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ЈАВНЕ СЛУЖБЕ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ОШИРЕЊЕ ПРОСТОРА ЗА КУЛТУРНЕ И ОБРАЗОВНЕ ДЕЛАТНОСТИ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ЗГРАДЊА ДЕЧЈИХ УСТАНОВ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ОБЕЗБЕЂИВАЊЕ ПРОСТОРА ЗА БИБЛИОТЕКУ “ВЛАДИСЛАВ ПЕТКОВИЋ – ДИС”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АНЦИЈА КРОВНЕ КОНСТРУКЦИЈЕ НА ЗГРАДИ ТЕХНИЧКОГ ФАКУЛТЕТ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АНАЦИЈА ШКОЛСКИХ ОБЈЕКАТА И ОПРЕМАЊЕ УЧИОНИЦА И КАБИНЕТА САВРЕМЕНИМ НАСТАВНИМ СРЕДСТВИМ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11:27:52Z</dcterms:created>
  <dc:creator>No Name</dc:creator>
  <dc:description/>
  <dc:language>en-US</dc:language>
  <cp:lastModifiedBy>No Name</cp:lastModifiedBy>
  <dcterms:modified xsi:type="dcterms:W3CDTF">2001-10-03T18:27:27Z</dcterms:modified>
  <cp:revision>20</cp:revision>
  <dc:subject/>
  <dc:title>МОРАВИЧКИ ОКРУГ</dc:title>
</cp:coreProperties>
</file>