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DB0-4455-482F-BA20-D26909C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A7E-CABD-4F4E-AF20-1FFB196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BD1-CCC9-4985-A835-FFAA84C1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62F-B4EA-42C4-8ECC-356E0614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B4B-9F8C-41ED-A883-BFD49DA8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40A-1CF1-45E6-85E8-8BBD55B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374-A8A8-42A6-BB6F-D82AA6DE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691-6080-44C2-9F8E-D5A5D1EE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07B-C9D2-4ACA-9DD2-1179671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EA3-99E5-4D85-BDB0-4C26A15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D45-75AB-4744-AEE3-2B810CA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8B0-5AFB-4C8B-8705-8A21149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106-BF2D-4D83-A18A-8E1CC8DB4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0320"/>
            <a:ext cx="9144000" cy="1954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 e p u b l i c   o f   S e r b i 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MINISTRY OF URBAN PLANNING AND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Belgrade, 22-26 Nemanjina St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sl-SI" sz="2400" spc="-1" strike="noStrike">
                <a:solidFill>
                  <a:srgbClr val="99ffcc"/>
                </a:solidFill>
                <a:latin typeface="Century Gothic"/>
              </a:rPr>
              <a:t>http: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//www.mugrs.sr.gov.yu</a:t>
            </a:r>
            <a:r>
              <a:rPr b="0" lang="en-U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e-mail: mugrs@EUnet.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828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 Gothic"/>
              </a:rPr>
              <a:t>M i n i s t e r</a:t>
            </a:r>
            <a:r>
              <a:rPr b="0" lang="en-US" sz="2800" spc="-1" strike="noStrike">
                <a:solidFill>
                  <a:srgbClr val="ffffc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Prof. Dragoslav </a:t>
            </a:r>
            <a:r>
              <a:rPr b="1" i="1" lang="sl-SI" sz="2800" spc="-1" strike="noStrike">
                <a:solidFill>
                  <a:srgbClr val="ffffcc"/>
                </a:solidFill>
                <a:latin typeface="Century Gothic"/>
              </a:rPr>
              <a:t>Š</a:t>
            </a: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umarac, Ph.D., C.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e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lgrad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14</a:t>
            </a:r>
            <a:r>
              <a:rPr b="0" lang="en-US" sz="2000" spc="-1" strike="noStrike" baseline="30000">
                <a:solidFill>
                  <a:srgbClr val="ffffcc"/>
                </a:solidFill>
                <a:latin typeface="Century Gothic"/>
              </a:rPr>
              <a:t>th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Novem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r 2002</a:t>
            </a:r>
            <a:r>
              <a:rPr b="1" i="1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19051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REAL ESTATE 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CADAS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0720" y="131760"/>
            <a:ext cx="8498880" cy="1031400"/>
          </a:xfrm>
          <a:prstGeom prst="rect">
            <a:avLst/>
          </a:prstGeom>
          <a:solidFill>
            <a:srgbClr val="333300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5520" y="1492200"/>
            <a:ext cx="3644640" cy="4788000"/>
          </a:xfrm>
          <a:prstGeom prst="rect">
            <a:avLst/>
          </a:prstGeom>
          <a:solidFill>
            <a:srgbClr val="333300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en-US" sz="26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 of territory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Republi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s covered with 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”LAND BOOK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19,1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territory of 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Republi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has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19720" y="2409840"/>
            <a:ext cx="2560680" cy="1015920"/>
            <a:chOff x="4419720" y="2409840"/>
            <a:chExt cx="2560680" cy="1015920"/>
          </a:xfrm>
        </p:grpSpPr>
        <p:sp>
          <p:nvSpPr>
            <p:cNvPr id="56" name=""/>
            <p:cNvSpPr/>
            <p:nvPr/>
          </p:nvSpPr>
          <p:spPr>
            <a:xfrm>
              <a:off x="5715000" y="2409840"/>
              <a:ext cx="1265400" cy="330120"/>
            </a:xfrm>
            <a:custGeom>
              <a:avLst/>
              <a:gdLst/>
              <a:ahLst/>
              <a:rect l="l" t="t" r="r" b="b"/>
              <a:pathLst>
                <a:path w="797" h="208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53" y="4"/>
                  </a:lnTo>
                  <a:lnTo>
                    <a:pt x="168" y="4"/>
                  </a:lnTo>
                  <a:lnTo>
                    <a:pt x="183" y="4"/>
                  </a:lnTo>
                  <a:lnTo>
                    <a:pt x="194" y="4"/>
                  </a:lnTo>
                  <a:lnTo>
                    <a:pt x="224" y="7"/>
                  </a:lnTo>
                  <a:lnTo>
                    <a:pt x="235" y="7"/>
                  </a:lnTo>
                  <a:lnTo>
                    <a:pt x="250" y="7"/>
                  </a:lnTo>
                  <a:lnTo>
                    <a:pt x="276" y="11"/>
                  </a:lnTo>
                  <a:lnTo>
                    <a:pt x="287" y="11"/>
                  </a:lnTo>
                  <a:lnTo>
                    <a:pt x="302" y="15"/>
                  </a:lnTo>
                  <a:lnTo>
                    <a:pt x="328" y="19"/>
                  </a:lnTo>
                  <a:lnTo>
                    <a:pt x="339" y="19"/>
                  </a:lnTo>
                  <a:lnTo>
                    <a:pt x="354" y="19"/>
                  </a:lnTo>
                  <a:lnTo>
                    <a:pt x="376" y="22"/>
                  </a:lnTo>
                  <a:lnTo>
                    <a:pt x="391" y="26"/>
                  </a:lnTo>
                  <a:lnTo>
                    <a:pt x="402" y="26"/>
                  </a:lnTo>
                  <a:lnTo>
                    <a:pt x="425" y="30"/>
                  </a:lnTo>
                  <a:lnTo>
                    <a:pt x="439" y="33"/>
                  </a:lnTo>
                  <a:lnTo>
                    <a:pt x="451" y="33"/>
                  </a:lnTo>
                  <a:lnTo>
                    <a:pt x="473" y="37"/>
                  </a:lnTo>
                  <a:lnTo>
                    <a:pt x="484" y="41"/>
                  </a:lnTo>
                  <a:lnTo>
                    <a:pt x="495" y="45"/>
                  </a:lnTo>
                  <a:lnTo>
                    <a:pt x="518" y="48"/>
                  </a:lnTo>
                  <a:lnTo>
                    <a:pt x="529" y="48"/>
                  </a:lnTo>
                  <a:lnTo>
                    <a:pt x="536" y="52"/>
                  </a:lnTo>
                  <a:lnTo>
                    <a:pt x="547" y="56"/>
                  </a:lnTo>
                  <a:lnTo>
                    <a:pt x="570" y="59"/>
                  </a:lnTo>
                  <a:lnTo>
                    <a:pt x="577" y="63"/>
                  </a:lnTo>
                  <a:lnTo>
                    <a:pt x="588" y="67"/>
                  </a:lnTo>
                  <a:lnTo>
                    <a:pt x="607" y="71"/>
                  </a:lnTo>
                  <a:lnTo>
                    <a:pt x="614" y="74"/>
                  </a:lnTo>
                  <a:lnTo>
                    <a:pt x="626" y="78"/>
                  </a:lnTo>
                  <a:lnTo>
                    <a:pt x="641" y="82"/>
                  </a:lnTo>
                  <a:lnTo>
                    <a:pt x="652" y="86"/>
                  </a:lnTo>
                  <a:lnTo>
                    <a:pt x="659" y="89"/>
                  </a:lnTo>
                  <a:lnTo>
                    <a:pt x="674" y="93"/>
                  </a:lnTo>
                  <a:lnTo>
                    <a:pt x="681" y="97"/>
                  </a:lnTo>
                  <a:lnTo>
                    <a:pt x="689" y="100"/>
                  </a:lnTo>
                  <a:lnTo>
                    <a:pt x="704" y="108"/>
                  </a:lnTo>
                  <a:lnTo>
                    <a:pt x="711" y="108"/>
                  </a:lnTo>
                  <a:lnTo>
                    <a:pt x="715" y="112"/>
                  </a:lnTo>
                  <a:lnTo>
                    <a:pt x="730" y="119"/>
                  </a:lnTo>
                  <a:lnTo>
                    <a:pt x="734" y="123"/>
                  </a:lnTo>
                  <a:lnTo>
                    <a:pt x="741" y="126"/>
                  </a:lnTo>
                  <a:lnTo>
                    <a:pt x="749" y="134"/>
                  </a:lnTo>
                  <a:lnTo>
                    <a:pt x="756" y="138"/>
                  </a:lnTo>
                  <a:lnTo>
                    <a:pt x="760" y="141"/>
                  </a:lnTo>
                  <a:lnTo>
                    <a:pt x="763" y="141"/>
                  </a:lnTo>
                  <a:lnTo>
                    <a:pt x="771" y="149"/>
                  </a:lnTo>
                  <a:lnTo>
                    <a:pt x="775" y="153"/>
                  </a:lnTo>
                  <a:lnTo>
                    <a:pt x="778" y="156"/>
                  </a:lnTo>
                  <a:lnTo>
                    <a:pt x="786" y="164"/>
                  </a:lnTo>
                  <a:lnTo>
                    <a:pt x="789" y="167"/>
                  </a:lnTo>
                  <a:lnTo>
                    <a:pt x="789" y="171"/>
                  </a:lnTo>
                  <a:lnTo>
                    <a:pt x="797" y="179"/>
                  </a:lnTo>
                  <a:lnTo>
                    <a:pt x="797" y="182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2739960"/>
              <a:ext cx="2546280" cy="685800"/>
            </a:xfrm>
            <a:custGeom>
              <a:avLst/>
              <a:gdLst/>
              <a:ahLst/>
              <a:rect l="l" t="t" r="r" b="b"/>
              <a:pathLst>
                <a:path w="1604" h="432">
                  <a:moveTo>
                    <a:pt x="1604" y="0"/>
                  </a:moveTo>
                  <a:lnTo>
                    <a:pt x="1604" y="4"/>
                  </a:lnTo>
                  <a:lnTo>
                    <a:pt x="1601" y="12"/>
                  </a:lnTo>
                  <a:lnTo>
                    <a:pt x="1601" y="15"/>
                  </a:lnTo>
                  <a:lnTo>
                    <a:pt x="1601" y="19"/>
                  </a:lnTo>
                  <a:lnTo>
                    <a:pt x="1597" y="26"/>
                  </a:lnTo>
                  <a:lnTo>
                    <a:pt x="1597" y="30"/>
                  </a:lnTo>
                  <a:lnTo>
                    <a:pt x="1593" y="34"/>
                  </a:lnTo>
                  <a:lnTo>
                    <a:pt x="1589" y="38"/>
                  </a:lnTo>
                  <a:lnTo>
                    <a:pt x="1586" y="41"/>
                  </a:lnTo>
                  <a:lnTo>
                    <a:pt x="1582" y="45"/>
                  </a:lnTo>
                  <a:lnTo>
                    <a:pt x="1575" y="53"/>
                  </a:lnTo>
                  <a:lnTo>
                    <a:pt x="1571" y="56"/>
                  </a:lnTo>
                  <a:lnTo>
                    <a:pt x="1567" y="60"/>
                  </a:lnTo>
                  <a:lnTo>
                    <a:pt x="1560" y="67"/>
                  </a:lnTo>
                  <a:lnTo>
                    <a:pt x="1556" y="71"/>
                  </a:lnTo>
                  <a:lnTo>
                    <a:pt x="1549" y="75"/>
                  </a:lnTo>
                  <a:lnTo>
                    <a:pt x="1541" y="82"/>
                  </a:lnTo>
                  <a:lnTo>
                    <a:pt x="1534" y="86"/>
                  </a:lnTo>
                  <a:lnTo>
                    <a:pt x="1530" y="86"/>
                  </a:lnTo>
                  <a:lnTo>
                    <a:pt x="1515" y="94"/>
                  </a:lnTo>
                  <a:lnTo>
                    <a:pt x="1511" y="97"/>
                  </a:lnTo>
                  <a:lnTo>
                    <a:pt x="1504" y="101"/>
                  </a:lnTo>
                  <a:lnTo>
                    <a:pt x="1489" y="108"/>
                  </a:lnTo>
                  <a:lnTo>
                    <a:pt x="1481" y="108"/>
                  </a:lnTo>
                  <a:lnTo>
                    <a:pt x="1474" y="112"/>
                  </a:lnTo>
                  <a:lnTo>
                    <a:pt x="1459" y="120"/>
                  </a:lnTo>
                  <a:lnTo>
                    <a:pt x="1452" y="123"/>
                  </a:lnTo>
                  <a:lnTo>
                    <a:pt x="1441" y="123"/>
                  </a:lnTo>
                  <a:lnTo>
                    <a:pt x="1426" y="131"/>
                  </a:lnTo>
                  <a:lnTo>
                    <a:pt x="1414" y="134"/>
                  </a:lnTo>
                  <a:lnTo>
                    <a:pt x="1407" y="134"/>
                  </a:lnTo>
                  <a:lnTo>
                    <a:pt x="1388" y="142"/>
                  </a:lnTo>
                  <a:lnTo>
                    <a:pt x="1377" y="146"/>
                  </a:lnTo>
                  <a:lnTo>
                    <a:pt x="1370" y="146"/>
                  </a:lnTo>
                  <a:lnTo>
                    <a:pt x="1347" y="153"/>
                  </a:lnTo>
                  <a:lnTo>
                    <a:pt x="1336" y="153"/>
                  </a:lnTo>
                  <a:lnTo>
                    <a:pt x="1329" y="157"/>
                  </a:lnTo>
                  <a:lnTo>
                    <a:pt x="1306" y="161"/>
                  </a:lnTo>
                  <a:lnTo>
                    <a:pt x="1295" y="164"/>
                  </a:lnTo>
                  <a:lnTo>
                    <a:pt x="1284" y="164"/>
                  </a:lnTo>
                  <a:lnTo>
                    <a:pt x="1262" y="172"/>
                  </a:lnTo>
                  <a:lnTo>
                    <a:pt x="1251" y="172"/>
                  </a:lnTo>
                  <a:lnTo>
                    <a:pt x="1239" y="175"/>
                  </a:lnTo>
                  <a:lnTo>
                    <a:pt x="1213" y="179"/>
                  </a:lnTo>
                  <a:lnTo>
                    <a:pt x="1202" y="179"/>
                  </a:lnTo>
                  <a:lnTo>
                    <a:pt x="1191" y="183"/>
                  </a:lnTo>
                  <a:lnTo>
                    <a:pt x="1165" y="187"/>
                  </a:lnTo>
                  <a:lnTo>
                    <a:pt x="1154" y="187"/>
                  </a:lnTo>
                  <a:lnTo>
                    <a:pt x="1139" y="190"/>
                  </a:lnTo>
                  <a:lnTo>
                    <a:pt x="1113" y="190"/>
                  </a:lnTo>
                  <a:lnTo>
                    <a:pt x="1102" y="194"/>
                  </a:lnTo>
                  <a:lnTo>
                    <a:pt x="1087" y="194"/>
                  </a:lnTo>
                  <a:lnTo>
                    <a:pt x="1061" y="198"/>
                  </a:lnTo>
                  <a:lnTo>
                    <a:pt x="1050" y="198"/>
                  </a:lnTo>
                  <a:lnTo>
                    <a:pt x="1035" y="198"/>
                  </a:lnTo>
                  <a:lnTo>
                    <a:pt x="1009" y="201"/>
                  </a:lnTo>
                  <a:lnTo>
                    <a:pt x="994" y="201"/>
                  </a:lnTo>
                  <a:lnTo>
                    <a:pt x="983" y="201"/>
                  </a:lnTo>
                  <a:lnTo>
                    <a:pt x="953" y="205"/>
                  </a:lnTo>
                  <a:lnTo>
                    <a:pt x="942" y="205"/>
                  </a:lnTo>
                  <a:lnTo>
                    <a:pt x="927" y="205"/>
                  </a:lnTo>
                  <a:lnTo>
                    <a:pt x="901" y="205"/>
                  </a:lnTo>
                  <a:lnTo>
                    <a:pt x="886" y="205"/>
                  </a:lnTo>
                  <a:lnTo>
                    <a:pt x="871" y="209"/>
                  </a:lnTo>
                  <a:lnTo>
                    <a:pt x="845" y="209"/>
                  </a:lnTo>
                  <a:lnTo>
                    <a:pt x="830" y="209"/>
                  </a:lnTo>
                  <a:lnTo>
                    <a:pt x="815" y="209"/>
                  </a:lnTo>
                  <a:lnTo>
                    <a:pt x="785" y="209"/>
                  </a:lnTo>
                  <a:lnTo>
                    <a:pt x="774" y="209"/>
                  </a:lnTo>
                  <a:lnTo>
                    <a:pt x="759" y="209"/>
                  </a:lnTo>
                  <a:lnTo>
                    <a:pt x="729" y="209"/>
                  </a:lnTo>
                  <a:lnTo>
                    <a:pt x="718" y="205"/>
                  </a:lnTo>
                  <a:lnTo>
                    <a:pt x="703" y="205"/>
                  </a:lnTo>
                  <a:lnTo>
                    <a:pt x="677" y="205"/>
                  </a:lnTo>
                  <a:lnTo>
                    <a:pt x="662" y="205"/>
                  </a:lnTo>
                  <a:lnTo>
                    <a:pt x="647" y="205"/>
                  </a:lnTo>
                  <a:lnTo>
                    <a:pt x="621" y="201"/>
                  </a:lnTo>
                  <a:lnTo>
                    <a:pt x="606" y="201"/>
                  </a:lnTo>
                  <a:lnTo>
                    <a:pt x="592" y="201"/>
                  </a:lnTo>
                  <a:lnTo>
                    <a:pt x="566" y="198"/>
                  </a:lnTo>
                  <a:lnTo>
                    <a:pt x="554" y="198"/>
                  </a:lnTo>
                  <a:lnTo>
                    <a:pt x="539" y="198"/>
                  </a:lnTo>
                  <a:lnTo>
                    <a:pt x="513" y="194"/>
                  </a:lnTo>
                  <a:lnTo>
                    <a:pt x="502" y="194"/>
                  </a:lnTo>
                  <a:lnTo>
                    <a:pt x="487" y="190"/>
                  </a:lnTo>
                  <a:lnTo>
                    <a:pt x="461" y="190"/>
                  </a:lnTo>
                  <a:lnTo>
                    <a:pt x="450" y="187"/>
                  </a:lnTo>
                  <a:lnTo>
                    <a:pt x="435" y="187"/>
                  </a:lnTo>
                  <a:lnTo>
                    <a:pt x="413" y="183"/>
                  </a:lnTo>
                  <a:lnTo>
                    <a:pt x="398" y="179"/>
                  </a:lnTo>
                  <a:lnTo>
                    <a:pt x="387" y="179"/>
                  </a:lnTo>
                  <a:lnTo>
                    <a:pt x="364" y="175"/>
                  </a:lnTo>
                  <a:lnTo>
                    <a:pt x="353" y="172"/>
                  </a:lnTo>
                  <a:lnTo>
                    <a:pt x="342" y="172"/>
                  </a:lnTo>
                  <a:lnTo>
                    <a:pt x="320" y="164"/>
                  </a:lnTo>
                  <a:lnTo>
                    <a:pt x="309" y="164"/>
                  </a:lnTo>
                  <a:lnTo>
                    <a:pt x="297" y="161"/>
                  </a:lnTo>
                  <a:lnTo>
                    <a:pt x="275" y="157"/>
                  </a:lnTo>
                  <a:lnTo>
                    <a:pt x="264" y="153"/>
                  </a:lnTo>
                  <a:lnTo>
                    <a:pt x="253" y="153"/>
                  </a:lnTo>
                  <a:lnTo>
                    <a:pt x="234" y="146"/>
                  </a:lnTo>
                  <a:lnTo>
                    <a:pt x="223" y="146"/>
                  </a:lnTo>
                  <a:lnTo>
                    <a:pt x="216" y="142"/>
                  </a:lnTo>
                  <a:lnTo>
                    <a:pt x="197" y="134"/>
                  </a:lnTo>
                  <a:lnTo>
                    <a:pt x="186" y="134"/>
                  </a:lnTo>
                  <a:lnTo>
                    <a:pt x="178" y="131"/>
                  </a:lnTo>
                  <a:lnTo>
                    <a:pt x="160" y="123"/>
                  </a:lnTo>
                  <a:lnTo>
                    <a:pt x="152" y="123"/>
                  </a:lnTo>
                  <a:lnTo>
                    <a:pt x="145" y="120"/>
                  </a:lnTo>
                  <a:lnTo>
                    <a:pt x="130" y="112"/>
                  </a:lnTo>
                  <a:lnTo>
                    <a:pt x="119" y="108"/>
                  </a:lnTo>
                  <a:lnTo>
                    <a:pt x="115" y="108"/>
                  </a:lnTo>
                  <a:lnTo>
                    <a:pt x="100" y="101"/>
                  </a:lnTo>
                  <a:lnTo>
                    <a:pt x="93" y="97"/>
                  </a:lnTo>
                  <a:lnTo>
                    <a:pt x="85" y="94"/>
                  </a:lnTo>
                  <a:lnTo>
                    <a:pt x="74" y="86"/>
                  </a:lnTo>
                  <a:lnTo>
                    <a:pt x="67" y="86"/>
                  </a:lnTo>
                  <a:lnTo>
                    <a:pt x="63" y="82"/>
                  </a:lnTo>
                  <a:lnTo>
                    <a:pt x="52" y="75"/>
                  </a:lnTo>
                  <a:lnTo>
                    <a:pt x="48" y="71"/>
                  </a:lnTo>
                  <a:lnTo>
                    <a:pt x="41" y="67"/>
                  </a:lnTo>
                  <a:lnTo>
                    <a:pt x="33" y="60"/>
                  </a:lnTo>
                  <a:lnTo>
                    <a:pt x="29" y="56"/>
                  </a:lnTo>
                  <a:lnTo>
                    <a:pt x="26" y="53"/>
                  </a:lnTo>
                  <a:lnTo>
                    <a:pt x="18" y="45"/>
                  </a:lnTo>
                  <a:lnTo>
                    <a:pt x="14" y="41"/>
                  </a:lnTo>
                  <a:lnTo>
                    <a:pt x="14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3" y="242"/>
                  </a:lnTo>
                  <a:lnTo>
                    <a:pt x="3" y="250"/>
                  </a:lnTo>
                  <a:lnTo>
                    <a:pt x="7" y="254"/>
                  </a:lnTo>
                  <a:lnTo>
                    <a:pt x="7" y="257"/>
                  </a:lnTo>
                  <a:lnTo>
                    <a:pt x="14" y="261"/>
                  </a:lnTo>
                  <a:lnTo>
                    <a:pt x="14" y="265"/>
                  </a:lnTo>
                  <a:lnTo>
                    <a:pt x="18" y="269"/>
                  </a:lnTo>
                  <a:lnTo>
                    <a:pt x="26" y="276"/>
                  </a:lnTo>
                  <a:lnTo>
                    <a:pt x="29" y="280"/>
                  </a:lnTo>
                  <a:lnTo>
                    <a:pt x="33" y="283"/>
                  </a:lnTo>
                  <a:lnTo>
                    <a:pt x="41" y="291"/>
                  </a:lnTo>
                  <a:lnTo>
                    <a:pt x="48" y="295"/>
                  </a:lnTo>
                  <a:lnTo>
                    <a:pt x="52" y="298"/>
                  </a:lnTo>
                  <a:lnTo>
                    <a:pt x="63" y="306"/>
                  </a:lnTo>
                  <a:lnTo>
                    <a:pt x="67" y="309"/>
                  </a:lnTo>
                  <a:lnTo>
                    <a:pt x="74" y="309"/>
                  </a:lnTo>
                  <a:lnTo>
                    <a:pt x="85" y="317"/>
                  </a:lnTo>
                  <a:lnTo>
                    <a:pt x="93" y="321"/>
                  </a:lnTo>
                  <a:lnTo>
                    <a:pt x="100" y="324"/>
                  </a:lnTo>
                  <a:lnTo>
                    <a:pt x="115" y="332"/>
                  </a:lnTo>
                  <a:lnTo>
                    <a:pt x="119" y="332"/>
                  </a:lnTo>
                  <a:lnTo>
                    <a:pt x="130" y="336"/>
                  </a:lnTo>
                  <a:lnTo>
                    <a:pt x="145" y="343"/>
                  </a:lnTo>
                  <a:lnTo>
                    <a:pt x="152" y="347"/>
                  </a:lnTo>
                  <a:lnTo>
                    <a:pt x="160" y="347"/>
                  </a:lnTo>
                  <a:lnTo>
                    <a:pt x="178" y="354"/>
                  </a:lnTo>
                  <a:lnTo>
                    <a:pt x="186" y="358"/>
                  </a:lnTo>
                  <a:lnTo>
                    <a:pt x="197" y="358"/>
                  </a:lnTo>
                  <a:lnTo>
                    <a:pt x="216" y="365"/>
                  </a:lnTo>
                  <a:lnTo>
                    <a:pt x="223" y="369"/>
                  </a:lnTo>
                  <a:lnTo>
                    <a:pt x="234" y="369"/>
                  </a:lnTo>
                  <a:lnTo>
                    <a:pt x="253" y="376"/>
                  </a:lnTo>
                  <a:lnTo>
                    <a:pt x="264" y="376"/>
                  </a:lnTo>
                  <a:lnTo>
                    <a:pt x="275" y="380"/>
                  </a:lnTo>
                  <a:lnTo>
                    <a:pt x="297" y="384"/>
                  </a:lnTo>
                  <a:lnTo>
                    <a:pt x="309" y="388"/>
                  </a:lnTo>
                  <a:lnTo>
                    <a:pt x="320" y="388"/>
                  </a:lnTo>
                  <a:lnTo>
                    <a:pt x="342" y="395"/>
                  </a:lnTo>
                  <a:lnTo>
                    <a:pt x="353" y="395"/>
                  </a:lnTo>
                  <a:lnTo>
                    <a:pt x="364" y="399"/>
                  </a:lnTo>
                  <a:lnTo>
                    <a:pt x="387" y="403"/>
                  </a:lnTo>
                  <a:lnTo>
                    <a:pt x="398" y="403"/>
                  </a:lnTo>
                  <a:lnTo>
                    <a:pt x="413" y="406"/>
                  </a:lnTo>
                  <a:lnTo>
                    <a:pt x="435" y="410"/>
                  </a:lnTo>
                  <a:lnTo>
                    <a:pt x="450" y="410"/>
                  </a:lnTo>
                  <a:lnTo>
                    <a:pt x="461" y="414"/>
                  </a:lnTo>
                  <a:lnTo>
                    <a:pt x="487" y="414"/>
                  </a:lnTo>
                  <a:lnTo>
                    <a:pt x="502" y="417"/>
                  </a:lnTo>
                  <a:lnTo>
                    <a:pt x="513" y="417"/>
                  </a:lnTo>
                  <a:lnTo>
                    <a:pt x="539" y="421"/>
                  </a:lnTo>
                  <a:lnTo>
                    <a:pt x="554" y="421"/>
                  </a:lnTo>
                  <a:lnTo>
                    <a:pt x="566" y="421"/>
                  </a:lnTo>
                  <a:lnTo>
                    <a:pt x="592" y="425"/>
                  </a:lnTo>
                  <a:lnTo>
                    <a:pt x="606" y="425"/>
                  </a:lnTo>
                  <a:lnTo>
                    <a:pt x="621" y="425"/>
                  </a:lnTo>
                  <a:lnTo>
                    <a:pt x="647" y="429"/>
                  </a:lnTo>
                  <a:lnTo>
                    <a:pt x="662" y="429"/>
                  </a:lnTo>
                  <a:lnTo>
                    <a:pt x="677" y="429"/>
                  </a:lnTo>
                  <a:lnTo>
                    <a:pt x="703" y="429"/>
                  </a:lnTo>
                  <a:lnTo>
                    <a:pt x="718" y="429"/>
                  </a:lnTo>
                  <a:lnTo>
                    <a:pt x="729" y="432"/>
                  </a:lnTo>
                  <a:lnTo>
                    <a:pt x="759" y="432"/>
                  </a:lnTo>
                  <a:lnTo>
                    <a:pt x="774" y="432"/>
                  </a:lnTo>
                  <a:lnTo>
                    <a:pt x="785" y="432"/>
                  </a:lnTo>
                  <a:lnTo>
                    <a:pt x="815" y="432"/>
                  </a:lnTo>
                  <a:lnTo>
                    <a:pt x="830" y="432"/>
                  </a:lnTo>
                  <a:lnTo>
                    <a:pt x="845" y="432"/>
                  </a:lnTo>
                  <a:lnTo>
                    <a:pt x="871" y="432"/>
                  </a:lnTo>
                  <a:lnTo>
                    <a:pt x="886" y="429"/>
                  </a:lnTo>
                  <a:lnTo>
                    <a:pt x="901" y="429"/>
                  </a:lnTo>
                  <a:lnTo>
                    <a:pt x="927" y="429"/>
                  </a:lnTo>
                  <a:lnTo>
                    <a:pt x="942" y="429"/>
                  </a:lnTo>
                  <a:lnTo>
                    <a:pt x="953" y="429"/>
                  </a:lnTo>
                  <a:lnTo>
                    <a:pt x="983" y="425"/>
                  </a:lnTo>
                  <a:lnTo>
                    <a:pt x="994" y="425"/>
                  </a:lnTo>
                  <a:lnTo>
                    <a:pt x="1009" y="425"/>
                  </a:lnTo>
                  <a:lnTo>
                    <a:pt x="1035" y="421"/>
                  </a:lnTo>
                  <a:lnTo>
                    <a:pt x="1050" y="421"/>
                  </a:lnTo>
                  <a:lnTo>
                    <a:pt x="1061" y="421"/>
                  </a:lnTo>
                  <a:lnTo>
                    <a:pt x="1087" y="417"/>
                  </a:lnTo>
                  <a:lnTo>
                    <a:pt x="1102" y="417"/>
                  </a:lnTo>
                  <a:lnTo>
                    <a:pt x="1113" y="414"/>
                  </a:lnTo>
                  <a:lnTo>
                    <a:pt x="1139" y="414"/>
                  </a:lnTo>
                  <a:lnTo>
                    <a:pt x="1154" y="410"/>
                  </a:lnTo>
                  <a:lnTo>
                    <a:pt x="1165" y="410"/>
                  </a:lnTo>
                  <a:lnTo>
                    <a:pt x="1191" y="406"/>
                  </a:lnTo>
                  <a:lnTo>
                    <a:pt x="1202" y="403"/>
                  </a:lnTo>
                  <a:lnTo>
                    <a:pt x="1213" y="403"/>
                  </a:lnTo>
                  <a:lnTo>
                    <a:pt x="1239" y="399"/>
                  </a:lnTo>
                  <a:lnTo>
                    <a:pt x="1251" y="395"/>
                  </a:lnTo>
                  <a:lnTo>
                    <a:pt x="1262" y="395"/>
                  </a:lnTo>
                  <a:lnTo>
                    <a:pt x="1284" y="388"/>
                  </a:lnTo>
                  <a:lnTo>
                    <a:pt x="1295" y="388"/>
                  </a:lnTo>
                  <a:lnTo>
                    <a:pt x="1306" y="384"/>
                  </a:lnTo>
                  <a:lnTo>
                    <a:pt x="1329" y="380"/>
                  </a:lnTo>
                  <a:lnTo>
                    <a:pt x="1336" y="376"/>
                  </a:lnTo>
                  <a:lnTo>
                    <a:pt x="1347" y="376"/>
                  </a:lnTo>
                  <a:lnTo>
                    <a:pt x="1370" y="369"/>
                  </a:lnTo>
                  <a:lnTo>
                    <a:pt x="1377" y="369"/>
                  </a:lnTo>
                  <a:lnTo>
                    <a:pt x="1388" y="365"/>
                  </a:lnTo>
                  <a:lnTo>
                    <a:pt x="1407" y="358"/>
                  </a:lnTo>
                  <a:lnTo>
                    <a:pt x="1414" y="358"/>
                  </a:lnTo>
                  <a:lnTo>
                    <a:pt x="1426" y="354"/>
                  </a:lnTo>
                  <a:lnTo>
                    <a:pt x="1441" y="347"/>
                  </a:lnTo>
                  <a:lnTo>
                    <a:pt x="1452" y="347"/>
                  </a:lnTo>
                  <a:lnTo>
                    <a:pt x="1459" y="343"/>
                  </a:lnTo>
                  <a:lnTo>
                    <a:pt x="1474" y="336"/>
                  </a:lnTo>
                  <a:lnTo>
                    <a:pt x="1481" y="332"/>
                  </a:lnTo>
                  <a:lnTo>
                    <a:pt x="1489" y="332"/>
                  </a:lnTo>
                  <a:lnTo>
                    <a:pt x="1504" y="324"/>
                  </a:lnTo>
                  <a:lnTo>
                    <a:pt x="1511" y="321"/>
                  </a:lnTo>
                  <a:lnTo>
                    <a:pt x="1515" y="317"/>
                  </a:lnTo>
                  <a:lnTo>
                    <a:pt x="1530" y="309"/>
                  </a:lnTo>
                  <a:lnTo>
                    <a:pt x="1534" y="309"/>
                  </a:lnTo>
                  <a:lnTo>
                    <a:pt x="1541" y="306"/>
                  </a:lnTo>
                  <a:lnTo>
                    <a:pt x="1549" y="298"/>
                  </a:lnTo>
                  <a:lnTo>
                    <a:pt x="1556" y="295"/>
                  </a:lnTo>
                  <a:lnTo>
                    <a:pt x="1560" y="291"/>
                  </a:lnTo>
                  <a:lnTo>
                    <a:pt x="1567" y="283"/>
                  </a:lnTo>
                  <a:lnTo>
                    <a:pt x="1571" y="280"/>
                  </a:lnTo>
                  <a:lnTo>
                    <a:pt x="1575" y="276"/>
                  </a:lnTo>
                  <a:lnTo>
                    <a:pt x="1582" y="269"/>
                  </a:lnTo>
                  <a:lnTo>
                    <a:pt x="1586" y="265"/>
                  </a:lnTo>
                  <a:lnTo>
                    <a:pt x="1589" y="261"/>
                  </a:lnTo>
                  <a:lnTo>
                    <a:pt x="1593" y="257"/>
                  </a:lnTo>
                  <a:lnTo>
                    <a:pt x="1597" y="254"/>
                  </a:lnTo>
                  <a:lnTo>
                    <a:pt x="1597" y="250"/>
                  </a:lnTo>
                  <a:lnTo>
                    <a:pt x="1601" y="242"/>
                  </a:lnTo>
                  <a:lnTo>
                    <a:pt x="1601" y="239"/>
                  </a:lnTo>
                  <a:lnTo>
                    <a:pt x="1601" y="235"/>
                  </a:lnTo>
                  <a:lnTo>
                    <a:pt x="1604" y="228"/>
                  </a:lnTo>
                  <a:lnTo>
                    <a:pt x="1604" y="224"/>
                  </a:lnTo>
                  <a:lnTo>
                    <a:pt x="160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720" y="2433600"/>
              <a:ext cx="2546280" cy="662040"/>
            </a:xfrm>
            <a:custGeom>
              <a:avLst/>
              <a:gdLst/>
              <a:ahLst/>
              <a:rect l="l" t="t" r="r" b="b"/>
              <a:pathLst>
                <a:path w="1604" h="417">
                  <a:moveTo>
                    <a:pt x="1597" y="182"/>
                  </a:moveTo>
                  <a:lnTo>
                    <a:pt x="1601" y="186"/>
                  </a:lnTo>
                  <a:lnTo>
                    <a:pt x="1601" y="194"/>
                  </a:lnTo>
                  <a:lnTo>
                    <a:pt x="1601" y="197"/>
                  </a:lnTo>
                  <a:lnTo>
                    <a:pt x="1604" y="201"/>
                  </a:lnTo>
                  <a:lnTo>
                    <a:pt x="1604" y="208"/>
                  </a:lnTo>
                  <a:lnTo>
                    <a:pt x="1604" y="212"/>
                  </a:lnTo>
                  <a:lnTo>
                    <a:pt x="1604" y="216"/>
                  </a:lnTo>
                  <a:lnTo>
                    <a:pt x="1601" y="223"/>
                  </a:lnTo>
                  <a:lnTo>
                    <a:pt x="1601" y="227"/>
                  </a:lnTo>
                  <a:lnTo>
                    <a:pt x="1601" y="231"/>
                  </a:lnTo>
                  <a:lnTo>
                    <a:pt x="1597" y="238"/>
                  </a:lnTo>
                  <a:lnTo>
                    <a:pt x="1593" y="242"/>
                  </a:lnTo>
                  <a:lnTo>
                    <a:pt x="1589" y="242"/>
                  </a:lnTo>
                  <a:lnTo>
                    <a:pt x="1589" y="246"/>
                  </a:lnTo>
                  <a:lnTo>
                    <a:pt x="1582" y="253"/>
                  </a:lnTo>
                  <a:lnTo>
                    <a:pt x="1578" y="257"/>
                  </a:lnTo>
                  <a:lnTo>
                    <a:pt x="1575" y="261"/>
                  </a:lnTo>
                  <a:lnTo>
                    <a:pt x="1567" y="268"/>
                  </a:lnTo>
                  <a:lnTo>
                    <a:pt x="1563" y="272"/>
                  </a:lnTo>
                  <a:lnTo>
                    <a:pt x="1560" y="275"/>
                  </a:lnTo>
                  <a:lnTo>
                    <a:pt x="1549" y="283"/>
                  </a:lnTo>
                  <a:lnTo>
                    <a:pt x="1545" y="287"/>
                  </a:lnTo>
                  <a:lnTo>
                    <a:pt x="1541" y="290"/>
                  </a:lnTo>
                  <a:lnTo>
                    <a:pt x="1530" y="294"/>
                  </a:lnTo>
                  <a:lnTo>
                    <a:pt x="1522" y="298"/>
                  </a:lnTo>
                  <a:lnTo>
                    <a:pt x="1515" y="302"/>
                  </a:lnTo>
                  <a:lnTo>
                    <a:pt x="1504" y="309"/>
                  </a:lnTo>
                  <a:lnTo>
                    <a:pt x="1496" y="313"/>
                  </a:lnTo>
                  <a:lnTo>
                    <a:pt x="1489" y="316"/>
                  </a:lnTo>
                  <a:lnTo>
                    <a:pt x="1474" y="320"/>
                  </a:lnTo>
                  <a:lnTo>
                    <a:pt x="1467" y="324"/>
                  </a:lnTo>
                  <a:lnTo>
                    <a:pt x="1459" y="328"/>
                  </a:lnTo>
                  <a:lnTo>
                    <a:pt x="1441" y="331"/>
                  </a:lnTo>
                  <a:lnTo>
                    <a:pt x="1433" y="335"/>
                  </a:lnTo>
                  <a:lnTo>
                    <a:pt x="1426" y="339"/>
                  </a:lnTo>
                  <a:lnTo>
                    <a:pt x="1414" y="342"/>
                  </a:lnTo>
                  <a:lnTo>
                    <a:pt x="1396" y="346"/>
                  </a:lnTo>
                  <a:lnTo>
                    <a:pt x="1388" y="350"/>
                  </a:lnTo>
                  <a:lnTo>
                    <a:pt x="1377" y="354"/>
                  </a:lnTo>
                  <a:lnTo>
                    <a:pt x="1359" y="357"/>
                  </a:lnTo>
                  <a:lnTo>
                    <a:pt x="1347" y="361"/>
                  </a:lnTo>
                  <a:lnTo>
                    <a:pt x="1336" y="361"/>
                  </a:lnTo>
                  <a:lnTo>
                    <a:pt x="1318" y="369"/>
                  </a:lnTo>
                  <a:lnTo>
                    <a:pt x="1306" y="369"/>
                  </a:lnTo>
                  <a:lnTo>
                    <a:pt x="1295" y="372"/>
                  </a:lnTo>
                  <a:lnTo>
                    <a:pt x="1273" y="376"/>
                  </a:lnTo>
                  <a:lnTo>
                    <a:pt x="1262" y="380"/>
                  </a:lnTo>
                  <a:lnTo>
                    <a:pt x="1251" y="380"/>
                  </a:lnTo>
                  <a:lnTo>
                    <a:pt x="1225" y="383"/>
                  </a:lnTo>
                  <a:lnTo>
                    <a:pt x="1213" y="387"/>
                  </a:lnTo>
                  <a:lnTo>
                    <a:pt x="1202" y="387"/>
                  </a:lnTo>
                  <a:lnTo>
                    <a:pt x="1176" y="391"/>
                  </a:lnTo>
                  <a:lnTo>
                    <a:pt x="1165" y="395"/>
                  </a:lnTo>
                  <a:lnTo>
                    <a:pt x="1154" y="395"/>
                  </a:lnTo>
                  <a:lnTo>
                    <a:pt x="1128" y="398"/>
                  </a:lnTo>
                  <a:lnTo>
                    <a:pt x="1113" y="398"/>
                  </a:lnTo>
                  <a:lnTo>
                    <a:pt x="1102" y="402"/>
                  </a:lnTo>
                  <a:lnTo>
                    <a:pt x="1076" y="402"/>
                  </a:lnTo>
                  <a:lnTo>
                    <a:pt x="1061" y="406"/>
                  </a:lnTo>
                  <a:lnTo>
                    <a:pt x="1050" y="406"/>
                  </a:lnTo>
                  <a:lnTo>
                    <a:pt x="1035" y="406"/>
                  </a:lnTo>
                  <a:lnTo>
                    <a:pt x="1009" y="409"/>
                  </a:lnTo>
                  <a:lnTo>
                    <a:pt x="994" y="409"/>
                  </a:lnTo>
                  <a:lnTo>
                    <a:pt x="983" y="409"/>
                  </a:lnTo>
                  <a:lnTo>
                    <a:pt x="953" y="413"/>
                  </a:lnTo>
                  <a:lnTo>
                    <a:pt x="942" y="413"/>
                  </a:lnTo>
                  <a:lnTo>
                    <a:pt x="927" y="413"/>
                  </a:lnTo>
                  <a:lnTo>
                    <a:pt x="901" y="413"/>
                  </a:lnTo>
                  <a:lnTo>
                    <a:pt x="886" y="413"/>
                  </a:lnTo>
                  <a:lnTo>
                    <a:pt x="871" y="417"/>
                  </a:lnTo>
                  <a:lnTo>
                    <a:pt x="845" y="417"/>
                  </a:lnTo>
                  <a:lnTo>
                    <a:pt x="830" y="417"/>
                  </a:lnTo>
                  <a:lnTo>
                    <a:pt x="815" y="417"/>
                  </a:lnTo>
                  <a:lnTo>
                    <a:pt x="785" y="417"/>
                  </a:lnTo>
                  <a:lnTo>
                    <a:pt x="774" y="417"/>
                  </a:lnTo>
                  <a:lnTo>
                    <a:pt x="759" y="417"/>
                  </a:lnTo>
                  <a:lnTo>
                    <a:pt x="729" y="417"/>
                  </a:lnTo>
                  <a:lnTo>
                    <a:pt x="718" y="413"/>
                  </a:lnTo>
                  <a:lnTo>
                    <a:pt x="703" y="413"/>
                  </a:lnTo>
                  <a:lnTo>
                    <a:pt x="677" y="413"/>
                  </a:lnTo>
                  <a:lnTo>
                    <a:pt x="662" y="413"/>
                  </a:lnTo>
                  <a:lnTo>
                    <a:pt x="647" y="413"/>
                  </a:lnTo>
                  <a:lnTo>
                    <a:pt x="633" y="413"/>
                  </a:lnTo>
                  <a:lnTo>
                    <a:pt x="606" y="409"/>
                  </a:lnTo>
                  <a:lnTo>
                    <a:pt x="592" y="409"/>
                  </a:lnTo>
                  <a:lnTo>
                    <a:pt x="580" y="409"/>
                  </a:lnTo>
                  <a:lnTo>
                    <a:pt x="554" y="406"/>
                  </a:lnTo>
                  <a:lnTo>
                    <a:pt x="539" y="406"/>
                  </a:lnTo>
                  <a:lnTo>
                    <a:pt x="528" y="402"/>
                  </a:lnTo>
                  <a:lnTo>
                    <a:pt x="502" y="402"/>
                  </a:lnTo>
                  <a:lnTo>
                    <a:pt x="487" y="398"/>
                  </a:lnTo>
                  <a:lnTo>
                    <a:pt x="476" y="398"/>
                  </a:lnTo>
                  <a:lnTo>
                    <a:pt x="450" y="395"/>
                  </a:lnTo>
                  <a:lnTo>
                    <a:pt x="435" y="395"/>
                  </a:lnTo>
                  <a:lnTo>
                    <a:pt x="424" y="391"/>
                  </a:lnTo>
                  <a:lnTo>
                    <a:pt x="398" y="387"/>
                  </a:lnTo>
                  <a:lnTo>
                    <a:pt x="387" y="387"/>
                  </a:lnTo>
                  <a:lnTo>
                    <a:pt x="376" y="383"/>
                  </a:lnTo>
                  <a:lnTo>
                    <a:pt x="353" y="380"/>
                  </a:lnTo>
                  <a:lnTo>
                    <a:pt x="342" y="380"/>
                  </a:lnTo>
                  <a:lnTo>
                    <a:pt x="331" y="376"/>
                  </a:lnTo>
                  <a:lnTo>
                    <a:pt x="309" y="372"/>
                  </a:lnTo>
                  <a:lnTo>
                    <a:pt x="297" y="369"/>
                  </a:lnTo>
                  <a:lnTo>
                    <a:pt x="286" y="369"/>
                  </a:lnTo>
                  <a:lnTo>
                    <a:pt x="264" y="361"/>
                  </a:lnTo>
                  <a:lnTo>
                    <a:pt x="253" y="361"/>
                  </a:lnTo>
                  <a:lnTo>
                    <a:pt x="245" y="357"/>
                  </a:lnTo>
                  <a:lnTo>
                    <a:pt x="234" y="354"/>
                  </a:lnTo>
                  <a:lnTo>
                    <a:pt x="216" y="350"/>
                  </a:lnTo>
                  <a:lnTo>
                    <a:pt x="204" y="346"/>
                  </a:lnTo>
                  <a:lnTo>
                    <a:pt x="197" y="342"/>
                  </a:lnTo>
                  <a:lnTo>
                    <a:pt x="178" y="339"/>
                  </a:lnTo>
                  <a:lnTo>
                    <a:pt x="167" y="335"/>
                  </a:lnTo>
                  <a:lnTo>
                    <a:pt x="160" y="331"/>
                  </a:lnTo>
                  <a:lnTo>
                    <a:pt x="145" y="328"/>
                  </a:lnTo>
                  <a:lnTo>
                    <a:pt x="137" y="324"/>
                  </a:lnTo>
                  <a:lnTo>
                    <a:pt x="130" y="320"/>
                  </a:lnTo>
                  <a:lnTo>
                    <a:pt x="115" y="316"/>
                  </a:lnTo>
                  <a:lnTo>
                    <a:pt x="108" y="313"/>
                  </a:lnTo>
                  <a:lnTo>
                    <a:pt x="100" y="309"/>
                  </a:lnTo>
                  <a:lnTo>
                    <a:pt x="85" y="302"/>
                  </a:lnTo>
                  <a:lnTo>
                    <a:pt x="81" y="298"/>
                  </a:lnTo>
                  <a:lnTo>
                    <a:pt x="74" y="294"/>
                  </a:lnTo>
                  <a:lnTo>
                    <a:pt x="63" y="290"/>
                  </a:lnTo>
                  <a:lnTo>
                    <a:pt x="55" y="287"/>
                  </a:lnTo>
                  <a:lnTo>
                    <a:pt x="52" y="283"/>
                  </a:lnTo>
                  <a:lnTo>
                    <a:pt x="41" y="275"/>
                  </a:lnTo>
                  <a:lnTo>
                    <a:pt x="37" y="272"/>
                  </a:lnTo>
                  <a:lnTo>
                    <a:pt x="33" y="268"/>
                  </a:lnTo>
                  <a:lnTo>
                    <a:pt x="29" y="264"/>
                  </a:lnTo>
                  <a:lnTo>
                    <a:pt x="22" y="257"/>
                  </a:lnTo>
                  <a:lnTo>
                    <a:pt x="18" y="253"/>
                  </a:lnTo>
                  <a:lnTo>
                    <a:pt x="14" y="249"/>
                  </a:lnTo>
                  <a:lnTo>
                    <a:pt x="11" y="242"/>
                  </a:lnTo>
                  <a:lnTo>
                    <a:pt x="7" y="242"/>
                  </a:lnTo>
                  <a:lnTo>
                    <a:pt x="7" y="238"/>
                  </a:lnTo>
                  <a:lnTo>
                    <a:pt x="3" y="231"/>
                  </a:lnTo>
                  <a:lnTo>
                    <a:pt x="3" y="227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3" y="186"/>
                  </a:lnTo>
                  <a:lnTo>
                    <a:pt x="3" y="182"/>
                  </a:lnTo>
                  <a:lnTo>
                    <a:pt x="7" y="179"/>
                  </a:lnTo>
                  <a:lnTo>
                    <a:pt x="11" y="171"/>
                  </a:lnTo>
                  <a:lnTo>
                    <a:pt x="14" y="167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6" y="153"/>
                  </a:lnTo>
                  <a:lnTo>
                    <a:pt x="29" y="149"/>
                  </a:lnTo>
                  <a:lnTo>
                    <a:pt x="33" y="145"/>
                  </a:lnTo>
                  <a:lnTo>
                    <a:pt x="41" y="141"/>
                  </a:lnTo>
                  <a:lnTo>
                    <a:pt x="48" y="138"/>
                  </a:lnTo>
                  <a:lnTo>
                    <a:pt x="52" y="134"/>
                  </a:lnTo>
                  <a:lnTo>
                    <a:pt x="63" y="126"/>
                  </a:lnTo>
                  <a:lnTo>
                    <a:pt x="67" y="123"/>
                  </a:lnTo>
                  <a:lnTo>
                    <a:pt x="74" y="119"/>
                  </a:lnTo>
                  <a:lnTo>
                    <a:pt x="85" y="112"/>
                  </a:lnTo>
                  <a:lnTo>
                    <a:pt x="93" y="108"/>
                  </a:lnTo>
                  <a:lnTo>
                    <a:pt x="100" y="108"/>
                  </a:lnTo>
                  <a:lnTo>
                    <a:pt x="115" y="100"/>
                  </a:lnTo>
                  <a:lnTo>
                    <a:pt x="119" y="97"/>
                  </a:lnTo>
                  <a:lnTo>
                    <a:pt x="130" y="93"/>
                  </a:lnTo>
                  <a:lnTo>
                    <a:pt x="145" y="89"/>
                  </a:lnTo>
                  <a:lnTo>
                    <a:pt x="152" y="86"/>
                  </a:lnTo>
                  <a:lnTo>
                    <a:pt x="160" y="82"/>
                  </a:lnTo>
                  <a:lnTo>
                    <a:pt x="178" y="78"/>
                  </a:lnTo>
                  <a:lnTo>
                    <a:pt x="186" y="74"/>
                  </a:lnTo>
                  <a:lnTo>
                    <a:pt x="197" y="71"/>
                  </a:lnTo>
                  <a:lnTo>
                    <a:pt x="216" y="67"/>
                  </a:lnTo>
                  <a:lnTo>
                    <a:pt x="223" y="63"/>
                  </a:lnTo>
                  <a:lnTo>
                    <a:pt x="234" y="59"/>
                  </a:lnTo>
                  <a:lnTo>
                    <a:pt x="245" y="56"/>
                  </a:lnTo>
                  <a:lnTo>
                    <a:pt x="264" y="52"/>
                  </a:lnTo>
                  <a:lnTo>
                    <a:pt x="275" y="48"/>
                  </a:lnTo>
                  <a:lnTo>
                    <a:pt x="286" y="48"/>
                  </a:lnTo>
                  <a:lnTo>
                    <a:pt x="309" y="45"/>
                  </a:lnTo>
                  <a:lnTo>
                    <a:pt x="320" y="41"/>
                  </a:lnTo>
                  <a:lnTo>
                    <a:pt x="331" y="37"/>
                  </a:lnTo>
                  <a:lnTo>
                    <a:pt x="353" y="33"/>
                  </a:lnTo>
                  <a:lnTo>
                    <a:pt x="364" y="33"/>
                  </a:lnTo>
                  <a:lnTo>
                    <a:pt x="376" y="30"/>
                  </a:lnTo>
                  <a:lnTo>
                    <a:pt x="398" y="26"/>
                  </a:lnTo>
                  <a:lnTo>
                    <a:pt x="413" y="26"/>
                  </a:lnTo>
                  <a:lnTo>
                    <a:pt x="424" y="22"/>
                  </a:lnTo>
                  <a:lnTo>
                    <a:pt x="450" y="19"/>
                  </a:lnTo>
                  <a:lnTo>
                    <a:pt x="461" y="19"/>
                  </a:lnTo>
                  <a:lnTo>
                    <a:pt x="476" y="19"/>
                  </a:lnTo>
                  <a:lnTo>
                    <a:pt x="502" y="15"/>
                  </a:lnTo>
                  <a:lnTo>
                    <a:pt x="513" y="11"/>
                  </a:lnTo>
                  <a:lnTo>
                    <a:pt x="528" y="11"/>
                  </a:lnTo>
                  <a:lnTo>
                    <a:pt x="554" y="7"/>
                  </a:lnTo>
                  <a:lnTo>
                    <a:pt x="566" y="7"/>
                  </a:lnTo>
                  <a:lnTo>
                    <a:pt x="580" y="7"/>
                  </a:lnTo>
                  <a:lnTo>
                    <a:pt x="592" y="7"/>
                  </a:lnTo>
                  <a:lnTo>
                    <a:pt x="621" y="4"/>
                  </a:lnTo>
                  <a:lnTo>
                    <a:pt x="633" y="4"/>
                  </a:lnTo>
                  <a:lnTo>
                    <a:pt x="647" y="4"/>
                  </a:lnTo>
                  <a:lnTo>
                    <a:pt x="677" y="0"/>
                  </a:lnTo>
                  <a:lnTo>
                    <a:pt x="688" y="0"/>
                  </a:lnTo>
                  <a:lnTo>
                    <a:pt x="703" y="0"/>
                  </a:lnTo>
                  <a:lnTo>
                    <a:pt x="729" y="0"/>
                  </a:lnTo>
                  <a:lnTo>
                    <a:pt x="744" y="0"/>
                  </a:lnTo>
                  <a:lnTo>
                    <a:pt x="759" y="0"/>
                  </a:lnTo>
                  <a:lnTo>
                    <a:pt x="785" y="0"/>
                  </a:lnTo>
                  <a:lnTo>
                    <a:pt x="800" y="0"/>
                  </a:lnTo>
                  <a:lnTo>
                    <a:pt x="800" y="208"/>
                  </a:lnTo>
                  <a:lnTo>
                    <a:pt x="1597" y="182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086600" y="1981080"/>
            <a:ext cx="1800360" cy="145548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sl-SI" sz="20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Century Gothic"/>
              </a:rPr>
              <a:t>covered with land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114800"/>
            <a:ext cx="1676520" cy="131112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1</a:t>
            </a: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9,1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321600" y="4441680"/>
            <a:ext cx="2597040" cy="1044360"/>
            <a:chOff x="6321600" y="4441680"/>
            <a:chExt cx="2597040" cy="1044360"/>
          </a:xfrm>
        </p:grpSpPr>
        <p:sp>
          <p:nvSpPr>
            <p:cNvPr id="62" name=""/>
            <p:cNvSpPr/>
            <p:nvPr/>
          </p:nvSpPr>
          <p:spPr>
            <a:xfrm>
              <a:off x="7616880" y="4441680"/>
              <a:ext cx="946080" cy="333360"/>
            </a:xfrm>
            <a:custGeom>
              <a:avLst/>
              <a:gdLst/>
              <a:ahLst/>
              <a:rect l="l" t="t" r="r" b="b"/>
              <a:pathLst>
                <a:path w="596" h="210">
                  <a:moveTo>
                    <a:pt x="0" y="0"/>
                  </a:moveTo>
                  <a:lnTo>
                    <a:pt x="15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3" y="4"/>
                  </a:lnTo>
                  <a:lnTo>
                    <a:pt x="169" y="4"/>
                  </a:lnTo>
                  <a:lnTo>
                    <a:pt x="184" y="4"/>
                  </a:lnTo>
                  <a:lnTo>
                    <a:pt x="195" y="4"/>
                  </a:lnTo>
                  <a:lnTo>
                    <a:pt x="225" y="7"/>
                  </a:lnTo>
                  <a:lnTo>
                    <a:pt x="236" y="7"/>
                  </a:lnTo>
                  <a:lnTo>
                    <a:pt x="251" y="11"/>
                  </a:lnTo>
                  <a:lnTo>
                    <a:pt x="277" y="11"/>
                  </a:lnTo>
                  <a:lnTo>
                    <a:pt x="292" y="15"/>
                  </a:lnTo>
                  <a:lnTo>
                    <a:pt x="304" y="15"/>
                  </a:lnTo>
                  <a:lnTo>
                    <a:pt x="330" y="19"/>
                  </a:lnTo>
                  <a:lnTo>
                    <a:pt x="345" y="19"/>
                  </a:lnTo>
                  <a:lnTo>
                    <a:pt x="356" y="19"/>
                  </a:lnTo>
                  <a:lnTo>
                    <a:pt x="371" y="22"/>
                  </a:lnTo>
                  <a:lnTo>
                    <a:pt x="394" y="26"/>
                  </a:lnTo>
                  <a:lnTo>
                    <a:pt x="409" y="26"/>
                  </a:lnTo>
                  <a:lnTo>
                    <a:pt x="420" y="30"/>
                  </a:lnTo>
                  <a:lnTo>
                    <a:pt x="442" y="34"/>
                  </a:lnTo>
                  <a:lnTo>
                    <a:pt x="457" y="34"/>
                  </a:lnTo>
                  <a:lnTo>
                    <a:pt x="469" y="37"/>
                  </a:lnTo>
                  <a:lnTo>
                    <a:pt x="491" y="41"/>
                  </a:lnTo>
                  <a:lnTo>
                    <a:pt x="502" y="45"/>
                  </a:lnTo>
                  <a:lnTo>
                    <a:pt x="513" y="45"/>
                  </a:lnTo>
                  <a:lnTo>
                    <a:pt x="525" y="49"/>
                  </a:lnTo>
                  <a:lnTo>
                    <a:pt x="547" y="52"/>
                  </a:lnTo>
                  <a:lnTo>
                    <a:pt x="555" y="56"/>
                  </a:lnTo>
                  <a:lnTo>
                    <a:pt x="566" y="60"/>
                  </a:lnTo>
                  <a:lnTo>
                    <a:pt x="588" y="64"/>
                  </a:lnTo>
                  <a:lnTo>
                    <a:pt x="596" y="67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4480" y="4790880"/>
              <a:ext cx="2594160" cy="695160"/>
            </a:xfrm>
            <a:custGeom>
              <a:avLst/>
              <a:gdLst/>
              <a:ahLst/>
              <a:rect l="l" t="t" r="r" b="b"/>
              <a:pathLst>
                <a:path w="1634" h="438">
                  <a:moveTo>
                    <a:pt x="1634" y="0"/>
                  </a:moveTo>
                  <a:lnTo>
                    <a:pt x="1634" y="3"/>
                  </a:lnTo>
                  <a:lnTo>
                    <a:pt x="1630" y="11"/>
                  </a:lnTo>
                  <a:lnTo>
                    <a:pt x="1630" y="15"/>
                  </a:lnTo>
                  <a:lnTo>
                    <a:pt x="1630" y="18"/>
                  </a:lnTo>
                  <a:lnTo>
                    <a:pt x="1627" y="26"/>
                  </a:lnTo>
                  <a:lnTo>
                    <a:pt x="1627" y="30"/>
                  </a:lnTo>
                  <a:lnTo>
                    <a:pt x="1623" y="33"/>
                  </a:lnTo>
                  <a:lnTo>
                    <a:pt x="1619" y="41"/>
                  </a:lnTo>
                  <a:lnTo>
                    <a:pt x="1615" y="45"/>
                  </a:lnTo>
                  <a:lnTo>
                    <a:pt x="1612" y="48"/>
                  </a:lnTo>
                  <a:lnTo>
                    <a:pt x="1604" y="56"/>
                  </a:lnTo>
                  <a:lnTo>
                    <a:pt x="1600" y="60"/>
                  </a:lnTo>
                  <a:lnTo>
                    <a:pt x="1597" y="63"/>
                  </a:lnTo>
                  <a:lnTo>
                    <a:pt x="1589" y="71"/>
                  </a:lnTo>
                  <a:lnTo>
                    <a:pt x="1585" y="75"/>
                  </a:lnTo>
                  <a:lnTo>
                    <a:pt x="1578" y="75"/>
                  </a:lnTo>
                  <a:lnTo>
                    <a:pt x="1567" y="82"/>
                  </a:lnTo>
                  <a:lnTo>
                    <a:pt x="1563" y="86"/>
                  </a:lnTo>
                  <a:lnTo>
                    <a:pt x="1555" y="90"/>
                  </a:lnTo>
                  <a:lnTo>
                    <a:pt x="1544" y="97"/>
                  </a:lnTo>
                  <a:lnTo>
                    <a:pt x="1537" y="101"/>
                  </a:lnTo>
                  <a:lnTo>
                    <a:pt x="1529" y="105"/>
                  </a:lnTo>
                  <a:lnTo>
                    <a:pt x="1518" y="108"/>
                  </a:lnTo>
                  <a:lnTo>
                    <a:pt x="1510" y="112"/>
                  </a:lnTo>
                  <a:lnTo>
                    <a:pt x="1503" y="116"/>
                  </a:lnTo>
                  <a:lnTo>
                    <a:pt x="1484" y="123"/>
                  </a:lnTo>
                  <a:lnTo>
                    <a:pt x="1477" y="123"/>
                  </a:lnTo>
                  <a:lnTo>
                    <a:pt x="1469" y="127"/>
                  </a:lnTo>
                  <a:lnTo>
                    <a:pt x="1450" y="135"/>
                  </a:lnTo>
                  <a:lnTo>
                    <a:pt x="1443" y="138"/>
                  </a:lnTo>
                  <a:lnTo>
                    <a:pt x="1432" y="138"/>
                  </a:lnTo>
                  <a:lnTo>
                    <a:pt x="1413" y="146"/>
                  </a:lnTo>
                  <a:lnTo>
                    <a:pt x="1405" y="146"/>
                  </a:lnTo>
                  <a:lnTo>
                    <a:pt x="1394" y="150"/>
                  </a:lnTo>
                  <a:lnTo>
                    <a:pt x="1372" y="157"/>
                  </a:lnTo>
                  <a:lnTo>
                    <a:pt x="1364" y="157"/>
                  </a:lnTo>
                  <a:lnTo>
                    <a:pt x="1353" y="161"/>
                  </a:lnTo>
                  <a:lnTo>
                    <a:pt x="1330" y="165"/>
                  </a:lnTo>
                  <a:lnTo>
                    <a:pt x="1319" y="168"/>
                  </a:lnTo>
                  <a:lnTo>
                    <a:pt x="1308" y="168"/>
                  </a:lnTo>
                  <a:lnTo>
                    <a:pt x="1286" y="176"/>
                  </a:lnTo>
                  <a:lnTo>
                    <a:pt x="1274" y="176"/>
                  </a:lnTo>
                  <a:lnTo>
                    <a:pt x="1259" y="180"/>
                  </a:lnTo>
                  <a:lnTo>
                    <a:pt x="1237" y="183"/>
                  </a:lnTo>
                  <a:lnTo>
                    <a:pt x="1226" y="183"/>
                  </a:lnTo>
                  <a:lnTo>
                    <a:pt x="1211" y="187"/>
                  </a:lnTo>
                  <a:lnTo>
                    <a:pt x="1188" y="191"/>
                  </a:lnTo>
                  <a:lnTo>
                    <a:pt x="1173" y="191"/>
                  </a:lnTo>
                  <a:lnTo>
                    <a:pt x="1162" y="191"/>
                  </a:lnTo>
                  <a:lnTo>
                    <a:pt x="1136" y="195"/>
                  </a:lnTo>
                  <a:lnTo>
                    <a:pt x="1121" y="198"/>
                  </a:lnTo>
                  <a:lnTo>
                    <a:pt x="1109" y="198"/>
                  </a:lnTo>
                  <a:lnTo>
                    <a:pt x="1083" y="202"/>
                  </a:lnTo>
                  <a:lnTo>
                    <a:pt x="1068" y="202"/>
                  </a:lnTo>
                  <a:lnTo>
                    <a:pt x="1053" y="202"/>
                  </a:lnTo>
                  <a:lnTo>
                    <a:pt x="1027" y="206"/>
                  </a:lnTo>
                  <a:lnTo>
                    <a:pt x="1012" y="206"/>
                  </a:lnTo>
                  <a:lnTo>
                    <a:pt x="1001" y="206"/>
                  </a:lnTo>
                  <a:lnTo>
                    <a:pt x="971" y="210"/>
                  </a:lnTo>
                  <a:lnTo>
                    <a:pt x="960" y="210"/>
                  </a:lnTo>
                  <a:lnTo>
                    <a:pt x="945" y="210"/>
                  </a:lnTo>
                  <a:lnTo>
                    <a:pt x="915" y="210"/>
                  </a:lnTo>
                  <a:lnTo>
                    <a:pt x="903" y="210"/>
                  </a:lnTo>
                  <a:lnTo>
                    <a:pt x="888" y="213"/>
                  </a:lnTo>
                  <a:lnTo>
                    <a:pt x="858" y="213"/>
                  </a:lnTo>
                  <a:lnTo>
                    <a:pt x="843" y="213"/>
                  </a:lnTo>
                  <a:lnTo>
                    <a:pt x="832" y="213"/>
                  </a:lnTo>
                  <a:lnTo>
                    <a:pt x="802" y="213"/>
                  </a:lnTo>
                  <a:lnTo>
                    <a:pt x="787" y="213"/>
                  </a:lnTo>
                  <a:lnTo>
                    <a:pt x="772" y="213"/>
                  </a:lnTo>
                  <a:lnTo>
                    <a:pt x="746" y="213"/>
                  </a:lnTo>
                  <a:lnTo>
                    <a:pt x="731" y="210"/>
                  </a:lnTo>
                  <a:lnTo>
                    <a:pt x="716" y="210"/>
                  </a:lnTo>
                  <a:lnTo>
                    <a:pt x="690" y="210"/>
                  </a:lnTo>
                  <a:lnTo>
                    <a:pt x="675" y="210"/>
                  </a:lnTo>
                  <a:lnTo>
                    <a:pt x="660" y="210"/>
                  </a:lnTo>
                  <a:lnTo>
                    <a:pt x="634" y="206"/>
                  </a:lnTo>
                  <a:lnTo>
                    <a:pt x="619" y="206"/>
                  </a:lnTo>
                  <a:lnTo>
                    <a:pt x="604" y="206"/>
                  </a:lnTo>
                  <a:lnTo>
                    <a:pt x="577" y="202"/>
                  </a:lnTo>
                  <a:lnTo>
                    <a:pt x="562" y="202"/>
                  </a:lnTo>
                  <a:lnTo>
                    <a:pt x="551" y="202"/>
                  </a:lnTo>
                  <a:lnTo>
                    <a:pt x="525" y="198"/>
                  </a:lnTo>
                  <a:lnTo>
                    <a:pt x="510" y="198"/>
                  </a:lnTo>
                  <a:lnTo>
                    <a:pt x="499" y="195"/>
                  </a:lnTo>
                  <a:lnTo>
                    <a:pt x="472" y="191"/>
                  </a:lnTo>
                  <a:lnTo>
                    <a:pt x="457" y="191"/>
                  </a:lnTo>
                  <a:lnTo>
                    <a:pt x="446" y="191"/>
                  </a:lnTo>
                  <a:lnTo>
                    <a:pt x="420" y="187"/>
                  </a:lnTo>
                  <a:lnTo>
                    <a:pt x="409" y="183"/>
                  </a:lnTo>
                  <a:lnTo>
                    <a:pt x="394" y="183"/>
                  </a:lnTo>
                  <a:lnTo>
                    <a:pt x="371" y="180"/>
                  </a:lnTo>
                  <a:lnTo>
                    <a:pt x="360" y="176"/>
                  </a:lnTo>
                  <a:lnTo>
                    <a:pt x="349" y="176"/>
                  </a:lnTo>
                  <a:lnTo>
                    <a:pt x="326" y="168"/>
                  </a:lnTo>
                  <a:lnTo>
                    <a:pt x="315" y="168"/>
                  </a:lnTo>
                  <a:lnTo>
                    <a:pt x="304" y="165"/>
                  </a:lnTo>
                  <a:lnTo>
                    <a:pt x="281" y="161"/>
                  </a:lnTo>
                  <a:lnTo>
                    <a:pt x="270" y="157"/>
                  </a:lnTo>
                  <a:lnTo>
                    <a:pt x="259" y="157"/>
                  </a:lnTo>
                  <a:lnTo>
                    <a:pt x="240" y="150"/>
                  </a:lnTo>
                  <a:lnTo>
                    <a:pt x="229" y="146"/>
                  </a:lnTo>
                  <a:lnTo>
                    <a:pt x="218" y="146"/>
                  </a:lnTo>
                  <a:lnTo>
                    <a:pt x="199" y="138"/>
                  </a:lnTo>
                  <a:lnTo>
                    <a:pt x="191" y="138"/>
                  </a:lnTo>
                  <a:lnTo>
                    <a:pt x="180" y="135"/>
                  </a:lnTo>
                  <a:lnTo>
                    <a:pt x="165" y="127"/>
                  </a:lnTo>
                  <a:lnTo>
                    <a:pt x="154" y="123"/>
                  </a:lnTo>
                  <a:lnTo>
                    <a:pt x="146" y="123"/>
                  </a:lnTo>
                  <a:lnTo>
                    <a:pt x="131" y="116"/>
                  </a:lnTo>
                  <a:lnTo>
                    <a:pt x="124" y="112"/>
                  </a:lnTo>
                  <a:lnTo>
                    <a:pt x="117" y="108"/>
                  </a:lnTo>
                  <a:lnTo>
                    <a:pt x="102" y="105"/>
                  </a:lnTo>
                  <a:lnTo>
                    <a:pt x="94" y="101"/>
                  </a:lnTo>
                  <a:lnTo>
                    <a:pt x="90" y="97"/>
                  </a:lnTo>
                  <a:lnTo>
                    <a:pt x="75" y="90"/>
                  </a:lnTo>
                  <a:lnTo>
                    <a:pt x="72" y="86"/>
                  </a:lnTo>
                  <a:lnTo>
                    <a:pt x="64" y="82"/>
                  </a:lnTo>
                  <a:lnTo>
                    <a:pt x="53" y="75"/>
                  </a:lnTo>
                  <a:lnTo>
                    <a:pt x="49" y="75"/>
                  </a:lnTo>
                  <a:lnTo>
                    <a:pt x="45" y="71"/>
                  </a:lnTo>
                  <a:lnTo>
                    <a:pt x="34" y="63"/>
                  </a:lnTo>
                  <a:lnTo>
                    <a:pt x="30" y="60"/>
                  </a:lnTo>
                  <a:lnTo>
                    <a:pt x="27" y="56"/>
                  </a:lnTo>
                  <a:lnTo>
                    <a:pt x="19" y="48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8" y="33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4" y="243"/>
                  </a:lnTo>
                  <a:lnTo>
                    <a:pt x="4" y="251"/>
                  </a:lnTo>
                  <a:lnTo>
                    <a:pt x="8" y="254"/>
                  </a:lnTo>
                  <a:lnTo>
                    <a:pt x="8" y="258"/>
                  </a:lnTo>
                  <a:lnTo>
                    <a:pt x="15" y="266"/>
                  </a:lnTo>
                  <a:lnTo>
                    <a:pt x="19" y="269"/>
                  </a:lnTo>
                  <a:lnTo>
                    <a:pt x="19" y="273"/>
                  </a:lnTo>
                  <a:lnTo>
                    <a:pt x="27" y="281"/>
                  </a:lnTo>
                  <a:lnTo>
                    <a:pt x="30" y="284"/>
                  </a:lnTo>
                  <a:lnTo>
                    <a:pt x="34" y="288"/>
                  </a:lnTo>
                  <a:lnTo>
                    <a:pt x="45" y="296"/>
                  </a:lnTo>
                  <a:lnTo>
                    <a:pt x="49" y="299"/>
                  </a:lnTo>
                  <a:lnTo>
                    <a:pt x="53" y="299"/>
                  </a:lnTo>
                  <a:lnTo>
                    <a:pt x="64" y="307"/>
                  </a:lnTo>
                  <a:lnTo>
                    <a:pt x="72" y="311"/>
                  </a:lnTo>
                  <a:lnTo>
                    <a:pt x="75" y="314"/>
                  </a:lnTo>
                  <a:lnTo>
                    <a:pt x="90" y="322"/>
                  </a:lnTo>
                  <a:lnTo>
                    <a:pt x="94" y="326"/>
                  </a:lnTo>
                  <a:lnTo>
                    <a:pt x="102" y="329"/>
                  </a:lnTo>
                  <a:lnTo>
                    <a:pt x="117" y="333"/>
                  </a:lnTo>
                  <a:lnTo>
                    <a:pt x="124" y="337"/>
                  </a:lnTo>
                  <a:lnTo>
                    <a:pt x="131" y="341"/>
                  </a:lnTo>
                  <a:lnTo>
                    <a:pt x="146" y="348"/>
                  </a:lnTo>
                  <a:lnTo>
                    <a:pt x="154" y="348"/>
                  </a:lnTo>
                  <a:lnTo>
                    <a:pt x="165" y="352"/>
                  </a:lnTo>
                  <a:lnTo>
                    <a:pt x="180" y="359"/>
                  </a:lnTo>
                  <a:lnTo>
                    <a:pt x="191" y="363"/>
                  </a:lnTo>
                  <a:lnTo>
                    <a:pt x="199" y="363"/>
                  </a:lnTo>
                  <a:lnTo>
                    <a:pt x="218" y="371"/>
                  </a:lnTo>
                  <a:lnTo>
                    <a:pt x="229" y="371"/>
                  </a:lnTo>
                  <a:lnTo>
                    <a:pt x="240" y="374"/>
                  </a:lnTo>
                  <a:lnTo>
                    <a:pt x="259" y="382"/>
                  </a:lnTo>
                  <a:lnTo>
                    <a:pt x="270" y="382"/>
                  </a:lnTo>
                  <a:lnTo>
                    <a:pt x="281" y="386"/>
                  </a:lnTo>
                  <a:lnTo>
                    <a:pt x="304" y="389"/>
                  </a:lnTo>
                  <a:lnTo>
                    <a:pt x="315" y="393"/>
                  </a:lnTo>
                  <a:lnTo>
                    <a:pt x="326" y="393"/>
                  </a:lnTo>
                  <a:lnTo>
                    <a:pt x="349" y="401"/>
                  </a:lnTo>
                  <a:lnTo>
                    <a:pt x="360" y="401"/>
                  </a:lnTo>
                  <a:lnTo>
                    <a:pt x="371" y="404"/>
                  </a:lnTo>
                  <a:lnTo>
                    <a:pt x="394" y="408"/>
                  </a:lnTo>
                  <a:lnTo>
                    <a:pt x="409" y="408"/>
                  </a:lnTo>
                  <a:lnTo>
                    <a:pt x="420" y="412"/>
                  </a:lnTo>
                  <a:lnTo>
                    <a:pt x="446" y="416"/>
                  </a:lnTo>
                  <a:lnTo>
                    <a:pt x="457" y="416"/>
                  </a:lnTo>
                  <a:lnTo>
                    <a:pt x="472" y="416"/>
                  </a:lnTo>
                  <a:lnTo>
                    <a:pt x="499" y="419"/>
                  </a:lnTo>
                  <a:lnTo>
                    <a:pt x="510" y="423"/>
                  </a:lnTo>
                  <a:lnTo>
                    <a:pt x="525" y="423"/>
                  </a:lnTo>
                  <a:lnTo>
                    <a:pt x="551" y="427"/>
                  </a:lnTo>
                  <a:lnTo>
                    <a:pt x="562" y="427"/>
                  </a:lnTo>
                  <a:lnTo>
                    <a:pt x="577" y="427"/>
                  </a:lnTo>
                  <a:lnTo>
                    <a:pt x="604" y="431"/>
                  </a:lnTo>
                  <a:lnTo>
                    <a:pt x="619" y="431"/>
                  </a:lnTo>
                  <a:lnTo>
                    <a:pt x="634" y="431"/>
                  </a:lnTo>
                  <a:lnTo>
                    <a:pt x="660" y="434"/>
                  </a:lnTo>
                  <a:lnTo>
                    <a:pt x="675" y="434"/>
                  </a:lnTo>
                  <a:lnTo>
                    <a:pt x="690" y="434"/>
                  </a:lnTo>
                  <a:lnTo>
                    <a:pt x="716" y="434"/>
                  </a:lnTo>
                  <a:lnTo>
                    <a:pt x="731" y="434"/>
                  </a:lnTo>
                  <a:lnTo>
                    <a:pt x="746" y="438"/>
                  </a:lnTo>
                  <a:lnTo>
                    <a:pt x="772" y="438"/>
                  </a:lnTo>
                  <a:lnTo>
                    <a:pt x="787" y="438"/>
                  </a:lnTo>
                  <a:lnTo>
                    <a:pt x="802" y="438"/>
                  </a:lnTo>
                  <a:lnTo>
                    <a:pt x="832" y="438"/>
                  </a:lnTo>
                  <a:lnTo>
                    <a:pt x="843" y="438"/>
                  </a:lnTo>
                  <a:lnTo>
                    <a:pt x="858" y="438"/>
                  </a:lnTo>
                  <a:lnTo>
                    <a:pt x="888" y="438"/>
                  </a:lnTo>
                  <a:lnTo>
                    <a:pt x="903" y="434"/>
                  </a:lnTo>
                  <a:lnTo>
                    <a:pt x="915" y="434"/>
                  </a:lnTo>
                  <a:lnTo>
                    <a:pt x="945" y="434"/>
                  </a:lnTo>
                  <a:lnTo>
                    <a:pt x="960" y="434"/>
                  </a:lnTo>
                  <a:lnTo>
                    <a:pt x="971" y="434"/>
                  </a:lnTo>
                  <a:lnTo>
                    <a:pt x="1001" y="431"/>
                  </a:lnTo>
                  <a:lnTo>
                    <a:pt x="1012" y="431"/>
                  </a:lnTo>
                  <a:lnTo>
                    <a:pt x="1027" y="431"/>
                  </a:lnTo>
                  <a:lnTo>
                    <a:pt x="1053" y="427"/>
                  </a:lnTo>
                  <a:lnTo>
                    <a:pt x="1068" y="427"/>
                  </a:lnTo>
                  <a:lnTo>
                    <a:pt x="1083" y="427"/>
                  </a:lnTo>
                  <a:lnTo>
                    <a:pt x="1109" y="423"/>
                  </a:lnTo>
                  <a:lnTo>
                    <a:pt x="1121" y="423"/>
                  </a:lnTo>
                  <a:lnTo>
                    <a:pt x="1136" y="419"/>
                  </a:lnTo>
                  <a:lnTo>
                    <a:pt x="1162" y="416"/>
                  </a:lnTo>
                  <a:lnTo>
                    <a:pt x="1173" y="416"/>
                  </a:lnTo>
                  <a:lnTo>
                    <a:pt x="1188" y="416"/>
                  </a:lnTo>
                  <a:lnTo>
                    <a:pt x="1211" y="412"/>
                  </a:lnTo>
                  <a:lnTo>
                    <a:pt x="1226" y="408"/>
                  </a:lnTo>
                  <a:lnTo>
                    <a:pt x="1237" y="408"/>
                  </a:lnTo>
                  <a:lnTo>
                    <a:pt x="1259" y="404"/>
                  </a:lnTo>
                  <a:lnTo>
                    <a:pt x="1274" y="401"/>
                  </a:lnTo>
                  <a:lnTo>
                    <a:pt x="1286" y="401"/>
                  </a:lnTo>
                  <a:lnTo>
                    <a:pt x="1308" y="393"/>
                  </a:lnTo>
                  <a:lnTo>
                    <a:pt x="1319" y="393"/>
                  </a:lnTo>
                  <a:lnTo>
                    <a:pt x="1330" y="389"/>
                  </a:lnTo>
                  <a:lnTo>
                    <a:pt x="1353" y="386"/>
                  </a:lnTo>
                  <a:lnTo>
                    <a:pt x="1364" y="382"/>
                  </a:lnTo>
                  <a:lnTo>
                    <a:pt x="1372" y="382"/>
                  </a:lnTo>
                  <a:lnTo>
                    <a:pt x="1394" y="374"/>
                  </a:lnTo>
                  <a:lnTo>
                    <a:pt x="1405" y="371"/>
                  </a:lnTo>
                  <a:lnTo>
                    <a:pt x="1413" y="371"/>
                  </a:lnTo>
                  <a:lnTo>
                    <a:pt x="1432" y="363"/>
                  </a:lnTo>
                  <a:lnTo>
                    <a:pt x="1443" y="363"/>
                  </a:lnTo>
                  <a:lnTo>
                    <a:pt x="1450" y="359"/>
                  </a:lnTo>
                  <a:lnTo>
                    <a:pt x="1469" y="352"/>
                  </a:lnTo>
                  <a:lnTo>
                    <a:pt x="1477" y="348"/>
                  </a:lnTo>
                  <a:lnTo>
                    <a:pt x="1484" y="348"/>
                  </a:lnTo>
                  <a:lnTo>
                    <a:pt x="1503" y="341"/>
                  </a:lnTo>
                  <a:lnTo>
                    <a:pt x="1510" y="337"/>
                  </a:lnTo>
                  <a:lnTo>
                    <a:pt x="1518" y="333"/>
                  </a:lnTo>
                  <a:lnTo>
                    <a:pt x="1529" y="329"/>
                  </a:lnTo>
                  <a:lnTo>
                    <a:pt x="1537" y="326"/>
                  </a:lnTo>
                  <a:lnTo>
                    <a:pt x="1544" y="322"/>
                  </a:lnTo>
                  <a:lnTo>
                    <a:pt x="1555" y="314"/>
                  </a:lnTo>
                  <a:lnTo>
                    <a:pt x="1563" y="311"/>
                  </a:lnTo>
                  <a:lnTo>
                    <a:pt x="1567" y="307"/>
                  </a:lnTo>
                  <a:lnTo>
                    <a:pt x="1578" y="299"/>
                  </a:lnTo>
                  <a:lnTo>
                    <a:pt x="1585" y="299"/>
                  </a:lnTo>
                  <a:lnTo>
                    <a:pt x="1589" y="296"/>
                  </a:lnTo>
                  <a:lnTo>
                    <a:pt x="1597" y="288"/>
                  </a:lnTo>
                  <a:lnTo>
                    <a:pt x="1600" y="284"/>
                  </a:lnTo>
                  <a:lnTo>
                    <a:pt x="1604" y="281"/>
                  </a:lnTo>
                  <a:lnTo>
                    <a:pt x="1612" y="273"/>
                  </a:lnTo>
                  <a:lnTo>
                    <a:pt x="1615" y="269"/>
                  </a:lnTo>
                  <a:lnTo>
                    <a:pt x="1619" y="266"/>
                  </a:lnTo>
                  <a:lnTo>
                    <a:pt x="1623" y="258"/>
                  </a:lnTo>
                  <a:lnTo>
                    <a:pt x="1627" y="254"/>
                  </a:lnTo>
                  <a:lnTo>
                    <a:pt x="1627" y="251"/>
                  </a:lnTo>
                  <a:lnTo>
                    <a:pt x="1630" y="243"/>
                  </a:lnTo>
                  <a:lnTo>
                    <a:pt x="1630" y="240"/>
                  </a:lnTo>
                  <a:lnTo>
                    <a:pt x="1630" y="236"/>
                  </a:lnTo>
                  <a:lnTo>
                    <a:pt x="1634" y="228"/>
                  </a:lnTo>
                  <a:lnTo>
                    <a:pt x="1634" y="225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1600" y="4470120"/>
              <a:ext cx="2593800" cy="671760"/>
            </a:xfrm>
            <a:custGeom>
              <a:avLst/>
              <a:gdLst/>
              <a:ahLst/>
              <a:rect l="l" t="t" r="r" b="b"/>
              <a:pathLst>
                <a:path w="1634" h="423">
                  <a:moveTo>
                    <a:pt x="1413" y="67"/>
                  </a:moveTo>
                  <a:lnTo>
                    <a:pt x="1424" y="67"/>
                  </a:lnTo>
                  <a:lnTo>
                    <a:pt x="1443" y="75"/>
                  </a:lnTo>
                  <a:lnTo>
                    <a:pt x="1450" y="79"/>
                  </a:lnTo>
                  <a:lnTo>
                    <a:pt x="1462" y="79"/>
                  </a:lnTo>
                  <a:lnTo>
                    <a:pt x="1477" y="86"/>
                  </a:lnTo>
                  <a:lnTo>
                    <a:pt x="1484" y="90"/>
                  </a:lnTo>
                  <a:lnTo>
                    <a:pt x="1492" y="94"/>
                  </a:lnTo>
                  <a:lnTo>
                    <a:pt x="1510" y="97"/>
                  </a:lnTo>
                  <a:lnTo>
                    <a:pt x="1518" y="101"/>
                  </a:lnTo>
                  <a:lnTo>
                    <a:pt x="1525" y="105"/>
                  </a:lnTo>
                  <a:lnTo>
                    <a:pt x="1537" y="112"/>
                  </a:lnTo>
                  <a:lnTo>
                    <a:pt x="1544" y="116"/>
                  </a:lnTo>
                  <a:lnTo>
                    <a:pt x="1552" y="116"/>
                  </a:lnTo>
                  <a:lnTo>
                    <a:pt x="1555" y="120"/>
                  </a:lnTo>
                  <a:lnTo>
                    <a:pt x="1567" y="127"/>
                  </a:lnTo>
                  <a:lnTo>
                    <a:pt x="1574" y="131"/>
                  </a:lnTo>
                  <a:lnTo>
                    <a:pt x="1578" y="135"/>
                  </a:lnTo>
                  <a:lnTo>
                    <a:pt x="1589" y="142"/>
                  </a:lnTo>
                  <a:lnTo>
                    <a:pt x="1593" y="146"/>
                  </a:lnTo>
                  <a:lnTo>
                    <a:pt x="1597" y="150"/>
                  </a:lnTo>
                  <a:lnTo>
                    <a:pt x="1604" y="157"/>
                  </a:lnTo>
                  <a:lnTo>
                    <a:pt x="1608" y="161"/>
                  </a:lnTo>
                  <a:lnTo>
                    <a:pt x="1612" y="165"/>
                  </a:lnTo>
                  <a:lnTo>
                    <a:pt x="1619" y="168"/>
                  </a:lnTo>
                  <a:lnTo>
                    <a:pt x="1619" y="172"/>
                  </a:lnTo>
                  <a:lnTo>
                    <a:pt x="1623" y="176"/>
                  </a:lnTo>
                  <a:lnTo>
                    <a:pt x="1627" y="183"/>
                  </a:lnTo>
                  <a:lnTo>
                    <a:pt x="1630" y="187"/>
                  </a:lnTo>
                  <a:lnTo>
                    <a:pt x="1630" y="191"/>
                  </a:lnTo>
                  <a:lnTo>
                    <a:pt x="1630" y="198"/>
                  </a:lnTo>
                  <a:lnTo>
                    <a:pt x="1634" y="202"/>
                  </a:lnTo>
                  <a:lnTo>
                    <a:pt x="1634" y="206"/>
                  </a:lnTo>
                  <a:lnTo>
                    <a:pt x="1634" y="213"/>
                  </a:lnTo>
                  <a:lnTo>
                    <a:pt x="1634" y="217"/>
                  </a:lnTo>
                  <a:lnTo>
                    <a:pt x="1630" y="221"/>
                  </a:lnTo>
                  <a:lnTo>
                    <a:pt x="1630" y="228"/>
                  </a:lnTo>
                  <a:lnTo>
                    <a:pt x="1630" y="232"/>
                  </a:lnTo>
                  <a:lnTo>
                    <a:pt x="1627" y="236"/>
                  </a:lnTo>
                  <a:lnTo>
                    <a:pt x="1623" y="243"/>
                  </a:lnTo>
                  <a:lnTo>
                    <a:pt x="1619" y="247"/>
                  </a:lnTo>
                  <a:lnTo>
                    <a:pt x="1619" y="251"/>
                  </a:lnTo>
                  <a:lnTo>
                    <a:pt x="1615" y="255"/>
                  </a:lnTo>
                  <a:lnTo>
                    <a:pt x="1608" y="262"/>
                  </a:lnTo>
                  <a:lnTo>
                    <a:pt x="1604" y="266"/>
                  </a:lnTo>
                  <a:lnTo>
                    <a:pt x="1600" y="270"/>
                  </a:lnTo>
                  <a:lnTo>
                    <a:pt x="1593" y="277"/>
                  </a:lnTo>
                  <a:lnTo>
                    <a:pt x="1589" y="281"/>
                  </a:lnTo>
                  <a:lnTo>
                    <a:pt x="1585" y="285"/>
                  </a:lnTo>
                  <a:lnTo>
                    <a:pt x="1574" y="288"/>
                  </a:lnTo>
                  <a:lnTo>
                    <a:pt x="1567" y="292"/>
                  </a:lnTo>
                  <a:lnTo>
                    <a:pt x="1563" y="296"/>
                  </a:lnTo>
                  <a:lnTo>
                    <a:pt x="1552" y="303"/>
                  </a:lnTo>
                  <a:lnTo>
                    <a:pt x="1544" y="307"/>
                  </a:lnTo>
                  <a:lnTo>
                    <a:pt x="1537" y="311"/>
                  </a:lnTo>
                  <a:lnTo>
                    <a:pt x="1525" y="318"/>
                  </a:lnTo>
                  <a:lnTo>
                    <a:pt x="1518" y="318"/>
                  </a:lnTo>
                  <a:lnTo>
                    <a:pt x="1510" y="322"/>
                  </a:lnTo>
                  <a:lnTo>
                    <a:pt x="1492" y="330"/>
                  </a:lnTo>
                  <a:lnTo>
                    <a:pt x="1484" y="333"/>
                  </a:lnTo>
                  <a:lnTo>
                    <a:pt x="1477" y="333"/>
                  </a:lnTo>
                  <a:lnTo>
                    <a:pt x="1462" y="341"/>
                  </a:lnTo>
                  <a:lnTo>
                    <a:pt x="1450" y="345"/>
                  </a:lnTo>
                  <a:lnTo>
                    <a:pt x="1443" y="348"/>
                  </a:lnTo>
                  <a:lnTo>
                    <a:pt x="1424" y="352"/>
                  </a:lnTo>
                  <a:lnTo>
                    <a:pt x="1413" y="356"/>
                  </a:lnTo>
                  <a:lnTo>
                    <a:pt x="1405" y="356"/>
                  </a:lnTo>
                  <a:lnTo>
                    <a:pt x="1394" y="360"/>
                  </a:lnTo>
                  <a:lnTo>
                    <a:pt x="1372" y="367"/>
                  </a:lnTo>
                  <a:lnTo>
                    <a:pt x="1364" y="367"/>
                  </a:lnTo>
                  <a:lnTo>
                    <a:pt x="1353" y="371"/>
                  </a:lnTo>
                  <a:lnTo>
                    <a:pt x="1330" y="375"/>
                  </a:lnTo>
                  <a:lnTo>
                    <a:pt x="1319" y="378"/>
                  </a:lnTo>
                  <a:lnTo>
                    <a:pt x="1308" y="378"/>
                  </a:lnTo>
                  <a:lnTo>
                    <a:pt x="1286" y="386"/>
                  </a:lnTo>
                  <a:lnTo>
                    <a:pt x="1274" y="386"/>
                  </a:lnTo>
                  <a:lnTo>
                    <a:pt x="1259" y="390"/>
                  </a:lnTo>
                  <a:lnTo>
                    <a:pt x="1237" y="393"/>
                  </a:lnTo>
                  <a:lnTo>
                    <a:pt x="1226" y="393"/>
                  </a:lnTo>
                  <a:lnTo>
                    <a:pt x="1211" y="397"/>
                  </a:lnTo>
                  <a:lnTo>
                    <a:pt x="1188" y="401"/>
                  </a:lnTo>
                  <a:lnTo>
                    <a:pt x="1173" y="401"/>
                  </a:lnTo>
                  <a:lnTo>
                    <a:pt x="1162" y="401"/>
                  </a:lnTo>
                  <a:lnTo>
                    <a:pt x="1136" y="405"/>
                  </a:lnTo>
                  <a:lnTo>
                    <a:pt x="1121" y="408"/>
                  </a:lnTo>
                  <a:lnTo>
                    <a:pt x="1109" y="408"/>
                  </a:lnTo>
                  <a:lnTo>
                    <a:pt x="1083" y="412"/>
                  </a:lnTo>
                  <a:lnTo>
                    <a:pt x="1068" y="412"/>
                  </a:lnTo>
                  <a:lnTo>
                    <a:pt x="1053" y="412"/>
                  </a:lnTo>
                  <a:lnTo>
                    <a:pt x="1027" y="416"/>
                  </a:lnTo>
                  <a:lnTo>
                    <a:pt x="1012" y="416"/>
                  </a:lnTo>
                  <a:lnTo>
                    <a:pt x="1001" y="416"/>
                  </a:lnTo>
                  <a:lnTo>
                    <a:pt x="971" y="420"/>
                  </a:lnTo>
                  <a:lnTo>
                    <a:pt x="960" y="420"/>
                  </a:lnTo>
                  <a:lnTo>
                    <a:pt x="945" y="420"/>
                  </a:lnTo>
                  <a:lnTo>
                    <a:pt x="930" y="420"/>
                  </a:lnTo>
                  <a:lnTo>
                    <a:pt x="903" y="420"/>
                  </a:lnTo>
                  <a:lnTo>
                    <a:pt x="888" y="423"/>
                  </a:lnTo>
                  <a:lnTo>
                    <a:pt x="873" y="423"/>
                  </a:lnTo>
                  <a:lnTo>
                    <a:pt x="843" y="423"/>
                  </a:lnTo>
                  <a:lnTo>
                    <a:pt x="832" y="423"/>
                  </a:lnTo>
                  <a:lnTo>
                    <a:pt x="817" y="423"/>
                  </a:lnTo>
                  <a:lnTo>
                    <a:pt x="787" y="423"/>
                  </a:lnTo>
                  <a:lnTo>
                    <a:pt x="772" y="423"/>
                  </a:lnTo>
                  <a:lnTo>
                    <a:pt x="761" y="423"/>
                  </a:lnTo>
                  <a:lnTo>
                    <a:pt x="731" y="420"/>
                  </a:lnTo>
                  <a:lnTo>
                    <a:pt x="716" y="420"/>
                  </a:lnTo>
                  <a:lnTo>
                    <a:pt x="701" y="420"/>
                  </a:lnTo>
                  <a:lnTo>
                    <a:pt x="675" y="420"/>
                  </a:lnTo>
                  <a:lnTo>
                    <a:pt x="660" y="420"/>
                  </a:lnTo>
                  <a:lnTo>
                    <a:pt x="645" y="420"/>
                  </a:lnTo>
                  <a:lnTo>
                    <a:pt x="619" y="416"/>
                  </a:lnTo>
                  <a:lnTo>
                    <a:pt x="604" y="416"/>
                  </a:lnTo>
                  <a:lnTo>
                    <a:pt x="592" y="416"/>
                  </a:lnTo>
                  <a:lnTo>
                    <a:pt x="562" y="412"/>
                  </a:lnTo>
                  <a:lnTo>
                    <a:pt x="551" y="412"/>
                  </a:lnTo>
                  <a:lnTo>
                    <a:pt x="536" y="408"/>
                  </a:lnTo>
                  <a:lnTo>
                    <a:pt x="510" y="408"/>
                  </a:lnTo>
                  <a:lnTo>
                    <a:pt x="499" y="405"/>
                  </a:lnTo>
                  <a:lnTo>
                    <a:pt x="484" y="405"/>
                  </a:lnTo>
                  <a:lnTo>
                    <a:pt x="472" y="401"/>
                  </a:lnTo>
                  <a:lnTo>
                    <a:pt x="446" y="401"/>
                  </a:lnTo>
                  <a:lnTo>
                    <a:pt x="431" y="397"/>
                  </a:lnTo>
                  <a:lnTo>
                    <a:pt x="420" y="397"/>
                  </a:lnTo>
                  <a:lnTo>
                    <a:pt x="394" y="393"/>
                  </a:lnTo>
                  <a:lnTo>
                    <a:pt x="383" y="390"/>
                  </a:lnTo>
                  <a:lnTo>
                    <a:pt x="371" y="390"/>
                  </a:lnTo>
                  <a:lnTo>
                    <a:pt x="349" y="386"/>
                  </a:lnTo>
                  <a:lnTo>
                    <a:pt x="338" y="382"/>
                  </a:lnTo>
                  <a:lnTo>
                    <a:pt x="326" y="378"/>
                  </a:lnTo>
                  <a:lnTo>
                    <a:pt x="304" y="375"/>
                  </a:lnTo>
                  <a:lnTo>
                    <a:pt x="293" y="375"/>
                  </a:lnTo>
                  <a:lnTo>
                    <a:pt x="281" y="371"/>
                  </a:lnTo>
                  <a:lnTo>
                    <a:pt x="259" y="367"/>
                  </a:lnTo>
                  <a:lnTo>
                    <a:pt x="248" y="363"/>
                  </a:lnTo>
                  <a:lnTo>
                    <a:pt x="240" y="360"/>
                  </a:lnTo>
                  <a:lnTo>
                    <a:pt x="218" y="356"/>
                  </a:lnTo>
                  <a:lnTo>
                    <a:pt x="210" y="352"/>
                  </a:lnTo>
                  <a:lnTo>
                    <a:pt x="199" y="348"/>
                  </a:lnTo>
                  <a:lnTo>
                    <a:pt x="180" y="345"/>
                  </a:lnTo>
                  <a:lnTo>
                    <a:pt x="173" y="341"/>
                  </a:lnTo>
                  <a:lnTo>
                    <a:pt x="165" y="337"/>
                  </a:lnTo>
                  <a:lnTo>
                    <a:pt x="146" y="333"/>
                  </a:lnTo>
                  <a:lnTo>
                    <a:pt x="139" y="330"/>
                  </a:lnTo>
                  <a:lnTo>
                    <a:pt x="131" y="326"/>
                  </a:lnTo>
                  <a:lnTo>
                    <a:pt x="124" y="322"/>
                  </a:lnTo>
                  <a:lnTo>
                    <a:pt x="109" y="318"/>
                  </a:lnTo>
                  <a:lnTo>
                    <a:pt x="102" y="315"/>
                  </a:lnTo>
                  <a:lnTo>
                    <a:pt x="94" y="311"/>
                  </a:lnTo>
                  <a:lnTo>
                    <a:pt x="83" y="303"/>
                  </a:lnTo>
                  <a:lnTo>
                    <a:pt x="75" y="300"/>
                  </a:lnTo>
                  <a:lnTo>
                    <a:pt x="72" y="296"/>
                  </a:lnTo>
                  <a:lnTo>
                    <a:pt x="60" y="288"/>
                  </a:lnTo>
                  <a:lnTo>
                    <a:pt x="53" y="285"/>
                  </a:lnTo>
                  <a:lnTo>
                    <a:pt x="49" y="285"/>
                  </a:lnTo>
                  <a:lnTo>
                    <a:pt x="38" y="277"/>
                  </a:lnTo>
                  <a:lnTo>
                    <a:pt x="34" y="273"/>
                  </a:lnTo>
                  <a:lnTo>
                    <a:pt x="30" y="270"/>
                  </a:lnTo>
                  <a:lnTo>
                    <a:pt x="23" y="262"/>
                  </a:lnTo>
                  <a:lnTo>
                    <a:pt x="19" y="258"/>
                  </a:lnTo>
                  <a:lnTo>
                    <a:pt x="19" y="255"/>
                  </a:lnTo>
                  <a:lnTo>
                    <a:pt x="12" y="247"/>
                  </a:lnTo>
                  <a:lnTo>
                    <a:pt x="8" y="243"/>
                  </a:lnTo>
                  <a:lnTo>
                    <a:pt x="8" y="240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4" y="191"/>
                  </a:lnTo>
                  <a:lnTo>
                    <a:pt x="4" y="183"/>
                  </a:lnTo>
                  <a:lnTo>
                    <a:pt x="8" y="180"/>
                  </a:lnTo>
                  <a:lnTo>
                    <a:pt x="8" y="176"/>
                  </a:lnTo>
                  <a:lnTo>
                    <a:pt x="15" y="168"/>
                  </a:lnTo>
                  <a:lnTo>
                    <a:pt x="19" y="168"/>
                  </a:lnTo>
                  <a:lnTo>
                    <a:pt x="19" y="165"/>
                  </a:lnTo>
                  <a:lnTo>
                    <a:pt x="27" y="157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45" y="142"/>
                  </a:lnTo>
                  <a:lnTo>
                    <a:pt x="49" y="139"/>
                  </a:lnTo>
                  <a:lnTo>
                    <a:pt x="53" y="135"/>
                  </a:lnTo>
                  <a:lnTo>
                    <a:pt x="64" y="127"/>
                  </a:lnTo>
                  <a:lnTo>
                    <a:pt x="72" y="124"/>
                  </a:lnTo>
                  <a:lnTo>
                    <a:pt x="75" y="120"/>
                  </a:lnTo>
                  <a:lnTo>
                    <a:pt x="90" y="116"/>
                  </a:lnTo>
                  <a:lnTo>
                    <a:pt x="94" y="112"/>
                  </a:lnTo>
                  <a:lnTo>
                    <a:pt x="102" y="109"/>
                  </a:lnTo>
                  <a:lnTo>
                    <a:pt x="117" y="101"/>
                  </a:lnTo>
                  <a:lnTo>
                    <a:pt x="124" y="97"/>
                  </a:lnTo>
                  <a:lnTo>
                    <a:pt x="131" y="94"/>
                  </a:lnTo>
                  <a:lnTo>
                    <a:pt x="146" y="90"/>
                  </a:lnTo>
                  <a:lnTo>
                    <a:pt x="154" y="86"/>
                  </a:lnTo>
                  <a:lnTo>
                    <a:pt x="165" y="82"/>
                  </a:lnTo>
                  <a:lnTo>
                    <a:pt x="173" y="79"/>
                  </a:lnTo>
                  <a:lnTo>
                    <a:pt x="191" y="75"/>
                  </a:lnTo>
                  <a:lnTo>
                    <a:pt x="199" y="71"/>
                  </a:lnTo>
                  <a:lnTo>
                    <a:pt x="210" y="67"/>
                  </a:lnTo>
                  <a:lnTo>
                    <a:pt x="229" y="64"/>
                  </a:lnTo>
                  <a:lnTo>
                    <a:pt x="240" y="60"/>
                  </a:lnTo>
                  <a:lnTo>
                    <a:pt x="248" y="60"/>
                  </a:lnTo>
                  <a:lnTo>
                    <a:pt x="270" y="52"/>
                  </a:lnTo>
                  <a:lnTo>
                    <a:pt x="281" y="52"/>
                  </a:lnTo>
                  <a:lnTo>
                    <a:pt x="293" y="49"/>
                  </a:lnTo>
                  <a:lnTo>
                    <a:pt x="315" y="45"/>
                  </a:lnTo>
                  <a:lnTo>
                    <a:pt x="326" y="41"/>
                  </a:lnTo>
                  <a:lnTo>
                    <a:pt x="338" y="41"/>
                  </a:lnTo>
                  <a:lnTo>
                    <a:pt x="360" y="34"/>
                  </a:lnTo>
                  <a:lnTo>
                    <a:pt x="371" y="34"/>
                  </a:lnTo>
                  <a:lnTo>
                    <a:pt x="383" y="30"/>
                  </a:lnTo>
                  <a:lnTo>
                    <a:pt x="409" y="26"/>
                  </a:lnTo>
                  <a:lnTo>
                    <a:pt x="420" y="26"/>
                  </a:lnTo>
                  <a:lnTo>
                    <a:pt x="431" y="22"/>
                  </a:lnTo>
                  <a:lnTo>
                    <a:pt x="457" y="19"/>
                  </a:lnTo>
                  <a:lnTo>
                    <a:pt x="472" y="19"/>
                  </a:lnTo>
                  <a:lnTo>
                    <a:pt x="484" y="19"/>
                  </a:lnTo>
                  <a:lnTo>
                    <a:pt x="510" y="15"/>
                  </a:lnTo>
                  <a:lnTo>
                    <a:pt x="525" y="15"/>
                  </a:lnTo>
                  <a:lnTo>
                    <a:pt x="536" y="11"/>
                  </a:lnTo>
                  <a:lnTo>
                    <a:pt x="562" y="11"/>
                  </a:lnTo>
                  <a:lnTo>
                    <a:pt x="577" y="7"/>
                  </a:lnTo>
                  <a:lnTo>
                    <a:pt x="592" y="7"/>
                  </a:lnTo>
                  <a:lnTo>
                    <a:pt x="604" y="7"/>
                  </a:lnTo>
                  <a:lnTo>
                    <a:pt x="634" y="4"/>
                  </a:lnTo>
                  <a:lnTo>
                    <a:pt x="645" y="4"/>
                  </a:lnTo>
                  <a:lnTo>
                    <a:pt x="660" y="4"/>
                  </a:lnTo>
                  <a:lnTo>
                    <a:pt x="690" y="0"/>
                  </a:lnTo>
                  <a:lnTo>
                    <a:pt x="701" y="0"/>
                  </a:lnTo>
                  <a:lnTo>
                    <a:pt x="716" y="0"/>
                  </a:lnTo>
                  <a:lnTo>
                    <a:pt x="746" y="0"/>
                  </a:lnTo>
                  <a:lnTo>
                    <a:pt x="761" y="0"/>
                  </a:lnTo>
                  <a:lnTo>
                    <a:pt x="772" y="0"/>
                  </a:lnTo>
                  <a:lnTo>
                    <a:pt x="802" y="0"/>
                  </a:lnTo>
                  <a:lnTo>
                    <a:pt x="817" y="0"/>
                  </a:lnTo>
                  <a:lnTo>
                    <a:pt x="817" y="210"/>
                  </a:lnTo>
                  <a:lnTo>
                    <a:pt x="1413" y="67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37280" y="207720"/>
            <a:ext cx="3546000" cy="1031400"/>
          </a:xfrm>
          <a:prstGeom prst="rect">
            <a:avLst/>
          </a:prstGeom>
          <a:solidFill>
            <a:srgbClr val="333333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6160" y="1496880"/>
            <a:ext cx="8206920" cy="5082840"/>
          </a:xfrm>
          <a:prstGeom prst="rect">
            <a:avLst/>
          </a:prstGeom>
          <a:solidFill>
            <a:srgbClr val="333333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T H E    B A S I C    P R O B L E 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Uncertainty in sense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ownership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real e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mpossibility to put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mortgage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 real est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625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Difficulties in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proces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s of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privatization</a:t>
            </a:r>
            <a:r>
              <a:rPr b="1" i="1" lang="sr-Latn-CS" sz="2800" spc="-1" strike="noStrike">
                <a:solidFill>
                  <a:srgbClr val="00ff00"/>
                </a:solidFill>
                <a:latin typeface="Century Gothic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* 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n general, </a:t>
            </a:r>
            <a:r>
              <a:rPr b="1" i="1" lang="sr-Latn-CS" sz="2200" spc="-1" strike="noStrike" u="sng">
                <a:solidFill>
                  <a:srgbClr val="00ff00"/>
                </a:solidFill>
                <a:uFillTx/>
                <a:latin typeface="Century Gothic"/>
              </a:rPr>
              <a:t>I N V E S T O R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s not ready for investments in properties with unclear ownership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5456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6720" y="1955880"/>
              <a:ext cx="7791120" cy="4222440"/>
              <a:chOff x="666720" y="1955880"/>
              <a:chExt cx="7791120" cy="4222440"/>
            </a:xfrm>
          </p:grpSpPr>
          <p:sp>
            <p:nvSpPr>
              <p:cNvPr id="73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0" y="90"/>
                    </a:moveTo>
                    <a:lnTo>
                      <a:pt x="126" y="0"/>
                    </a:lnTo>
                    <a:lnTo>
                      <a:pt x="2686" y="0"/>
                    </a:lnTo>
                    <a:lnTo>
                      <a:pt x="256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1680" y="553716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1680" y="513972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1680" y="473832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1680" y="43394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680" y="39398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51680" y="354060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1680" y="314100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680" y="274356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1680" y="234216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1680" y="1955880"/>
                <a:ext cx="7705800" cy="18108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2686" y="0"/>
                    </a:moveTo>
                    <a:lnTo>
                      <a:pt x="2560" y="90"/>
                    </a:lnTo>
                    <a:lnTo>
                      <a:pt x="0" y="90"/>
                    </a:lnTo>
                    <a:lnTo>
                      <a:pt x="126" y="0"/>
                    </a:lnTo>
                    <a:lnTo>
                      <a:pt x="2686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751680" y="2136600"/>
                <a:ext cx="2160" cy="3981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66720" y="611820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6720" y="573012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666720" y="533196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666720" y="493272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66720" y="45334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666720" y="41338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66720" y="373464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66720" y="333360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66720" y="29358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66720" y="25362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66720" y="2136960"/>
                <a:ext cx="849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680" y="6118200"/>
                <a:ext cx="73447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680" y="6118200"/>
                <a:ext cx="216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31600" y="6118200"/>
                <a:ext cx="468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96400" y="6118200"/>
                <a:ext cx="252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90000" y="1992240"/>
              <a:ext cx="686160" cy="4256280"/>
              <a:chOff x="90000" y="1992240"/>
              <a:chExt cx="686160" cy="4256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1200" y="59738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960" y="5584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9960" y="51879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600" y="4788000"/>
                <a:ext cx="547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960" y="4387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9960" y="3987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960" y="35877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960" y="31892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7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9960" y="2790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8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9960" y="23922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9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0000" y="1992240"/>
                <a:ext cx="524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9072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January 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23920" y="3809880"/>
              <a:ext cx="1619280" cy="2286000"/>
              <a:chOff x="1123920" y="3809880"/>
              <a:chExt cx="1619280" cy="2286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329560" y="3809880"/>
                <a:ext cx="413280" cy="22860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23920" y="3979080"/>
                <a:ext cx="1205640" cy="21164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3920" y="3809880"/>
                <a:ext cx="1619280" cy="16920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04640" y="421092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5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6960" y="384120"/>
              <a:ext cx="7750080" cy="9820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No. of District Cadastre Offices with new ownership evi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Novemb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r 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05320" y="2490840"/>
              <a:ext cx="1800000" cy="3604680"/>
              <a:chOff x="3505320" y="2490840"/>
              <a:chExt cx="1800000" cy="360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4845600" y="2490840"/>
                <a:ext cx="459720" cy="360468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2757600"/>
                <a:ext cx="1340280" cy="3337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5320" y="2490840"/>
                <a:ext cx="1800000" cy="2667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07640" y="312336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86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Century Gothic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02640" y="1752480"/>
              <a:ext cx="2176200" cy="4343400"/>
              <a:chOff x="6002640" y="1752480"/>
              <a:chExt cx="2176200" cy="4343400"/>
            </a:xfrm>
          </p:grpSpPr>
          <p:sp>
            <p:nvSpPr>
              <p:cNvPr id="132" name=""/>
              <p:cNvSpPr/>
              <p:nvPr/>
            </p:nvSpPr>
            <p:spPr>
              <a:xfrm>
                <a:off x="7628040" y="1752480"/>
                <a:ext cx="550800" cy="43434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>
                  <a:alpha val="75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920" y="2075040"/>
                <a:ext cx="1608120" cy="4020840"/>
              </a:xfrm>
              <a:prstGeom prst="rect">
                <a:avLst/>
              </a:pr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9920" y="1752480"/>
                <a:ext cx="2158920" cy="3225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02640" y="2209680"/>
                <a:ext cx="158580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1050*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943600" y="5943600"/>
              <a:ext cx="2209680" cy="7192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*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Planned up to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beginning of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28036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5238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685800" y="4114800"/>
              <a:ext cx="571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Crna rupa 1: 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Digitalni planovi-slicica iz cad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160" y="0"/>
              <a:ext cx="9132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cc99ff">
                    <a:alpha val="1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28600" y="1905120"/>
              <a:ext cx="4025880" cy="1890720"/>
              <a:chOff x="228600" y="1905120"/>
              <a:chExt cx="4025880" cy="18907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4120" y="1905120"/>
                <a:ext cx="142920" cy="1086120"/>
              </a:xfrm>
              <a:custGeom>
                <a:avLst/>
                <a:gdLst/>
                <a:ahLst/>
                <a:rect l="l" t="t" r="r" b="b"/>
                <a:pathLst>
                  <a:path w="90" h="684">
                    <a:moveTo>
                      <a:pt x="90" y="330"/>
                    </a:moveTo>
                    <a:lnTo>
                      <a:pt x="0" y="0"/>
                    </a:lnTo>
                    <a:lnTo>
                      <a:pt x="0" y="354"/>
                    </a:lnTo>
                    <a:lnTo>
                      <a:pt x="90" y="684"/>
                    </a:lnTo>
                    <a:lnTo>
                      <a:pt x="90" y="33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94120" y="1905120"/>
                <a:ext cx="142920" cy="523800"/>
              </a:xfrm>
              <a:custGeom>
                <a:avLst/>
                <a:gdLst/>
                <a:ahLst/>
                <a:rect l="l" t="t" r="r" b="b"/>
                <a:pathLst>
                  <a:path w="90" h="330">
                    <a:moveTo>
                      <a:pt x="0" y="0"/>
                    </a:moveTo>
                    <a:lnTo>
                      <a:pt x="2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600" y="2710080"/>
                <a:ext cx="4025880" cy="1085760"/>
              </a:xfrm>
              <a:custGeom>
                <a:avLst/>
                <a:gdLst/>
                <a:ahLst/>
                <a:rect l="l" t="t" r="r" b="b"/>
                <a:pathLst>
                  <a:path w="2536" h="684">
                    <a:moveTo>
                      <a:pt x="2536" y="0"/>
                    </a:moveTo>
                    <a:lnTo>
                      <a:pt x="2536" y="6"/>
                    </a:lnTo>
                    <a:lnTo>
                      <a:pt x="2530" y="18"/>
                    </a:lnTo>
                    <a:lnTo>
                      <a:pt x="2530" y="24"/>
                    </a:lnTo>
                    <a:lnTo>
                      <a:pt x="2530" y="30"/>
                    </a:lnTo>
                    <a:lnTo>
                      <a:pt x="2524" y="36"/>
                    </a:lnTo>
                    <a:lnTo>
                      <a:pt x="2524" y="42"/>
                    </a:lnTo>
                    <a:lnTo>
                      <a:pt x="2518" y="48"/>
                    </a:lnTo>
                    <a:lnTo>
                      <a:pt x="2512" y="60"/>
                    </a:lnTo>
                    <a:lnTo>
                      <a:pt x="2506" y="66"/>
                    </a:lnTo>
                    <a:lnTo>
                      <a:pt x="2500" y="72"/>
                    </a:lnTo>
                    <a:lnTo>
                      <a:pt x="2494" y="84"/>
                    </a:lnTo>
                    <a:lnTo>
                      <a:pt x="2488" y="90"/>
                    </a:lnTo>
                    <a:lnTo>
                      <a:pt x="2482" y="96"/>
                    </a:lnTo>
                    <a:lnTo>
                      <a:pt x="2464" y="108"/>
                    </a:lnTo>
                    <a:lnTo>
                      <a:pt x="2458" y="114"/>
                    </a:lnTo>
                    <a:lnTo>
                      <a:pt x="2452" y="114"/>
                    </a:lnTo>
                    <a:lnTo>
                      <a:pt x="2434" y="126"/>
                    </a:lnTo>
                    <a:lnTo>
                      <a:pt x="2422" y="132"/>
                    </a:lnTo>
                    <a:lnTo>
                      <a:pt x="2416" y="138"/>
                    </a:lnTo>
                    <a:lnTo>
                      <a:pt x="2398" y="150"/>
                    </a:lnTo>
                    <a:lnTo>
                      <a:pt x="2386" y="156"/>
                    </a:lnTo>
                    <a:lnTo>
                      <a:pt x="2374" y="156"/>
                    </a:lnTo>
                    <a:lnTo>
                      <a:pt x="2356" y="168"/>
                    </a:lnTo>
                    <a:lnTo>
                      <a:pt x="2344" y="174"/>
                    </a:lnTo>
                    <a:lnTo>
                      <a:pt x="2332" y="180"/>
                    </a:lnTo>
                    <a:lnTo>
                      <a:pt x="2302" y="186"/>
                    </a:lnTo>
                    <a:lnTo>
                      <a:pt x="2290" y="192"/>
                    </a:lnTo>
                    <a:lnTo>
                      <a:pt x="2278" y="198"/>
                    </a:lnTo>
                    <a:lnTo>
                      <a:pt x="2254" y="204"/>
                    </a:lnTo>
                    <a:lnTo>
                      <a:pt x="2236" y="210"/>
                    </a:lnTo>
                    <a:lnTo>
                      <a:pt x="2224" y="216"/>
                    </a:lnTo>
                    <a:lnTo>
                      <a:pt x="2194" y="222"/>
                    </a:lnTo>
                    <a:lnTo>
                      <a:pt x="2176" y="228"/>
                    </a:lnTo>
                    <a:lnTo>
                      <a:pt x="2164" y="234"/>
                    </a:lnTo>
                    <a:lnTo>
                      <a:pt x="2128" y="240"/>
                    </a:lnTo>
                    <a:lnTo>
                      <a:pt x="2116" y="246"/>
                    </a:lnTo>
                    <a:lnTo>
                      <a:pt x="2098" y="246"/>
                    </a:lnTo>
                    <a:lnTo>
                      <a:pt x="2062" y="252"/>
                    </a:lnTo>
                    <a:lnTo>
                      <a:pt x="2044" y="258"/>
                    </a:lnTo>
                    <a:lnTo>
                      <a:pt x="2032" y="264"/>
                    </a:lnTo>
                    <a:lnTo>
                      <a:pt x="1996" y="270"/>
                    </a:lnTo>
                    <a:lnTo>
                      <a:pt x="1978" y="270"/>
                    </a:lnTo>
                    <a:lnTo>
                      <a:pt x="1954" y="276"/>
                    </a:lnTo>
                    <a:lnTo>
                      <a:pt x="1918" y="282"/>
                    </a:lnTo>
                    <a:lnTo>
                      <a:pt x="1900" y="282"/>
                    </a:lnTo>
                    <a:lnTo>
                      <a:pt x="1882" y="288"/>
                    </a:lnTo>
                    <a:lnTo>
                      <a:pt x="1840" y="294"/>
                    </a:lnTo>
                    <a:lnTo>
                      <a:pt x="1822" y="294"/>
                    </a:lnTo>
                    <a:lnTo>
                      <a:pt x="1804" y="300"/>
                    </a:lnTo>
                    <a:lnTo>
                      <a:pt x="1762" y="300"/>
                    </a:lnTo>
                    <a:lnTo>
                      <a:pt x="1738" y="306"/>
                    </a:lnTo>
                    <a:lnTo>
                      <a:pt x="1720" y="306"/>
                    </a:lnTo>
                    <a:lnTo>
                      <a:pt x="1678" y="312"/>
                    </a:lnTo>
                    <a:lnTo>
                      <a:pt x="1660" y="312"/>
                    </a:lnTo>
                    <a:lnTo>
                      <a:pt x="1637" y="312"/>
                    </a:lnTo>
                    <a:lnTo>
                      <a:pt x="1595" y="318"/>
                    </a:lnTo>
                    <a:lnTo>
                      <a:pt x="1571" y="318"/>
                    </a:lnTo>
                    <a:lnTo>
                      <a:pt x="1553" y="318"/>
                    </a:lnTo>
                    <a:lnTo>
                      <a:pt x="1511" y="324"/>
                    </a:lnTo>
                    <a:lnTo>
                      <a:pt x="1487" y="324"/>
                    </a:lnTo>
                    <a:lnTo>
                      <a:pt x="1463" y="324"/>
                    </a:lnTo>
                    <a:lnTo>
                      <a:pt x="1421" y="324"/>
                    </a:lnTo>
                    <a:lnTo>
                      <a:pt x="1397" y="324"/>
                    </a:lnTo>
                    <a:lnTo>
                      <a:pt x="1379" y="330"/>
                    </a:lnTo>
                    <a:lnTo>
                      <a:pt x="1331" y="330"/>
                    </a:lnTo>
                    <a:lnTo>
                      <a:pt x="1313" y="330"/>
                    </a:lnTo>
                    <a:lnTo>
                      <a:pt x="1289" y="330"/>
                    </a:lnTo>
                    <a:lnTo>
                      <a:pt x="1247" y="330"/>
                    </a:lnTo>
                    <a:lnTo>
                      <a:pt x="1223" y="330"/>
                    </a:lnTo>
                    <a:lnTo>
                      <a:pt x="1199" y="330"/>
                    </a:lnTo>
                    <a:lnTo>
                      <a:pt x="1157" y="330"/>
                    </a:lnTo>
                    <a:lnTo>
                      <a:pt x="1133" y="324"/>
                    </a:lnTo>
                    <a:lnTo>
                      <a:pt x="1109" y="324"/>
                    </a:lnTo>
                    <a:lnTo>
                      <a:pt x="1067" y="324"/>
                    </a:lnTo>
                    <a:lnTo>
                      <a:pt x="1049" y="324"/>
                    </a:lnTo>
                    <a:lnTo>
                      <a:pt x="1025" y="324"/>
                    </a:lnTo>
                    <a:lnTo>
                      <a:pt x="983" y="318"/>
                    </a:lnTo>
                    <a:lnTo>
                      <a:pt x="959" y="318"/>
                    </a:lnTo>
                    <a:lnTo>
                      <a:pt x="941" y="318"/>
                    </a:lnTo>
                    <a:lnTo>
                      <a:pt x="893" y="312"/>
                    </a:lnTo>
                    <a:lnTo>
                      <a:pt x="875" y="312"/>
                    </a:lnTo>
                    <a:lnTo>
                      <a:pt x="851" y="312"/>
                    </a:lnTo>
                    <a:lnTo>
                      <a:pt x="809" y="306"/>
                    </a:lnTo>
                    <a:lnTo>
                      <a:pt x="791" y="306"/>
                    </a:lnTo>
                    <a:lnTo>
                      <a:pt x="773" y="300"/>
                    </a:lnTo>
                    <a:lnTo>
                      <a:pt x="731" y="300"/>
                    </a:lnTo>
                    <a:lnTo>
                      <a:pt x="713" y="294"/>
                    </a:lnTo>
                    <a:lnTo>
                      <a:pt x="689" y="294"/>
                    </a:lnTo>
                    <a:lnTo>
                      <a:pt x="653" y="288"/>
                    </a:lnTo>
                    <a:lnTo>
                      <a:pt x="629" y="282"/>
                    </a:lnTo>
                    <a:lnTo>
                      <a:pt x="611" y="282"/>
                    </a:lnTo>
                    <a:lnTo>
                      <a:pt x="575" y="276"/>
                    </a:lnTo>
                    <a:lnTo>
                      <a:pt x="557" y="270"/>
                    </a:lnTo>
                    <a:lnTo>
                      <a:pt x="539" y="270"/>
                    </a:lnTo>
                    <a:lnTo>
                      <a:pt x="503" y="264"/>
                    </a:lnTo>
                    <a:lnTo>
                      <a:pt x="485" y="258"/>
                    </a:lnTo>
                    <a:lnTo>
                      <a:pt x="467" y="252"/>
                    </a:lnTo>
                    <a:lnTo>
                      <a:pt x="431" y="246"/>
                    </a:lnTo>
                    <a:lnTo>
                      <a:pt x="419" y="246"/>
                    </a:lnTo>
                    <a:lnTo>
                      <a:pt x="401" y="240"/>
                    </a:lnTo>
                    <a:lnTo>
                      <a:pt x="371" y="234"/>
                    </a:lnTo>
                    <a:lnTo>
                      <a:pt x="354" y="228"/>
                    </a:lnTo>
                    <a:lnTo>
                      <a:pt x="342" y="222"/>
                    </a:lnTo>
                    <a:lnTo>
                      <a:pt x="312" y="216"/>
                    </a:lnTo>
                    <a:lnTo>
                      <a:pt x="294" y="210"/>
                    </a:lnTo>
                    <a:lnTo>
                      <a:pt x="282" y="204"/>
                    </a:lnTo>
                    <a:lnTo>
                      <a:pt x="252" y="198"/>
                    </a:lnTo>
                    <a:lnTo>
                      <a:pt x="240" y="192"/>
                    </a:lnTo>
                    <a:lnTo>
                      <a:pt x="228" y="186"/>
                    </a:lnTo>
                    <a:lnTo>
                      <a:pt x="204" y="180"/>
                    </a:lnTo>
                    <a:lnTo>
                      <a:pt x="192" y="174"/>
                    </a:lnTo>
                    <a:lnTo>
                      <a:pt x="180" y="168"/>
                    </a:lnTo>
                    <a:lnTo>
                      <a:pt x="156" y="156"/>
                    </a:lnTo>
                    <a:lnTo>
                      <a:pt x="150" y="156"/>
                    </a:lnTo>
                    <a:lnTo>
                      <a:pt x="138" y="150"/>
                    </a:lnTo>
                    <a:lnTo>
                      <a:pt x="120" y="138"/>
                    </a:lnTo>
                    <a:lnTo>
                      <a:pt x="108" y="132"/>
                    </a:lnTo>
                    <a:lnTo>
                      <a:pt x="102" y="126"/>
                    </a:lnTo>
                    <a:lnTo>
                      <a:pt x="84" y="114"/>
                    </a:lnTo>
                    <a:lnTo>
                      <a:pt x="78" y="114"/>
                    </a:lnTo>
                    <a:lnTo>
                      <a:pt x="66" y="108"/>
                    </a:lnTo>
                    <a:lnTo>
                      <a:pt x="54" y="96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354"/>
                    </a:lnTo>
                    <a:lnTo>
                      <a:pt x="0" y="360"/>
                    </a:lnTo>
                    <a:lnTo>
                      <a:pt x="0" y="372"/>
                    </a:lnTo>
                    <a:lnTo>
                      <a:pt x="0" y="378"/>
                    </a:lnTo>
                    <a:lnTo>
                      <a:pt x="6" y="384"/>
                    </a:lnTo>
                    <a:lnTo>
                      <a:pt x="6" y="390"/>
                    </a:lnTo>
                    <a:lnTo>
                      <a:pt x="12" y="396"/>
                    </a:lnTo>
                    <a:lnTo>
                      <a:pt x="12" y="402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30" y="426"/>
                    </a:lnTo>
                    <a:lnTo>
                      <a:pt x="42" y="438"/>
                    </a:lnTo>
                    <a:lnTo>
                      <a:pt x="48" y="444"/>
                    </a:lnTo>
                    <a:lnTo>
                      <a:pt x="54" y="450"/>
                    </a:lnTo>
                    <a:lnTo>
                      <a:pt x="66" y="462"/>
                    </a:lnTo>
                    <a:lnTo>
                      <a:pt x="78" y="468"/>
                    </a:lnTo>
                    <a:lnTo>
                      <a:pt x="84" y="468"/>
                    </a:lnTo>
                    <a:lnTo>
                      <a:pt x="102" y="480"/>
                    </a:lnTo>
                    <a:lnTo>
                      <a:pt x="108" y="486"/>
                    </a:lnTo>
                    <a:lnTo>
                      <a:pt x="120" y="492"/>
                    </a:lnTo>
                    <a:lnTo>
                      <a:pt x="138" y="504"/>
                    </a:lnTo>
                    <a:lnTo>
                      <a:pt x="150" y="510"/>
                    </a:lnTo>
                    <a:lnTo>
                      <a:pt x="156" y="510"/>
                    </a:lnTo>
                    <a:lnTo>
                      <a:pt x="180" y="522"/>
                    </a:lnTo>
                    <a:lnTo>
                      <a:pt x="192" y="528"/>
                    </a:lnTo>
                    <a:lnTo>
                      <a:pt x="204" y="534"/>
                    </a:lnTo>
                    <a:lnTo>
                      <a:pt x="228" y="540"/>
                    </a:lnTo>
                    <a:lnTo>
                      <a:pt x="240" y="546"/>
                    </a:lnTo>
                    <a:lnTo>
                      <a:pt x="252" y="552"/>
                    </a:lnTo>
                    <a:lnTo>
                      <a:pt x="282" y="558"/>
                    </a:lnTo>
                    <a:lnTo>
                      <a:pt x="294" y="564"/>
                    </a:lnTo>
                    <a:lnTo>
                      <a:pt x="312" y="570"/>
                    </a:lnTo>
                    <a:lnTo>
                      <a:pt x="342" y="576"/>
                    </a:lnTo>
                    <a:lnTo>
                      <a:pt x="354" y="582"/>
                    </a:lnTo>
                    <a:lnTo>
                      <a:pt x="371" y="588"/>
                    </a:lnTo>
                    <a:lnTo>
                      <a:pt x="401" y="594"/>
                    </a:lnTo>
                    <a:lnTo>
                      <a:pt x="419" y="600"/>
                    </a:lnTo>
                    <a:lnTo>
                      <a:pt x="431" y="600"/>
                    </a:lnTo>
                    <a:lnTo>
                      <a:pt x="467" y="606"/>
                    </a:lnTo>
                    <a:lnTo>
                      <a:pt x="485" y="612"/>
                    </a:lnTo>
                    <a:lnTo>
                      <a:pt x="503" y="618"/>
                    </a:lnTo>
                    <a:lnTo>
                      <a:pt x="539" y="624"/>
                    </a:lnTo>
                    <a:lnTo>
                      <a:pt x="557" y="624"/>
                    </a:lnTo>
                    <a:lnTo>
                      <a:pt x="575" y="630"/>
                    </a:lnTo>
                    <a:lnTo>
                      <a:pt x="611" y="636"/>
                    </a:lnTo>
                    <a:lnTo>
                      <a:pt x="629" y="636"/>
                    </a:lnTo>
                    <a:lnTo>
                      <a:pt x="653" y="642"/>
                    </a:lnTo>
                    <a:lnTo>
                      <a:pt x="689" y="648"/>
                    </a:lnTo>
                    <a:lnTo>
                      <a:pt x="713" y="648"/>
                    </a:lnTo>
                    <a:lnTo>
                      <a:pt x="731" y="654"/>
                    </a:lnTo>
                    <a:lnTo>
                      <a:pt x="773" y="654"/>
                    </a:lnTo>
                    <a:lnTo>
                      <a:pt x="791" y="660"/>
                    </a:lnTo>
                    <a:lnTo>
                      <a:pt x="809" y="660"/>
                    </a:lnTo>
                    <a:lnTo>
                      <a:pt x="851" y="666"/>
                    </a:lnTo>
                    <a:lnTo>
                      <a:pt x="875" y="666"/>
                    </a:lnTo>
                    <a:lnTo>
                      <a:pt x="893" y="666"/>
                    </a:lnTo>
                    <a:lnTo>
                      <a:pt x="941" y="672"/>
                    </a:lnTo>
                    <a:lnTo>
                      <a:pt x="959" y="672"/>
                    </a:lnTo>
                    <a:lnTo>
                      <a:pt x="983" y="672"/>
                    </a:lnTo>
                    <a:lnTo>
                      <a:pt x="1025" y="678"/>
                    </a:lnTo>
                    <a:lnTo>
                      <a:pt x="1049" y="678"/>
                    </a:lnTo>
                    <a:lnTo>
                      <a:pt x="1067" y="678"/>
                    </a:lnTo>
                    <a:lnTo>
                      <a:pt x="1109" y="678"/>
                    </a:lnTo>
                    <a:lnTo>
                      <a:pt x="1133" y="678"/>
                    </a:lnTo>
                    <a:lnTo>
                      <a:pt x="1157" y="684"/>
                    </a:lnTo>
                    <a:lnTo>
                      <a:pt x="1199" y="684"/>
                    </a:lnTo>
                    <a:lnTo>
                      <a:pt x="1223" y="684"/>
                    </a:lnTo>
                    <a:lnTo>
                      <a:pt x="1247" y="684"/>
                    </a:lnTo>
                    <a:lnTo>
                      <a:pt x="1289" y="684"/>
                    </a:lnTo>
                    <a:lnTo>
                      <a:pt x="1313" y="684"/>
                    </a:lnTo>
                    <a:lnTo>
                      <a:pt x="1331" y="684"/>
                    </a:lnTo>
                    <a:lnTo>
                      <a:pt x="1379" y="684"/>
                    </a:lnTo>
                    <a:lnTo>
                      <a:pt x="1397" y="678"/>
                    </a:lnTo>
                    <a:lnTo>
                      <a:pt x="1421" y="678"/>
                    </a:lnTo>
                    <a:lnTo>
                      <a:pt x="1463" y="678"/>
                    </a:lnTo>
                    <a:lnTo>
                      <a:pt x="1487" y="678"/>
                    </a:lnTo>
                    <a:lnTo>
                      <a:pt x="1511" y="678"/>
                    </a:lnTo>
                    <a:lnTo>
                      <a:pt x="1553" y="672"/>
                    </a:lnTo>
                    <a:lnTo>
                      <a:pt x="1571" y="672"/>
                    </a:lnTo>
                    <a:lnTo>
                      <a:pt x="1595" y="672"/>
                    </a:lnTo>
                    <a:lnTo>
                      <a:pt x="1637" y="666"/>
                    </a:lnTo>
                    <a:lnTo>
                      <a:pt x="1660" y="666"/>
                    </a:lnTo>
                    <a:lnTo>
                      <a:pt x="1678" y="666"/>
                    </a:lnTo>
                    <a:lnTo>
                      <a:pt x="1720" y="660"/>
                    </a:lnTo>
                    <a:lnTo>
                      <a:pt x="1738" y="660"/>
                    </a:lnTo>
                    <a:lnTo>
                      <a:pt x="1762" y="654"/>
                    </a:lnTo>
                    <a:lnTo>
                      <a:pt x="1804" y="654"/>
                    </a:lnTo>
                    <a:lnTo>
                      <a:pt x="1822" y="648"/>
                    </a:lnTo>
                    <a:lnTo>
                      <a:pt x="1840" y="648"/>
                    </a:lnTo>
                    <a:lnTo>
                      <a:pt x="1882" y="642"/>
                    </a:lnTo>
                    <a:lnTo>
                      <a:pt x="1900" y="636"/>
                    </a:lnTo>
                    <a:lnTo>
                      <a:pt x="1918" y="636"/>
                    </a:lnTo>
                    <a:lnTo>
                      <a:pt x="1954" y="630"/>
                    </a:lnTo>
                    <a:lnTo>
                      <a:pt x="1978" y="624"/>
                    </a:lnTo>
                    <a:lnTo>
                      <a:pt x="1996" y="624"/>
                    </a:lnTo>
                    <a:lnTo>
                      <a:pt x="2032" y="618"/>
                    </a:lnTo>
                    <a:lnTo>
                      <a:pt x="2044" y="612"/>
                    </a:lnTo>
                    <a:lnTo>
                      <a:pt x="2062" y="606"/>
                    </a:lnTo>
                    <a:lnTo>
                      <a:pt x="2098" y="600"/>
                    </a:lnTo>
                    <a:lnTo>
                      <a:pt x="2116" y="600"/>
                    </a:lnTo>
                    <a:lnTo>
                      <a:pt x="2128" y="594"/>
                    </a:lnTo>
                    <a:lnTo>
                      <a:pt x="2164" y="588"/>
                    </a:lnTo>
                    <a:lnTo>
                      <a:pt x="2176" y="582"/>
                    </a:lnTo>
                    <a:lnTo>
                      <a:pt x="2194" y="576"/>
                    </a:lnTo>
                    <a:lnTo>
                      <a:pt x="2224" y="570"/>
                    </a:lnTo>
                    <a:lnTo>
                      <a:pt x="2236" y="564"/>
                    </a:lnTo>
                    <a:lnTo>
                      <a:pt x="2254" y="558"/>
                    </a:lnTo>
                    <a:lnTo>
                      <a:pt x="2278" y="552"/>
                    </a:lnTo>
                    <a:lnTo>
                      <a:pt x="2290" y="546"/>
                    </a:lnTo>
                    <a:lnTo>
                      <a:pt x="2302" y="540"/>
                    </a:lnTo>
                    <a:lnTo>
                      <a:pt x="2332" y="534"/>
                    </a:lnTo>
                    <a:lnTo>
                      <a:pt x="2344" y="528"/>
                    </a:lnTo>
                    <a:lnTo>
                      <a:pt x="2356" y="522"/>
                    </a:lnTo>
                    <a:lnTo>
                      <a:pt x="2374" y="510"/>
                    </a:lnTo>
                    <a:lnTo>
                      <a:pt x="2386" y="510"/>
                    </a:lnTo>
                    <a:lnTo>
                      <a:pt x="2398" y="504"/>
                    </a:lnTo>
                    <a:lnTo>
                      <a:pt x="2416" y="492"/>
                    </a:lnTo>
                    <a:lnTo>
                      <a:pt x="2422" y="486"/>
                    </a:lnTo>
                    <a:lnTo>
                      <a:pt x="2434" y="480"/>
                    </a:lnTo>
                    <a:lnTo>
                      <a:pt x="2452" y="468"/>
                    </a:lnTo>
                    <a:lnTo>
                      <a:pt x="2458" y="468"/>
                    </a:lnTo>
                    <a:lnTo>
                      <a:pt x="2464" y="462"/>
                    </a:lnTo>
                    <a:lnTo>
                      <a:pt x="2482" y="450"/>
                    </a:lnTo>
                    <a:lnTo>
                      <a:pt x="2488" y="444"/>
                    </a:lnTo>
                    <a:lnTo>
                      <a:pt x="2494" y="438"/>
                    </a:lnTo>
                    <a:lnTo>
                      <a:pt x="2500" y="426"/>
                    </a:lnTo>
                    <a:lnTo>
                      <a:pt x="2506" y="420"/>
                    </a:lnTo>
                    <a:lnTo>
                      <a:pt x="2512" y="414"/>
                    </a:lnTo>
                    <a:lnTo>
                      <a:pt x="2518" y="402"/>
                    </a:lnTo>
                    <a:lnTo>
                      <a:pt x="2524" y="396"/>
                    </a:lnTo>
                    <a:lnTo>
                      <a:pt x="2524" y="390"/>
                    </a:lnTo>
                    <a:lnTo>
                      <a:pt x="2530" y="384"/>
                    </a:lnTo>
                    <a:lnTo>
                      <a:pt x="2530" y="378"/>
                    </a:lnTo>
                    <a:lnTo>
                      <a:pt x="2530" y="372"/>
                    </a:lnTo>
                    <a:lnTo>
                      <a:pt x="2536" y="360"/>
                    </a:lnTo>
                    <a:lnTo>
                      <a:pt x="2536" y="354"/>
                    </a:lnTo>
                    <a:lnTo>
                      <a:pt x="2536" y="0"/>
                    </a:lnTo>
                    <a:close/>
                  </a:path>
                </a:pathLst>
              </a:custGeom>
              <a:solidFill>
                <a:srgbClr val="666699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8600" y="2195640"/>
                <a:ext cx="4025880" cy="1047960"/>
              </a:xfrm>
              <a:custGeom>
                <a:avLst/>
                <a:gdLst/>
                <a:ahLst/>
                <a:rect l="l" t="t" r="r" b="b"/>
                <a:pathLst>
                  <a:path w="2536" h="660">
                    <a:moveTo>
                      <a:pt x="1265" y="0"/>
                    </a:moveTo>
                    <a:lnTo>
                      <a:pt x="1289" y="0"/>
                    </a:lnTo>
                    <a:lnTo>
                      <a:pt x="1331" y="0"/>
                    </a:lnTo>
                    <a:lnTo>
                      <a:pt x="1355" y="0"/>
                    </a:lnTo>
                    <a:lnTo>
                      <a:pt x="1379" y="0"/>
                    </a:lnTo>
                    <a:lnTo>
                      <a:pt x="1421" y="0"/>
                    </a:lnTo>
                    <a:lnTo>
                      <a:pt x="1445" y="0"/>
                    </a:lnTo>
                    <a:lnTo>
                      <a:pt x="1463" y="0"/>
                    </a:lnTo>
                    <a:lnTo>
                      <a:pt x="1511" y="6"/>
                    </a:lnTo>
                    <a:lnTo>
                      <a:pt x="1529" y="6"/>
                    </a:lnTo>
                    <a:lnTo>
                      <a:pt x="1553" y="6"/>
                    </a:lnTo>
                    <a:lnTo>
                      <a:pt x="1595" y="12"/>
                    </a:lnTo>
                    <a:lnTo>
                      <a:pt x="1619" y="12"/>
                    </a:lnTo>
                    <a:lnTo>
                      <a:pt x="1637" y="12"/>
                    </a:lnTo>
                    <a:lnTo>
                      <a:pt x="1678" y="18"/>
                    </a:lnTo>
                    <a:lnTo>
                      <a:pt x="1702" y="18"/>
                    </a:lnTo>
                    <a:lnTo>
                      <a:pt x="1720" y="18"/>
                    </a:lnTo>
                    <a:lnTo>
                      <a:pt x="1762" y="24"/>
                    </a:lnTo>
                    <a:lnTo>
                      <a:pt x="1780" y="30"/>
                    </a:lnTo>
                    <a:lnTo>
                      <a:pt x="1804" y="30"/>
                    </a:lnTo>
                    <a:lnTo>
                      <a:pt x="1840" y="36"/>
                    </a:lnTo>
                    <a:lnTo>
                      <a:pt x="1864" y="36"/>
                    </a:lnTo>
                    <a:lnTo>
                      <a:pt x="1882" y="42"/>
                    </a:lnTo>
                    <a:lnTo>
                      <a:pt x="1918" y="48"/>
                    </a:lnTo>
                    <a:lnTo>
                      <a:pt x="1936" y="48"/>
                    </a:lnTo>
                    <a:lnTo>
                      <a:pt x="1954" y="54"/>
                    </a:lnTo>
                    <a:lnTo>
                      <a:pt x="1996" y="60"/>
                    </a:lnTo>
                    <a:lnTo>
                      <a:pt x="2014" y="60"/>
                    </a:lnTo>
                    <a:lnTo>
                      <a:pt x="2032" y="66"/>
                    </a:lnTo>
                    <a:lnTo>
                      <a:pt x="2062" y="72"/>
                    </a:lnTo>
                    <a:lnTo>
                      <a:pt x="2080" y="78"/>
                    </a:lnTo>
                    <a:lnTo>
                      <a:pt x="2098" y="78"/>
                    </a:lnTo>
                    <a:lnTo>
                      <a:pt x="2128" y="90"/>
                    </a:lnTo>
                    <a:lnTo>
                      <a:pt x="2146" y="90"/>
                    </a:lnTo>
                    <a:lnTo>
                      <a:pt x="2164" y="96"/>
                    </a:lnTo>
                    <a:lnTo>
                      <a:pt x="2194" y="102"/>
                    </a:lnTo>
                    <a:lnTo>
                      <a:pt x="2206" y="108"/>
                    </a:lnTo>
                    <a:lnTo>
                      <a:pt x="2224" y="114"/>
                    </a:lnTo>
                    <a:lnTo>
                      <a:pt x="2254" y="120"/>
                    </a:lnTo>
                    <a:lnTo>
                      <a:pt x="2266" y="126"/>
                    </a:lnTo>
                    <a:lnTo>
                      <a:pt x="2278" y="132"/>
                    </a:lnTo>
                    <a:lnTo>
                      <a:pt x="2302" y="138"/>
                    </a:lnTo>
                    <a:lnTo>
                      <a:pt x="2320" y="144"/>
                    </a:lnTo>
                    <a:lnTo>
                      <a:pt x="2332" y="150"/>
                    </a:lnTo>
                    <a:lnTo>
                      <a:pt x="2356" y="156"/>
                    </a:lnTo>
                    <a:lnTo>
                      <a:pt x="2362" y="162"/>
                    </a:lnTo>
                    <a:lnTo>
                      <a:pt x="2374" y="168"/>
                    </a:lnTo>
                    <a:lnTo>
                      <a:pt x="2398" y="180"/>
                    </a:lnTo>
                    <a:lnTo>
                      <a:pt x="2404" y="186"/>
                    </a:lnTo>
                    <a:lnTo>
                      <a:pt x="2416" y="192"/>
                    </a:lnTo>
                    <a:lnTo>
                      <a:pt x="2434" y="198"/>
                    </a:lnTo>
                    <a:lnTo>
                      <a:pt x="2440" y="204"/>
                    </a:lnTo>
                    <a:lnTo>
                      <a:pt x="2452" y="210"/>
                    </a:lnTo>
                    <a:lnTo>
                      <a:pt x="2464" y="222"/>
                    </a:lnTo>
                    <a:lnTo>
                      <a:pt x="2470" y="228"/>
                    </a:lnTo>
                    <a:lnTo>
                      <a:pt x="2482" y="234"/>
                    </a:lnTo>
                    <a:lnTo>
                      <a:pt x="2494" y="246"/>
                    </a:lnTo>
                    <a:lnTo>
                      <a:pt x="2494" y="246"/>
                    </a:lnTo>
                    <a:lnTo>
                      <a:pt x="2500" y="252"/>
                    </a:lnTo>
                    <a:lnTo>
                      <a:pt x="2512" y="264"/>
                    </a:lnTo>
                    <a:lnTo>
                      <a:pt x="2518" y="270"/>
                    </a:lnTo>
                    <a:lnTo>
                      <a:pt x="2518" y="276"/>
                    </a:lnTo>
                    <a:lnTo>
                      <a:pt x="2524" y="288"/>
                    </a:lnTo>
                    <a:lnTo>
                      <a:pt x="2530" y="294"/>
                    </a:lnTo>
                    <a:lnTo>
                      <a:pt x="2530" y="300"/>
                    </a:lnTo>
                    <a:lnTo>
                      <a:pt x="2530" y="312"/>
                    </a:lnTo>
                    <a:lnTo>
                      <a:pt x="2536" y="318"/>
                    </a:lnTo>
                    <a:lnTo>
                      <a:pt x="2536" y="324"/>
                    </a:lnTo>
                    <a:lnTo>
                      <a:pt x="2536" y="336"/>
                    </a:lnTo>
                    <a:lnTo>
                      <a:pt x="2536" y="342"/>
                    </a:lnTo>
                    <a:lnTo>
                      <a:pt x="2530" y="348"/>
                    </a:lnTo>
                    <a:lnTo>
                      <a:pt x="2530" y="360"/>
                    </a:lnTo>
                    <a:lnTo>
                      <a:pt x="2530" y="360"/>
                    </a:lnTo>
                    <a:lnTo>
                      <a:pt x="2524" y="366"/>
                    </a:lnTo>
                    <a:lnTo>
                      <a:pt x="2518" y="378"/>
                    </a:lnTo>
                    <a:lnTo>
                      <a:pt x="2518" y="384"/>
                    </a:lnTo>
                    <a:lnTo>
                      <a:pt x="2512" y="390"/>
                    </a:lnTo>
                    <a:lnTo>
                      <a:pt x="2500" y="402"/>
                    </a:lnTo>
                    <a:lnTo>
                      <a:pt x="2494" y="408"/>
                    </a:lnTo>
                    <a:lnTo>
                      <a:pt x="2494" y="414"/>
                    </a:lnTo>
                    <a:lnTo>
                      <a:pt x="2482" y="426"/>
                    </a:lnTo>
                    <a:lnTo>
                      <a:pt x="2470" y="432"/>
                    </a:lnTo>
                    <a:lnTo>
                      <a:pt x="2464" y="438"/>
                    </a:lnTo>
                    <a:lnTo>
                      <a:pt x="2452" y="444"/>
                    </a:lnTo>
                    <a:lnTo>
                      <a:pt x="2440" y="450"/>
                    </a:lnTo>
                    <a:lnTo>
                      <a:pt x="2434" y="456"/>
                    </a:lnTo>
                    <a:lnTo>
                      <a:pt x="2416" y="468"/>
                    </a:lnTo>
                    <a:lnTo>
                      <a:pt x="2404" y="474"/>
                    </a:lnTo>
                    <a:lnTo>
                      <a:pt x="2398" y="480"/>
                    </a:lnTo>
                    <a:lnTo>
                      <a:pt x="2374" y="486"/>
                    </a:lnTo>
                    <a:lnTo>
                      <a:pt x="2362" y="492"/>
                    </a:lnTo>
                    <a:lnTo>
                      <a:pt x="2356" y="498"/>
                    </a:lnTo>
                    <a:lnTo>
                      <a:pt x="2332" y="510"/>
                    </a:lnTo>
                    <a:lnTo>
                      <a:pt x="2320" y="516"/>
                    </a:lnTo>
                    <a:lnTo>
                      <a:pt x="2302" y="516"/>
                    </a:lnTo>
                    <a:lnTo>
                      <a:pt x="2278" y="528"/>
                    </a:lnTo>
                    <a:lnTo>
                      <a:pt x="2266" y="534"/>
                    </a:lnTo>
                    <a:lnTo>
                      <a:pt x="2254" y="534"/>
                    </a:lnTo>
                    <a:lnTo>
                      <a:pt x="2224" y="546"/>
                    </a:lnTo>
                    <a:lnTo>
                      <a:pt x="2206" y="552"/>
                    </a:lnTo>
                    <a:lnTo>
                      <a:pt x="2194" y="552"/>
                    </a:lnTo>
                    <a:lnTo>
                      <a:pt x="2164" y="564"/>
                    </a:lnTo>
                    <a:lnTo>
                      <a:pt x="2146" y="564"/>
                    </a:lnTo>
                    <a:lnTo>
                      <a:pt x="2128" y="570"/>
                    </a:lnTo>
                    <a:lnTo>
                      <a:pt x="2098" y="576"/>
                    </a:lnTo>
                    <a:lnTo>
                      <a:pt x="2080" y="582"/>
                    </a:lnTo>
                    <a:lnTo>
                      <a:pt x="2062" y="582"/>
                    </a:lnTo>
                    <a:lnTo>
                      <a:pt x="2032" y="594"/>
                    </a:lnTo>
                    <a:lnTo>
                      <a:pt x="2014" y="594"/>
                    </a:lnTo>
                    <a:lnTo>
                      <a:pt x="1996" y="600"/>
                    </a:lnTo>
                    <a:lnTo>
                      <a:pt x="1954" y="606"/>
                    </a:lnTo>
                    <a:lnTo>
                      <a:pt x="1936" y="606"/>
                    </a:lnTo>
                    <a:lnTo>
                      <a:pt x="1918" y="612"/>
                    </a:lnTo>
                    <a:lnTo>
                      <a:pt x="1882" y="618"/>
                    </a:lnTo>
                    <a:lnTo>
                      <a:pt x="1864" y="618"/>
                    </a:lnTo>
                    <a:lnTo>
                      <a:pt x="1840" y="624"/>
                    </a:lnTo>
                    <a:lnTo>
                      <a:pt x="1804" y="630"/>
                    </a:lnTo>
                    <a:lnTo>
                      <a:pt x="1780" y="630"/>
                    </a:lnTo>
                    <a:lnTo>
                      <a:pt x="1762" y="630"/>
                    </a:lnTo>
                    <a:lnTo>
                      <a:pt x="1720" y="636"/>
                    </a:lnTo>
                    <a:lnTo>
                      <a:pt x="1702" y="636"/>
                    </a:lnTo>
                    <a:lnTo>
                      <a:pt x="1678" y="642"/>
                    </a:lnTo>
                    <a:lnTo>
                      <a:pt x="1637" y="642"/>
                    </a:lnTo>
                    <a:lnTo>
                      <a:pt x="1619" y="648"/>
                    </a:lnTo>
                    <a:lnTo>
                      <a:pt x="1595" y="648"/>
                    </a:lnTo>
                    <a:lnTo>
                      <a:pt x="1553" y="648"/>
                    </a:lnTo>
                    <a:lnTo>
                      <a:pt x="1529" y="654"/>
                    </a:lnTo>
                    <a:lnTo>
                      <a:pt x="1511" y="654"/>
                    </a:lnTo>
                    <a:lnTo>
                      <a:pt x="1463" y="654"/>
                    </a:lnTo>
                    <a:lnTo>
                      <a:pt x="1445" y="654"/>
                    </a:lnTo>
                    <a:lnTo>
                      <a:pt x="1421" y="654"/>
                    </a:lnTo>
                    <a:lnTo>
                      <a:pt x="1379" y="660"/>
                    </a:lnTo>
                    <a:lnTo>
                      <a:pt x="1355" y="660"/>
                    </a:lnTo>
                    <a:lnTo>
                      <a:pt x="1331" y="660"/>
                    </a:lnTo>
                    <a:lnTo>
                      <a:pt x="1289" y="660"/>
                    </a:lnTo>
                    <a:lnTo>
                      <a:pt x="1265" y="660"/>
                    </a:lnTo>
                    <a:lnTo>
                      <a:pt x="1247" y="660"/>
                    </a:lnTo>
                    <a:lnTo>
                      <a:pt x="1199" y="660"/>
                    </a:lnTo>
                    <a:lnTo>
                      <a:pt x="1175" y="660"/>
                    </a:lnTo>
                    <a:lnTo>
                      <a:pt x="1157" y="660"/>
                    </a:lnTo>
                    <a:lnTo>
                      <a:pt x="1109" y="654"/>
                    </a:lnTo>
                    <a:lnTo>
                      <a:pt x="1091" y="654"/>
                    </a:lnTo>
                    <a:lnTo>
                      <a:pt x="1067" y="654"/>
                    </a:lnTo>
                    <a:lnTo>
                      <a:pt x="1025" y="654"/>
                    </a:lnTo>
                    <a:lnTo>
                      <a:pt x="1001" y="654"/>
                    </a:lnTo>
                    <a:lnTo>
                      <a:pt x="983" y="648"/>
                    </a:lnTo>
                    <a:lnTo>
                      <a:pt x="941" y="648"/>
                    </a:lnTo>
                    <a:lnTo>
                      <a:pt x="917" y="648"/>
                    </a:lnTo>
                    <a:lnTo>
                      <a:pt x="893" y="642"/>
                    </a:lnTo>
                    <a:lnTo>
                      <a:pt x="851" y="642"/>
                    </a:lnTo>
                    <a:lnTo>
                      <a:pt x="833" y="636"/>
                    </a:lnTo>
                    <a:lnTo>
                      <a:pt x="809" y="636"/>
                    </a:lnTo>
                    <a:lnTo>
                      <a:pt x="773" y="630"/>
                    </a:lnTo>
                    <a:lnTo>
                      <a:pt x="749" y="630"/>
                    </a:lnTo>
                    <a:lnTo>
                      <a:pt x="731" y="630"/>
                    </a:lnTo>
                    <a:lnTo>
                      <a:pt x="689" y="624"/>
                    </a:lnTo>
                    <a:lnTo>
                      <a:pt x="671" y="618"/>
                    </a:lnTo>
                    <a:lnTo>
                      <a:pt x="653" y="618"/>
                    </a:lnTo>
                    <a:lnTo>
                      <a:pt x="611" y="612"/>
                    </a:lnTo>
                    <a:lnTo>
                      <a:pt x="593" y="606"/>
                    </a:lnTo>
                    <a:lnTo>
                      <a:pt x="575" y="606"/>
                    </a:lnTo>
                    <a:lnTo>
                      <a:pt x="539" y="600"/>
                    </a:lnTo>
                    <a:lnTo>
                      <a:pt x="521" y="594"/>
                    </a:lnTo>
                    <a:lnTo>
                      <a:pt x="503" y="594"/>
                    </a:lnTo>
                    <a:lnTo>
                      <a:pt x="467" y="582"/>
                    </a:lnTo>
                    <a:lnTo>
                      <a:pt x="449" y="582"/>
                    </a:lnTo>
                    <a:lnTo>
                      <a:pt x="431" y="576"/>
                    </a:lnTo>
                    <a:lnTo>
                      <a:pt x="401" y="570"/>
                    </a:lnTo>
                    <a:lnTo>
                      <a:pt x="383" y="564"/>
                    </a:lnTo>
                    <a:lnTo>
                      <a:pt x="371" y="564"/>
                    </a:lnTo>
                    <a:lnTo>
                      <a:pt x="342" y="552"/>
                    </a:lnTo>
                    <a:lnTo>
                      <a:pt x="324" y="552"/>
                    </a:lnTo>
                    <a:lnTo>
                      <a:pt x="312" y="546"/>
                    </a:lnTo>
                    <a:lnTo>
                      <a:pt x="282" y="534"/>
                    </a:lnTo>
                    <a:lnTo>
                      <a:pt x="270" y="534"/>
                    </a:lnTo>
                    <a:lnTo>
                      <a:pt x="252" y="528"/>
                    </a:lnTo>
                    <a:lnTo>
                      <a:pt x="228" y="516"/>
                    </a:lnTo>
                    <a:lnTo>
                      <a:pt x="216" y="516"/>
                    </a:lnTo>
                    <a:lnTo>
                      <a:pt x="204" y="510"/>
                    </a:lnTo>
                    <a:lnTo>
                      <a:pt x="180" y="498"/>
                    </a:lnTo>
                    <a:lnTo>
                      <a:pt x="168" y="492"/>
                    </a:lnTo>
                    <a:lnTo>
                      <a:pt x="156" y="486"/>
                    </a:lnTo>
                    <a:lnTo>
                      <a:pt x="138" y="480"/>
                    </a:lnTo>
                    <a:lnTo>
                      <a:pt x="126" y="474"/>
                    </a:lnTo>
                    <a:lnTo>
                      <a:pt x="120" y="468"/>
                    </a:lnTo>
                    <a:lnTo>
                      <a:pt x="102" y="456"/>
                    </a:lnTo>
                    <a:lnTo>
                      <a:pt x="90" y="450"/>
                    </a:lnTo>
                    <a:lnTo>
                      <a:pt x="84" y="444"/>
                    </a:lnTo>
                    <a:lnTo>
                      <a:pt x="66" y="438"/>
                    </a:lnTo>
                    <a:lnTo>
                      <a:pt x="60" y="432"/>
                    </a:lnTo>
                    <a:lnTo>
                      <a:pt x="54" y="426"/>
                    </a:lnTo>
                    <a:lnTo>
                      <a:pt x="42" y="414"/>
                    </a:lnTo>
                    <a:lnTo>
                      <a:pt x="36" y="408"/>
                    </a:lnTo>
                    <a:lnTo>
                      <a:pt x="30" y="402"/>
                    </a:lnTo>
                    <a:lnTo>
                      <a:pt x="24" y="390"/>
                    </a:lnTo>
                    <a:lnTo>
                      <a:pt x="18" y="384"/>
                    </a:lnTo>
                    <a:lnTo>
                      <a:pt x="12" y="378"/>
                    </a:lnTo>
                    <a:lnTo>
                      <a:pt x="6" y="366"/>
                    </a:lnTo>
                    <a:lnTo>
                      <a:pt x="6" y="360"/>
                    </a:lnTo>
                    <a:lnTo>
                      <a:pt x="6" y="360"/>
                    </a:lnTo>
                    <a:lnTo>
                      <a:pt x="0" y="348"/>
                    </a:lnTo>
                    <a:lnTo>
                      <a:pt x="0" y="342"/>
                    </a:lnTo>
                    <a:lnTo>
                      <a:pt x="0" y="336"/>
                    </a:lnTo>
                    <a:lnTo>
                      <a:pt x="0" y="324"/>
                    </a:lnTo>
                    <a:lnTo>
                      <a:pt x="0" y="318"/>
                    </a:lnTo>
                    <a:lnTo>
                      <a:pt x="0" y="312"/>
                    </a:lnTo>
                    <a:lnTo>
                      <a:pt x="6" y="300"/>
                    </a:lnTo>
                    <a:lnTo>
                      <a:pt x="6" y="294"/>
                    </a:lnTo>
                    <a:lnTo>
                      <a:pt x="6" y="288"/>
                    </a:lnTo>
                    <a:lnTo>
                      <a:pt x="12" y="276"/>
                    </a:lnTo>
                    <a:lnTo>
                      <a:pt x="18" y="270"/>
                    </a:lnTo>
                    <a:lnTo>
                      <a:pt x="24" y="264"/>
                    </a:lnTo>
                    <a:lnTo>
                      <a:pt x="30" y="252"/>
                    </a:lnTo>
                    <a:lnTo>
                      <a:pt x="36" y="246"/>
                    </a:lnTo>
                    <a:lnTo>
                      <a:pt x="42" y="246"/>
                    </a:lnTo>
                    <a:lnTo>
                      <a:pt x="54" y="234"/>
                    </a:lnTo>
                    <a:lnTo>
                      <a:pt x="60" y="228"/>
                    </a:lnTo>
                    <a:lnTo>
                      <a:pt x="66" y="222"/>
                    </a:lnTo>
                    <a:lnTo>
                      <a:pt x="84" y="210"/>
                    </a:lnTo>
                    <a:lnTo>
                      <a:pt x="90" y="204"/>
                    </a:lnTo>
                    <a:lnTo>
                      <a:pt x="102" y="198"/>
                    </a:lnTo>
                    <a:lnTo>
                      <a:pt x="120" y="192"/>
                    </a:lnTo>
                    <a:lnTo>
                      <a:pt x="126" y="186"/>
                    </a:lnTo>
                    <a:lnTo>
                      <a:pt x="138" y="180"/>
                    </a:lnTo>
                    <a:lnTo>
                      <a:pt x="156" y="168"/>
                    </a:lnTo>
                    <a:lnTo>
                      <a:pt x="168" y="162"/>
                    </a:lnTo>
                    <a:lnTo>
                      <a:pt x="180" y="156"/>
                    </a:lnTo>
                    <a:lnTo>
                      <a:pt x="204" y="150"/>
                    </a:lnTo>
                    <a:lnTo>
                      <a:pt x="216" y="144"/>
                    </a:lnTo>
                    <a:lnTo>
                      <a:pt x="228" y="138"/>
                    </a:lnTo>
                    <a:lnTo>
                      <a:pt x="252" y="132"/>
                    </a:lnTo>
                    <a:lnTo>
                      <a:pt x="270" y="126"/>
                    </a:lnTo>
                    <a:lnTo>
                      <a:pt x="282" y="120"/>
                    </a:lnTo>
                    <a:lnTo>
                      <a:pt x="312" y="114"/>
                    </a:lnTo>
                    <a:lnTo>
                      <a:pt x="324" y="108"/>
                    </a:lnTo>
                    <a:lnTo>
                      <a:pt x="342" y="102"/>
                    </a:lnTo>
                    <a:lnTo>
                      <a:pt x="371" y="96"/>
                    </a:lnTo>
                    <a:lnTo>
                      <a:pt x="383" y="90"/>
                    </a:lnTo>
                    <a:lnTo>
                      <a:pt x="401" y="90"/>
                    </a:lnTo>
                    <a:lnTo>
                      <a:pt x="431" y="78"/>
                    </a:lnTo>
                    <a:lnTo>
                      <a:pt x="449" y="78"/>
                    </a:lnTo>
                    <a:lnTo>
                      <a:pt x="467" y="72"/>
                    </a:lnTo>
                    <a:lnTo>
                      <a:pt x="503" y="66"/>
                    </a:lnTo>
                    <a:lnTo>
                      <a:pt x="521" y="60"/>
                    </a:lnTo>
                    <a:lnTo>
                      <a:pt x="539" y="60"/>
                    </a:lnTo>
                    <a:lnTo>
                      <a:pt x="575" y="54"/>
                    </a:lnTo>
                    <a:lnTo>
                      <a:pt x="593" y="48"/>
                    </a:lnTo>
                    <a:lnTo>
                      <a:pt x="611" y="48"/>
                    </a:lnTo>
                    <a:lnTo>
                      <a:pt x="653" y="42"/>
                    </a:lnTo>
                    <a:lnTo>
                      <a:pt x="671" y="36"/>
                    </a:lnTo>
                    <a:lnTo>
                      <a:pt x="689" y="36"/>
                    </a:lnTo>
                    <a:lnTo>
                      <a:pt x="731" y="30"/>
                    </a:lnTo>
                    <a:lnTo>
                      <a:pt x="749" y="30"/>
                    </a:lnTo>
                    <a:lnTo>
                      <a:pt x="773" y="24"/>
                    </a:lnTo>
                    <a:lnTo>
                      <a:pt x="809" y="18"/>
                    </a:lnTo>
                    <a:lnTo>
                      <a:pt x="833" y="18"/>
                    </a:lnTo>
                    <a:lnTo>
                      <a:pt x="851" y="18"/>
                    </a:lnTo>
                    <a:lnTo>
                      <a:pt x="893" y="12"/>
                    </a:lnTo>
                    <a:lnTo>
                      <a:pt x="917" y="12"/>
                    </a:lnTo>
                    <a:lnTo>
                      <a:pt x="941" y="12"/>
                    </a:lnTo>
                    <a:lnTo>
                      <a:pt x="983" y="6"/>
                    </a:lnTo>
                    <a:lnTo>
                      <a:pt x="1001" y="6"/>
                    </a:lnTo>
                    <a:lnTo>
                      <a:pt x="1025" y="6"/>
                    </a:lnTo>
                    <a:lnTo>
                      <a:pt x="1067" y="0"/>
                    </a:lnTo>
                    <a:lnTo>
                      <a:pt x="1091" y="0"/>
                    </a:lnTo>
                    <a:lnTo>
                      <a:pt x="1109" y="0"/>
                    </a:lnTo>
                    <a:lnTo>
                      <a:pt x="1157" y="0"/>
                    </a:lnTo>
                    <a:lnTo>
                      <a:pt x="1175" y="0"/>
                    </a:lnTo>
                    <a:lnTo>
                      <a:pt x="1265" y="330"/>
                    </a:lnTo>
                    <a:lnTo>
                      <a:pt x="1265" y="0"/>
                    </a:lnTo>
                    <a:close/>
                  </a:path>
                </a:pathLst>
              </a:custGeom>
              <a:solidFill>
                <a:srgbClr val="cc99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876920" y="1447920"/>
              <a:ext cx="4038480" cy="5257800"/>
            </a:xfrm>
            <a:custGeom>
              <a:avLst/>
              <a:gdLst>
                <a:gd name="textAreaLeft" fmla="*/ 196920 w 4038480"/>
                <a:gd name="textAreaRight" fmla="*/ 3841560 w 4038480"/>
                <a:gd name="textAreaTop" fmla="*/ 196920 h 5257800"/>
                <a:gd name="textAreaBottom" fmla="*/ 5060880 h 5257800"/>
              </a:gdLst>
              <a:ahLst/>
              <a:rect l="textAreaLeft" t="textAreaTop" r="textAreaRight" b="textAreaBottom"/>
              <a:pathLst>
                <a:path w="21600" h="28121">
                  <a:moveTo>
                    <a:pt x="3600" y="0"/>
                  </a:moveTo>
                  <a:arcTo wR="3600" hR="3600" stAng="16200000" swAng="-5400000"/>
                  <a:lnTo>
                    <a:pt x="0" y="24521"/>
                  </a:lnTo>
                  <a:arcTo wR="3600" hR="3600" stAng="10800000" swAng="-5400000"/>
                  <a:lnTo>
                    <a:pt x="18000" y="281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4600" indent="-174600">
                <a:lnSpc>
                  <a:spcPct val="120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Real Estate Cadastre development is not possible without financial suppor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 in other words withou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000"/>
              </a:b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DIRE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CT</a:t>
              </a: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INTERNATIONAL INVEST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20000"/>
                </a:lnSpc>
                <a:spcBef>
                  <a:spcPts val="1250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In next phases, the National Geodetic Office could invest from own resources for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designing and maintaining of real estate cadas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3962520"/>
              <a:ext cx="4496040" cy="274320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entury Gothic"/>
                </a:rPr>
                <a:t>Currently in Republic of Serbia, there is</a:t>
              </a:r>
              <a:br>
                <a:rPr sz="2400"/>
              </a:b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o   n   l   y</a:t>
              </a: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  </a:t>
              </a:r>
              <a:r>
                <a:rPr b="1" i="1" lang="sr-Latn-C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400"/>
              </a:br>
              <a:r>
                <a:rPr b="1" i="1" lang="sr-Latn-CS" sz="32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i="1" lang="sr-Latn-CS" sz="32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r>
                <a:rPr b="1" i="1" lang="sr-Latn-CS" sz="2400" spc="-1" strike="noStrike">
                  <a:solidFill>
                    <a:srgbClr val="ff99cc"/>
                  </a:solidFill>
                  <a:latin typeface="Century Gothic"/>
                </a:rPr>
                <a:t> 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of </a:t>
              </a:r>
              <a:r>
                <a:rPr b="1" i="1" lang="sr-Latn-CS" sz="3000" spc="-1" strike="noStrike">
                  <a:solidFill>
                    <a:srgbClr val="ff99cc"/>
                  </a:solidFill>
                  <a:latin typeface="Century Gothic"/>
                </a:rPr>
                <a:t>digital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 cadastral pla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800" y="228600"/>
              <a:ext cx="7718400" cy="111672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800" spc="-1" strike="noStrike">
                  <a:solidFill>
                    <a:srgbClr val="ffffcc"/>
                  </a:solidFill>
                  <a:latin typeface="Century Gothic"/>
                </a:rPr>
                <a:t>Digital Cadastre Plans Desig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16002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lang="sr-Latn-CS" sz="40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78040"/>
            <a:ext cx="257508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Register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sl-SI" sz="3600" spc="-1" strike="noStrike">
                <a:solidFill>
                  <a:srgbClr val="ff9900"/>
                </a:solidFill>
                <a:latin typeface="Century Gothic"/>
              </a:rPr>
              <a:t>120</a:t>
            </a:r>
            <a:r>
              <a:rPr b="1" i="1" lang="sl-SI" sz="20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i="1" lang="sl-SI" sz="2000" spc="-1" strike="noStrike">
                <a:solidFill>
                  <a:srgbClr val="ccffcc"/>
                </a:solidFill>
                <a:latin typeface="Century Gothic"/>
              </a:rPr>
              <a:t>obje</a:t>
            </a: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5280" y="5029200"/>
            <a:ext cx="248292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sl-SI" sz="3600" spc="-1" strike="noStrike">
                <a:solidFill>
                  <a:srgbClr val="66ff66"/>
                </a:solidFill>
                <a:latin typeface="Century Gothic"/>
              </a:rPr>
              <a:t>400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50840"/>
            <a:ext cx="7010280" cy="104940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ration of Small and Medium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4572000" cy="5257800"/>
          </a:xfrm>
          <a:custGeom>
            <a:avLst/>
            <a:gdLst>
              <a:gd name="textAreaLeft" fmla="*/ 179280 w 4572000"/>
              <a:gd name="textAreaRight" fmla="*/ 4392720 w 4572000"/>
              <a:gd name="textAreaTop" fmla="*/ 179280 h 5257800"/>
              <a:gd name="textAreaBottom" fmla="*/ 5078520 h 5257800"/>
            </a:gdLst>
            <a:ahLst/>
            <a:rect l="textAreaLeft" t="textAreaTop" r="textAreaRight" b="textAreaBottom"/>
            <a:pathLst>
              <a:path w="21600" h="24840">
                <a:moveTo>
                  <a:pt x="2897" y="0"/>
                </a:moveTo>
                <a:arcTo wR="2897" hR="2897" stAng="16200000" swAng="-5400000"/>
                <a:lnTo>
                  <a:pt x="0" y="21943"/>
                </a:lnTo>
                <a:arcTo wR="2897" hR="2897" stAng="10800000" swAng="-5400000"/>
                <a:lnTo>
                  <a:pt x="18703" y="24840"/>
                </a:lnTo>
                <a:arcTo wR="2897" hR="2897" stAng="5400000" swAng="-5400000"/>
                <a:lnTo>
                  <a:pt x="21600" y="2897"/>
                </a:lnTo>
                <a:arcTo wR="2897" hR="2897" stAng="0" swAng="-5400000"/>
                <a:close/>
              </a:path>
            </a:pathLst>
          </a:custGeom>
          <a:solidFill>
            <a:srgbClr val="333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400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requests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for registration in real estate cadastre</a:t>
            </a:r>
            <a:r>
              <a:rPr b="1" i="1" lang="en-US" sz="2400" spc="-1" strike="noStrike">
                <a:solidFill>
                  <a:srgbClr val="ff6600"/>
                </a:solidFill>
                <a:latin typeface="Century Gothic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ered around </a:t>
            </a:r>
            <a:r>
              <a:rPr b="1" i="1" lang="sr-Latn-C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ff9900"/>
                </a:solidFill>
                <a:latin typeface="Century Gothic"/>
              </a:rPr>
              <a:t>120 obje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The registration of around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50 obje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c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t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weekly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is planned in cooperation with 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local authorities</a:t>
            </a: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 for 3 months ahead</a:t>
            </a:r>
            <a:r>
              <a:rPr b="1" i="1" lang="en-US" sz="2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entury Gothic"/>
              </a:rPr>
              <a:t>* Data from 01/10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467160"/>
            <a:ext cx="95400" cy="723960"/>
          </a:xfrm>
          <a:custGeom>
            <a:avLst/>
            <a:gdLst/>
            <a:ahLst/>
            <a:rect l="l" t="t" r="r" b="b"/>
            <a:pathLst>
              <a:path w="60" h="456">
                <a:moveTo>
                  <a:pt x="60" y="102"/>
                </a:moveTo>
                <a:lnTo>
                  <a:pt x="54" y="96"/>
                </a:lnTo>
                <a:lnTo>
                  <a:pt x="48" y="96"/>
                </a:lnTo>
                <a:lnTo>
                  <a:pt x="36" y="84"/>
                </a:lnTo>
                <a:lnTo>
                  <a:pt x="30" y="78"/>
                </a:lnTo>
                <a:lnTo>
                  <a:pt x="24" y="72"/>
                </a:lnTo>
                <a:lnTo>
                  <a:pt x="24" y="66"/>
                </a:lnTo>
                <a:lnTo>
                  <a:pt x="18" y="60"/>
                </a:lnTo>
                <a:lnTo>
                  <a:pt x="12" y="48"/>
                </a:lnTo>
                <a:lnTo>
                  <a:pt x="6" y="42"/>
                </a:lnTo>
                <a:lnTo>
                  <a:pt x="6" y="36"/>
                </a:lnTo>
                <a:lnTo>
                  <a:pt x="6" y="30"/>
                </a:lnTo>
                <a:lnTo>
                  <a:pt x="0" y="24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354"/>
                </a:lnTo>
                <a:lnTo>
                  <a:pt x="0" y="360"/>
                </a:lnTo>
                <a:lnTo>
                  <a:pt x="0" y="366"/>
                </a:lnTo>
                <a:lnTo>
                  <a:pt x="0" y="378"/>
                </a:lnTo>
                <a:lnTo>
                  <a:pt x="6" y="384"/>
                </a:lnTo>
                <a:lnTo>
                  <a:pt x="6" y="390"/>
                </a:lnTo>
                <a:lnTo>
                  <a:pt x="6" y="396"/>
                </a:lnTo>
                <a:lnTo>
                  <a:pt x="12" y="402"/>
                </a:lnTo>
                <a:lnTo>
                  <a:pt x="18" y="414"/>
                </a:lnTo>
                <a:lnTo>
                  <a:pt x="24" y="420"/>
                </a:lnTo>
                <a:lnTo>
                  <a:pt x="24" y="426"/>
                </a:lnTo>
                <a:lnTo>
                  <a:pt x="30" y="432"/>
                </a:lnTo>
                <a:lnTo>
                  <a:pt x="36" y="438"/>
                </a:lnTo>
                <a:lnTo>
                  <a:pt x="48" y="450"/>
                </a:lnTo>
                <a:lnTo>
                  <a:pt x="54" y="450"/>
                </a:lnTo>
                <a:lnTo>
                  <a:pt x="60" y="456"/>
                </a:lnTo>
                <a:lnTo>
                  <a:pt x="60" y="102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4600" y="3467160"/>
            <a:ext cx="1941480" cy="723960"/>
          </a:xfrm>
          <a:custGeom>
            <a:avLst/>
            <a:gdLst/>
            <a:ahLst/>
            <a:rect l="l" t="t" r="r" b="b"/>
            <a:pathLst>
              <a:path w="1223" h="456">
                <a:moveTo>
                  <a:pt x="1223" y="0"/>
                </a:moveTo>
                <a:lnTo>
                  <a:pt x="0" y="102"/>
                </a:lnTo>
                <a:lnTo>
                  <a:pt x="0" y="456"/>
                </a:lnTo>
                <a:lnTo>
                  <a:pt x="1223" y="354"/>
                </a:lnTo>
                <a:lnTo>
                  <a:pt x="1223" y="0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971800"/>
            <a:ext cx="2036880" cy="685800"/>
          </a:xfrm>
          <a:custGeom>
            <a:avLst/>
            <a:gdLst/>
            <a:ahLst/>
            <a:rect l="l" t="t" r="r" b="b"/>
            <a:pathLst>
              <a:path w="1283" h="432">
                <a:moveTo>
                  <a:pt x="60" y="432"/>
                </a:moveTo>
                <a:lnTo>
                  <a:pt x="54" y="426"/>
                </a:lnTo>
                <a:lnTo>
                  <a:pt x="42" y="420"/>
                </a:lnTo>
                <a:lnTo>
                  <a:pt x="36" y="414"/>
                </a:lnTo>
                <a:lnTo>
                  <a:pt x="30" y="408"/>
                </a:lnTo>
                <a:lnTo>
                  <a:pt x="24" y="396"/>
                </a:lnTo>
                <a:lnTo>
                  <a:pt x="18" y="390"/>
                </a:lnTo>
                <a:lnTo>
                  <a:pt x="12" y="384"/>
                </a:lnTo>
                <a:lnTo>
                  <a:pt x="6" y="372"/>
                </a:lnTo>
                <a:lnTo>
                  <a:pt x="6" y="366"/>
                </a:lnTo>
                <a:lnTo>
                  <a:pt x="6" y="360"/>
                </a:lnTo>
                <a:lnTo>
                  <a:pt x="0" y="348"/>
                </a:lnTo>
                <a:lnTo>
                  <a:pt x="0" y="342"/>
                </a:lnTo>
                <a:lnTo>
                  <a:pt x="0" y="336"/>
                </a:lnTo>
                <a:lnTo>
                  <a:pt x="0" y="324"/>
                </a:lnTo>
                <a:lnTo>
                  <a:pt x="0" y="318"/>
                </a:lnTo>
                <a:lnTo>
                  <a:pt x="0" y="312"/>
                </a:lnTo>
                <a:lnTo>
                  <a:pt x="6" y="300"/>
                </a:lnTo>
                <a:lnTo>
                  <a:pt x="6" y="294"/>
                </a:lnTo>
                <a:lnTo>
                  <a:pt x="6" y="288"/>
                </a:lnTo>
                <a:lnTo>
                  <a:pt x="12" y="282"/>
                </a:lnTo>
                <a:lnTo>
                  <a:pt x="18" y="276"/>
                </a:lnTo>
                <a:lnTo>
                  <a:pt x="24" y="270"/>
                </a:lnTo>
                <a:lnTo>
                  <a:pt x="30" y="258"/>
                </a:lnTo>
                <a:lnTo>
                  <a:pt x="36" y="252"/>
                </a:lnTo>
                <a:lnTo>
                  <a:pt x="42" y="246"/>
                </a:lnTo>
                <a:lnTo>
                  <a:pt x="54" y="234"/>
                </a:lnTo>
                <a:lnTo>
                  <a:pt x="60" y="228"/>
                </a:lnTo>
                <a:lnTo>
                  <a:pt x="66" y="222"/>
                </a:lnTo>
                <a:lnTo>
                  <a:pt x="84" y="210"/>
                </a:lnTo>
                <a:lnTo>
                  <a:pt x="90" y="204"/>
                </a:lnTo>
                <a:lnTo>
                  <a:pt x="102" y="204"/>
                </a:lnTo>
                <a:lnTo>
                  <a:pt x="120" y="192"/>
                </a:lnTo>
                <a:lnTo>
                  <a:pt x="126" y="186"/>
                </a:lnTo>
                <a:lnTo>
                  <a:pt x="138" y="180"/>
                </a:lnTo>
                <a:lnTo>
                  <a:pt x="162" y="168"/>
                </a:lnTo>
                <a:lnTo>
                  <a:pt x="168" y="162"/>
                </a:lnTo>
                <a:lnTo>
                  <a:pt x="180" y="162"/>
                </a:lnTo>
                <a:lnTo>
                  <a:pt x="204" y="150"/>
                </a:lnTo>
                <a:lnTo>
                  <a:pt x="216" y="144"/>
                </a:lnTo>
                <a:lnTo>
                  <a:pt x="234" y="138"/>
                </a:lnTo>
                <a:lnTo>
                  <a:pt x="258" y="132"/>
                </a:lnTo>
                <a:lnTo>
                  <a:pt x="270" y="126"/>
                </a:lnTo>
                <a:lnTo>
                  <a:pt x="288" y="120"/>
                </a:lnTo>
                <a:lnTo>
                  <a:pt x="312" y="114"/>
                </a:lnTo>
                <a:lnTo>
                  <a:pt x="330" y="108"/>
                </a:lnTo>
                <a:lnTo>
                  <a:pt x="342" y="102"/>
                </a:lnTo>
                <a:lnTo>
                  <a:pt x="377" y="96"/>
                </a:lnTo>
                <a:lnTo>
                  <a:pt x="389" y="90"/>
                </a:lnTo>
                <a:lnTo>
                  <a:pt x="407" y="90"/>
                </a:lnTo>
                <a:lnTo>
                  <a:pt x="443" y="78"/>
                </a:lnTo>
                <a:lnTo>
                  <a:pt x="455" y="78"/>
                </a:lnTo>
                <a:lnTo>
                  <a:pt x="473" y="72"/>
                </a:lnTo>
                <a:lnTo>
                  <a:pt x="509" y="66"/>
                </a:lnTo>
                <a:lnTo>
                  <a:pt x="527" y="60"/>
                </a:lnTo>
                <a:lnTo>
                  <a:pt x="545" y="60"/>
                </a:lnTo>
                <a:lnTo>
                  <a:pt x="581" y="54"/>
                </a:lnTo>
                <a:lnTo>
                  <a:pt x="605" y="48"/>
                </a:lnTo>
                <a:lnTo>
                  <a:pt x="623" y="48"/>
                </a:lnTo>
                <a:lnTo>
                  <a:pt x="659" y="42"/>
                </a:lnTo>
                <a:lnTo>
                  <a:pt x="683" y="36"/>
                </a:lnTo>
                <a:lnTo>
                  <a:pt x="701" y="36"/>
                </a:lnTo>
                <a:lnTo>
                  <a:pt x="743" y="30"/>
                </a:lnTo>
                <a:lnTo>
                  <a:pt x="761" y="30"/>
                </a:lnTo>
                <a:lnTo>
                  <a:pt x="779" y="24"/>
                </a:lnTo>
                <a:lnTo>
                  <a:pt x="821" y="18"/>
                </a:lnTo>
                <a:lnTo>
                  <a:pt x="845" y="18"/>
                </a:lnTo>
                <a:lnTo>
                  <a:pt x="863" y="18"/>
                </a:lnTo>
                <a:lnTo>
                  <a:pt x="911" y="12"/>
                </a:lnTo>
                <a:lnTo>
                  <a:pt x="929" y="12"/>
                </a:lnTo>
                <a:lnTo>
                  <a:pt x="953" y="12"/>
                </a:lnTo>
                <a:lnTo>
                  <a:pt x="995" y="6"/>
                </a:lnTo>
                <a:lnTo>
                  <a:pt x="1019" y="6"/>
                </a:lnTo>
                <a:lnTo>
                  <a:pt x="1037" y="6"/>
                </a:lnTo>
                <a:lnTo>
                  <a:pt x="1085" y="0"/>
                </a:lnTo>
                <a:lnTo>
                  <a:pt x="1103" y="0"/>
                </a:lnTo>
                <a:lnTo>
                  <a:pt x="1127" y="0"/>
                </a:lnTo>
                <a:lnTo>
                  <a:pt x="1175" y="0"/>
                </a:lnTo>
                <a:lnTo>
                  <a:pt x="1193" y="0"/>
                </a:lnTo>
                <a:lnTo>
                  <a:pt x="1217" y="0"/>
                </a:lnTo>
                <a:lnTo>
                  <a:pt x="1265" y="0"/>
                </a:lnTo>
                <a:lnTo>
                  <a:pt x="1283" y="0"/>
                </a:lnTo>
                <a:lnTo>
                  <a:pt x="1283" y="330"/>
                </a:lnTo>
                <a:lnTo>
                  <a:pt x="60" y="432"/>
                </a:lnTo>
                <a:close/>
              </a:path>
            </a:pathLst>
          </a:custGeom>
          <a:solidFill>
            <a:srgbClr val="ff66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9960" y="3657600"/>
            <a:ext cx="3987720" cy="1095480"/>
          </a:xfrm>
          <a:custGeom>
            <a:avLst/>
            <a:gdLst/>
            <a:ahLst/>
            <a:rect l="l" t="t" r="r" b="b"/>
            <a:pathLst>
              <a:path w="2512" h="690">
                <a:moveTo>
                  <a:pt x="2512" y="0"/>
                </a:moveTo>
                <a:lnTo>
                  <a:pt x="2512" y="6"/>
                </a:lnTo>
                <a:lnTo>
                  <a:pt x="2506" y="18"/>
                </a:lnTo>
                <a:lnTo>
                  <a:pt x="2506" y="24"/>
                </a:lnTo>
                <a:lnTo>
                  <a:pt x="2506" y="30"/>
                </a:lnTo>
                <a:lnTo>
                  <a:pt x="2500" y="42"/>
                </a:lnTo>
                <a:lnTo>
                  <a:pt x="2500" y="48"/>
                </a:lnTo>
                <a:lnTo>
                  <a:pt x="2494" y="54"/>
                </a:lnTo>
                <a:lnTo>
                  <a:pt x="2488" y="66"/>
                </a:lnTo>
                <a:lnTo>
                  <a:pt x="2482" y="72"/>
                </a:lnTo>
                <a:lnTo>
                  <a:pt x="2476" y="78"/>
                </a:lnTo>
                <a:lnTo>
                  <a:pt x="2470" y="84"/>
                </a:lnTo>
                <a:lnTo>
                  <a:pt x="2458" y="96"/>
                </a:lnTo>
                <a:lnTo>
                  <a:pt x="2452" y="96"/>
                </a:lnTo>
                <a:lnTo>
                  <a:pt x="2446" y="102"/>
                </a:lnTo>
                <a:lnTo>
                  <a:pt x="2434" y="114"/>
                </a:lnTo>
                <a:lnTo>
                  <a:pt x="2428" y="120"/>
                </a:lnTo>
                <a:lnTo>
                  <a:pt x="2416" y="126"/>
                </a:lnTo>
                <a:lnTo>
                  <a:pt x="2398" y="138"/>
                </a:lnTo>
                <a:lnTo>
                  <a:pt x="2392" y="144"/>
                </a:lnTo>
                <a:lnTo>
                  <a:pt x="2380" y="150"/>
                </a:lnTo>
                <a:lnTo>
                  <a:pt x="2362" y="156"/>
                </a:lnTo>
                <a:lnTo>
                  <a:pt x="2350" y="162"/>
                </a:lnTo>
                <a:lnTo>
                  <a:pt x="2338" y="168"/>
                </a:lnTo>
                <a:lnTo>
                  <a:pt x="2314" y="180"/>
                </a:lnTo>
                <a:lnTo>
                  <a:pt x="2302" y="180"/>
                </a:lnTo>
                <a:lnTo>
                  <a:pt x="2290" y="186"/>
                </a:lnTo>
                <a:lnTo>
                  <a:pt x="2266" y="198"/>
                </a:lnTo>
                <a:lnTo>
                  <a:pt x="2254" y="204"/>
                </a:lnTo>
                <a:lnTo>
                  <a:pt x="2236" y="204"/>
                </a:lnTo>
                <a:lnTo>
                  <a:pt x="2212" y="216"/>
                </a:lnTo>
                <a:lnTo>
                  <a:pt x="2194" y="222"/>
                </a:lnTo>
                <a:lnTo>
                  <a:pt x="2182" y="222"/>
                </a:lnTo>
                <a:lnTo>
                  <a:pt x="2164" y="228"/>
                </a:lnTo>
                <a:lnTo>
                  <a:pt x="2134" y="234"/>
                </a:lnTo>
                <a:lnTo>
                  <a:pt x="2116" y="240"/>
                </a:lnTo>
                <a:lnTo>
                  <a:pt x="2104" y="246"/>
                </a:lnTo>
                <a:lnTo>
                  <a:pt x="2068" y="252"/>
                </a:lnTo>
                <a:lnTo>
                  <a:pt x="2050" y="258"/>
                </a:lnTo>
                <a:lnTo>
                  <a:pt x="2032" y="258"/>
                </a:lnTo>
                <a:lnTo>
                  <a:pt x="1996" y="270"/>
                </a:lnTo>
                <a:lnTo>
                  <a:pt x="1978" y="270"/>
                </a:lnTo>
                <a:lnTo>
                  <a:pt x="1960" y="276"/>
                </a:lnTo>
                <a:lnTo>
                  <a:pt x="1924" y="282"/>
                </a:lnTo>
                <a:lnTo>
                  <a:pt x="1906" y="282"/>
                </a:lnTo>
                <a:lnTo>
                  <a:pt x="1888" y="288"/>
                </a:lnTo>
                <a:lnTo>
                  <a:pt x="1846" y="294"/>
                </a:lnTo>
                <a:lnTo>
                  <a:pt x="1828" y="294"/>
                </a:lnTo>
                <a:lnTo>
                  <a:pt x="1810" y="300"/>
                </a:lnTo>
                <a:lnTo>
                  <a:pt x="1768" y="306"/>
                </a:lnTo>
                <a:lnTo>
                  <a:pt x="1744" y="306"/>
                </a:lnTo>
                <a:lnTo>
                  <a:pt x="1726" y="306"/>
                </a:lnTo>
                <a:lnTo>
                  <a:pt x="1708" y="312"/>
                </a:lnTo>
                <a:lnTo>
                  <a:pt x="1666" y="312"/>
                </a:lnTo>
                <a:lnTo>
                  <a:pt x="1642" y="318"/>
                </a:lnTo>
                <a:lnTo>
                  <a:pt x="1624" y="318"/>
                </a:lnTo>
                <a:lnTo>
                  <a:pt x="1577" y="324"/>
                </a:lnTo>
                <a:lnTo>
                  <a:pt x="1559" y="324"/>
                </a:lnTo>
                <a:lnTo>
                  <a:pt x="1535" y="324"/>
                </a:lnTo>
                <a:lnTo>
                  <a:pt x="1493" y="330"/>
                </a:lnTo>
                <a:lnTo>
                  <a:pt x="1469" y="330"/>
                </a:lnTo>
                <a:lnTo>
                  <a:pt x="1445" y="330"/>
                </a:lnTo>
                <a:lnTo>
                  <a:pt x="1403" y="330"/>
                </a:lnTo>
                <a:lnTo>
                  <a:pt x="1379" y="330"/>
                </a:lnTo>
                <a:lnTo>
                  <a:pt x="1361" y="330"/>
                </a:lnTo>
                <a:lnTo>
                  <a:pt x="1313" y="336"/>
                </a:lnTo>
                <a:lnTo>
                  <a:pt x="1289" y="336"/>
                </a:lnTo>
                <a:lnTo>
                  <a:pt x="1271" y="336"/>
                </a:lnTo>
                <a:lnTo>
                  <a:pt x="1223" y="336"/>
                </a:lnTo>
                <a:lnTo>
                  <a:pt x="1205" y="336"/>
                </a:lnTo>
                <a:lnTo>
                  <a:pt x="1181" y="336"/>
                </a:lnTo>
                <a:lnTo>
                  <a:pt x="1133" y="336"/>
                </a:lnTo>
                <a:lnTo>
                  <a:pt x="1115" y="336"/>
                </a:lnTo>
                <a:lnTo>
                  <a:pt x="1091" y="330"/>
                </a:lnTo>
                <a:lnTo>
                  <a:pt x="1067" y="330"/>
                </a:lnTo>
                <a:lnTo>
                  <a:pt x="1025" y="330"/>
                </a:lnTo>
                <a:lnTo>
                  <a:pt x="1001" y="330"/>
                </a:lnTo>
                <a:lnTo>
                  <a:pt x="977" y="330"/>
                </a:lnTo>
                <a:lnTo>
                  <a:pt x="935" y="324"/>
                </a:lnTo>
                <a:lnTo>
                  <a:pt x="911" y="324"/>
                </a:lnTo>
                <a:lnTo>
                  <a:pt x="893" y="324"/>
                </a:lnTo>
                <a:lnTo>
                  <a:pt x="851" y="318"/>
                </a:lnTo>
                <a:lnTo>
                  <a:pt x="827" y="318"/>
                </a:lnTo>
                <a:lnTo>
                  <a:pt x="803" y="318"/>
                </a:lnTo>
                <a:lnTo>
                  <a:pt x="761" y="312"/>
                </a:lnTo>
                <a:lnTo>
                  <a:pt x="743" y="312"/>
                </a:lnTo>
                <a:lnTo>
                  <a:pt x="719" y="306"/>
                </a:lnTo>
                <a:lnTo>
                  <a:pt x="683" y="306"/>
                </a:lnTo>
                <a:lnTo>
                  <a:pt x="659" y="300"/>
                </a:lnTo>
                <a:lnTo>
                  <a:pt x="641" y="300"/>
                </a:lnTo>
                <a:lnTo>
                  <a:pt x="599" y="294"/>
                </a:lnTo>
                <a:lnTo>
                  <a:pt x="581" y="288"/>
                </a:lnTo>
                <a:lnTo>
                  <a:pt x="563" y="288"/>
                </a:lnTo>
                <a:lnTo>
                  <a:pt x="545" y="282"/>
                </a:lnTo>
                <a:lnTo>
                  <a:pt x="503" y="276"/>
                </a:lnTo>
                <a:lnTo>
                  <a:pt x="485" y="276"/>
                </a:lnTo>
                <a:lnTo>
                  <a:pt x="467" y="270"/>
                </a:lnTo>
                <a:lnTo>
                  <a:pt x="431" y="264"/>
                </a:lnTo>
                <a:lnTo>
                  <a:pt x="413" y="258"/>
                </a:lnTo>
                <a:lnTo>
                  <a:pt x="395" y="258"/>
                </a:lnTo>
                <a:lnTo>
                  <a:pt x="365" y="246"/>
                </a:lnTo>
                <a:lnTo>
                  <a:pt x="347" y="246"/>
                </a:lnTo>
                <a:lnTo>
                  <a:pt x="329" y="240"/>
                </a:lnTo>
                <a:lnTo>
                  <a:pt x="300" y="234"/>
                </a:lnTo>
                <a:lnTo>
                  <a:pt x="282" y="228"/>
                </a:lnTo>
                <a:lnTo>
                  <a:pt x="270" y="222"/>
                </a:lnTo>
                <a:lnTo>
                  <a:pt x="240" y="216"/>
                </a:lnTo>
                <a:lnTo>
                  <a:pt x="228" y="210"/>
                </a:lnTo>
                <a:lnTo>
                  <a:pt x="210" y="204"/>
                </a:lnTo>
                <a:lnTo>
                  <a:pt x="186" y="198"/>
                </a:lnTo>
                <a:lnTo>
                  <a:pt x="174" y="192"/>
                </a:lnTo>
                <a:lnTo>
                  <a:pt x="156" y="186"/>
                </a:lnTo>
                <a:lnTo>
                  <a:pt x="132" y="180"/>
                </a:lnTo>
                <a:lnTo>
                  <a:pt x="120" y="174"/>
                </a:lnTo>
                <a:lnTo>
                  <a:pt x="108" y="168"/>
                </a:lnTo>
                <a:lnTo>
                  <a:pt x="102" y="162"/>
                </a:lnTo>
                <a:lnTo>
                  <a:pt x="78" y="150"/>
                </a:lnTo>
                <a:lnTo>
                  <a:pt x="66" y="150"/>
                </a:lnTo>
                <a:lnTo>
                  <a:pt x="60" y="144"/>
                </a:lnTo>
                <a:lnTo>
                  <a:pt x="42" y="132"/>
                </a:lnTo>
                <a:lnTo>
                  <a:pt x="30" y="126"/>
                </a:lnTo>
                <a:lnTo>
                  <a:pt x="24" y="120"/>
                </a:lnTo>
                <a:lnTo>
                  <a:pt x="6" y="108"/>
                </a:lnTo>
                <a:lnTo>
                  <a:pt x="0" y="102"/>
                </a:lnTo>
                <a:lnTo>
                  <a:pt x="0" y="456"/>
                </a:lnTo>
                <a:lnTo>
                  <a:pt x="6" y="462"/>
                </a:lnTo>
                <a:lnTo>
                  <a:pt x="24" y="474"/>
                </a:lnTo>
                <a:lnTo>
                  <a:pt x="30" y="480"/>
                </a:lnTo>
                <a:lnTo>
                  <a:pt x="42" y="486"/>
                </a:lnTo>
                <a:lnTo>
                  <a:pt x="60" y="498"/>
                </a:lnTo>
                <a:lnTo>
                  <a:pt x="66" y="504"/>
                </a:lnTo>
                <a:lnTo>
                  <a:pt x="78" y="504"/>
                </a:lnTo>
                <a:lnTo>
                  <a:pt x="102" y="516"/>
                </a:lnTo>
                <a:lnTo>
                  <a:pt x="108" y="522"/>
                </a:lnTo>
                <a:lnTo>
                  <a:pt x="120" y="528"/>
                </a:lnTo>
                <a:lnTo>
                  <a:pt x="132" y="534"/>
                </a:lnTo>
                <a:lnTo>
                  <a:pt x="156" y="540"/>
                </a:lnTo>
                <a:lnTo>
                  <a:pt x="174" y="546"/>
                </a:lnTo>
                <a:lnTo>
                  <a:pt x="186" y="552"/>
                </a:lnTo>
                <a:lnTo>
                  <a:pt x="210" y="558"/>
                </a:lnTo>
                <a:lnTo>
                  <a:pt x="228" y="564"/>
                </a:lnTo>
                <a:lnTo>
                  <a:pt x="240" y="570"/>
                </a:lnTo>
                <a:lnTo>
                  <a:pt x="270" y="576"/>
                </a:lnTo>
                <a:lnTo>
                  <a:pt x="282" y="582"/>
                </a:lnTo>
                <a:lnTo>
                  <a:pt x="300" y="588"/>
                </a:lnTo>
                <a:lnTo>
                  <a:pt x="329" y="594"/>
                </a:lnTo>
                <a:lnTo>
                  <a:pt x="347" y="600"/>
                </a:lnTo>
                <a:lnTo>
                  <a:pt x="365" y="600"/>
                </a:lnTo>
                <a:lnTo>
                  <a:pt x="395" y="612"/>
                </a:lnTo>
                <a:lnTo>
                  <a:pt x="413" y="612"/>
                </a:lnTo>
                <a:lnTo>
                  <a:pt x="431" y="618"/>
                </a:lnTo>
                <a:lnTo>
                  <a:pt x="467" y="624"/>
                </a:lnTo>
                <a:lnTo>
                  <a:pt x="485" y="630"/>
                </a:lnTo>
                <a:lnTo>
                  <a:pt x="503" y="630"/>
                </a:lnTo>
                <a:lnTo>
                  <a:pt x="545" y="636"/>
                </a:lnTo>
                <a:lnTo>
                  <a:pt x="563" y="642"/>
                </a:lnTo>
                <a:lnTo>
                  <a:pt x="581" y="642"/>
                </a:lnTo>
                <a:lnTo>
                  <a:pt x="599" y="648"/>
                </a:lnTo>
                <a:lnTo>
                  <a:pt x="641" y="654"/>
                </a:lnTo>
                <a:lnTo>
                  <a:pt x="659" y="654"/>
                </a:lnTo>
                <a:lnTo>
                  <a:pt x="683" y="660"/>
                </a:lnTo>
                <a:lnTo>
                  <a:pt x="719" y="660"/>
                </a:lnTo>
                <a:lnTo>
                  <a:pt x="743" y="666"/>
                </a:lnTo>
                <a:lnTo>
                  <a:pt x="761" y="666"/>
                </a:lnTo>
                <a:lnTo>
                  <a:pt x="803" y="672"/>
                </a:lnTo>
                <a:lnTo>
                  <a:pt x="827" y="672"/>
                </a:lnTo>
                <a:lnTo>
                  <a:pt x="851" y="672"/>
                </a:lnTo>
                <a:lnTo>
                  <a:pt x="893" y="678"/>
                </a:lnTo>
                <a:lnTo>
                  <a:pt x="911" y="678"/>
                </a:lnTo>
                <a:lnTo>
                  <a:pt x="935" y="678"/>
                </a:lnTo>
                <a:lnTo>
                  <a:pt x="977" y="684"/>
                </a:lnTo>
                <a:lnTo>
                  <a:pt x="1001" y="684"/>
                </a:lnTo>
                <a:lnTo>
                  <a:pt x="1025" y="684"/>
                </a:lnTo>
                <a:lnTo>
                  <a:pt x="1067" y="684"/>
                </a:lnTo>
                <a:lnTo>
                  <a:pt x="1091" y="684"/>
                </a:lnTo>
                <a:lnTo>
                  <a:pt x="1115" y="690"/>
                </a:lnTo>
                <a:lnTo>
                  <a:pt x="1133" y="690"/>
                </a:lnTo>
                <a:lnTo>
                  <a:pt x="1181" y="690"/>
                </a:lnTo>
                <a:lnTo>
                  <a:pt x="1205" y="690"/>
                </a:lnTo>
                <a:lnTo>
                  <a:pt x="1223" y="690"/>
                </a:lnTo>
                <a:lnTo>
                  <a:pt x="1271" y="690"/>
                </a:lnTo>
                <a:lnTo>
                  <a:pt x="1289" y="690"/>
                </a:lnTo>
                <a:lnTo>
                  <a:pt x="1313" y="690"/>
                </a:lnTo>
                <a:lnTo>
                  <a:pt x="1361" y="684"/>
                </a:lnTo>
                <a:lnTo>
                  <a:pt x="1379" y="684"/>
                </a:lnTo>
                <a:lnTo>
                  <a:pt x="1403" y="684"/>
                </a:lnTo>
                <a:lnTo>
                  <a:pt x="1445" y="684"/>
                </a:lnTo>
                <a:lnTo>
                  <a:pt x="1469" y="684"/>
                </a:lnTo>
                <a:lnTo>
                  <a:pt x="1493" y="684"/>
                </a:lnTo>
                <a:lnTo>
                  <a:pt x="1535" y="678"/>
                </a:lnTo>
                <a:lnTo>
                  <a:pt x="1559" y="678"/>
                </a:lnTo>
                <a:lnTo>
                  <a:pt x="1577" y="678"/>
                </a:lnTo>
                <a:lnTo>
                  <a:pt x="1624" y="672"/>
                </a:lnTo>
                <a:lnTo>
                  <a:pt x="1642" y="672"/>
                </a:lnTo>
                <a:lnTo>
                  <a:pt x="1666" y="666"/>
                </a:lnTo>
                <a:lnTo>
                  <a:pt x="1708" y="666"/>
                </a:lnTo>
                <a:lnTo>
                  <a:pt x="1726" y="660"/>
                </a:lnTo>
                <a:lnTo>
                  <a:pt x="1744" y="660"/>
                </a:lnTo>
                <a:lnTo>
                  <a:pt x="1768" y="660"/>
                </a:lnTo>
                <a:lnTo>
                  <a:pt x="1810" y="654"/>
                </a:lnTo>
                <a:lnTo>
                  <a:pt x="1828" y="648"/>
                </a:lnTo>
                <a:lnTo>
                  <a:pt x="1846" y="648"/>
                </a:lnTo>
                <a:lnTo>
                  <a:pt x="1888" y="642"/>
                </a:lnTo>
                <a:lnTo>
                  <a:pt x="1906" y="636"/>
                </a:lnTo>
                <a:lnTo>
                  <a:pt x="1924" y="636"/>
                </a:lnTo>
                <a:lnTo>
                  <a:pt x="1960" y="630"/>
                </a:lnTo>
                <a:lnTo>
                  <a:pt x="1978" y="624"/>
                </a:lnTo>
                <a:lnTo>
                  <a:pt x="1996" y="624"/>
                </a:lnTo>
                <a:lnTo>
                  <a:pt x="2032" y="612"/>
                </a:lnTo>
                <a:lnTo>
                  <a:pt x="2050" y="612"/>
                </a:lnTo>
                <a:lnTo>
                  <a:pt x="2068" y="606"/>
                </a:lnTo>
                <a:lnTo>
                  <a:pt x="2104" y="600"/>
                </a:lnTo>
                <a:lnTo>
                  <a:pt x="2116" y="594"/>
                </a:lnTo>
                <a:lnTo>
                  <a:pt x="2134" y="588"/>
                </a:lnTo>
                <a:lnTo>
                  <a:pt x="2164" y="582"/>
                </a:lnTo>
                <a:lnTo>
                  <a:pt x="2182" y="576"/>
                </a:lnTo>
                <a:lnTo>
                  <a:pt x="2194" y="576"/>
                </a:lnTo>
                <a:lnTo>
                  <a:pt x="2212" y="570"/>
                </a:lnTo>
                <a:lnTo>
                  <a:pt x="2236" y="558"/>
                </a:lnTo>
                <a:lnTo>
                  <a:pt x="2254" y="558"/>
                </a:lnTo>
                <a:lnTo>
                  <a:pt x="2266" y="552"/>
                </a:lnTo>
                <a:lnTo>
                  <a:pt x="2290" y="540"/>
                </a:lnTo>
                <a:lnTo>
                  <a:pt x="2302" y="534"/>
                </a:lnTo>
                <a:lnTo>
                  <a:pt x="2314" y="534"/>
                </a:lnTo>
                <a:lnTo>
                  <a:pt x="2338" y="522"/>
                </a:lnTo>
                <a:lnTo>
                  <a:pt x="2350" y="516"/>
                </a:lnTo>
                <a:lnTo>
                  <a:pt x="2362" y="510"/>
                </a:lnTo>
                <a:lnTo>
                  <a:pt x="2380" y="504"/>
                </a:lnTo>
                <a:lnTo>
                  <a:pt x="2392" y="498"/>
                </a:lnTo>
                <a:lnTo>
                  <a:pt x="2398" y="492"/>
                </a:lnTo>
                <a:lnTo>
                  <a:pt x="2416" y="480"/>
                </a:lnTo>
                <a:lnTo>
                  <a:pt x="2428" y="474"/>
                </a:lnTo>
                <a:lnTo>
                  <a:pt x="2434" y="468"/>
                </a:lnTo>
                <a:lnTo>
                  <a:pt x="2446" y="456"/>
                </a:lnTo>
                <a:lnTo>
                  <a:pt x="2452" y="450"/>
                </a:lnTo>
                <a:lnTo>
                  <a:pt x="2458" y="450"/>
                </a:lnTo>
                <a:lnTo>
                  <a:pt x="2470" y="438"/>
                </a:lnTo>
                <a:lnTo>
                  <a:pt x="2476" y="432"/>
                </a:lnTo>
                <a:lnTo>
                  <a:pt x="2482" y="426"/>
                </a:lnTo>
                <a:lnTo>
                  <a:pt x="2488" y="420"/>
                </a:lnTo>
                <a:lnTo>
                  <a:pt x="2494" y="408"/>
                </a:lnTo>
                <a:lnTo>
                  <a:pt x="2500" y="402"/>
                </a:lnTo>
                <a:lnTo>
                  <a:pt x="2500" y="396"/>
                </a:lnTo>
                <a:lnTo>
                  <a:pt x="2506" y="384"/>
                </a:lnTo>
                <a:lnTo>
                  <a:pt x="2506" y="378"/>
                </a:lnTo>
                <a:lnTo>
                  <a:pt x="2506" y="372"/>
                </a:lnTo>
                <a:lnTo>
                  <a:pt x="2512" y="360"/>
                </a:lnTo>
                <a:lnTo>
                  <a:pt x="2512" y="354"/>
                </a:lnTo>
                <a:lnTo>
                  <a:pt x="2512" y="0"/>
                </a:lnTo>
                <a:close/>
              </a:path>
            </a:pathLst>
          </a:custGeom>
          <a:solidFill>
            <a:srgbClr val="001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9960" y="3133800"/>
            <a:ext cx="3987720" cy="1057320"/>
          </a:xfrm>
          <a:custGeom>
            <a:avLst/>
            <a:gdLst/>
            <a:ahLst/>
            <a:rect l="l" t="t" r="r" b="b"/>
            <a:pathLst>
              <a:path w="2512" h="666">
                <a:moveTo>
                  <a:pt x="1223" y="0"/>
                </a:moveTo>
                <a:lnTo>
                  <a:pt x="1247" y="0"/>
                </a:lnTo>
                <a:lnTo>
                  <a:pt x="1289" y="0"/>
                </a:lnTo>
                <a:lnTo>
                  <a:pt x="1313" y="0"/>
                </a:lnTo>
                <a:lnTo>
                  <a:pt x="1337" y="0"/>
                </a:lnTo>
                <a:lnTo>
                  <a:pt x="1379" y="0"/>
                </a:lnTo>
                <a:lnTo>
                  <a:pt x="1403" y="0"/>
                </a:lnTo>
                <a:lnTo>
                  <a:pt x="1427" y="0"/>
                </a:lnTo>
                <a:lnTo>
                  <a:pt x="1469" y="6"/>
                </a:lnTo>
                <a:lnTo>
                  <a:pt x="1493" y="6"/>
                </a:lnTo>
                <a:lnTo>
                  <a:pt x="1517" y="6"/>
                </a:lnTo>
                <a:lnTo>
                  <a:pt x="1559" y="12"/>
                </a:lnTo>
                <a:lnTo>
                  <a:pt x="1577" y="12"/>
                </a:lnTo>
                <a:lnTo>
                  <a:pt x="1600" y="12"/>
                </a:lnTo>
                <a:lnTo>
                  <a:pt x="1642" y="18"/>
                </a:lnTo>
                <a:lnTo>
                  <a:pt x="1666" y="18"/>
                </a:lnTo>
                <a:lnTo>
                  <a:pt x="1684" y="18"/>
                </a:lnTo>
                <a:lnTo>
                  <a:pt x="1726" y="24"/>
                </a:lnTo>
                <a:lnTo>
                  <a:pt x="1744" y="30"/>
                </a:lnTo>
                <a:lnTo>
                  <a:pt x="1768" y="30"/>
                </a:lnTo>
                <a:lnTo>
                  <a:pt x="1810" y="36"/>
                </a:lnTo>
                <a:lnTo>
                  <a:pt x="1828" y="36"/>
                </a:lnTo>
                <a:lnTo>
                  <a:pt x="1846" y="42"/>
                </a:lnTo>
                <a:lnTo>
                  <a:pt x="1888" y="48"/>
                </a:lnTo>
                <a:lnTo>
                  <a:pt x="1906" y="48"/>
                </a:lnTo>
                <a:lnTo>
                  <a:pt x="1924" y="54"/>
                </a:lnTo>
                <a:lnTo>
                  <a:pt x="1960" y="60"/>
                </a:lnTo>
                <a:lnTo>
                  <a:pt x="1978" y="60"/>
                </a:lnTo>
                <a:lnTo>
                  <a:pt x="1996" y="66"/>
                </a:lnTo>
                <a:lnTo>
                  <a:pt x="2032" y="72"/>
                </a:lnTo>
                <a:lnTo>
                  <a:pt x="2050" y="78"/>
                </a:lnTo>
                <a:lnTo>
                  <a:pt x="2068" y="78"/>
                </a:lnTo>
                <a:lnTo>
                  <a:pt x="2104" y="90"/>
                </a:lnTo>
                <a:lnTo>
                  <a:pt x="2116" y="90"/>
                </a:lnTo>
                <a:lnTo>
                  <a:pt x="2134" y="96"/>
                </a:lnTo>
                <a:lnTo>
                  <a:pt x="2164" y="102"/>
                </a:lnTo>
                <a:lnTo>
                  <a:pt x="2182" y="108"/>
                </a:lnTo>
                <a:lnTo>
                  <a:pt x="2194" y="114"/>
                </a:lnTo>
                <a:lnTo>
                  <a:pt x="2224" y="120"/>
                </a:lnTo>
                <a:lnTo>
                  <a:pt x="2236" y="126"/>
                </a:lnTo>
                <a:lnTo>
                  <a:pt x="2254" y="132"/>
                </a:lnTo>
                <a:lnTo>
                  <a:pt x="2278" y="138"/>
                </a:lnTo>
                <a:lnTo>
                  <a:pt x="2290" y="144"/>
                </a:lnTo>
                <a:lnTo>
                  <a:pt x="2302" y="150"/>
                </a:lnTo>
                <a:lnTo>
                  <a:pt x="2326" y="162"/>
                </a:lnTo>
                <a:lnTo>
                  <a:pt x="2338" y="162"/>
                </a:lnTo>
                <a:lnTo>
                  <a:pt x="2350" y="168"/>
                </a:lnTo>
                <a:lnTo>
                  <a:pt x="2368" y="180"/>
                </a:lnTo>
                <a:lnTo>
                  <a:pt x="2380" y="186"/>
                </a:lnTo>
                <a:lnTo>
                  <a:pt x="2392" y="192"/>
                </a:lnTo>
                <a:lnTo>
                  <a:pt x="2410" y="204"/>
                </a:lnTo>
                <a:lnTo>
                  <a:pt x="2416" y="204"/>
                </a:lnTo>
                <a:lnTo>
                  <a:pt x="2428" y="210"/>
                </a:lnTo>
                <a:lnTo>
                  <a:pt x="2440" y="222"/>
                </a:lnTo>
                <a:lnTo>
                  <a:pt x="2446" y="228"/>
                </a:lnTo>
                <a:lnTo>
                  <a:pt x="2452" y="234"/>
                </a:lnTo>
                <a:lnTo>
                  <a:pt x="2464" y="246"/>
                </a:lnTo>
                <a:lnTo>
                  <a:pt x="2470" y="252"/>
                </a:lnTo>
                <a:lnTo>
                  <a:pt x="2476" y="258"/>
                </a:lnTo>
                <a:lnTo>
                  <a:pt x="2488" y="270"/>
                </a:lnTo>
                <a:lnTo>
                  <a:pt x="2488" y="276"/>
                </a:lnTo>
                <a:lnTo>
                  <a:pt x="2494" y="282"/>
                </a:lnTo>
                <a:lnTo>
                  <a:pt x="2500" y="288"/>
                </a:lnTo>
                <a:lnTo>
                  <a:pt x="2506" y="294"/>
                </a:lnTo>
                <a:lnTo>
                  <a:pt x="2506" y="300"/>
                </a:lnTo>
                <a:lnTo>
                  <a:pt x="2506" y="312"/>
                </a:lnTo>
                <a:lnTo>
                  <a:pt x="2512" y="318"/>
                </a:lnTo>
                <a:lnTo>
                  <a:pt x="2512" y="324"/>
                </a:lnTo>
                <a:lnTo>
                  <a:pt x="2512" y="336"/>
                </a:lnTo>
                <a:lnTo>
                  <a:pt x="2512" y="342"/>
                </a:lnTo>
                <a:lnTo>
                  <a:pt x="2506" y="348"/>
                </a:lnTo>
                <a:lnTo>
                  <a:pt x="2506" y="360"/>
                </a:lnTo>
                <a:lnTo>
                  <a:pt x="2506" y="366"/>
                </a:lnTo>
                <a:lnTo>
                  <a:pt x="2500" y="372"/>
                </a:lnTo>
                <a:lnTo>
                  <a:pt x="2494" y="384"/>
                </a:lnTo>
                <a:lnTo>
                  <a:pt x="2488" y="390"/>
                </a:lnTo>
                <a:lnTo>
                  <a:pt x="2488" y="396"/>
                </a:lnTo>
                <a:lnTo>
                  <a:pt x="2476" y="408"/>
                </a:lnTo>
                <a:lnTo>
                  <a:pt x="2470" y="414"/>
                </a:lnTo>
                <a:lnTo>
                  <a:pt x="2464" y="420"/>
                </a:lnTo>
                <a:lnTo>
                  <a:pt x="2452" y="426"/>
                </a:lnTo>
                <a:lnTo>
                  <a:pt x="2446" y="432"/>
                </a:lnTo>
                <a:lnTo>
                  <a:pt x="2440" y="438"/>
                </a:lnTo>
                <a:lnTo>
                  <a:pt x="2428" y="450"/>
                </a:lnTo>
                <a:lnTo>
                  <a:pt x="2416" y="456"/>
                </a:lnTo>
                <a:lnTo>
                  <a:pt x="2410" y="462"/>
                </a:lnTo>
                <a:lnTo>
                  <a:pt x="2392" y="474"/>
                </a:lnTo>
                <a:lnTo>
                  <a:pt x="2380" y="480"/>
                </a:lnTo>
                <a:lnTo>
                  <a:pt x="2368" y="480"/>
                </a:lnTo>
                <a:lnTo>
                  <a:pt x="2350" y="492"/>
                </a:lnTo>
                <a:lnTo>
                  <a:pt x="2338" y="498"/>
                </a:lnTo>
                <a:lnTo>
                  <a:pt x="2326" y="504"/>
                </a:lnTo>
                <a:lnTo>
                  <a:pt x="2302" y="510"/>
                </a:lnTo>
                <a:lnTo>
                  <a:pt x="2290" y="516"/>
                </a:lnTo>
                <a:lnTo>
                  <a:pt x="2278" y="522"/>
                </a:lnTo>
                <a:lnTo>
                  <a:pt x="2254" y="534"/>
                </a:lnTo>
                <a:lnTo>
                  <a:pt x="2236" y="534"/>
                </a:lnTo>
                <a:lnTo>
                  <a:pt x="2224" y="540"/>
                </a:lnTo>
                <a:lnTo>
                  <a:pt x="2194" y="552"/>
                </a:lnTo>
                <a:lnTo>
                  <a:pt x="2182" y="552"/>
                </a:lnTo>
                <a:lnTo>
                  <a:pt x="2164" y="558"/>
                </a:lnTo>
                <a:lnTo>
                  <a:pt x="2134" y="564"/>
                </a:lnTo>
                <a:lnTo>
                  <a:pt x="2116" y="570"/>
                </a:lnTo>
                <a:lnTo>
                  <a:pt x="2104" y="576"/>
                </a:lnTo>
                <a:lnTo>
                  <a:pt x="2068" y="582"/>
                </a:lnTo>
                <a:lnTo>
                  <a:pt x="2050" y="588"/>
                </a:lnTo>
                <a:lnTo>
                  <a:pt x="2032" y="588"/>
                </a:lnTo>
                <a:lnTo>
                  <a:pt x="1996" y="600"/>
                </a:lnTo>
                <a:lnTo>
                  <a:pt x="1978" y="600"/>
                </a:lnTo>
                <a:lnTo>
                  <a:pt x="1960" y="606"/>
                </a:lnTo>
                <a:lnTo>
                  <a:pt x="1924" y="612"/>
                </a:lnTo>
                <a:lnTo>
                  <a:pt x="1906" y="612"/>
                </a:lnTo>
                <a:lnTo>
                  <a:pt x="1888" y="618"/>
                </a:lnTo>
                <a:lnTo>
                  <a:pt x="1846" y="624"/>
                </a:lnTo>
                <a:lnTo>
                  <a:pt x="1828" y="624"/>
                </a:lnTo>
                <a:lnTo>
                  <a:pt x="1810" y="630"/>
                </a:lnTo>
                <a:lnTo>
                  <a:pt x="1768" y="636"/>
                </a:lnTo>
                <a:lnTo>
                  <a:pt x="1744" y="636"/>
                </a:lnTo>
                <a:lnTo>
                  <a:pt x="1726" y="636"/>
                </a:lnTo>
                <a:lnTo>
                  <a:pt x="1684" y="642"/>
                </a:lnTo>
                <a:lnTo>
                  <a:pt x="1666" y="642"/>
                </a:lnTo>
                <a:lnTo>
                  <a:pt x="1642" y="648"/>
                </a:lnTo>
                <a:lnTo>
                  <a:pt x="1600" y="648"/>
                </a:lnTo>
                <a:lnTo>
                  <a:pt x="1577" y="654"/>
                </a:lnTo>
                <a:lnTo>
                  <a:pt x="1559" y="654"/>
                </a:lnTo>
                <a:lnTo>
                  <a:pt x="1517" y="654"/>
                </a:lnTo>
                <a:lnTo>
                  <a:pt x="1493" y="660"/>
                </a:lnTo>
                <a:lnTo>
                  <a:pt x="1469" y="660"/>
                </a:lnTo>
                <a:lnTo>
                  <a:pt x="1427" y="660"/>
                </a:lnTo>
                <a:lnTo>
                  <a:pt x="1403" y="660"/>
                </a:lnTo>
                <a:lnTo>
                  <a:pt x="1379" y="660"/>
                </a:lnTo>
                <a:lnTo>
                  <a:pt x="1337" y="666"/>
                </a:lnTo>
                <a:lnTo>
                  <a:pt x="1313" y="666"/>
                </a:lnTo>
                <a:lnTo>
                  <a:pt x="1289" y="666"/>
                </a:lnTo>
                <a:lnTo>
                  <a:pt x="1247" y="666"/>
                </a:lnTo>
                <a:lnTo>
                  <a:pt x="1223" y="666"/>
                </a:lnTo>
                <a:lnTo>
                  <a:pt x="1205" y="666"/>
                </a:lnTo>
                <a:lnTo>
                  <a:pt x="1157" y="666"/>
                </a:lnTo>
                <a:lnTo>
                  <a:pt x="1133" y="666"/>
                </a:lnTo>
                <a:lnTo>
                  <a:pt x="1115" y="666"/>
                </a:lnTo>
                <a:lnTo>
                  <a:pt x="1067" y="660"/>
                </a:lnTo>
                <a:lnTo>
                  <a:pt x="1043" y="660"/>
                </a:lnTo>
                <a:lnTo>
                  <a:pt x="1025" y="660"/>
                </a:lnTo>
                <a:lnTo>
                  <a:pt x="977" y="660"/>
                </a:lnTo>
                <a:lnTo>
                  <a:pt x="959" y="660"/>
                </a:lnTo>
                <a:lnTo>
                  <a:pt x="935" y="654"/>
                </a:lnTo>
                <a:lnTo>
                  <a:pt x="893" y="654"/>
                </a:lnTo>
                <a:lnTo>
                  <a:pt x="869" y="654"/>
                </a:lnTo>
                <a:lnTo>
                  <a:pt x="851" y="648"/>
                </a:lnTo>
                <a:lnTo>
                  <a:pt x="803" y="648"/>
                </a:lnTo>
                <a:lnTo>
                  <a:pt x="785" y="642"/>
                </a:lnTo>
                <a:lnTo>
                  <a:pt x="761" y="642"/>
                </a:lnTo>
                <a:lnTo>
                  <a:pt x="719" y="636"/>
                </a:lnTo>
                <a:lnTo>
                  <a:pt x="701" y="636"/>
                </a:lnTo>
                <a:lnTo>
                  <a:pt x="683" y="636"/>
                </a:lnTo>
                <a:lnTo>
                  <a:pt x="641" y="630"/>
                </a:lnTo>
                <a:lnTo>
                  <a:pt x="623" y="624"/>
                </a:lnTo>
                <a:lnTo>
                  <a:pt x="599" y="624"/>
                </a:lnTo>
                <a:lnTo>
                  <a:pt x="563" y="618"/>
                </a:lnTo>
                <a:lnTo>
                  <a:pt x="545" y="612"/>
                </a:lnTo>
                <a:lnTo>
                  <a:pt x="521" y="612"/>
                </a:lnTo>
                <a:lnTo>
                  <a:pt x="485" y="606"/>
                </a:lnTo>
                <a:lnTo>
                  <a:pt x="467" y="600"/>
                </a:lnTo>
                <a:lnTo>
                  <a:pt x="449" y="600"/>
                </a:lnTo>
                <a:lnTo>
                  <a:pt x="413" y="588"/>
                </a:lnTo>
                <a:lnTo>
                  <a:pt x="395" y="588"/>
                </a:lnTo>
                <a:lnTo>
                  <a:pt x="383" y="582"/>
                </a:lnTo>
                <a:lnTo>
                  <a:pt x="347" y="576"/>
                </a:lnTo>
                <a:lnTo>
                  <a:pt x="329" y="570"/>
                </a:lnTo>
                <a:lnTo>
                  <a:pt x="317" y="564"/>
                </a:lnTo>
                <a:lnTo>
                  <a:pt x="282" y="558"/>
                </a:lnTo>
                <a:lnTo>
                  <a:pt x="270" y="552"/>
                </a:lnTo>
                <a:lnTo>
                  <a:pt x="252" y="552"/>
                </a:lnTo>
                <a:lnTo>
                  <a:pt x="228" y="540"/>
                </a:lnTo>
                <a:lnTo>
                  <a:pt x="210" y="534"/>
                </a:lnTo>
                <a:lnTo>
                  <a:pt x="198" y="534"/>
                </a:lnTo>
                <a:lnTo>
                  <a:pt x="174" y="522"/>
                </a:lnTo>
                <a:lnTo>
                  <a:pt x="156" y="516"/>
                </a:lnTo>
                <a:lnTo>
                  <a:pt x="144" y="510"/>
                </a:lnTo>
                <a:lnTo>
                  <a:pt x="120" y="504"/>
                </a:lnTo>
                <a:lnTo>
                  <a:pt x="108" y="498"/>
                </a:lnTo>
                <a:lnTo>
                  <a:pt x="102" y="492"/>
                </a:lnTo>
                <a:lnTo>
                  <a:pt x="78" y="480"/>
                </a:lnTo>
                <a:lnTo>
                  <a:pt x="66" y="480"/>
                </a:lnTo>
                <a:lnTo>
                  <a:pt x="60" y="474"/>
                </a:lnTo>
                <a:lnTo>
                  <a:pt x="42" y="462"/>
                </a:lnTo>
                <a:lnTo>
                  <a:pt x="30" y="456"/>
                </a:lnTo>
                <a:lnTo>
                  <a:pt x="24" y="450"/>
                </a:lnTo>
                <a:lnTo>
                  <a:pt x="6" y="438"/>
                </a:lnTo>
                <a:lnTo>
                  <a:pt x="0" y="432"/>
                </a:lnTo>
                <a:lnTo>
                  <a:pt x="1223" y="330"/>
                </a:lnTo>
                <a:lnTo>
                  <a:pt x="1223" y="0"/>
                </a:lnTo>
                <a:close/>
              </a:path>
            </a:pathLst>
          </a:custGeom>
          <a:solidFill>
            <a:srgbClr val="003300">
              <a:alpha val="65000"/>
            </a:srgbClr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"/>
            <p:cNvSpPr/>
            <p:nvPr/>
          </p:nvSpPr>
          <p:spPr>
            <a:xfrm>
              <a:off x="214488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52280" y="73080"/>
            <a:ext cx="8991720" cy="671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73080"/>
                      <a:ext cx="8991720" cy="67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049640" y="4627440"/>
              <a:ext cx="4930920" cy="145476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400" spc="-1" strike="noStrike">
                  <a:solidFill>
                    <a:srgbClr val="ffffcc"/>
                  </a:solidFill>
                  <a:latin typeface="Century Gothic"/>
                </a:rPr>
                <a:t>Registration of Small and Medium Enterp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6033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408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5257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4952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4662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3824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3519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276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2971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2666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2376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408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18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1004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1295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1538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6200" y="208080"/>
              <a:ext cx="2635200" cy="50940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AP VOJVODINA</a:t>
              </a:r>
              <a:r>
                <a:rPr b="1" i="1" lang="sl-SI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380880"/>
              <a:ext cx="1447920" cy="30492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7273800"/>
            <a:chOff x="0" y="0"/>
            <a:chExt cx="9144000" cy="727380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7273800"/>
              <a:chOff x="0" y="0"/>
              <a:chExt cx="9144000" cy="72738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144880" y="0"/>
                <a:ext cx="4789440" cy="6858000"/>
              </a:xfrm>
              <a:custGeom>
                <a:avLst/>
                <a:gdLst/>
                <a:ahLst/>
                <a:rect l="l" t="t" r="r" b="b"/>
                <a:pathLst>
                  <a:path w="2704" h="3879">
                    <a:moveTo>
                      <a:pt x="883" y="43"/>
                    </a:moveTo>
                    <a:lnTo>
                      <a:pt x="903" y="55"/>
                    </a:lnTo>
                    <a:lnTo>
                      <a:pt x="921" y="72"/>
                    </a:lnTo>
                    <a:lnTo>
                      <a:pt x="940" y="90"/>
                    </a:lnTo>
                    <a:lnTo>
                      <a:pt x="961" y="115"/>
                    </a:lnTo>
                    <a:lnTo>
                      <a:pt x="967" y="141"/>
                    </a:lnTo>
                    <a:lnTo>
                      <a:pt x="972" y="169"/>
                    </a:lnTo>
                    <a:lnTo>
                      <a:pt x="990" y="193"/>
                    </a:lnTo>
                    <a:lnTo>
                      <a:pt x="1014" y="213"/>
                    </a:lnTo>
                    <a:lnTo>
                      <a:pt x="1033" y="202"/>
                    </a:lnTo>
                    <a:lnTo>
                      <a:pt x="1057" y="196"/>
                    </a:lnTo>
                    <a:lnTo>
                      <a:pt x="1059" y="225"/>
                    </a:lnTo>
                    <a:lnTo>
                      <a:pt x="1063" y="252"/>
                    </a:lnTo>
                    <a:lnTo>
                      <a:pt x="1077" y="268"/>
                    </a:lnTo>
                    <a:lnTo>
                      <a:pt x="1098" y="258"/>
                    </a:lnTo>
                    <a:lnTo>
                      <a:pt x="1116" y="252"/>
                    </a:lnTo>
                    <a:lnTo>
                      <a:pt x="1119" y="273"/>
                    </a:lnTo>
                    <a:lnTo>
                      <a:pt x="1108" y="288"/>
                    </a:lnTo>
                    <a:lnTo>
                      <a:pt x="1120" y="304"/>
                    </a:lnTo>
                    <a:lnTo>
                      <a:pt x="1140" y="297"/>
                    </a:lnTo>
                    <a:lnTo>
                      <a:pt x="1156" y="307"/>
                    </a:lnTo>
                    <a:lnTo>
                      <a:pt x="1168" y="321"/>
                    </a:lnTo>
                    <a:lnTo>
                      <a:pt x="1159" y="343"/>
                    </a:lnTo>
                    <a:lnTo>
                      <a:pt x="1171" y="354"/>
                    </a:lnTo>
                    <a:lnTo>
                      <a:pt x="1191" y="361"/>
                    </a:lnTo>
                    <a:lnTo>
                      <a:pt x="1191" y="396"/>
                    </a:lnTo>
                    <a:lnTo>
                      <a:pt x="1215" y="403"/>
                    </a:lnTo>
                    <a:lnTo>
                      <a:pt x="1245" y="397"/>
                    </a:lnTo>
                    <a:lnTo>
                      <a:pt x="1243" y="372"/>
                    </a:lnTo>
                    <a:lnTo>
                      <a:pt x="1258" y="367"/>
                    </a:lnTo>
                    <a:lnTo>
                      <a:pt x="1275" y="375"/>
                    </a:lnTo>
                    <a:lnTo>
                      <a:pt x="1267" y="397"/>
                    </a:lnTo>
                    <a:lnTo>
                      <a:pt x="1257" y="412"/>
                    </a:lnTo>
                    <a:lnTo>
                      <a:pt x="1254" y="435"/>
                    </a:lnTo>
                    <a:lnTo>
                      <a:pt x="1255" y="477"/>
                    </a:lnTo>
                    <a:lnTo>
                      <a:pt x="1245" y="502"/>
                    </a:lnTo>
                    <a:lnTo>
                      <a:pt x="1234" y="522"/>
                    </a:lnTo>
                    <a:lnTo>
                      <a:pt x="1233" y="547"/>
                    </a:lnTo>
                    <a:lnTo>
                      <a:pt x="1261" y="550"/>
                    </a:lnTo>
                    <a:lnTo>
                      <a:pt x="1261" y="571"/>
                    </a:lnTo>
                    <a:lnTo>
                      <a:pt x="1272" y="589"/>
                    </a:lnTo>
                    <a:lnTo>
                      <a:pt x="1252" y="607"/>
                    </a:lnTo>
                    <a:lnTo>
                      <a:pt x="1233" y="622"/>
                    </a:lnTo>
                    <a:lnTo>
                      <a:pt x="1233" y="643"/>
                    </a:lnTo>
                    <a:lnTo>
                      <a:pt x="1267" y="642"/>
                    </a:lnTo>
                    <a:lnTo>
                      <a:pt x="1294" y="654"/>
                    </a:lnTo>
                    <a:lnTo>
                      <a:pt x="1296" y="676"/>
                    </a:lnTo>
                    <a:lnTo>
                      <a:pt x="1314" y="696"/>
                    </a:lnTo>
                    <a:lnTo>
                      <a:pt x="1332" y="708"/>
                    </a:lnTo>
                    <a:lnTo>
                      <a:pt x="1356" y="739"/>
                    </a:lnTo>
                    <a:lnTo>
                      <a:pt x="1372" y="757"/>
                    </a:lnTo>
                    <a:lnTo>
                      <a:pt x="1390" y="775"/>
                    </a:lnTo>
                    <a:lnTo>
                      <a:pt x="1411" y="771"/>
                    </a:lnTo>
                    <a:lnTo>
                      <a:pt x="1423" y="759"/>
                    </a:lnTo>
                    <a:lnTo>
                      <a:pt x="1428" y="781"/>
                    </a:lnTo>
                    <a:lnTo>
                      <a:pt x="1441" y="799"/>
                    </a:lnTo>
                    <a:lnTo>
                      <a:pt x="1455" y="793"/>
                    </a:lnTo>
                    <a:lnTo>
                      <a:pt x="1480" y="787"/>
                    </a:lnTo>
                    <a:lnTo>
                      <a:pt x="1492" y="772"/>
                    </a:lnTo>
                    <a:lnTo>
                      <a:pt x="1504" y="801"/>
                    </a:lnTo>
                    <a:lnTo>
                      <a:pt x="1516" y="822"/>
                    </a:lnTo>
                    <a:lnTo>
                      <a:pt x="1528" y="844"/>
                    </a:lnTo>
                    <a:lnTo>
                      <a:pt x="1551" y="856"/>
                    </a:lnTo>
                    <a:lnTo>
                      <a:pt x="1578" y="849"/>
                    </a:lnTo>
                    <a:lnTo>
                      <a:pt x="1605" y="861"/>
                    </a:lnTo>
                    <a:lnTo>
                      <a:pt x="1615" y="870"/>
                    </a:lnTo>
                    <a:lnTo>
                      <a:pt x="1644" y="859"/>
                    </a:lnTo>
                    <a:lnTo>
                      <a:pt x="1656" y="877"/>
                    </a:lnTo>
                    <a:lnTo>
                      <a:pt x="1677" y="883"/>
                    </a:lnTo>
                    <a:lnTo>
                      <a:pt x="1699" y="898"/>
                    </a:lnTo>
                    <a:lnTo>
                      <a:pt x="1720" y="915"/>
                    </a:lnTo>
                    <a:lnTo>
                      <a:pt x="1731" y="933"/>
                    </a:lnTo>
                    <a:lnTo>
                      <a:pt x="1716" y="942"/>
                    </a:lnTo>
                    <a:lnTo>
                      <a:pt x="1695" y="949"/>
                    </a:lnTo>
                    <a:lnTo>
                      <a:pt x="1678" y="961"/>
                    </a:lnTo>
                    <a:lnTo>
                      <a:pt x="1693" y="982"/>
                    </a:lnTo>
                    <a:lnTo>
                      <a:pt x="1684" y="1006"/>
                    </a:lnTo>
                    <a:lnTo>
                      <a:pt x="1653" y="1012"/>
                    </a:lnTo>
                    <a:lnTo>
                      <a:pt x="1627" y="1012"/>
                    </a:lnTo>
                    <a:lnTo>
                      <a:pt x="1600" y="1032"/>
                    </a:lnTo>
                    <a:lnTo>
                      <a:pt x="1594" y="1057"/>
                    </a:lnTo>
                    <a:lnTo>
                      <a:pt x="1612" y="1077"/>
                    </a:lnTo>
                    <a:lnTo>
                      <a:pt x="1639" y="1074"/>
                    </a:lnTo>
                    <a:lnTo>
                      <a:pt x="1660" y="1096"/>
                    </a:lnTo>
                    <a:lnTo>
                      <a:pt x="1687" y="1101"/>
                    </a:lnTo>
                    <a:lnTo>
                      <a:pt x="1708" y="1114"/>
                    </a:lnTo>
                    <a:lnTo>
                      <a:pt x="1734" y="1123"/>
                    </a:lnTo>
                    <a:lnTo>
                      <a:pt x="1746" y="1140"/>
                    </a:lnTo>
                    <a:lnTo>
                      <a:pt x="1740" y="1162"/>
                    </a:lnTo>
                    <a:lnTo>
                      <a:pt x="1717" y="1167"/>
                    </a:lnTo>
                    <a:lnTo>
                      <a:pt x="1696" y="1174"/>
                    </a:lnTo>
                    <a:lnTo>
                      <a:pt x="1668" y="1171"/>
                    </a:lnTo>
                    <a:lnTo>
                      <a:pt x="1636" y="1176"/>
                    </a:lnTo>
                    <a:lnTo>
                      <a:pt x="1611" y="1183"/>
                    </a:lnTo>
                    <a:lnTo>
                      <a:pt x="1609" y="1209"/>
                    </a:lnTo>
                    <a:lnTo>
                      <a:pt x="1617" y="1236"/>
                    </a:lnTo>
                    <a:lnTo>
                      <a:pt x="1614" y="1260"/>
                    </a:lnTo>
                    <a:lnTo>
                      <a:pt x="1620" y="1282"/>
                    </a:lnTo>
                    <a:lnTo>
                      <a:pt x="1641" y="1281"/>
                    </a:lnTo>
                    <a:lnTo>
                      <a:pt x="1657" y="1266"/>
                    </a:lnTo>
                    <a:lnTo>
                      <a:pt x="1678" y="1266"/>
                    </a:lnTo>
                    <a:lnTo>
                      <a:pt x="1707" y="1264"/>
                    </a:lnTo>
                    <a:lnTo>
                      <a:pt x="1732" y="1266"/>
                    </a:lnTo>
                    <a:lnTo>
                      <a:pt x="1756" y="1282"/>
                    </a:lnTo>
                    <a:lnTo>
                      <a:pt x="1770" y="1305"/>
                    </a:lnTo>
                    <a:lnTo>
                      <a:pt x="1776" y="1323"/>
                    </a:lnTo>
                    <a:lnTo>
                      <a:pt x="1768" y="1342"/>
                    </a:lnTo>
                    <a:lnTo>
                      <a:pt x="1783" y="1371"/>
                    </a:lnTo>
                    <a:lnTo>
                      <a:pt x="1816" y="1365"/>
                    </a:lnTo>
                    <a:lnTo>
                      <a:pt x="1842" y="1366"/>
                    </a:lnTo>
                    <a:lnTo>
                      <a:pt x="1875" y="1366"/>
                    </a:lnTo>
                    <a:lnTo>
                      <a:pt x="1902" y="1368"/>
                    </a:lnTo>
                    <a:lnTo>
                      <a:pt x="1930" y="1372"/>
                    </a:lnTo>
                    <a:lnTo>
                      <a:pt x="1953" y="1377"/>
                    </a:lnTo>
                    <a:lnTo>
                      <a:pt x="1987" y="1383"/>
                    </a:lnTo>
                    <a:lnTo>
                      <a:pt x="2008" y="1381"/>
                    </a:lnTo>
                    <a:lnTo>
                      <a:pt x="2023" y="1395"/>
                    </a:lnTo>
                    <a:lnTo>
                      <a:pt x="2035" y="1413"/>
                    </a:lnTo>
                    <a:lnTo>
                      <a:pt x="2041" y="1429"/>
                    </a:lnTo>
                    <a:lnTo>
                      <a:pt x="2041" y="1450"/>
                    </a:lnTo>
                    <a:lnTo>
                      <a:pt x="2047" y="1468"/>
                    </a:lnTo>
                    <a:lnTo>
                      <a:pt x="2064" y="1483"/>
                    </a:lnTo>
                    <a:lnTo>
                      <a:pt x="2073" y="1506"/>
                    </a:lnTo>
                    <a:lnTo>
                      <a:pt x="2080" y="1522"/>
                    </a:lnTo>
                    <a:lnTo>
                      <a:pt x="2095" y="1533"/>
                    </a:lnTo>
                    <a:lnTo>
                      <a:pt x="2116" y="1542"/>
                    </a:lnTo>
                    <a:lnTo>
                      <a:pt x="2139" y="1531"/>
                    </a:lnTo>
                    <a:lnTo>
                      <a:pt x="2149" y="1509"/>
                    </a:lnTo>
                    <a:lnTo>
                      <a:pt x="2172" y="1480"/>
                    </a:lnTo>
                    <a:lnTo>
                      <a:pt x="2181" y="1449"/>
                    </a:lnTo>
                    <a:lnTo>
                      <a:pt x="2193" y="1417"/>
                    </a:lnTo>
                    <a:lnTo>
                      <a:pt x="2202" y="1395"/>
                    </a:lnTo>
                    <a:lnTo>
                      <a:pt x="2215" y="1378"/>
                    </a:lnTo>
                    <a:lnTo>
                      <a:pt x="2223" y="1360"/>
                    </a:lnTo>
                    <a:lnTo>
                      <a:pt x="2244" y="1353"/>
                    </a:lnTo>
                    <a:lnTo>
                      <a:pt x="2268" y="1350"/>
                    </a:lnTo>
                    <a:lnTo>
                      <a:pt x="2287" y="1332"/>
                    </a:lnTo>
                    <a:lnTo>
                      <a:pt x="2304" y="1317"/>
                    </a:lnTo>
                    <a:lnTo>
                      <a:pt x="2323" y="1314"/>
                    </a:lnTo>
                    <a:lnTo>
                      <a:pt x="2346" y="1326"/>
                    </a:lnTo>
                    <a:lnTo>
                      <a:pt x="2359" y="1342"/>
                    </a:lnTo>
                    <a:lnTo>
                      <a:pt x="2370" y="1359"/>
                    </a:lnTo>
                    <a:lnTo>
                      <a:pt x="2394" y="1372"/>
                    </a:lnTo>
                    <a:lnTo>
                      <a:pt x="2416" y="1395"/>
                    </a:lnTo>
                    <a:lnTo>
                      <a:pt x="2436" y="1404"/>
                    </a:lnTo>
                    <a:lnTo>
                      <a:pt x="2455" y="1398"/>
                    </a:lnTo>
                    <a:lnTo>
                      <a:pt x="2482" y="1407"/>
                    </a:lnTo>
                    <a:lnTo>
                      <a:pt x="2497" y="1416"/>
                    </a:lnTo>
                    <a:lnTo>
                      <a:pt x="2514" y="1429"/>
                    </a:lnTo>
                    <a:lnTo>
                      <a:pt x="2524" y="1453"/>
                    </a:lnTo>
                    <a:lnTo>
                      <a:pt x="2521" y="1476"/>
                    </a:lnTo>
                    <a:lnTo>
                      <a:pt x="2505" y="1489"/>
                    </a:lnTo>
                    <a:lnTo>
                      <a:pt x="2473" y="1488"/>
                    </a:lnTo>
                    <a:lnTo>
                      <a:pt x="2452" y="1473"/>
                    </a:lnTo>
                    <a:lnTo>
                      <a:pt x="2431" y="1461"/>
                    </a:lnTo>
                    <a:lnTo>
                      <a:pt x="2407" y="1462"/>
                    </a:lnTo>
                    <a:lnTo>
                      <a:pt x="2391" y="1474"/>
                    </a:lnTo>
                    <a:lnTo>
                      <a:pt x="2395" y="1497"/>
                    </a:lnTo>
                    <a:lnTo>
                      <a:pt x="2386" y="1519"/>
                    </a:lnTo>
                    <a:lnTo>
                      <a:pt x="2367" y="1530"/>
                    </a:lnTo>
                    <a:lnTo>
                      <a:pt x="2343" y="1525"/>
                    </a:lnTo>
                    <a:lnTo>
                      <a:pt x="2322" y="1536"/>
                    </a:lnTo>
                    <a:lnTo>
                      <a:pt x="2338" y="1557"/>
                    </a:lnTo>
                    <a:lnTo>
                      <a:pt x="2355" y="1570"/>
                    </a:lnTo>
                    <a:lnTo>
                      <a:pt x="2352" y="1599"/>
                    </a:lnTo>
                    <a:lnTo>
                      <a:pt x="2367" y="1617"/>
                    </a:lnTo>
                    <a:lnTo>
                      <a:pt x="2367" y="1644"/>
                    </a:lnTo>
                    <a:lnTo>
                      <a:pt x="2386" y="1654"/>
                    </a:lnTo>
                    <a:lnTo>
                      <a:pt x="2400" y="1677"/>
                    </a:lnTo>
                    <a:lnTo>
                      <a:pt x="2419" y="1686"/>
                    </a:lnTo>
                    <a:lnTo>
                      <a:pt x="2445" y="1689"/>
                    </a:lnTo>
                    <a:lnTo>
                      <a:pt x="2470" y="1693"/>
                    </a:lnTo>
                    <a:lnTo>
                      <a:pt x="2479" y="1714"/>
                    </a:lnTo>
                    <a:lnTo>
                      <a:pt x="2473" y="1749"/>
                    </a:lnTo>
                    <a:lnTo>
                      <a:pt x="2454" y="1756"/>
                    </a:lnTo>
                    <a:lnTo>
                      <a:pt x="2448" y="1771"/>
                    </a:lnTo>
                    <a:lnTo>
                      <a:pt x="2460" y="1779"/>
                    </a:lnTo>
                    <a:lnTo>
                      <a:pt x="2437" y="1792"/>
                    </a:lnTo>
                    <a:lnTo>
                      <a:pt x="2431" y="1818"/>
                    </a:lnTo>
                    <a:lnTo>
                      <a:pt x="2436" y="1837"/>
                    </a:lnTo>
                    <a:lnTo>
                      <a:pt x="2437" y="1860"/>
                    </a:lnTo>
                    <a:lnTo>
                      <a:pt x="2440" y="1882"/>
                    </a:lnTo>
                    <a:lnTo>
                      <a:pt x="2416" y="1893"/>
                    </a:lnTo>
                    <a:lnTo>
                      <a:pt x="2391" y="1894"/>
                    </a:lnTo>
                    <a:lnTo>
                      <a:pt x="2373" y="1891"/>
                    </a:lnTo>
                    <a:lnTo>
                      <a:pt x="2352" y="1890"/>
                    </a:lnTo>
                    <a:lnTo>
                      <a:pt x="2343" y="1908"/>
                    </a:lnTo>
                    <a:lnTo>
                      <a:pt x="2326" y="1927"/>
                    </a:lnTo>
                    <a:lnTo>
                      <a:pt x="2307" y="1933"/>
                    </a:lnTo>
                    <a:lnTo>
                      <a:pt x="2289" y="1947"/>
                    </a:lnTo>
                    <a:lnTo>
                      <a:pt x="2269" y="1951"/>
                    </a:lnTo>
                    <a:lnTo>
                      <a:pt x="2260" y="1971"/>
                    </a:lnTo>
                    <a:lnTo>
                      <a:pt x="2262" y="1993"/>
                    </a:lnTo>
                    <a:lnTo>
                      <a:pt x="2256" y="2008"/>
                    </a:lnTo>
                    <a:lnTo>
                      <a:pt x="2259" y="2029"/>
                    </a:lnTo>
                    <a:lnTo>
                      <a:pt x="2268" y="2044"/>
                    </a:lnTo>
                    <a:lnTo>
                      <a:pt x="2283" y="2059"/>
                    </a:lnTo>
                    <a:lnTo>
                      <a:pt x="2274" y="2083"/>
                    </a:lnTo>
                    <a:lnTo>
                      <a:pt x="2263" y="2101"/>
                    </a:lnTo>
                    <a:lnTo>
                      <a:pt x="2274" y="2119"/>
                    </a:lnTo>
                    <a:lnTo>
                      <a:pt x="2283" y="2130"/>
                    </a:lnTo>
                    <a:lnTo>
                      <a:pt x="2298" y="2146"/>
                    </a:lnTo>
                    <a:lnTo>
                      <a:pt x="2295" y="2167"/>
                    </a:lnTo>
                    <a:lnTo>
                      <a:pt x="2296" y="2193"/>
                    </a:lnTo>
                    <a:lnTo>
                      <a:pt x="2310" y="2211"/>
                    </a:lnTo>
                    <a:lnTo>
                      <a:pt x="2326" y="2223"/>
                    </a:lnTo>
                    <a:lnTo>
                      <a:pt x="2347" y="2236"/>
                    </a:lnTo>
                    <a:lnTo>
                      <a:pt x="2361" y="2253"/>
                    </a:lnTo>
                    <a:lnTo>
                      <a:pt x="2355" y="2278"/>
                    </a:lnTo>
                    <a:lnTo>
                      <a:pt x="2358" y="2302"/>
                    </a:lnTo>
                    <a:lnTo>
                      <a:pt x="2356" y="2326"/>
                    </a:lnTo>
                    <a:lnTo>
                      <a:pt x="2371" y="2340"/>
                    </a:lnTo>
                    <a:lnTo>
                      <a:pt x="2368" y="2362"/>
                    </a:lnTo>
                    <a:lnTo>
                      <a:pt x="2380" y="2394"/>
                    </a:lnTo>
                    <a:lnTo>
                      <a:pt x="2401" y="2412"/>
                    </a:lnTo>
                    <a:lnTo>
                      <a:pt x="2422" y="2415"/>
                    </a:lnTo>
                    <a:lnTo>
                      <a:pt x="2428" y="2434"/>
                    </a:lnTo>
                    <a:lnTo>
                      <a:pt x="2440" y="2445"/>
                    </a:lnTo>
                    <a:lnTo>
                      <a:pt x="2455" y="2437"/>
                    </a:lnTo>
                    <a:lnTo>
                      <a:pt x="2473" y="2436"/>
                    </a:lnTo>
                    <a:lnTo>
                      <a:pt x="2476" y="2457"/>
                    </a:lnTo>
                    <a:lnTo>
                      <a:pt x="2487" y="2473"/>
                    </a:lnTo>
                    <a:lnTo>
                      <a:pt x="2512" y="2472"/>
                    </a:lnTo>
                    <a:lnTo>
                      <a:pt x="2532" y="2479"/>
                    </a:lnTo>
                    <a:lnTo>
                      <a:pt x="2542" y="2502"/>
                    </a:lnTo>
                    <a:lnTo>
                      <a:pt x="2571" y="2517"/>
                    </a:lnTo>
                    <a:lnTo>
                      <a:pt x="2590" y="2527"/>
                    </a:lnTo>
                    <a:lnTo>
                      <a:pt x="2590" y="2550"/>
                    </a:lnTo>
                    <a:lnTo>
                      <a:pt x="2592" y="2574"/>
                    </a:lnTo>
                    <a:lnTo>
                      <a:pt x="2610" y="2575"/>
                    </a:lnTo>
                    <a:lnTo>
                      <a:pt x="2611" y="2596"/>
                    </a:lnTo>
                    <a:lnTo>
                      <a:pt x="2628" y="2613"/>
                    </a:lnTo>
                    <a:lnTo>
                      <a:pt x="2644" y="2629"/>
                    </a:lnTo>
                    <a:lnTo>
                      <a:pt x="2670" y="2631"/>
                    </a:lnTo>
                    <a:lnTo>
                      <a:pt x="2695" y="2635"/>
                    </a:lnTo>
                    <a:lnTo>
                      <a:pt x="2704" y="2646"/>
                    </a:lnTo>
                    <a:lnTo>
                      <a:pt x="2700" y="2671"/>
                    </a:lnTo>
                    <a:lnTo>
                      <a:pt x="2704" y="2698"/>
                    </a:lnTo>
                    <a:lnTo>
                      <a:pt x="2689" y="2718"/>
                    </a:lnTo>
                    <a:lnTo>
                      <a:pt x="2664" y="2733"/>
                    </a:lnTo>
                    <a:lnTo>
                      <a:pt x="2638" y="2757"/>
                    </a:lnTo>
                    <a:lnTo>
                      <a:pt x="2631" y="2784"/>
                    </a:lnTo>
                    <a:lnTo>
                      <a:pt x="2617" y="2803"/>
                    </a:lnTo>
                    <a:lnTo>
                      <a:pt x="2586" y="2820"/>
                    </a:lnTo>
                    <a:lnTo>
                      <a:pt x="2563" y="2832"/>
                    </a:lnTo>
                    <a:lnTo>
                      <a:pt x="2557" y="2862"/>
                    </a:lnTo>
                    <a:lnTo>
                      <a:pt x="2559" y="2892"/>
                    </a:lnTo>
                    <a:lnTo>
                      <a:pt x="2550" y="2913"/>
                    </a:lnTo>
                    <a:lnTo>
                      <a:pt x="2533" y="2920"/>
                    </a:lnTo>
                    <a:lnTo>
                      <a:pt x="2515" y="2923"/>
                    </a:lnTo>
                    <a:lnTo>
                      <a:pt x="2497" y="2935"/>
                    </a:lnTo>
                    <a:lnTo>
                      <a:pt x="2479" y="2922"/>
                    </a:lnTo>
                    <a:lnTo>
                      <a:pt x="2460" y="2917"/>
                    </a:lnTo>
                    <a:lnTo>
                      <a:pt x="2442" y="2914"/>
                    </a:lnTo>
                    <a:lnTo>
                      <a:pt x="2424" y="2916"/>
                    </a:lnTo>
                    <a:lnTo>
                      <a:pt x="2422" y="2932"/>
                    </a:lnTo>
                    <a:lnTo>
                      <a:pt x="2407" y="2932"/>
                    </a:lnTo>
                    <a:lnTo>
                      <a:pt x="2392" y="2928"/>
                    </a:lnTo>
                    <a:lnTo>
                      <a:pt x="2386" y="2946"/>
                    </a:lnTo>
                    <a:lnTo>
                      <a:pt x="2373" y="2961"/>
                    </a:lnTo>
                    <a:lnTo>
                      <a:pt x="2352" y="2964"/>
                    </a:lnTo>
                    <a:lnTo>
                      <a:pt x="2335" y="2976"/>
                    </a:lnTo>
                    <a:lnTo>
                      <a:pt x="2338" y="2997"/>
                    </a:lnTo>
                    <a:lnTo>
                      <a:pt x="2355" y="3009"/>
                    </a:lnTo>
                    <a:lnTo>
                      <a:pt x="2364" y="3028"/>
                    </a:lnTo>
                    <a:lnTo>
                      <a:pt x="2379" y="3040"/>
                    </a:lnTo>
                    <a:lnTo>
                      <a:pt x="2376" y="3058"/>
                    </a:lnTo>
                    <a:lnTo>
                      <a:pt x="2367" y="3067"/>
                    </a:lnTo>
                    <a:lnTo>
                      <a:pt x="2359" y="3084"/>
                    </a:lnTo>
                    <a:lnTo>
                      <a:pt x="2362" y="3106"/>
                    </a:lnTo>
                    <a:lnTo>
                      <a:pt x="2347" y="3120"/>
                    </a:lnTo>
                    <a:lnTo>
                      <a:pt x="2359" y="3138"/>
                    </a:lnTo>
                    <a:lnTo>
                      <a:pt x="2344" y="3153"/>
                    </a:lnTo>
                    <a:lnTo>
                      <a:pt x="2347" y="3172"/>
                    </a:lnTo>
                    <a:lnTo>
                      <a:pt x="2337" y="3196"/>
                    </a:lnTo>
                    <a:lnTo>
                      <a:pt x="2361" y="3193"/>
                    </a:lnTo>
                    <a:lnTo>
                      <a:pt x="2376" y="3207"/>
                    </a:lnTo>
                    <a:lnTo>
                      <a:pt x="2376" y="3232"/>
                    </a:lnTo>
                    <a:lnTo>
                      <a:pt x="2394" y="3228"/>
                    </a:lnTo>
                    <a:lnTo>
                      <a:pt x="2412" y="3238"/>
                    </a:lnTo>
                    <a:lnTo>
                      <a:pt x="2421" y="3258"/>
                    </a:lnTo>
                    <a:lnTo>
                      <a:pt x="2416" y="3282"/>
                    </a:lnTo>
                    <a:lnTo>
                      <a:pt x="2406" y="3303"/>
                    </a:lnTo>
                    <a:lnTo>
                      <a:pt x="2410" y="3322"/>
                    </a:lnTo>
                    <a:lnTo>
                      <a:pt x="2397" y="3333"/>
                    </a:lnTo>
                    <a:lnTo>
                      <a:pt x="2382" y="3351"/>
                    </a:lnTo>
                    <a:lnTo>
                      <a:pt x="2379" y="3363"/>
                    </a:lnTo>
                    <a:lnTo>
                      <a:pt x="2361" y="3366"/>
                    </a:lnTo>
                    <a:lnTo>
                      <a:pt x="2364" y="3382"/>
                    </a:lnTo>
                    <a:lnTo>
                      <a:pt x="2353" y="3396"/>
                    </a:lnTo>
                    <a:lnTo>
                      <a:pt x="2350" y="3412"/>
                    </a:lnTo>
                    <a:lnTo>
                      <a:pt x="2326" y="3420"/>
                    </a:lnTo>
                    <a:lnTo>
                      <a:pt x="2299" y="3423"/>
                    </a:lnTo>
                    <a:lnTo>
                      <a:pt x="2269" y="3417"/>
                    </a:lnTo>
                    <a:lnTo>
                      <a:pt x="2251" y="3403"/>
                    </a:lnTo>
                    <a:lnTo>
                      <a:pt x="2254" y="3385"/>
                    </a:lnTo>
                    <a:lnTo>
                      <a:pt x="2245" y="3366"/>
                    </a:lnTo>
                    <a:lnTo>
                      <a:pt x="2224" y="3375"/>
                    </a:lnTo>
                    <a:lnTo>
                      <a:pt x="2208" y="3394"/>
                    </a:lnTo>
                    <a:lnTo>
                      <a:pt x="2188" y="3400"/>
                    </a:lnTo>
                    <a:lnTo>
                      <a:pt x="2164" y="3400"/>
                    </a:lnTo>
                    <a:lnTo>
                      <a:pt x="2157" y="3418"/>
                    </a:lnTo>
                    <a:lnTo>
                      <a:pt x="2142" y="3430"/>
                    </a:lnTo>
                    <a:lnTo>
                      <a:pt x="2121" y="3430"/>
                    </a:lnTo>
                    <a:lnTo>
                      <a:pt x="2098" y="3435"/>
                    </a:lnTo>
                    <a:lnTo>
                      <a:pt x="2076" y="3438"/>
                    </a:lnTo>
                    <a:lnTo>
                      <a:pt x="2056" y="3429"/>
                    </a:lnTo>
                    <a:lnTo>
                      <a:pt x="2031" y="3408"/>
                    </a:lnTo>
                    <a:lnTo>
                      <a:pt x="2010" y="3396"/>
                    </a:lnTo>
                    <a:lnTo>
                      <a:pt x="1992" y="3414"/>
                    </a:lnTo>
                    <a:lnTo>
                      <a:pt x="1990" y="3438"/>
                    </a:lnTo>
                    <a:lnTo>
                      <a:pt x="1962" y="3432"/>
                    </a:lnTo>
                    <a:lnTo>
                      <a:pt x="1933" y="3414"/>
                    </a:lnTo>
                    <a:lnTo>
                      <a:pt x="1924" y="3438"/>
                    </a:lnTo>
                    <a:lnTo>
                      <a:pt x="1909" y="3459"/>
                    </a:lnTo>
                    <a:lnTo>
                      <a:pt x="1884" y="3468"/>
                    </a:lnTo>
                    <a:lnTo>
                      <a:pt x="1855" y="3472"/>
                    </a:lnTo>
                    <a:lnTo>
                      <a:pt x="1846" y="3493"/>
                    </a:lnTo>
                    <a:lnTo>
                      <a:pt x="1825" y="3480"/>
                    </a:lnTo>
                    <a:lnTo>
                      <a:pt x="1803" y="3475"/>
                    </a:lnTo>
                    <a:lnTo>
                      <a:pt x="1777" y="3474"/>
                    </a:lnTo>
                    <a:lnTo>
                      <a:pt x="1759" y="3471"/>
                    </a:lnTo>
                    <a:lnTo>
                      <a:pt x="1741" y="3478"/>
                    </a:lnTo>
                    <a:lnTo>
                      <a:pt x="1726" y="3490"/>
                    </a:lnTo>
                    <a:lnTo>
                      <a:pt x="1711" y="3480"/>
                    </a:lnTo>
                    <a:lnTo>
                      <a:pt x="1714" y="3462"/>
                    </a:lnTo>
                    <a:lnTo>
                      <a:pt x="1693" y="3456"/>
                    </a:lnTo>
                    <a:lnTo>
                      <a:pt x="1675" y="3457"/>
                    </a:lnTo>
                    <a:lnTo>
                      <a:pt x="1663" y="3471"/>
                    </a:lnTo>
                    <a:lnTo>
                      <a:pt x="1663" y="3486"/>
                    </a:lnTo>
                    <a:lnTo>
                      <a:pt x="1662" y="3505"/>
                    </a:lnTo>
                    <a:lnTo>
                      <a:pt x="1653" y="3489"/>
                    </a:lnTo>
                    <a:lnTo>
                      <a:pt x="1632" y="3484"/>
                    </a:lnTo>
                    <a:lnTo>
                      <a:pt x="1618" y="3501"/>
                    </a:lnTo>
                    <a:lnTo>
                      <a:pt x="1596" y="3523"/>
                    </a:lnTo>
                    <a:lnTo>
                      <a:pt x="1584" y="3549"/>
                    </a:lnTo>
                    <a:lnTo>
                      <a:pt x="1581" y="3571"/>
                    </a:lnTo>
                    <a:lnTo>
                      <a:pt x="1578" y="3589"/>
                    </a:lnTo>
                    <a:lnTo>
                      <a:pt x="1591" y="3606"/>
                    </a:lnTo>
                    <a:lnTo>
                      <a:pt x="1570" y="3613"/>
                    </a:lnTo>
                    <a:lnTo>
                      <a:pt x="1551" y="3624"/>
                    </a:lnTo>
                    <a:lnTo>
                      <a:pt x="1525" y="3625"/>
                    </a:lnTo>
                    <a:lnTo>
                      <a:pt x="1513" y="3601"/>
                    </a:lnTo>
                    <a:lnTo>
                      <a:pt x="1512" y="3582"/>
                    </a:lnTo>
                    <a:lnTo>
                      <a:pt x="1501" y="3564"/>
                    </a:lnTo>
                    <a:lnTo>
                      <a:pt x="1486" y="3546"/>
                    </a:lnTo>
                    <a:lnTo>
                      <a:pt x="1468" y="3528"/>
                    </a:lnTo>
                    <a:lnTo>
                      <a:pt x="1441" y="3520"/>
                    </a:lnTo>
                    <a:lnTo>
                      <a:pt x="1423" y="3535"/>
                    </a:lnTo>
                    <a:lnTo>
                      <a:pt x="1398" y="3550"/>
                    </a:lnTo>
                    <a:lnTo>
                      <a:pt x="1386" y="3571"/>
                    </a:lnTo>
                    <a:lnTo>
                      <a:pt x="1363" y="3570"/>
                    </a:lnTo>
                    <a:lnTo>
                      <a:pt x="1344" y="3589"/>
                    </a:lnTo>
                    <a:lnTo>
                      <a:pt x="1318" y="3589"/>
                    </a:lnTo>
                    <a:lnTo>
                      <a:pt x="1302" y="3601"/>
                    </a:lnTo>
                    <a:lnTo>
                      <a:pt x="1288" y="3621"/>
                    </a:lnTo>
                    <a:lnTo>
                      <a:pt x="1267" y="3613"/>
                    </a:lnTo>
                    <a:lnTo>
                      <a:pt x="1255" y="3627"/>
                    </a:lnTo>
                    <a:lnTo>
                      <a:pt x="1228" y="3622"/>
                    </a:lnTo>
                    <a:lnTo>
                      <a:pt x="1222" y="3646"/>
                    </a:lnTo>
                    <a:lnTo>
                      <a:pt x="1204" y="3651"/>
                    </a:lnTo>
                    <a:lnTo>
                      <a:pt x="1210" y="3667"/>
                    </a:lnTo>
                    <a:lnTo>
                      <a:pt x="1200" y="3679"/>
                    </a:lnTo>
                    <a:lnTo>
                      <a:pt x="1197" y="3705"/>
                    </a:lnTo>
                    <a:lnTo>
                      <a:pt x="1198" y="3724"/>
                    </a:lnTo>
                    <a:lnTo>
                      <a:pt x="1210" y="3739"/>
                    </a:lnTo>
                    <a:lnTo>
                      <a:pt x="1200" y="3754"/>
                    </a:lnTo>
                    <a:lnTo>
                      <a:pt x="1216" y="3771"/>
                    </a:lnTo>
                    <a:lnTo>
                      <a:pt x="1206" y="3775"/>
                    </a:lnTo>
                    <a:lnTo>
                      <a:pt x="1200" y="3795"/>
                    </a:lnTo>
                    <a:lnTo>
                      <a:pt x="1212" y="3808"/>
                    </a:lnTo>
                    <a:lnTo>
                      <a:pt x="1200" y="3820"/>
                    </a:lnTo>
                    <a:lnTo>
                      <a:pt x="1180" y="3828"/>
                    </a:lnTo>
                    <a:lnTo>
                      <a:pt x="1165" y="3838"/>
                    </a:lnTo>
                    <a:lnTo>
                      <a:pt x="1150" y="3856"/>
                    </a:lnTo>
                    <a:lnTo>
                      <a:pt x="1128" y="3870"/>
                    </a:lnTo>
                    <a:lnTo>
                      <a:pt x="1110" y="3879"/>
                    </a:lnTo>
                    <a:lnTo>
                      <a:pt x="1084" y="3877"/>
                    </a:lnTo>
                    <a:lnTo>
                      <a:pt x="1077" y="3856"/>
                    </a:lnTo>
                    <a:lnTo>
                      <a:pt x="1081" y="3841"/>
                    </a:lnTo>
                    <a:lnTo>
                      <a:pt x="1074" y="3826"/>
                    </a:lnTo>
                    <a:lnTo>
                      <a:pt x="1083" y="3813"/>
                    </a:lnTo>
                    <a:lnTo>
                      <a:pt x="1101" y="3810"/>
                    </a:lnTo>
                    <a:lnTo>
                      <a:pt x="1089" y="3792"/>
                    </a:lnTo>
                    <a:lnTo>
                      <a:pt x="1095" y="3766"/>
                    </a:lnTo>
                    <a:lnTo>
                      <a:pt x="1111" y="3759"/>
                    </a:lnTo>
                    <a:lnTo>
                      <a:pt x="1120" y="3744"/>
                    </a:lnTo>
                    <a:lnTo>
                      <a:pt x="1116" y="3718"/>
                    </a:lnTo>
                    <a:lnTo>
                      <a:pt x="1104" y="3702"/>
                    </a:lnTo>
                    <a:lnTo>
                      <a:pt x="1105" y="3673"/>
                    </a:lnTo>
                    <a:lnTo>
                      <a:pt x="1090" y="3642"/>
                    </a:lnTo>
                    <a:lnTo>
                      <a:pt x="1077" y="3624"/>
                    </a:lnTo>
                    <a:lnTo>
                      <a:pt x="1080" y="3604"/>
                    </a:lnTo>
                    <a:lnTo>
                      <a:pt x="1078" y="3583"/>
                    </a:lnTo>
                    <a:lnTo>
                      <a:pt x="1065" y="3561"/>
                    </a:lnTo>
                    <a:lnTo>
                      <a:pt x="1050" y="3531"/>
                    </a:lnTo>
                    <a:lnTo>
                      <a:pt x="1050" y="3502"/>
                    </a:lnTo>
                    <a:lnTo>
                      <a:pt x="1038" y="3493"/>
                    </a:lnTo>
                    <a:lnTo>
                      <a:pt x="1033" y="3477"/>
                    </a:lnTo>
                    <a:lnTo>
                      <a:pt x="1018" y="3460"/>
                    </a:lnTo>
                    <a:lnTo>
                      <a:pt x="999" y="3448"/>
                    </a:lnTo>
                    <a:lnTo>
                      <a:pt x="975" y="3447"/>
                    </a:lnTo>
                    <a:lnTo>
                      <a:pt x="960" y="3426"/>
                    </a:lnTo>
                    <a:lnTo>
                      <a:pt x="934" y="3423"/>
                    </a:lnTo>
                    <a:lnTo>
                      <a:pt x="925" y="3403"/>
                    </a:lnTo>
                    <a:lnTo>
                      <a:pt x="901" y="3414"/>
                    </a:lnTo>
                    <a:lnTo>
                      <a:pt x="885" y="3414"/>
                    </a:lnTo>
                    <a:lnTo>
                      <a:pt x="865" y="3412"/>
                    </a:lnTo>
                    <a:lnTo>
                      <a:pt x="862" y="3391"/>
                    </a:lnTo>
                    <a:lnTo>
                      <a:pt x="864" y="3373"/>
                    </a:lnTo>
                    <a:lnTo>
                      <a:pt x="858" y="3352"/>
                    </a:lnTo>
                    <a:lnTo>
                      <a:pt x="844" y="3337"/>
                    </a:lnTo>
                    <a:lnTo>
                      <a:pt x="853" y="3327"/>
                    </a:lnTo>
                    <a:lnTo>
                      <a:pt x="835" y="3295"/>
                    </a:lnTo>
                    <a:lnTo>
                      <a:pt x="834" y="3268"/>
                    </a:lnTo>
                    <a:lnTo>
                      <a:pt x="814" y="3258"/>
                    </a:lnTo>
                    <a:lnTo>
                      <a:pt x="817" y="3235"/>
                    </a:lnTo>
                    <a:lnTo>
                      <a:pt x="790" y="3226"/>
                    </a:lnTo>
                    <a:lnTo>
                      <a:pt x="769" y="3232"/>
                    </a:lnTo>
                    <a:lnTo>
                      <a:pt x="769" y="3214"/>
                    </a:lnTo>
                    <a:lnTo>
                      <a:pt x="753" y="3193"/>
                    </a:lnTo>
                    <a:lnTo>
                      <a:pt x="762" y="3171"/>
                    </a:lnTo>
                    <a:lnTo>
                      <a:pt x="753" y="3154"/>
                    </a:lnTo>
                    <a:lnTo>
                      <a:pt x="762" y="3135"/>
                    </a:lnTo>
                    <a:lnTo>
                      <a:pt x="778" y="3112"/>
                    </a:lnTo>
                    <a:lnTo>
                      <a:pt x="766" y="3097"/>
                    </a:lnTo>
                    <a:lnTo>
                      <a:pt x="748" y="3084"/>
                    </a:lnTo>
                    <a:lnTo>
                      <a:pt x="736" y="3075"/>
                    </a:lnTo>
                    <a:lnTo>
                      <a:pt x="718" y="3043"/>
                    </a:lnTo>
                    <a:lnTo>
                      <a:pt x="724" y="3025"/>
                    </a:lnTo>
                    <a:lnTo>
                      <a:pt x="744" y="3007"/>
                    </a:lnTo>
                    <a:lnTo>
                      <a:pt x="765" y="3018"/>
                    </a:lnTo>
                    <a:lnTo>
                      <a:pt x="786" y="3030"/>
                    </a:lnTo>
                    <a:lnTo>
                      <a:pt x="811" y="3030"/>
                    </a:lnTo>
                    <a:lnTo>
                      <a:pt x="826" y="3042"/>
                    </a:lnTo>
                    <a:lnTo>
                      <a:pt x="855" y="3030"/>
                    </a:lnTo>
                    <a:lnTo>
                      <a:pt x="880" y="3022"/>
                    </a:lnTo>
                    <a:lnTo>
                      <a:pt x="871" y="2989"/>
                    </a:lnTo>
                    <a:lnTo>
                      <a:pt x="891" y="2976"/>
                    </a:lnTo>
                    <a:lnTo>
                      <a:pt x="901" y="2962"/>
                    </a:lnTo>
                    <a:lnTo>
                      <a:pt x="930" y="2962"/>
                    </a:lnTo>
                    <a:lnTo>
                      <a:pt x="945" y="2959"/>
                    </a:lnTo>
                    <a:lnTo>
                      <a:pt x="934" y="2938"/>
                    </a:lnTo>
                    <a:lnTo>
                      <a:pt x="940" y="2916"/>
                    </a:lnTo>
                    <a:lnTo>
                      <a:pt x="924" y="2896"/>
                    </a:lnTo>
                    <a:lnTo>
                      <a:pt x="901" y="2887"/>
                    </a:lnTo>
                    <a:lnTo>
                      <a:pt x="877" y="2881"/>
                    </a:lnTo>
                    <a:lnTo>
                      <a:pt x="852" y="2866"/>
                    </a:lnTo>
                    <a:lnTo>
                      <a:pt x="826" y="2850"/>
                    </a:lnTo>
                    <a:lnTo>
                      <a:pt x="802" y="2823"/>
                    </a:lnTo>
                    <a:lnTo>
                      <a:pt x="781" y="2844"/>
                    </a:lnTo>
                    <a:lnTo>
                      <a:pt x="756" y="2815"/>
                    </a:lnTo>
                    <a:lnTo>
                      <a:pt x="739" y="2790"/>
                    </a:lnTo>
                    <a:lnTo>
                      <a:pt x="717" y="2782"/>
                    </a:lnTo>
                    <a:lnTo>
                      <a:pt x="694" y="2760"/>
                    </a:lnTo>
                    <a:lnTo>
                      <a:pt x="696" y="2740"/>
                    </a:lnTo>
                    <a:lnTo>
                      <a:pt x="681" y="2710"/>
                    </a:lnTo>
                    <a:lnTo>
                      <a:pt x="663" y="2724"/>
                    </a:lnTo>
                    <a:lnTo>
                      <a:pt x="646" y="2742"/>
                    </a:lnTo>
                    <a:lnTo>
                      <a:pt x="637" y="2731"/>
                    </a:lnTo>
                    <a:lnTo>
                      <a:pt x="625" y="2710"/>
                    </a:lnTo>
                    <a:lnTo>
                      <a:pt x="610" y="2722"/>
                    </a:lnTo>
                    <a:lnTo>
                      <a:pt x="592" y="2724"/>
                    </a:lnTo>
                    <a:lnTo>
                      <a:pt x="586" y="2698"/>
                    </a:lnTo>
                    <a:lnTo>
                      <a:pt x="558" y="2697"/>
                    </a:lnTo>
                    <a:lnTo>
                      <a:pt x="556" y="2671"/>
                    </a:lnTo>
                    <a:lnTo>
                      <a:pt x="531" y="2671"/>
                    </a:lnTo>
                    <a:lnTo>
                      <a:pt x="513" y="2655"/>
                    </a:lnTo>
                    <a:lnTo>
                      <a:pt x="490" y="2652"/>
                    </a:lnTo>
                    <a:lnTo>
                      <a:pt x="477" y="2646"/>
                    </a:lnTo>
                    <a:lnTo>
                      <a:pt x="457" y="2632"/>
                    </a:lnTo>
                    <a:lnTo>
                      <a:pt x="454" y="2604"/>
                    </a:lnTo>
                    <a:lnTo>
                      <a:pt x="433" y="2599"/>
                    </a:lnTo>
                    <a:lnTo>
                      <a:pt x="405" y="2596"/>
                    </a:lnTo>
                    <a:lnTo>
                      <a:pt x="396" y="2577"/>
                    </a:lnTo>
                    <a:lnTo>
                      <a:pt x="399" y="2553"/>
                    </a:lnTo>
                    <a:lnTo>
                      <a:pt x="393" y="2526"/>
                    </a:lnTo>
                    <a:lnTo>
                      <a:pt x="370" y="2524"/>
                    </a:lnTo>
                    <a:lnTo>
                      <a:pt x="351" y="2509"/>
                    </a:lnTo>
                    <a:lnTo>
                      <a:pt x="345" y="2487"/>
                    </a:lnTo>
                    <a:lnTo>
                      <a:pt x="345" y="2466"/>
                    </a:lnTo>
                    <a:lnTo>
                      <a:pt x="330" y="2458"/>
                    </a:lnTo>
                    <a:lnTo>
                      <a:pt x="304" y="2452"/>
                    </a:lnTo>
                    <a:lnTo>
                      <a:pt x="286" y="2436"/>
                    </a:lnTo>
                    <a:lnTo>
                      <a:pt x="264" y="2430"/>
                    </a:lnTo>
                    <a:lnTo>
                      <a:pt x="258" y="2415"/>
                    </a:lnTo>
                    <a:lnTo>
                      <a:pt x="231" y="2409"/>
                    </a:lnTo>
                    <a:lnTo>
                      <a:pt x="205" y="2388"/>
                    </a:lnTo>
                    <a:lnTo>
                      <a:pt x="193" y="2364"/>
                    </a:lnTo>
                    <a:lnTo>
                      <a:pt x="198" y="2344"/>
                    </a:lnTo>
                    <a:lnTo>
                      <a:pt x="219" y="2340"/>
                    </a:lnTo>
                    <a:lnTo>
                      <a:pt x="214" y="2320"/>
                    </a:lnTo>
                    <a:lnTo>
                      <a:pt x="217" y="2305"/>
                    </a:lnTo>
                    <a:lnTo>
                      <a:pt x="214" y="2292"/>
                    </a:lnTo>
                    <a:lnTo>
                      <a:pt x="219" y="2278"/>
                    </a:lnTo>
                    <a:lnTo>
                      <a:pt x="235" y="2275"/>
                    </a:lnTo>
                    <a:lnTo>
                      <a:pt x="250" y="2278"/>
                    </a:lnTo>
                    <a:lnTo>
                      <a:pt x="265" y="2289"/>
                    </a:lnTo>
                    <a:lnTo>
                      <a:pt x="283" y="2281"/>
                    </a:lnTo>
                    <a:lnTo>
                      <a:pt x="297" y="2266"/>
                    </a:lnTo>
                    <a:lnTo>
                      <a:pt x="306" y="2280"/>
                    </a:lnTo>
                    <a:lnTo>
                      <a:pt x="304" y="2298"/>
                    </a:lnTo>
                    <a:lnTo>
                      <a:pt x="319" y="2307"/>
                    </a:lnTo>
                    <a:lnTo>
                      <a:pt x="340" y="2295"/>
                    </a:lnTo>
                    <a:lnTo>
                      <a:pt x="363" y="2301"/>
                    </a:lnTo>
                    <a:lnTo>
                      <a:pt x="384" y="2301"/>
                    </a:lnTo>
                    <a:lnTo>
                      <a:pt x="388" y="2283"/>
                    </a:lnTo>
                    <a:lnTo>
                      <a:pt x="376" y="2272"/>
                    </a:lnTo>
                    <a:lnTo>
                      <a:pt x="373" y="2253"/>
                    </a:lnTo>
                    <a:lnTo>
                      <a:pt x="384" y="2235"/>
                    </a:lnTo>
                    <a:lnTo>
                      <a:pt x="396" y="2235"/>
                    </a:lnTo>
                    <a:lnTo>
                      <a:pt x="408" y="2232"/>
                    </a:lnTo>
                    <a:lnTo>
                      <a:pt x="406" y="2215"/>
                    </a:lnTo>
                    <a:lnTo>
                      <a:pt x="400" y="2194"/>
                    </a:lnTo>
                    <a:lnTo>
                      <a:pt x="381" y="2176"/>
                    </a:lnTo>
                    <a:lnTo>
                      <a:pt x="372" y="2152"/>
                    </a:lnTo>
                    <a:lnTo>
                      <a:pt x="348" y="2131"/>
                    </a:lnTo>
                    <a:lnTo>
                      <a:pt x="340" y="2107"/>
                    </a:lnTo>
                    <a:lnTo>
                      <a:pt x="318" y="2106"/>
                    </a:lnTo>
                    <a:lnTo>
                      <a:pt x="304" y="2079"/>
                    </a:lnTo>
                    <a:lnTo>
                      <a:pt x="283" y="2059"/>
                    </a:lnTo>
                    <a:lnTo>
                      <a:pt x="273" y="2032"/>
                    </a:lnTo>
                    <a:lnTo>
                      <a:pt x="256" y="2007"/>
                    </a:lnTo>
                    <a:lnTo>
                      <a:pt x="240" y="1990"/>
                    </a:lnTo>
                    <a:lnTo>
                      <a:pt x="226" y="1966"/>
                    </a:lnTo>
                    <a:lnTo>
                      <a:pt x="217" y="1950"/>
                    </a:lnTo>
                    <a:lnTo>
                      <a:pt x="210" y="1932"/>
                    </a:lnTo>
                    <a:lnTo>
                      <a:pt x="216" y="1909"/>
                    </a:lnTo>
                    <a:lnTo>
                      <a:pt x="240" y="1920"/>
                    </a:lnTo>
                    <a:lnTo>
                      <a:pt x="264" y="1923"/>
                    </a:lnTo>
                    <a:lnTo>
                      <a:pt x="283" y="1936"/>
                    </a:lnTo>
                    <a:lnTo>
                      <a:pt x="303" y="1953"/>
                    </a:lnTo>
                    <a:lnTo>
                      <a:pt x="328" y="1962"/>
                    </a:lnTo>
                    <a:lnTo>
                      <a:pt x="358" y="1963"/>
                    </a:lnTo>
                    <a:lnTo>
                      <a:pt x="390" y="1965"/>
                    </a:lnTo>
                    <a:lnTo>
                      <a:pt x="414" y="1962"/>
                    </a:lnTo>
                    <a:lnTo>
                      <a:pt x="436" y="1947"/>
                    </a:lnTo>
                    <a:lnTo>
                      <a:pt x="433" y="1929"/>
                    </a:lnTo>
                    <a:lnTo>
                      <a:pt x="459" y="1923"/>
                    </a:lnTo>
                    <a:lnTo>
                      <a:pt x="474" y="1906"/>
                    </a:lnTo>
                    <a:lnTo>
                      <a:pt x="471" y="1884"/>
                    </a:lnTo>
                    <a:lnTo>
                      <a:pt x="456" y="1873"/>
                    </a:lnTo>
                    <a:lnTo>
                      <a:pt x="448" y="1884"/>
                    </a:lnTo>
                    <a:lnTo>
                      <a:pt x="433" y="1887"/>
                    </a:lnTo>
                    <a:lnTo>
                      <a:pt x="420" y="1869"/>
                    </a:lnTo>
                    <a:lnTo>
                      <a:pt x="397" y="1857"/>
                    </a:lnTo>
                    <a:lnTo>
                      <a:pt x="382" y="1837"/>
                    </a:lnTo>
                    <a:lnTo>
                      <a:pt x="372" y="1816"/>
                    </a:lnTo>
                    <a:lnTo>
                      <a:pt x="376" y="1798"/>
                    </a:lnTo>
                    <a:lnTo>
                      <a:pt x="349" y="1813"/>
                    </a:lnTo>
                    <a:lnTo>
                      <a:pt x="339" y="1800"/>
                    </a:lnTo>
                    <a:lnTo>
                      <a:pt x="328" y="1776"/>
                    </a:lnTo>
                    <a:lnTo>
                      <a:pt x="301" y="1759"/>
                    </a:lnTo>
                    <a:lnTo>
                      <a:pt x="291" y="1740"/>
                    </a:lnTo>
                    <a:lnTo>
                      <a:pt x="298" y="1720"/>
                    </a:lnTo>
                    <a:lnTo>
                      <a:pt x="285" y="1708"/>
                    </a:lnTo>
                    <a:lnTo>
                      <a:pt x="282" y="1687"/>
                    </a:lnTo>
                    <a:lnTo>
                      <a:pt x="264" y="1689"/>
                    </a:lnTo>
                    <a:lnTo>
                      <a:pt x="249" y="1681"/>
                    </a:lnTo>
                    <a:lnTo>
                      <a:pt x="234" y="1698"/>
                    </a:lnTo>
                    <a:lnTo>
                      <a:pt x="216" y="1687"/>
                    </a:lnTo>
                    <a:lnTo>
                      <a:pt x="205" y="1666"/>
                    </a:lnTo>
                    <a:lnTo>
                      <a:pt x="186" y="1677"/>
                    </a:lnTo>
                    <a:lnTo>
                      <a:pt x="174" y="1663"/>
                    </a:lnTo>
                    <a:lnTo>
                      <a:pt x="160" y="1651"/>
                    </a:lnTo>
                    <a:lnTo>
                      <a:pt x="159" y="1632"/>
                    </a:lnTo>
                    <a:lnTo>
                      <a:pt x="153" y="1620"/>
                    </a:lnTo>
                    <a:lnTo>
                      <a:pt x="144" y="1603"/>
                    </a:lnTo>
                    <a:lnTo>
                      <a:pt x="136" y="1579"/>
                    </a:lnTo>
                    <a:lnTo>
                      <a:pt x="159" y="1567"/>
                    </a:lnTo>
                    <a:lnTo>
                      <a:pt x="174" y="1552"/>
                    </a:lnTo>
                    <a:lnTo>
                      <a:pt x="162" y="1519"/>
                    </a:lnTo>
                    <a:lnTo>
                      <a:pt x="165" y="1500"/>
                    </a:lnTo>
                    <a:lnTo>
                      <a:pt x="160" y="1480"/>
                    </a:lnTo>
                    <a:lnTo>
                      <a:pt x="168" y="1462"/>
                    </a:lnTo>
                    <a:lnTo>
                      <a:pt x="195" y="1462"/>
                    </a:lnTo>
                    <a:lnTo>
                      <a:pt x="202" y="1435"/>
                    </a:lnTo>
                    <a:lnTo>
                      <a:pt x="201" y="1411"/>
                    </a:lnTo>
                    <a:lnTo>
                      <a:pt x="219" y="1393"/>
                    </a:lnTo>
                    <a:lnTo>
                      <a:pt x="219" y="1377"/>
                    </a:lnTo>
                    <a:lnTo>
                      <a:pt x="250" y="1363"/>
                    </a:lnTo>
                    <a:lnTo>
                      <a:pt x="246" y="1342"/>
                    </a:lnTo>
                    <a:lnTo>
                      <a:pt x="265" y="1330"/>
                    </a:lnTo>
                    <a:lnTo>
                      <a:pt x="285" y="1302"/>
                    </a:lnTo>
                    <a:lnTo>
                      <a:pt x="280" y="1276"/>
                    </a:lnTo>
                    <a:lnTo>
                      <a:pt x="294" y="1270"/>
                    </a:lnTo>
                    <a:lnTo>
                      <a:pt x="292" y="1254"/>
                    </a:lnTo>
                    <a:lnTo>
                      <a:pt x="276" y="1231"/>
                    </a:lnTo>
                    <a:lnTo>
                      <a:pt x="289" y="1213"/>
                    </a:lnTo>
                    <a:lnTo>
                      <a:pt x="295" y="1198"/>
                    </a:lnTo>
                    <a:lnTo>
                      <a:pt x="321" y="1194"/>
                    </a:lnTo>
                    <a:lnTo>
                      <a:pt x="310" y="1174"/>
                    </a:lnTo>
                    <a:lnTo>
                      <a:pt x="325" y="1158"/>
                    </a:lnTo>
                    <a:lnTo>
                      <a:pt x="309" y="1138"/>
                    </a:lnTo>
                    <a:lnTo>
                      <a:pt x="279" y="1119"/>
                    </a:lnTo>
                    <a:lnTo>
                      <a:pt x="249" y="1120"/>
                    </a:lnTo>
                    <a:lnTo>
                      <a:pt x="228" y="1137"/>
                    </a:lnTo>
                    <a:lnTo>
                      <a:pt x="217" y="1123"/>
                    </a:lnTo>
                    <a:lnTo>
                      <a:pt x="202" y="1104"/>
                    </a:lnTo>
                    <a:lnTo>
                      <a:pt x="189" y="1119"/>
                    </a:lnTo>
                    <a:lnTo>
                      <a:pt x="169" y="1129"/>
                    </a:lnTo>
                    <a:lnTo>
                      <a:pt x="142" y="1140"/>
                    </a:lnTo>
                    <a:lnTo>
                      <a:pt x="124" y="1158"/>
                    </a:lnTo>
                    <a:lnTo>
                      <a:pt x="94" y="1167"/>
                    </a:lnTo>
                    <a:lnTo>
                      <a:pt x="148" y="1141"/>
                    </a:lnTo>
                    <a:lnTo>
                      <a:pt x="199" y="1110"/>
                    </a:lnTo>
                    <a:lnTo>
                      <a:pt x="180" y="1125"/>
                    </a:lnTo>
                    <a:lnTo>
                      <a:pt x="157" y="1137"/>
                    </a:lnTo>
                    <a:lnTo>
                      <a:pt x="141" y="1147"/>
                    </a:lnTo>
                    <a:lnTo>
                      <a:pt x="133" y="1152"/>
                    </a:lnTo>
                    <a:lnTo>
                      <a:pt x="114" y="1161"/>
                    </a:lnTo>
                    <a:lnTo>
                      <a:pt x="105" y="1162"/>
                    </a:lnTo>
                    <a:lnTo>
                      <a:pt x="91" y="1159"/>
                    </a:lnTo>
                    <a:lnTo>
                      <a:pt x="90" y="1153"/>
                    </a:lnTo>
                    <a:lnTo>
                      <a:pt x="87" y="1143"/>
                    </a:lnTo>
                    <a:lnTo>
                      <a:pt x="81" y="1129"/>
                    </a:lnTo>
                    <a:lnTo>
                      <a:pt x="76" y="1114"/>
                    </a:lnTo>
                    <a:lnTo>
                      <a:pt x="91" y="1110"/>
                    </a:lnTo>
                    <a:lnTo>
                      <a:pt x="109" y="1108"/>
                    </a:lnTo>
                    <a:lnTo>
                      <a:pt x="121" y="1113"/>
                    </a:lnTo>
                    <a:lnTo>
                      <a:pt x="142" y="1119"/>
                    </a:lnTo>
                    <a:lnTo>
                      <a:pt x="142" y="1108"/>
                    </a:lnTo>
                    <a:lnTo>
                      <a:pt x="162" y="1098"/>
                    </a:lnTo>
                    <a:lnTo>
                      <a:pt x="187" y="1092"/>
                    </a:lnTo>
                    <a:lnTo>
                      <a:pt x="184" y="1071"/>
                    </a:lnTo>
                    <a:lnTo>
                      <a:pt x="171" y="1053"/>
                    </a:lnTo>
                    <a:lnTo>
                      <a:pt x="151" y="1063"/>
                    </a:lnTo>
                    <a:lnTo>
                      <a:pt x="127" y="1057"/>
                    </a:lnTo>
                    <a:lnTo>
                      <a:pt x="147" y="1044"/>
                    </a:lnTo>
                    <a:lnTo>
                      <a:pt x="157" y="1026"/>
                    </a:lnTo>
                    <a:lnTo>
                      <a:pt x="159" y="1002"/>
                    </a:lnTo>
                    <a:lnTo>
                      <a:pt x="159" y="970"/>
                    </a:lnTo>
                    <a:lnTo>
                      <a:pt x="150" y="948"/>
                    </a:lnTo>
                    <a:lnTo>
                      <a:pt x="142" y="931"/>
                    </a:lnTo>
                    <a:lnTo>
                      <a:pt x="145" y="912"/>
                    </a:lnTo>
                    <a:lnTo>
                      <a:pt x="175" y="919"/>
                    </a:lnTo>
                    <a:lnTo>
                      <a:pt x="196" y="910"/>
                    </a:lnTo>
                    <a:lnTo>
                      <a:pt x="205" y="895"/>
                    </a:lnTo>
                    <a:lnTo>
                      <a:pt x="204" y="874"/>
                    </a:lnTo>
                    <a:lnTo>
                      <a:pt x="207" y="858"/>
                    </a:lnTo>
                    <a:lnTo>
                      <a:pt x="226" y="874"/>
                    </a:lnTo>
                    <a:lnTo>
                      <a:pt x="244" y="886"/>
                    </a:lnTo>
                    <a:lnTo>
                      <a:pt x="268" y="892"/>
                    </a:lnTo>
                    <a:lnTo>
                      <a:pt x="274" y="874"/>
                    </a:lnTo>
                    <a:lnTo>
                      <a:pt x="282" y="853"/>
                    </a:lnTo>
                    <a:lnTo>
                      <a:pt x="304" y="859"/>
                    </a:lnTo>
                    <a:lnTo>
                      <a:pt x="307" y="883"/>
                    </a:lnTo>
                    <a:lnTo>
                      <a:pt x="321" y="900"/>
                    </a:lnTo>
                    <a:lnTo>
                      <a:pt x="345" y="898"/>
                    </a:lnTo>
                    <a:lnTo>
                      <a:pt x="370" y="895"/>
                    </a:lnTo>
                    <a:lnTo>
                      <a:pt x="381" y="874"/>
                    </a:lnTo>
                    <a:lnTo>
                      <a:pt x="376" y="855"/>
                    </a:lnTo>
                    <a:lnTo>
                      <a:pt x="358" y="838"/>
                    </a:lnTo>
                    <a:lnTo>
                      <a:pt x="331" y="840"/>
                    </a:lnTo>
                    <a:lnTo>
                      <a:pt x="303" y="838"/>
                    </a:lnTo>
                    <a:lnTo>
                      <a:pt x="273" y="835"/>
                    </a:lnTo>
                    <a:lnTo>
                      <a:pt x="250" y="823"/>
                    </a:lnTo>
                    <a:lnTo>
                      <a:pt x="229" y="810"/>
                    </a:lnTo>
                    <a:lnTo>
                      <a:pt x="204" y="802"/>
                    </a:lnTo>
                    <a:lnTo>
                      <a:pt x="192" y="795"/>
                    </a:lnTo>
                    <a:lnTo>
                      <a:pt x="171" y="783"/>
                    </a:lnTo>
                    <a:lnTo>
                      <a:pt x="159" y="762"/>
                    </a:lnTo>
                    <a:lnTo>
                      <a:pt x="147" y="735"/>
                    </a:lnTo>
                    <a:lnTo>
                      <a:pt x="117" y="729"/>
                    </a:lnTo>
                    <a:lnTo>
                      <a:pt x="96" y="723"/>
                    </a:lnTo>
                    <a:lnTo>
                      <a:pt x="79" y="702"/>
                    </a:lnTo>
                    <a:lnTo>
                      <a:pt x="84" y="678"/>
                    </a:lnTo>
                    <a:lnTo>
                      <a:pt x="111" y="678"/>
                    </a:lnTo>
                    <a:lnTo>
                      <a:pt x="120" y="663"/>
                    </a:lnTo>
                    <a:lnTo>
                      <a:pt x="97" y="649"/>
                    </a:lnTo>
                    <a:lnTo>
                      <a:pt x="99" y="621"/>
                    </a:lnTo>
                    <a:lnTo>
                      <a:pt x="105" y="600"/>
                    </a:lnTo>
                    <a:lnTo>
                      <a:pt x="132" y="609"/>
                    </a:lnTo>
                    <a:lnTo>
                      <a:pt x="151" y="607"/>
                    </a:lnTo>
                    <a:lnTo>
                      <a:pt x="168" y="595"/>
                    </a:lnTo>
                    <a:lnTo>
                      <a:pt x="165" y="571"/>
                    </a:lnTo>
                    <a:lnTo>
                      <a:pt x="142" y="567"/>
                    </a:lnTo>
                    <a:lnTo>
                      <a:pt x="127" y="552"/>
                    </a:lnTo>
                    <a:lnTo>
                      <a:pt x="94" y="561"/>
                    </a:lnTo>
                    <a:lnTo>
                      <a:pt x="60" y="562"/>
                    </a:lnTo>
                    <a:lnTo>
                      <a:pt x="34" y="550"/>
                    </a:lnTo>
                    <a:lnTo>
                      <a:pt x="21" y="532"/>
                    </a:lnTo>
                    <a:lnTo>
                      <a:pt x="24" y="514"/>
                    </a:lnTo>
                    <a:lnTo>
                      <a:pt x="22" y="496"/>
                    </a:lnTo>
                    <a:lnTo>
                      <a:pt x="39" y="486"/>
                    </a:lnTo>
                    <a:lnTo>
                      <a:pt x="49" y="471"/>
                    </a:lnTo>
                    <a:lnTo>
                      <a:pt x="67" y="456"/>
                    </a:lnTo>
                    <a:lnTo>
                      <a:pt x="87" y="447"/>
                    </a:lnTo>
                    <a:lnTo>
                      <a:pt x="85" y="430"/>
                    </a:lnTo>
                    <a:lnTo>
                      <a:pt x="67" y="432"/>
                    </a:lnTo>
                    <a:lnTo>
                      <a:pt x="45" y="424"/>
                    </a:lnTo>
                    <a:lnTo>
                      <a:pt x="33" y="405"/>
                    </a:lnTo>
                    <a:lnTo>
                      <a:pt x="37" y="385"/>
                    </a:lnTo>
                    <a:lnTo>
                      <a:pt x="42" y="360"/>
                    </a:lnTo>
                    <a:lnTo>
                      <a:pt x="24" y="334"/>
                    </a:lnTo>
                    <a:lnTo>
                      <a:pt x="12" y="313"/>
                    </a:lnTo>
                    <a:lnTo>
                      <a:pt x="12" y="297"/>
                    </a:lnTo>
                    <a:lnTo>
                      <a:pt x="25" y="282"/>
                    </a:lnTo>
                    <a:lnTo>
                      <a:pt x="18" y="265"/>
                    </a:lnTo>
                    <a:lnTo>
                      <a:pt x="1" y="258"/>
                    </a:lnTo>
                    <a:lnTo>
                      <a:pt x="0" y="243"/>
                    </a:lnTo>
                    <a:lnTo>
                      <a:pt x="19" y="234"/>
                    </a:lnTo>
                    <a:lnTo>
                      <a:pt x="37" y="228"/>
                    </a:lnTo>
                    <a:lnTo>
                      <a:pt x="40" y="211"/>
                    </a:lnTo>
                    <a:lnTo>
                      <a:pt x="58" y="210"/>
                    </a:lnTo>
                    <a:lnTo>
                      <a:pt x="81" y="217"/>
                    </a:lnTo>
                    <a:lnTo>
                      <a:pt x="108" y="220"/>
                    </a:lnTo>
                    <a:lnTo>
                      <a:pt x="112" y="204"/>
                    </a:lnTo>
                    <a:lnTo>
                      <a:pt x="118" y="186"/>
                    </a:lnTo>
                    <a:lnTo>
                      <a:pt x="138" y="189"/>
                    </a:lnTo>
                    <a:lnTo>
                      <a:pt x="163" y="190"/>
                    </a:lnTo>
                    <a:lnTo>
                      <a:pt x="162" y="172"/>
                    </a:lnTo>
                    <a:lnTo>
                      <a:pt x="157" y="153"/>
                    </a:lnTo>
                    <a:lnTo>
                      <a:pt x="168" y="135"/>
                    </a:lnTo>
                    <a:lnTo>
                      <a:pt x="186" y="121"/>
                    </a:lnTo>
                    <a:lnTo>
                      <a:pt x="204" y="121"/>
                    </a:lnTo>
                    <a:lnTo>
                      <a:pt x="201" y="139"/>
                    </a:lnTo>
                    <a:lnTo>
                      <a:pt x="201" y="159"/>
                    </a:lnTo>
                    <a:lnTo>
                      <a:pt x="223" y="168"/>
                    </a:lnTo>
                    <a:lnTo>
                      <a:pt x="244" y="157"/>
                    </a:lnTo>
                    <a:lnTo>
                      <a:pt x="267" y="159"/>
                    </a:lnTo>
                    <a:lnTo>
                      <a:pt x="291" y="162"/>
                    </a:lnTo>
                    <a:lnTo>
                      <a:pt x="294" y="144"/>
                    </a:lnTo>
                    <a:lnTo>
                      <a:pt x="310" y="136"/>
                    </a:lnTo>
                    <a:lnTo>
                      <a:pt x="325" y="120"/>
                    </a:lnTo>
                    <a:lnTo>
                      <a:pt x="345" y="120"/>
                    </a:lnTo>
                    <a:lnTo>
                      <a:pt x="367" y="126"/>
                    </a:lnTo>
                    <a:lnTo>
                      <a:pt x="381" y="109"/>
                    </a:lnTo>
                    <a:lnTo>
                      <a:pt x="394" y="94"/>
                    </a:lnTo>
                    <a:lnTo>
                      <a:pt x="412" y="97"/>
                    </a:lnTo>
                    <a:lnTo>
                      <a:pt x="412" y="79"/>
                    </a:lnTo>
                    <a:lnTo>
                      <a:pt x="424" y="66"/>
                    </a:lnTo>
                    <a:lnTo>
                      <a:pt x="447" y="66"/>
                    </a:lnTo>
                    <a:lnTo>
                      <a:pt x="454" y="51"/>
                    </a:lnTo>
                    <a:lnTo>
                      <a:pt x="441" y="43"/>
                    </a:lnTo>
                    <a:lnTo>
                      <a:pt x="441" y="27"/>
                    </a:lnTo>
                    <a:lnTo>
                      <a:pt x="463" y="28"/>
                    </a:lnTo>
                    <a:lnTo>
                      <a:pt x="471" y="13"/>
                    </a:lnTo>
                    <a:lnTo>
                      <a:pt x="486" y="1"/>
                    </a:lnTo>
                    <a:lnTo>
                      <a:pt x="501" y="9"/>
                    </a:lnTo>
                    <a:lnTo>
                      <a:pt x="525" y="7"/>
                    </a:lnTo>
                    <a:lnTo>
                      <a:pt x="550" y="0"/>
                    </a:lnTo>
                    <a:lnTo>
                      <a:pt x="570" y="7"/>
                    </a:lnTo>
                    <a:lnTo>
                      <a:pt x="586" y="21"/>
                    </a:lnTo>
                    <a:lnTo>
                      <a:pt x="606" y="36"/>
                    </a:lnTo>
                    <a:lnTo>
                      <a:pt x="622" y="51"/>
                    </a:lnTo>
                    <a:lnTo>
                      <a:pt x="639" y="57"/>
                    </a:lnTo>
                    <a:lnTo>
                      <a:pt x="649" y="45"/>
                    </a:lnTo>
                    <a:lnTo>
                      <a:pt x="661" y="30"/>
                    </a:lnTo>
                    <a:lnTo>
                      <a:pt x="685" y="34"/>
                    </a:lnTo>
                    <a:lnTo>
                      <a:pt x="702" y="19"/>
                    </a:lnTo>
                    <a:lnTo>
                      <a:pt x="732" y="13"/>
                    </a:lnTo>
                    <a:lnTo>
                      <a:pt x="760" y="13"/>
                    </a:lnTo>
                    <a:lnTo>
                      <a:pt x="774" y="34"/>
                    </a:lnTo>
                    <a:lnTo>
                      <a:pt x="780" y="51"/>
                    </a:lnTo>
                    <a:lnTo>
                      <a:pt x="798" y="31"/>
                    </a:lnTo>
                    <a:lnTo>
                      <a:pt x="817" y="13"/>
                    </a:lnTo>
                    <a:lnTo>
                      <a:pt x="826" y="31"/>
                    </a:lnTo>
                    <a:lnTo>
                      <a:pt x="837" y="48"/>
                    </a:lnTo>
                    <a:lnTo>
                      <a:pt x="856" y="48"/>
                    </a:lnTo>
                    <a:lnTo>
                      <a:pt x="867" y="31"/>
                    </a:lnTo>
                    <a:lnTo>
                      <a:pt x="882" y="42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0000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7" name=""/>
              <p:cNvGraphicFramePr/>
              <p:nvPr/>
            </p:nvGraphicFramePr>
            <p:xfrm>
              <a:off x="157320" y="228600"/>
              <a:ext cx="8986680" cy="7045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7320" y="228600"/>
                        <a:ext cx="8986680" cy="70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9" name=""/>
              <p:cNvSpPr/>
              <p:nvPr/>
            </p:nvSpPr>
            <p:spPr>
              <a:xfrm>
                <a:off x="4049640" y="4627440"/>
                <a:ext cx="4930920" cy="145476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eal Estate Cadastre</a:t>
                </a:r>
                <a:br>
                  <a:rPr sz="3200"/>
                </a:br>
                <a:r>
                  <a:rPr b="1" i="1" lang="en-US" sz="2400" spc="-1" strike="noStrike">
                    <a:solidFill>
                      <a:srgbClr val="ffffcc"/>
                    </a:solidFill>
                    <a:latin typeface="Century Gothic"/>
                  </a:rPr>
                  <a:t>Registration of Small and Medium Enterpri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81080" y="6095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00200" y="5791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320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3443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0200" y="3138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0200" y="2819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00200" y="24526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2133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9000" y="1766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34520" y="1066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57400" y="114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09880" y="1447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73920" y="208080"/>
                <a:ext cx="2787480" cy="50940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Central S</a:t>
                </a:r>
                <a:r>
                  <a:rPr b="1" i="1" lang="en-U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E</a:t>
                </a: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B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00200" y="3809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00200" y="4419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020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00200" y="5105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5424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114800" y="304920"/>
              <a:ext cx="1447920" cy="30456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59400" y="1347840"/>
              <a:ext cx="3441600" cy="2106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R e p u b l i c   o f   S e r b i</a:t>
              </a:r>
              <a:r>
                <a:rPr b="0" i="1" lang="sr-Latn-CS" sz="1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INISTRY OF URBAN PLANNING AND CONSTRUCTION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Century Gothic"/>
                </a:rPr>
                <a:t>Belgrade, 22-26 Nemanjina St.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sl-SI" sz="1200" spc="-1" strike="noStrike">
                  <a:solidFill>
                    <a:srgbClr val="99ffcc"/>
                  </a:solidFill>
                  <a:latin typeface="Century Gothic"/>
                </a:rPr>
                <a:t>http:</a:t>
              </a: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//www.mugrs.sr.gov.yu</a:t>
              </a:r>
              <a:r>
                <a:rPr b="0" lang="en-US" sz="1200" spc="-1" strike="noStrike">
                  <a:solidFill>
                    <a:srgbClr val="99ffcc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e-mail: mugrs@EUnet.y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4876920"/>
              <a:ext cx="3429000" cy="12189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 i n i s t e r</a:t>
              </a:r>
              <a:r>
                <a:rPr b="0" lang="en-U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Prof.</a:t>
              </a:r>
              <a:r>
                <a:rPr b="1" i="1" lang="sr-Latn-C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Dragoslav </a:t>
              </a:r>
              <a:r>
                <a:rPr b="1" i="1" lang="sl-SI" sz="1600" spc="-1" strike="noStrike">
                  <a:solidFill>
                    <a:srgbClr val="ffffcc"/>
                  </a:solidFill>
                  <a:latin typeface="Century Gothic"/>
                </a:rPr>
                <a:t>Š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umarac, Ph. D.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e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l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grad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, 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14</a:t>
              </a:r>
              <a:r>
                <a:rPr b="0" lang="en-US" sz="1200" spc="-1" strike="noStrike" baseline="30000">
                  <a:solidFill>
                    <a:srgbClr val="ffffcc"/>
                  </a:solidFill>
                  <a:latin typeface="Century Gothic"/>
                </a:rPr>
                <a:t>th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 Novem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r</a:t>
              </a:r>
              <a:r>
                <a:rPr b="0" lang="sr-Latn-CS" sz="20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429000"/>
              <a:ext cx="3429000" cy="1143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entury Gothic"/>
                </a:rPr>
                <a:t>REAL ESTATE CADA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1566720" y="297180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57200" y="45799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57200" y="13795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736128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3440" y="1590840"/>
              <a:ext cx="91800" cy="8568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4524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5:55:10Z</dcterms:created>
  <dc:creator> </dc:creator>
  <dc:description/>
  <dc:language>en-US</dc:language>
  <cp:lastModifiedBy>Jasmina</cp:lastModifiedBy>
  <dcterms:modified xsi:type="dcterms:W3CDTF">2002-11-14T17:29:40Z</dcterms:modified>
  <cp:revision>84</cp:revision>
  <dc:subject/>
  <dc:title>Slide 1</dc:title>
</cp:coreProperties>
</file>