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FED-589D-4989-BF99-4D8B100A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A0C-930F-472A-8D2E-17AE3B9D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B0F-8532-4F0F-A941-4D4E5C11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FAE-89A7-4241-BDAD-7038686E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B741-B453-4AE2-9617-5685B2B4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3288-24F5-4515-8FDF-F54CD28F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6977-E681-446C-9483-E8D461B1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97D7-8FDA-414C-96FE-0E92E9CB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EC44-53BB-4755-B646-BD7AAB7B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09AD-2573-4985-AAAA-5E9DFEE6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08EB-A104-44A8-BB3C-79D356B0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9B6-59A4-4355-AA4C-6F511C64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7219-09D6-4052-9ED6-2362AC3E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575D-2ABA-43CF-A0EF-E5938802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C2B6-55B4-4083-8CF1-C5D3B8A2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9B5A-05B7-4D95-B348-229BCA67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36D3-1533-442F-8820-C917F066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20D-0A3C-4CFC-94D3-49316001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898-DA1E-450E-93A3-FE809724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D20-451C-4DE9-A508-11569B8F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AC5-AFA4-4C56-9953-104BA18A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555-ECB9-45E6-8D30-905AE709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15F-1FBF-402C-B336-E20C952F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ECC-A185-4DD1-B199-A2A660E3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C248-DF55-479F-85B6-F56829777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D86E-069A-43B2-9DA6-BC3AE01A7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YU Times New Roman"/>
              </a:rPr>
              <a:t>(1) GLOBALNA VIZIJA RAZVOJA KO?</a:t>
            </a:r>
            <a:r>
              <a:rPr b="1" lang="en-US" sz="72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85840" y="2133720"/>
            <a:ext cx="5257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u Beogradu,            04. oktobra 200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25635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4) PRIORITETI -  PRIVREDA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Intenziviranje procesa privatizacije preduze}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stvaranje privrednog kadrovskog potencija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stimulisanje stranih ulaganja u okrug i otvaranje MS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4a) PRIORITETI -  PRIVREDA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ukrupnjavanje i intenziviranje primarne poljoprivredne proizvodnje uz realizaciju vi{ih faza prerade proizvedenih poljoprivrednih proizvoda (do finalizacije), anga`ovanjem postoje}ih preradnih kapaciteta (privatizacija &amp; restruktuiranje) i osnivanjem novih preduze}a (MSP u privatnoj svojini doma}ih i stranih poslovnih ljudi) u cilju (1) usagla{avanja proizvodnje sa potencijalom, (2) promene strukture proizvodn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4b) PRIORITETI -  PRIVREDA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aktiviranje turisti~kih potencijala u ve} afirmisanim turisti~kim mestima podizanjem kvaliteta turisti~ke ponude (unapre|enjem vanpansionskih sadr`aja) uz realizaciju novih projekata u mestima  sa identifikovanim turisti~kim predispozicijam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4c) PRIORITETI -  PRIVREDA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YU Times New Roman"/>
              </a:rPr>
              <a:t>zavr{etak zapo~etih velikih investicionih projekata (TETO “Kolubara B” &amp; Akumulacija “Rovni”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4d) PRIORITETI -  PRIVREDA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otvaranje novih industrijskih MSP u cilju promene strukture industrijske proizvodnje u korist industrijskih grana sa vi{im  fazama prerade osnovnih inputa, animiranjem doma}ih i stranih ulaga~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4e) PRIORITETI -  PRIVREDA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YU Times New Roman"/>
              </a:rPr>
              <a:t>saniranje posledica (RATOM, ZEMLJOTRESOM I POPLAVAMA) uni{tenih / o{te}enih privrednih objekat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5) PRIORITETI -  JAVNE SLU@BE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izgradnja {kola u pojedinim mestima Okru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sanacija, rekonstrukcija i opremanje {ko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izgradnja (zavr{etak zapo~etih) sportskih objek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sanacija, rekonstrukcija i opremanje sportskih objek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sanacija, rekonstrukcija i opremanje zdravstvenih institu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5a) PRIORITETI -  JAVNE SLU@BE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sanacija, rekonstrukcija i opremanje objekata kulturnih institucij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izgradnja nedostaju}ih de~ijih obdani{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sanacija, rekonstrukcija i opremanje objekata pred{kolskih ustanov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6) PRIORITETI - INFRASTRUKTURA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izgradnja (rekonstrukcija) svih vrsta saobra}aj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Aerodrom Div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podizanje kvantitativnog i kvalitativnog kapaciteta telekomunikacionog saobra}a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6a) PRIORITETI - INFRASTRUKTURA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pobolj{anje kvaliteta rada i pouzdanosti elektroprenosne mre`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razvoj magistralne gasovodne mre`e (Beograd - Lazarevac - Valjevo) uz uvo|enje gasifikacije naselja, industrijskih i ostalih pogo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2) PODACI O OKRUGU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povr{ina: 2.474 km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poljop. zemlji{te: 69,3 %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broj stanovnika: 200.56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poljop. stanovni{tvo: 35,14 %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6a) PRIORITETI - INFRASTRUKTURA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uvo|enje ekonomski opravdanih i novih obnovljivih izvora energije stvaranjem uslova (neophodnim ulaganjem) da njihovo u~e{}e u finalnoj potro{nji energije dostigne 5% u 2010. godin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ovi izvori energije trebali bi da imaju najve}i zna~aj u sektoru li~ne i op{te potr{nje i poljoprivred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6b) PRIORITETI - INFRASTRUKTURA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re{avanje problema vodosnabdevanj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izgradnja, pro{irenje, sanacija i rekonstrukcija vodovodne i kanalizacione mre`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izgradnja (zavr{etak zapo~etih) stanica za pre~i{}avanje vo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izgradnja deponije za sme}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6c) PRIORITETI - INFRASTRUKTURA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regulacija re~nih tokova sa izgra|enom za{titom od poplav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projekti melioraci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2a) PODACI O OKRUGU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broj zaposlenih: 35.74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broj nezaposlenih: 12.36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kvalifik. struktura:  VSS-8,6; V[S-6,7;  SSS-21,6;  NSS-3,8; VKV-5,2;  KV-24,5;   PKV-5,9; NKV-23,7 (u %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YU Times New Roman"/>
              </a:rPr>
              <a:t>(3) KOMPARATIVNE PREDNOSTI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poljoprivredni potencijal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rudni potencijal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saobra}ajni potencijal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turisti~ki potencijal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YU Times New Roman"/>
              </a:rPr>
              <a:t>(3a) POLJOPRIVREDNI POTENCIJALI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YU Times New Roman"/>
              </a:rPr>
              <a:t>prirodni uslovi omogu}avaju da je 80% povr{ine Okruga povoljno za razvoj sto~arstva i vo}arstva a oko 90% povr{ine Okruga je povoljno za poljoprivredu uop{t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3b) RUDNI POTENCIJALI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zna~ajne rezerve uglja-lign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nalazi{ta metali~nih ruda od kojih je ekonomski zna~ajno le`i{te bakra i zl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ekonomski atraktivna le`i{ta nemetali~nih sirovina: staklarski, liva~ki pesak, vatrostalna glina, kre~njak i tehni~ki k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veliki rezervoari termalnih, geotermalnih i mineralnih voda pogodnih za razli~ite oblike ekploat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3c) SAOBRA]AJNI POTENCIJALI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dolinom Kolubare, Tamnave, Jadra, Ljiga i Ribnice - putevi i pruge mogu se graditi na zaravnjenom terenu uz obavezu regulacije terena u smislu za{tite od voda i obezbe|enja stabilnosti na nestabilnim padin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YU Times New Roman"/>
              </a:rPr>
              <a:t>ovi pravci ve} su iskori{}eni za postoje}e i planirane trase komunikacija najvi{eg ranga - magistralne i `elezni~ke prav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3cc) SAOBRA]AJNI POTENCIJALI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vazdu{ni saobra}aj - Divc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ima povoljne prirodne odlik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YU Times New Roman"/>
              </a:rPr>
              <a:t>blizina industrijske, robno-transportne zone Valjeva, `eleznice, magistralnog pu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6324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YU Times New Roman"/>
              </a:rPr>
              <a:t>(3d) TURISTI^KI POTENCIJALI?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YU 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YU Times New Roman"/>
              </a:rPr>
              <a:t>Prirodni potencijali i ambijentalne vrednosti kombinovane sa povoljnom turisti~ko geografskom pozicijom u odnosu na izvore tra`nje, pogodna su osnova za razvoj zdravstveno-rekreativnog (industrija zdravstva), planinskog, seoskog, tranzitnog, eko, verskog, lovnog i ribolovnog turizm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0T03:55:47Z</dcterms:created>
  <dc:creator>Boban</dc:creator>
  <dc:description/>
  <dc:language>en-US</dc:language>
  <cp:lastModifiedBy>No Name</cp:lastModifiedBy>
  <dcterms:modified xsi:type="dcterms:W3CDTF">2001-10-04T07:19:36Z</dcterms:modified>
  <cp:revision>45</cp:revision>
  <dc:subject/>
  <dc:title>NOVI PROIZVODI !!!</dc:title>
</cp:coreProperties>
</file>