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199-8803-4EB7-9F20-DE32F028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910-8D6E-428B-AA09-6A77512D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52A-7B7A-4A91-BC01-6334831C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E2F-94AB-43AC-8809-148C3EBA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8989-3563-49AB-BC7D-168DC0BB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9FE2-244F-46D4-842E-4EE18FF5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9E22-E65A-4B18-A66D-FE84AAA4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1E8F-24AD-4A01-9987-A490AA33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F080-9140-445F-BE87-0BD4000F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74F1-FE3E-4307-82C0-8321FB0D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FD83-1A48-4960-8612-F26057AC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840-9A57-4778-89C4-0F6954A1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10D5-F7BF-47B4-9DEF-5B6293CC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9BA9-7B8E-43D0-B3E4-C199461C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189E-6C98-4667-AF91-F1824FD8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8276-65DB-4FC9-84BA-952F04E2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2D0F-617B-4797-84BA-482A15FC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69A-1B3A-4975-BAFD-BA672FAA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C76-44FB-488A-83C1-4797DC73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978-77BB-4047-B34D-986FFC94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C4D-6790-4B66-BFC6-13A8C2E7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30D-5A2C-432A-9434-992091CE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7D9-6D9C-4A9B-853B-57703727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7B9-9FD1-48C4-BD42-CAC509EC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7997-433A-4FB0-B3C7-1B968B55309B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C4FF-110B-4851-9F0E-61A466A856FC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000" spc="-1" strike="noStrike">
                <a:solidFill>
                  <a:srgbClr val="404176"/>
                </a:solidFill>
                <a:latin typeface="Times New Roman"/>
              </a:rPr>
              <a:t>ЈУЖНО-БАНАТСКИ ОКРУГ</a:t>
            </a:r>
            <a:endParaRPr b="0" lang="en-US" sz="3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724280" y="2286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Општине: Алибунар, Бела Црква, Вршац, Ковачица, Ковин, Опово, Панчево, Пландиште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Број становника: 328.428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Површина: 4.245 км</a:t>
            </a:r>
            <a:r>
              <a:rPr b="1" lang="sr-CS" sz="1800" spc="-1" strike="noStrike" baseline="30000">
                <a:solidFill>
                  <a:srgbClr val="8383ad"/>
                </a:solidFill>
                <a:latin typeface="Times New Roman"/>
              </a:rPr>
              <a:t>2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Пољопривредне површине: 80.9%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Површине под шумама: 5.4%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Број запослених: 74.938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Број незапослених: 37.484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0" name="okruzic4" descr=""/>
          <p:cNvPicPr/>
          <p:nvPr/>
        </p:nvPicPr>
        <p:blipFill>
          <a:blip r:embed="rId8"/>
          <a:stretch/>
        </p:blipFill>
        <p:spPr>
          <a:xfrm>
            <a:off x="554040" y="685800"/>
            <a:ext cx="3817800" cy="5378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6:33:42Z</dcterms:created>
  <dc:creator>RZZR</dc:creator>
  <dc:description/>
  <dc:language>en-US</dc:language>
  <cp:lastModifiedBy>No Name</cp:lastModifiedBy>
  <dcterms:modified xsi:type="dcterms:W3CDTF">2001-10-03T16:56:31Z</dcterms:modified>
  <cp:revision>2</cp:revision>
  <dc:subject/>
  <dc:title>ЈУЖНО-БАНАТСКИ ОКРУГ</dc:title>
</cp:coreProperties>
</file>