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692B-FB88-43AE-8AD6-3E1B4CC6A3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zivi i površ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stanovnist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FE2-CBA3-4D22-A3FC-85AEBAE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570-6377-4754-9AE1-D91DF6BD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E33-4BAC-443A-9992-69A16623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C97-DB5E-4AE4-83EF-51B85F0B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F734-0C11-4171-B847-8CA94625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46B1-0DE0-4607-86DC-B4AE86CF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14BB-60EF-48E7-B145-C771D789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DD6-2313-442F-8E9B-AB4AE346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DB5-C336-45A3-BC46-A10C18F4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497-E577-41D7-A03D-BCA8935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0FDC-E90C-47F1-A161-596BF7E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FCD-785B-4DE3-AFA3-456E87B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1E77-E6FD-4F34-9301-7DE11754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5264-8D78-44FE-829D-E86100E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0961-3715-4B71-8906-7D1EDE8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6B6-EDEB-4443-823B-9726AAE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C40-63E6-42EB-96ED-3E5FE9FD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877-7D08-40CD-86DD-F6003AF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DCA-D9EB-4055-BDE6-D481670F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EB1-B7D4-4B83-B18E-19846CBE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D3E-5B16-46EE-A993-20DFA00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843-6C50-49EB-9E58-B262872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6C8-AB01-4F14-9B22-34DF7D2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851-68CA-4945-ABEF-E6833BB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8F5-DCD6-4F3A-9108-6571F76AF04A}" type="slidenum">
              <a:rPr b="1" lang="en-US" sz="28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93D3-5BE3-47BC-80BD-7AA6E9144143}" type="slidenum">
              <a:rPr b="1" lang="en-US" sz="32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njoro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čni plan razvo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9966"/>
                </a:solidFill>
                <a:latin typeface="Tahoma"/>
              </a:rPr>
              <a:t>Južnobački okrug</a:t>
            </a:r>
            <a:endParaRPr b="0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93040" y="62085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4.oktobar 2001. god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zim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o predračunskoj vred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2351160"/>
          <a:ext cx="806904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51160"/>
                    <a:ext cx="806904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zim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o predračunskoj vred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1680" y="2341440"/>
          <a:ext cx="876312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2341440"/>
                    <a:ext cx="87631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Prioritet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ioritetni programi Južno Bačkog okrug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1676520"/>
          <a:ext cx="6754680" cy="499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754680" cy="4997160"/>
                  </a:xfrm>
                  <a:prstGeom prst="rect">
                    <a:avLst/>
                  </a:prstGeom>
                  <a:ln w="255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477480" y="50976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ivre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ioritetni programi Južno Bačkog okrug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209680"/>
          <a:ext cx="7543800" cy="30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5438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76400" y="50976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nfrastru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Prioritetni programi Južno Bačkog okrug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2133720"/>
          <a:ext cx="762948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294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477120" y="5097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Javne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lu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11426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Disproporcija: 5 dana </a:t>
            </a:r>
            <a:r>
              <a:rPr b="0" lang="sr-Latn-C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5 godina... ali budućnost počinje d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va aproksimacija samokorigujućeg dinamičkog procesa, podložna dnevnim promen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Deo obuhvatnog procesa razvoja dru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va iteracija procesa saznavanja sopstvenih mogućnosti i potencij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Južnobački okru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blank_v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9" name="juzno_backi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819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ovr</a:t>
            </a:r>
            <a:r>
              <a:rPr b="0" lang="sr-Latn-CS" sz="2400" spc="-1" strike="noStrike">
                <a:solidFill>
                  <a:srgbClr val="ffff66"/>
                </a:solidFill>
                <a:latin typeface="Tahoma"/>
              </a:rPr>
              <a:t>šina 4016km</a:t>
            </a:r>
            <a:r>
              <a:rPr b="0" lang="sr-Latn-CS" sz="24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76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ahoma"/>
              </a:rPr>
              <a:t>Broj stanovnika 5530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733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ahoma"/>
              </a:rPr>
              <a:t>Poljoprivrednog zemljišta: 80.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286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47" y="20736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6858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784" y="18306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ačka Pal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1430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75" y="15480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ački Petrov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6002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5" y="14148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eoč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0574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19" y="7929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eč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5146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10" y="6498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rb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9718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84" y="4671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Žabal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34290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76" y="2943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ovi S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8862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96" y="-1872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rbob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3434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005" y="-1206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remski Karlov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48006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87" y="-5931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emer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5257800"/>
            <a:ext cx="21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76" y="-69480"/>
                </a:moveTo>
                <a:lnTo>
                  <a:pt x="-755" y="6480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1584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i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Komparativne pred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Geografski položaj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l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ina granice sa E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ovi Sad kao politički, privredni i kulturno prosvetni cent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čna i kanalska mreža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unav, Tisa i kanalska mreža DTD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valitetno poljoprivredno zemljište (80,7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azvijena putna infrastruktura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gistralni 326km, regionalni 519km i lokalni 476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ovoljna obrazovna struktura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94 osnovne škole, 32 srednje škole, 148 objekata predškolskih ustanova, Univerzitet sa  11 fakulteta, 3 više škole i 3 privatna fakultet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Vizija razvo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zicioniranje među najrazvijenije regione u zemlji i jugoistočnoj Evro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Dostizanje i praćenje najviših tehnoloških standarda u svim segmentima društvenih a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nzistentno povezivanje sa Evrop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Strategije razvo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vesticije u najprofitabilnije kompan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vesticije u infrastruktu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Revitalizacija delatnosti koje su perspektivne, ali su u poteškoćama iz objektivnih razloga nastalih tokom proteklog peri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nvesticija u obrazovanje – poboljšanje obrazovne strukture stanovništva potrebne za nove tehnologije i novu ekonomi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Ciljevi razvo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alizacija prioritetnih programa okruga i opšt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lasnička transform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većanje standarda stanovni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Rezime</a:t>
            </a:r>
            <a:br>
              <a:rPr sz="4000"/>
            </a:br>
            <a:br>
              <a:rPr sz="4000"/>
            </a:b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Ukupan broj opština: 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3276720"/>
          <a:ext cx="8534520" cy="2666880"/>
        </p:xfrm>
        <a:graphic>
          <a:graphicData uri="http://schemas.openxmlformats.org/drawingml/2006/table">
            <a:tbl>
              <a:tblPr/>
              <a:tblGrid>
                <a:gridCol w="2362320"/>
                <a:gridCol w="1905120"/>
                <a:gridCol w="2361960"/>
                <a:gridCol w="1905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66"/>
                      </a:solidFill>
                    </a:lnR>
                    <a:lnT>
                      <a:noFill/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vre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privre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P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oj preduzeć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oj projek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dračunska vred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5.635.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2.342.9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7.978.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zim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o broju projek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2351160"/>
          <a:ext cx="806904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51160"/>
                    <a:ext cx="806904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zim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sr-Latn-CS" sz="4000" spc="-1" strike="noStrike">
                <a:solidFill>
                  <a:srgbClr val="ffcc00"/>
                </a:solidFill>
                <a:latin typeface="Tahoma"/>
              </a:rPr>
              <a:t>o broju projek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4320" y="2341440"/>
          <a:ext cx="8778600" cy="38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341440"/>
                    <a:ext cx="87786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4:53:07Z</dcterms:created>
  <dc:creator>b</dc:creator>
  <dc:description/>
  <dc:language>en-US</dc:language>
  <cp:lastModifiedBy>vmarkovic</cp:lastModifiedBy>
  <dcterms:modified xsi:type="dcterms:W3CDTF">2001-10-03T10:26:14Z</dcterms:modified>
  <cp:revision>30</cp:revision>
  <dc:subject/>
  <dc:title>Program razvoja</dc:title>
</cp:coreProperties>
</file>