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8C2-8CC0-4B4A-9974-7DE258CC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596-1FEA-49EF-8C49-FFD115B7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DC2-CFE2-4EFC-81AC-1DC82745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FD6-8E57-4E01-A1F5-20DEB74E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AE00-3B77-487F-9E1A-DB0689F2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4488-77DA-44D4-BB68-BE54D1BF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DA6B-CB30-4284-BD1D-51E32AD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42F4-E599-48A6-AD22-21C7CDDF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7FF3-281C-4011-942F-C7140AAC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EF7D-5DEE-48F1-843D-4E8F1BE2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8F25-5FC8-442B-9BD9-B4C74635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A76-4CDC-4CBB-A41B-67DE1688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0329-BCA1-43A3-9C63-8B8C9F9A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474C-3515-44B2-B3A8-3293849E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2089-DFCD-4830-AE5E-2D1D3C47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8C3D-EF68-4305-9ACE-9990695F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3C38-BA05-4A75-A4A3-55796344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4A7-DA99-4947-A10E-F161BE36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49E-138E-4960-8740-13CC0091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FA5-0298-42CD-931D-8065D203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FAA-57B1-4D90-A937-A826832A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6E0-C916-49FA-BD32-B705B721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EF8-2747-4BD3-86C6-3EFF84FD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DEA-EE3A-4B44-91E7-8E60966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prite%2010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71EA-8438-4AA2-917C-DB3B1C3D5A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prite%2010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D3DD-1079-4F45-88C9-ED9AF25FB9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Arial Black"/>
              </a:rPr>
              <a:t>Borski Okrug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Arial Narrow"/>
              </a:rPr>
              <a:t>Osnove za izradu s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rednjoro</a:t>
            </a:r>
            <a:r>
              <a:rPr b="0" lang="sl-SI" sz="4000" spc="-1" strike="noStrike">
                <a:solidFill>
                  <a:srgbClr val="ffffff"/>
                </a:solidFill>
                <a:latin typeface="Arial Narrow"/>
              </a:rPr>
              <a:t>č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sl-SI" sz="4000" spc="-1" strike="noStrike">
                <a:solidFill>
                  <a:srgbClr val="ffffff"/>
                </a:solidFill>
                <a:latin typeface="Arial Narrow"/>
              </a:rPr>
              <a:t>og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program</a:t>
            </a:r>
            <a:r>
              <a:rPr b="0" lang="sl-SI" sz="40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razvoj</a:t>
            </a:r>
            <a:r>
              <a:rPr b="0" lang="sl-SI" sz="4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Arial Narrow"/>
              </a:rPr>
              <a:t>- rezime -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Privreda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- Poljoprivre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99"/>
                </a:solidFill>
                <a:latin typeface="Arial Black"/>
              </a:rPr>
              <a:t>Struktura proizvodnje i prosečna proizvodnj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Ratarstvo- 87 250 ha- 3 000 kg/h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Voćarstvo- 4 799 ha- 20 000 kg/h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Vinogradarstvo- 6 188 ha- 7 000 kg/h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Stočarstvo- 1 027 krava- 10 270 l mlek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99"/>
                </a:solidFill>
                <a:latin typeface="Arial Black"/>
              </a:rPr>
              <a:t>Poljoprivredna preduzeć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Zem. zadruge- broj- 33; broj zaposlenih- 281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Društvena preduzeća- broj- 4; broj zaposlenih- 689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Mešovita preduzeća- broj- 1; broj zaposlenih- 270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Ostala preduzeća- broj- 1;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broj zaposlenih- 38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Privatna preduzeća- broj- 1; broj zaposlenih- 18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Privreda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- Poljoprivre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cc99"/>
                </a:solidFill>
                <a:latin typeface="Arial Black"/>
              </a:rPr>
              <a:t>Prehrambeni kapaciteti (registrovani)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Hladnjače- 3; Klanice- 3; Mlinovi- 5; Pekare- 25; Mlekare- 2; Silosi- 6; Mešaone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- 2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cc99"/>
                </a:solidFill>
                <a:latin typeface="Arial Black"/>
              </a:rPr>
              <a:t>Ostali značajni poljoprivredni kapaciteti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Ribnjaci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- 2; Rasadnici- 2; Ogl. parcela- 1</a:t>
            </a: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cc99"/>
                </a:solidFill>
                <a:latin typeface="Arial Black"/>
              </a:rPr>
              <a:t>Urađeni ili potencijalni programi u oblasti primarne proizvodnje i prerad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Zasadi višanja i drugog voća; Vinogradi na 300 h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Intenzivni uzgoj ribe, proizvodnja veštačkog kavijar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Mešaone stočne hran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Izgradnje mlekara na tri lokacij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Prerada poljoprivrednih proizvo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Projekti prerade lekovitog bilj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Privreda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- Šumarstv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Površine pod šumam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6600"/>
                </a:solidFill>
                <a:latin typeface="Arial Black"/>
              </a:rPr>
              <a:t>152 141 h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Prosečna godišnja posečena drvna mas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6600"/>
                </a:solidFill>
                <a:latin typeface="Arial Black"/>
              </a:rPr>
              <a:t>147 473 m</a:t>
            </a:r>
            <a:r>
              <a:rPr b="0" lang="sl-SI" sz="3200" spc="-1" strike="noStrike" baseline="30000">
                <a:solidFill>
                  <a:srgbClr val="cc66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Struktura šumskih površ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35 % visokih šum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28 % izdanačkih šum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37 % ostalih kategorija šum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Privreda</a:t>
            </a:r>
            <a:br>
              <a:rPr sz="4400"/>
            </a:b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- Industrija i građevinarstvo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Društvena preduzeć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RTB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broj zaposlenih- 20 91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iskorišćenost kapaciteta- 30 %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ostal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broj zaposlenih- 2 510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iskorišćenost kapaciteta- 49 %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Javna preduzeć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Đerdap 1 i 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broj zaposlenih- 1 090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iskorišćenost kapaciteta- 99 %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Privatna preduzeć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broj zaposlenih- 3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iskorišćenost kapaciteta- 80 %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Privreda</a:t>
            </a:r>
            <a:br>
              <a:rPr sz="4400"/>
            </a:b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- Industrija i građevinarstvo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Inicirani, idejni ili urađeni novi program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Usvojen program restrukturiranja RTB-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Urađena feasibility studija za RB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Veći broj urađenih projekata i programa kao dopune postojećih proizvodnih programa, razvoj MSP sektora i alternativnih proizvodnih program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Pojedinačni biznis planovi preduzeća su u anex-u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Privreda</a:t>
            </a:r>
            <a:br>
              <a:rPr sz="4400"/>
            </a:b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- Turizam i ugostiteljstvo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Turističko- ugostiteljski objekt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212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Broj objekata- 196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Smeštajni kapaciteti- 2 19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Broj zaposlenih- 831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Nosioci razvoj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212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DP Brestovačka Banj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Hotel Lepenski Vi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Nacionalni park Đerdap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Đerdap turis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Lovačka društv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Sportski centri (SKI i ostali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Privreda</a:t>
            </a:r>
            <a:br>
              <a:rPr sz="4400"/>
            </a:b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- Turizam i ugostiteljstvo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Prioritetni programi razvoja turizm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Izgradnja kompleksa Hotelsko- lovačkog- rekreativnog centra Jelen na Crnom Vrhu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Razvoj turizma na Dunavu i priobalju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Razvoj lovnog (Deli Jovan, Miroč, Vratna), đačkog, zimskog, sportskog, seoskog i hobi turizma, domaće radinost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Izgradnja marine u Donjem Milanovcu i razvoj međunarodnog nautičkog centra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Edukativni turizam- arheološka nalazišta Rudna glava, Lepenski vir, Vrelo, Šarkamen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Privreda</a:t>
            </a:r>
            <a:br>
              <a:rPr sz="4400"/>
            </a:b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- Ostale privredne oblasti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Razvoj trgov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sve Opštine moraju reorganizovati trgovinske mrež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Razvoj zanatstv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Razvoj brodarstv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Razvoj saobraćaja (posebno rečnog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vne </a:t>
            </a: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službe</a:t>
            </a:r>
            <a:br>
              <a:rPr sz="4400"/>
            </a:b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- Obrazovanje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1447920"/>
          <a:ext cx="8686800" cy="5317920"/>
        </p:xfrm>
        <a:graphic>
          <a:graphicData uri="http://schemas.openxmlformats.org/drawingml/2006/table">
            <a:tbl>
              <a:tblPr/>
              <a:tblGrid>
                <a:gridCol w="3200400"/>
                <a:gridCol w="2590920"/>
                <a:gridCol w="2895480"/>
              </a:tblGrid>
              <a:tr h="799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snovne šk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rednje šk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oj ustan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oj uče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4 7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 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oj zaposleni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 4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dostajući kad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astavnici: srpskog, engleskog, fizike, matematike, informatike, geografije, istorije, biologije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premlje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dovoljna, posebno u oblasti informat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vne </a:t>
            </a: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službe</a:t>
            </a:r>
            <a:br>
              <a:rPr sz="4400"/>
            </a:br>
            <a:r>
              <a:rPr b="0" lang="sl-SI" sz="3000" spc="-1" strike="noStrike">
                <a:solidFill>
                  <a:srgbClr val="ffffff"/>
                </a:solidFill>
                <a:latin typeface="Arial Black"/>
              </a:rPr>
              <a:t>- Obrazovanje i fizička kultura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cc99"/>
                </a:solidFill>
                <a:latin typeface="Arial Black"/>
              </a:rPr>
              <a:t>Prioritetne investicije za sanaciju školskih objekata i objekata fizičke kulture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rekonstrukcija krovova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dogradnja, rekonstrukcija i izgradnja fiskulturnih sala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Rešavanje problema grejanja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Objekti za sport i rekreaciju- 165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Opremljenost- Nedostaju: sprave, lopte i ostali sportski rekviziti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Prioritetne investicije za sanaciju sportskih objekata- obnova terena, mokrih čvorova, grejanja, tribina itd.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 Black"/>
              </a:rPr>
              <a:t>Faktografski podaci i prirodni resursi</a:t>
            </a:r>
            <a:endParaRPr b="0" lang="en-US" sz="3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9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Bor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9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Majdanpek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9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Negotin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9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Kladovo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ovr</a:t>
            </a: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šina Okruga-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 507</a:t>
            </a: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 km</a:t>
            </a:r>
            <a:r>
              <a:rPr b="0" lang="sl-SI" sz="32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Broj stanovnika- 1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78 718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vne </a:t>
            </a: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službe</a:t>
            </a:r>
            <a:br>
              <a:rPr sz="4400"/>
            </a:b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- Zdravstvo i socijalna zaštita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Broj ustanov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Domovi zdravlja – 4; broj lekara - 332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Zdravstvene stanice–17; broj lekara- 13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Zdravstvene ambulante</a:t>
            </a: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 52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Nedostajući kada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preko 30 lekara raznih specijalnost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Opremljenost nije zadovoljavajuć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 Black"/>
              </a:rPr>
              <a:t>Broj apoteka- 29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vne </a:t>
            </a: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službe</a:t>
            </a:r>
            <a:br>
              <a:rPr sz="4400"/>
            </a:b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- Zdravstvo i socijalna zaštita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cc99"/>
                </a:solidFill>
                <a:latin typeface="Arial Black"/>
              </a:rPr>
              <a:t>Prioritetne investicije za sanaciju i izgradnju zdravstvenih objekata, nabavka opreme i sl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ff"/>
                </a:solidFill>
                <a:latin typeface="Arial Black"/>
              </a:rPr>
              <a:t>Rekonstrukcija i adaptacija bolnice i nabavka opreme (kardiograf, ultrazvuk, kardiomonitoring...) u Majdanpeku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ff"/>
                </a:solidFill>
                <a:latin typeface="Arial Black"/>
              </a:rPr>
              <a:t>Izgradnja zgrade Zavoda za zaštitu zdravlja i sanacija krova porodilišta u Boru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ff"/>
                </a:solidFill>
                <a:latin typeface="Arial Black"/>
              </a:rPr>
              <a:t>Sanacija sistema za grejanje, sanacija krova bolnice i nabavka opreme u Negotinu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ff"/>
                </a:solidFill>
                <a:latin typeface="Arial Black"/>
              </a:rPr>
              <a:t>Nabavka radioaktivnih izvora za Onkološki zavod u Kladovu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vne </a:t>
            </a: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službe</a:t>
            </a:r>
            <a:br>
              <a:rPr sz="4400"/>
            </a:b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- Kultura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Broj ustanov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Domovi kulture- 5; broj zaposlenih- 46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Biblioteke- 4; broj zaposlenih- 56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Druge kulturne ustanove- 8; broj zaposlenih 7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Nedostajući kada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arheolozi, konzervatori metala, kustos, reditelj, knjigovezac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Opremljenost- nezadovoljavajuć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99"/>
                </a:solidFill>
                <a:latin typeface="Arial Black"/>
              </a:rPr>
              <a:t>Prioritetne investicij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Rekonstrukcije objekata (građevinski radovi, grejanje itd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Nabavka opre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vne </a:t>
            </a: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službe</a:t>
            </a:r>
            <a:br>
              <a:rPr sz="4400"/>
            </a:b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 Prateći objekti, informisanost i ostal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Banke- 12; Osig. druš- 15; Pošte- 29; Pijace- 10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cc99"/>
                </a:solidFill>
                <a:latin typeface="Arial Black"/>
              </a:rPr>
              <a:t>Informisanost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Dobra pokrivenost Radio i TV kanalima RTS-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Lokalne radio stanice- 2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Lokalne televizije- 4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cc99"/>
                </a:solidFill>
                <a:latin typeface="Arial Black"/>
              </a:rPr>
              <a:t>Ostalo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Broj zaposlenih- 43 127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Broj nezaposlenih- 11 45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Nedostajući kadrovi: diplomirani pravnici, ekonomisti, inženjeri elektrotehnike, mašinstva i psiholozi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Arial Black"/>
              </a:rPr>
              <a:t>Budž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godina</a:t>
            </a: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       Projekcija prihoda </a:t>
            </a: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    Projekcija rasho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2000.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204 807 026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198 955 17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2001.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420 522 000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407 895 000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2002.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504 626 400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489 474 000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2003.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565 181 568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548 210 880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2004.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610 396 093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592 067 750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2005.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640 915 898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621 671 13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2006.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672 961 693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652 754 695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Najznačajnije komparativne prednosti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cc99"/>
                </a:solidFill>
                <a:latin typeface="Arial Black"/>
              </a:rPr>
              <a:t>Mineralno sirovinski kompleks</a:t>
            </a: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 (RTB)- eksploatacija u toku sa dobrim potvrđenim i prognoznim rezervama, odgovarajućim kadrovima i specijalizovanim ustanovama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bakar, olovo i cink, plemeniti metali i nemetalične mineralne sirovine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cc99"/>
                </a:solidFill>
                <a:latin typeface="Arial Black"/>
              </a:rPr>
              <a:t>Prigranična oblast</a:t>
            </a: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- saradnja sa susednim zemljama će se u sledećem periodu intenzivirati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Rumunija i Bugarska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cc99"/>
                </a:solidFill>
                <a:latin typeface="Arial Black"/>
              </a:rPr>
              <a:t>Aktiviranje bescarinskih zona</a:t>
            </a:r>
            <a:r>
              <a:rPr b="0" lang="sl-SI" sz="2500" spc="-1" strike="noStrike">
                <a:solidFill>
                  <a:srgbClr val="ffffff"/>
                </a:solidFill>
                <a:latin typeface="Arial Black"/>
              </a:rPr>
              <a:t> u Prahovu i Brzoj Palanci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Najznačajnije komparativne prednosti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cc99"/>
                </a:solidFill>
                <a:latin typeface="Arial Black"/>
              </a:rPr>
              <a:t>Šumsko bogatstvo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- potencijalno polje ulaganj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eksploatacija se vrši ali bez finalizacije proizvoda- u planu je razvoj finalizacij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Infrastruktura- dobra pokrivenost putnom mrežom, železničkim i rečnim saobraćajnicam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cc99"/>
                </a:solidFill>
                <a:latin typeface="Arial Black"/>
              </a:rPr>
              <a:t>Poljoprivred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Negotinska nizija- povećanje produkcije i viši stepen finalizacije proizvod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žito, kukuruz i vino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IHP Prahovo- proizvodnja veštačkog đubriv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Lekovito i aromatično bilje- viši stepen prerade, pakovanja i ekstrakcije eteričnih ulja (Miroč bilje)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Ribarstvo, proizvodnja ribe, kavijara, riblje mlađi i viši stepen prerad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Najznačajnije komparativne prednosti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Klimatsko- morfološke karakteristike pogoduju razvoju turizm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banjska lečilišta (Bor), zimski turistički centri (Bor i Majdanpek), sportski objekti (Kladovo, Bor i Majdanpek), lovni turizam (Negotin, Majdanpek i Bor)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Arheološka nalazišta</a:t>
            </a: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 intenzivno se radi na projektima konzervacije, turističke eksploatacije i popularizacij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Lepenski vir, Trajanova tabla, Rudna Glava, Plaurija, Šarkam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99"/>
                </a:solidFill>
                <a:latin typeface="Arial Black"/>
              </a:rPr>
              <a:t>Hidro- energetski potencij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Arial Black"/>
              </a:rPr>
              <a:t>Proizvodnja električne energij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Arial Black"/>
              </a:rPr>
              <a:t>HE Đerdap 1 i 2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ffcc99"/>
                </a:solidFill>
                <a:latin typeface="Arial Black"/>
              </a:rPr>
              <a:t>Dunav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Arial Black"/>
              </a:rPr>
              <a:t>Luka Prahov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Arial Black"/>
              </a:rPr>
              <a:t>Brodogradilište Kladov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Arial Black"/>
              </a:rPr>
              <a:t>Saobraćajnica od Evropskog značaja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ffffff"/>
                </a:solidFill>
                <a:latin typeface="Arial Black"/>
              </a:rPr>
              <a:t>Najznačajnije komparativne prednosti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3300"/>
                </a:solidFill>
                <a:latin typeface="Arial Black"/>
              </a:rPr>
              <a:t>Problem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3300"/>
                </a:solidFill>
                <a:latin typeface="Arial Black"/>
              </a:rPr>
              <a:t>Neizvršeno restrukturiranje velikih poslovnih sistem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3300"/>
                </a:solidFill>
                <a:latin typeface="Arial Black"/>
              </a:rPr>
              <a:t>Visok procenat društvenog i državnog kapitala- svojinska transformacij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3300"/>
                </a:solidFill>
                <a:latin typeface="Arial Black"/>
              </a:rPr>
              <a:t>Nedostatak investicionih i obrtnih sredstav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aktografski podaci i prirodni resursi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 Mineralne sirovine, eksploatacij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Rude bakr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Rudnik Bakra Majdanpek, Cerovo, Veliki Krivelj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Borska reka..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Rude visokovrednih plemenitih metal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Zlato, Srebro, Platina, Paladium, Renijum, Molibd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Nemetalične mineralne sirovin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Krečnjak, Kvarc, Kvarcni pesak, Kalcit, Bentoniti, Ukrasni arhitektonsko- građevinski kamen, Kaoliniti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Arial Black"/>
              </a:rPr>
              <a:t>Prioritetni programi</a:t>
            </a:r>
            <a:br>
              <a:rPr sz="4000"/>
            </a:br>
            <a:r>
              <a:rPr b="0" lang="sl-SI" sz="3000" spc="-1" strike="noStrike">
                <a:solidFill>
                  <a:srgbClr val="ffffff"/>
                </a:solidFill>
                <a:latin typeface="Arial Black"/>
              </a:rPr>
              <a:t>RTB Bor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Restrukturiranje RTB Bor</a:t>
            </a: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 po planu i programu Vlade 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Revitalizacija RBM-a</a:t>
            </a: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 71 mil US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Program zamene doprajale opreme i uvođenje dva nova proizvodna programa u </a:t>
            </a: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FBC Majdanpek</a:t>
            </a: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 350 000 US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Zamena tehnologije u </a:t>
            </a: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TIR</a:t>
            </a: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u- 200 mil US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IPM</a:t>
            </a: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 poboljšanje kvaliteta i proširenje proizvodnog asortimana- 3,9 mil US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Arial Black"/>
              </a:rPr>
              <a:t>Prioritetni programi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DI Poreč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- oprema- 1,5 mil US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Primarna </a:t>
            </a: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poljoprivredna proizvodnja</a:t>
            </a: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 i prerada poljoprivrednih proizvoda-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 11 mil US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Turizam i ugostiteljstv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Završetak radova na kompleksu Crni Vrh- 50 mil US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ostali programi- 1,25 mil US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Infrastrukturni program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saobraćajnice- 15 mil US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Vodoprivredni zahvati- 11 mil US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 Black"/>
              </a:rPr>
              <a:t>Borski Okru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6600"/>
                </a:solidFill>
                <a:latin typeface="Arial Black"/>
              </a:rPr>
              <a:t>Hvala na pa</a:t>
            </a:r>
            <a:r>
              <a:rPr b="0" lang="sl-SI" sz="5000" spc="-1" strike="noStrike">
                <a:solidFill>
                  <a:srgbClr val="cc6600"/>
                </a:solidFill>
                <a:latin typeface="Arial Black"/>
              </a:rPr>
              <a:t>žnji</a:t>
            </a:r>
            <a:endParaRPr b="0" lang="en-US" sz="5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aktografski podaci i prirodni resursi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- Najznačajnije prirodne vrednost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Nacionalni park Đerda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Rudnici iz raznih epoha- od praistorije do današnjih da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Arheološki spomenici- Lepenski vir, Trajanova tabla..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Najlepše pećine- Rajkova, Zlotsk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Brestovačka Banj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Dubašnic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Crni Vr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 Black"/>
              </a:rPr>
              <a:t>Miroč plan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Privredna infrastruktura</a:t>
            </a:r>
            <a:br>
              <a:rPr sz="3500"/>
            </a:br>
            <a:r>
              <a:rPr b="0" i="1" lang="sl-SI" sz="3500" spc="-1" strike="noStrike">
                <a:solidFill>
                  <a:srgbClr val="ffffff"/>
                </a:solidFill>
                <a:latin typeface="Arial Black"/>
              </a:rPr>
              <a:t>- Putevi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Magistralni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- 295 km; savremeni kolovoz na 87 %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Regionalni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- 475 km; savremeni kolovoz na 88 %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Lokalni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- 645 km; savremeni kolovoz na 44 %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cc99"/>
                </a:solidFill>
                <a:latin typeface="Arial Black"/>
              </a:rPr>
              <a:t>Problemi izgradnje i održavanja putne infrastrukture: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finansijska sredstva i nerešeni pravno- imovinski odnosi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20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Posebni interesi Okruga i prioritet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Sanacija, rekonstrukcija i održavanje putne mrež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Nastavak izgradnje magistralnih puteva: Bor- Zaječar; Markovac- Bo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Zaobilaznica oko Kladov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Privredna infrastruktura</a:t>
            </a:r>
            <a:br>
              <a:rPr sz="3500"/>
            </a:br>
            <a:r>
              <a:rPr b="0" i="1" lang="sl-SI" sz="3500" spc="-1" strike="noStrike">
                <a:solidFill>
                  <a:srgbClr val="ffffff"/>
                </a:solidFill>
                <a:latin typeface="Arial Black"/>
              </a:rPr>
              <a:t>- Energetika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Dalekovodna prenosna mreža- 1 643 k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199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Niskonaponska prenosna mreža- 3 482 k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199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Trafostanice 981 trafostanic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199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Stepen elektrifikacije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-</a:t>
            </a: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 96,5 %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Prioritetne potreb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Rekonstrukcija i revitalizacija postojećih elektro-energetskih objekat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Izgradnja novih elektroenergetskih objekata zbog potreba povećane potražnj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U Majdanpečkoj Opštini 3 DV i 1 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Privredna infrastruktura</a:t>
            </a:r>
            <a:br>
              <a:rPr sz="3500"/>
            </a:b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- PTT saobraćaj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Tel. centrale i kapacitet- 46 centrala, 48 980 brojev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Pokrivenost PTT mrežom- 27,4 TF na 100 stanovnik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Ukupan broj telefonskih pretplatnika- 41 904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cc99"/>
                </a:solidFill>
                <a:latin typeface="Arial Black"/>
              </a:rPr>
              <a:t>Prioritetne potreb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Nova ATC za Majdanpek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Proširenje ATC u Kladovu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Zamena stare ATC u Boru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Nastavak radova na postavljanju optičkog kabla na planiranim pravcim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Privredna infrastruktura</a:t>
            </a:r>
            <a:br>
              <a:rPr sz="3500"/>
            </a:b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- Vodoprivreda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99"/>
                </a:solidFill>
                <a:latin typeface="Arial Black"/>
              </a:rPr>
              <a:t>Izgrađene višenamenske akumulacije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Borsko jezero, HE Đerdap 1 i 2 i Pustinjac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99"/>
                </a:solidFill>
                <a:latin typeface="Arial Black"/>
              </a:rPr>
              <a:t>Izgrađeni zalivni sistemi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Sistem Ključ Kladov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Pilot sistem za navodnjavanje Negotinske nizij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99"/>
                </a:solidFill>
                <a:latin typeface="Arial Black"/>
              </a:rPr>
              <a:t>Prioritetne potreb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Izgradnja akumulacije Bogovin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Izgradnja Negotinske nizije i Ključke tera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Revitalizacija postojećih sistema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 Black"/>
              </a:rPr>
              <a:t>EKOLOŠKA ZAŠTITA VODA (naročito pri velikim poslovnim sistemima RTB Bo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ffffff"/>
                </a:solidFill>
                <a:latin typeface="Arial Black"/>
              </a:rPr>
              <a:t>Komunalna infrastruktura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Snabdevanje stanovništva pijaćom vodo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Izgrađeni vodovodi- 758 km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0" lang="sl-SI" sz="2000" spc="-1" strike="noStrike">
                <a:solidFill>
                  <a:srgbClr val="ffffff"/>
                </a:solidFill>
                <a:latin typeface="Arial Black"/>
              </a:rPr>
              <a:t>roj stanovnika obuhvaćem vodovodnom mrežom-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87%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Naselja sa bunarskim snabdevanjem- 17 naselj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99"/>
                </a:solidFill>
                <a:latin typeface="Arial Black"/>
              </a:rPr>
              <a:t>Prioritetne potreb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Projektovanje trajnog snabdevanja Opštine Majdanpek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Završetak vodosistema Bogovin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 Black"/>
              </a:rPr>
              <a:t>Povećanje kapaciteta svih postojećih sistema i rekonstrukcija postojećih mreža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9:11:04Z</dcterms:created>
  <dc:creator>Nenad Maksimovic</dc:creator>
  <dc:description/>
  <dc:language>en-US</dc:language>
  <cp:lastModifiedBy>CT </cp:lastModifiedBy>
  <dcterms:modified xsi:type="dcterms:W3CDTF">2001-10-04T17:06:06Z</dcterms:modified>
  <cp:revision>21</cp:revision>
  <dc:subject/>
  <dc:title>Borski Okrug</dc:title>
</cp:coreProperties>
</file>