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7D7D-7040-4D3A-967E-892956533A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415E-F1D6-4564-B6F6-C778A918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7B0-B5B4-4259-A45D-5A23B97C7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367F-1693-4DAC-B022-689D776CA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D7BF-665A-465C-AD5A-1DFD17556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3E8A1-B6C5-4C83-A039-C6197A389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F3E34-CB08-4669-BCF2-EC5D38FB0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32B2B-1077-4981-9140-A7AC26012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33F6-BA54-4BA9-90BD-2797A9EB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63061-DB89-4AD3-897D-D498059F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72A44-AA6C-4F41-84E8-CF5E9DC5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1795-CD8D-49DD-8284-0EDB7F11B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EBFB0-F232-4276-91EE-5D2EB227F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E0EA-EBAB-49B1-A37E-7C08B3280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15272-BC0E-46EC-9D78-D1D6861AC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C9DD-D69C-479F-9437-970B40672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49773-A42D-4D5F-A8CB-82261DABF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D065-5117-489F-84A8-2AE76B1C2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7ABD-7575-46E9-A750-0F4F206D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3FD8-97EE-4480-961F-4ECFB70F4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13F7-E915-4D01-939C-079EFE7E1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0C79-07DE-40FE-9B15-C39EAF46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652D-454A-4AE7-92DC-F96A6577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B0E7-D998-4320-A864-13609CC5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BD72-ADC8-44F6-BA4B-2328F16549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BA6DE-F9D0-4AA3-B5DA-A127B042E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43792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b7e7ff"/>
                </a:solidFill>
                <a:latin typeface="Arial"/>
              </a:rPr>
              <a:t>Законске и административне препреке развоја МСПП у Србији</a:t>
            </a:r>
            <a:r>
              <a:rPr b="1" i="1" lang="sr-CS" sz="3600" spc="-1" strike="noStrike">
                <a:solidFill>
                  <a:srgbClr val="b7e7ff"/>
                </a:solidFill>
                <a:latin typeface="Arial"/>
              </a:rPr>
              <a:t> и мере подршк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ffffff"/>
                </a:solidFill>
                <a:latin typeface="Arial"/>
              </a:rPr>
              <a:t>Београд, септембар 2003. год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762120" cy="523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6680" y="0"/>
            <a:ext cx="44960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ffffff"/>
                </a:solidFill>
                <a:latin typeface="Arial"/>
              </a:rPr>
              <a:t>Републичка агенција за развој малих и средњих предузећа и предузетниш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850"/>
                            </p:stCondLst>
                            <p:childTnLst>
                              <p:par>
                                <p:cTn id="1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228600" y="1447920"/>
            <a:ext cx="93726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4520" indent="-66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Један од приоритетних циљева за што лакше  превазилажење законских и административних баријера је формирање регистра важећих правних прописа чиме би се укинули сви неважећи прописи (тренутно егзистира близу 20.000 разних правних аката) и учинити да буду доступни јавности (сајт, брошура и др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-228600" y="4038480"/>
            <a:ext cx="9372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4520" indent="-66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Основни принципи правне реформе су хармонизација са законима Европске Уније,  успостављање правне сигурности и усвајање најбоље европске пракс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09480" y="1219320"/>
            <a:ext cx="8534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ублика Србиј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убличка агенција за развој малих и средњих предузећа и предузетништ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429000"/>
            <a:ext cx="761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пличин венац 1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1000 Београд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.- факс: (+38111) 3346-107; (+38111) 3346-6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-mail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Es@net.y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www.sme.sr.gov.y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191120" y="24382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500"/>
                            </p:stCondLst>
                            <p:childTnLst>
                              <p:par>
                                <p:cTn id="3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3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500"/>
                            </p:stCondLst>
                            <p:childTnLst>
                              <p:par>
                                <p:cTn id="3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2000"/>
                            </p:stCondLst>
                            <p:childTnLst>
                              <p:par>
                                <p:cTn id="3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52280" y="304920"/>
            <a:ext cx="8991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ивредни субјекти у Србији (радње и предузећа) још увек се суочавају са врло сложеном процедуром и прописима, како у фази започињања бизниса и свакодневном пословању, тако и у случају затварања предузећ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правном уређењу Републике Србије не постоје прописи који се посебно односе на МСПП, те се њихов положај и пословање могу посматрати само са аспекта општих одредаба везаних за привредне субјекте уопште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облеми за МСПП налазе се у и области подзаконских акат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ноги основни акти или закони предвиђају одређена правила имплементације или моћ да се донесу акти под одређеним законом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 algn="just">
              <a:spcBef>
                <a:spcPts val="601"/>
              </a:spcBef>
              <a:buClr>
                <a:srgbClr val="ffcc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одзаконски акти су неопходан и интегрални део сваког законодавног система.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160200" y="0"/>
            <a:ext cx="9296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79280" indent="-648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19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стојећа законска основа  којом се регулише оснивање, пословање и престанак предузећа и радњи обухват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-82440" y="1143000"/>
            <a:ext cx="502920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редузећ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риватним предузетниц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Закон о поступку за упис у судски регистар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класификацији делатности и о регистру јединица разврставањ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рад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рачуноводств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страним улагањ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спољнотрговинском пословањ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орезу на добит предузећ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облигационим односим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латном промет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орезу на промет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изградњи објеката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арничном поступ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ванпарничном поступ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181480" y="990720"/>
            <a:ext cx="396252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извршном поступк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условима за обављање промета робе, вршење услуга у промету робе и инспекцијском надзору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 о принудном поравнању, стечају и ликвидациј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концесијама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гаранцијском фонду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заложном праву на покретним стварима уписаним у регистар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52440" indent="-23796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Царински закон и др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2500"/>
                            </p:stCondLst>
                            <p:childTnLst>
                              <p:par>
                                <p:cTn id="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500"/>
                            </p:stCondLst>
                            <p:childTnLst>
                              <p:par>
                                <p:cTn id="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4000"/>
                            </p:stCondLst>
                            <p:childTnLst>
                              <p:par>
                                <p:cTn id="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4500"/>
                            </p:stCondLst>
                            <p:childTnLst>
                              <p:par>
                                <p:cTn id="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500"/>
                            </p:stCondLst>
                            <p:childTnLst>
                              <p:par>
                                <p:cTn id="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000"/>
                            </p:stCondLst>
                            <p:childTnLst>
                              <p:par>
                                <p:cTn id="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5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7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9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1500"/>
                            </p:stCondLst>
                            <p:childTnLst>
                              <p:par>
                                <p:cTn id="14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000" spc="-1" strike="noStrike">
                <a:solidFill>
                  <a:srgbClr val="ffffff"/>
                </a:solidFill>
                <a:latin typeface="Arial"/>
              </a:rPr>
              <a:t>Најчешће препреке са којима се у законодавном смислу суочавају МСПП и предузетници могу се класификовати на следећи начин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09440" y="990720"/>
          <a:ext cx="8991720" cy="5740200"/>
        </p:xfrm>
        <a:graphic>
          <a:graphicData uri="http://schemas.openxmlformats.org/drawingml/2006/table">
            <a:tbl>
              <a:tblPr/>
              <a:tblGrid>
                <a:gridCol w="3471840"/>
                <a:gridCol w="5519880"/>
              </a:tblGrid>
              <a:tr h="37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ласт послова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е потешкоћ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егистровање послова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потребно за регистрацију радње и предузећ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усклађеност судских већа, процедура се не обавља на једном месту истовремено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порост решавања захте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и трошкови регистрациј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воле за градњу и реновирање некретнин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потребно за добијање одређених дозвола и трошкова у вези са активностима изградње објекта, надокнад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тали трошкови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озволе за рад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ужина времена  добијајања дозволе и трошкови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1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прем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едуг процес сертификације опреме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признавање страних техничких сертификат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ак времена и новца поновног добијања домаћег сертификат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блеми везани за поступак допуне атест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10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ока царинска стопа за увоз опреме из иностранств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3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4000"/>
                            </p:stCondLst>
                            <p:childTnLst>
                              <p:par>
                                <p:cTn id="15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28600" y="6262560"/>
            <a:ext cx="83808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6" name=""/>
          <p:cNvGraphicFramePr/>
          <p:nvPr/>
        </p:nvGraphicFramePr>
        <p:xfrm>
          <a:off x="57240" y="152280"/>
          <a:ext cx="8991360" cy="6529680"/>
        </p:xfrm>
        <a:graphic>
          <a:graphicData uri="http://schemas.openxmlformats.org/drawingml/2006/table">
            <a:tbl>
              <a:tblPr/>
              <a:tblGrid>
                <a:gridCol w="3143160"/>
                <a:gridCol w="5848200"/>
              </a:tblGrid>
              <a:tr h="351000">
                <a:tc>
                  <a:txBody>
                    <a:bodyPr lIns="90000" rIns="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ивање/област пословањ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сновне потешкоћ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7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воз и транзит роб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требно за усаглашавање са домаћим стандардима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цес патентирањ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кови изазвани службеним надокнадама; добијања докумената о усаглашености увозних производа за ЈУС;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у структури трошкова преовлађују трошкови царињењ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воз роб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реме трајања организације извоза  и увоза;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кови коришћења царинских складиш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изузетно високи трошкови осигурањ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ертификација производ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исина трошкова неопходних за добијање сертификата.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Рад инспекцијских орган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сечно време боравка инспекција у једном предузећу је изузетно дуго и без стварних ефекат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рошкови подношења обавезних извештај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стојање трошкова, потребно време, папирологија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ески систем, порези и таксе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ески систем је примарно у функцији покрића високих јавних трошкова што генерише иманентну потребу њиховог сталног увећањ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60480" indent="-60480" algn="just">
                        <a:lnSpc>
                          <a:spcPct val="90000"/>
                        </a:lnSpc>
                        <a:buClr>
                          <a:srgbClr val="ffffff"/>
                        </a:buClr>
                        <a:buFont typeface="Times New Roman"/>
                        <a:buChar char="-"/>
                        <a:tabLst>
                          <a:tab algn="l" pos="27468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ески систем карактерише апсолутну централизованост и редистрибуција са једног места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80880" y="1600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опходна је промена начина понашања и рада јавне администрације који мора бити транспарантан и обезбеђивати ефикасно извршавање јавних овлашћења и услуга од интереса за МСПП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0" y="16002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еопходно у овом сектору извршити адекватне измене које ће се темељити на измени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" y="2438280"/>
            <a:ext cx="8915400" cy="43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методологије статистичких праћења МС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оједностављивање процедуре за добијање разних правних докумената, дозвола, решења неопходних за пословање МС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оморски систем није прилагођен потребама већинског чланства приватних МСП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азни заводи, институти и друге научне и јавне институције нису прилагодиле пружање својих услуга стварним потребама предузетника и МСПП у различитим фазама њиховог пословањ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25360" indent="-225360"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ачин понашања и однос администрације пре карактерише одбојан и сувише бирократизован однос насупрот потреби да делује подржавајућ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2500"/>
                            </p:stCondLst>
                            <p:childTnLst>
                              <p:par>
                                <p:cTn id="19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1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3000"/>
                            </p:stCondLst>
                            <p:childTnLst>
                              <p:par>
                                <p:cTn id="20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380880" y="1600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очава се још увек непостојање и неусаглашеност стандарда у области контроле квалитета производа, непостојање одговарајућих домаћих институција и адекватне опреме за узорковање и контролу квалитета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19051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телектуална својина се не штити на одговарајући начин чиме је отворен простор неограниченим злоупотребама ауторских права.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опходно је доношење нових закона и измена постојећих: 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657600"/>
            <a:ext cx="88390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а о ауторским и сродним правима (измена и допу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ознакама географског порекл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патентима (измене и допун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жиговима (измена и допун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Закон о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вној заштити дизај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123840" indent="16668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Закон о заштити топографија интегрисаних кол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5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500"/>
                            </p:stCondLst>
                            <p:childTnLst>
                              <p:par>
                                <p:cTn id="2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2000"/>
                            </p:stCondLst>
                            <p:childTnLst>
                              <p:par>
                                <p:cTn id="2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3500"/>
                            </p:stCondLst>
                            <p:childTnLst>
                              <p:par>
                                <p:cTn id="24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4000"/>
                            </p:stCondLst>
                            <p:childTnLst>
                              <p:par>
                                <p:cTn id="2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1600200"/>
            <a:ext cx="8763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990720"/>
            <a:ext cx="91440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480" indent="-60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сновни циљеви законодавних реформи у Србији и јесу стварање уређеног и стабилног правног система и поузданих, ефикасних институција које штите права власника и тржиште од злоупотреба, стварају једнаке услове на тржишту за новопридошле и промовишу адекватне подстицаје за повећање ефикасности, али и смањење баријера за улазак, непотребних трошкова и ризика регулације за инвеститоре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4267080"/>
            <a:ext cx="9144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 циљу стварања стабилног правног амбијента Народна скупштина Републике Србије усвојила је више стотина измена, допуна и нових законских и подзаконских аката у периоду од 2001. године до данас.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228600" y="914400"/>
            <a:ext cx="93726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4520" indent="-666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Реформа система регистрације привредних субјеката (радњи, предузећа и других) једна је од кључних институционалних мер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0" y="2133720"/>
            <a:ext cx="91440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једностављивањем законских и административних услова/процедуре за  формирање нових и пословањем постојећих МСПП као и стварањем повољних услова пословања, смањиће се почетни трошкови и претерано администрирање ос оснивања па до прве четири године пословања које се сматрају најкритичнијим  у реализацији пословне идеј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доношење нових закона за подршку развоју постојећих и формирању нових МСПП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побољшати систем изра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 нацрта закона кроз што веће укључивање различитих изнтересних груп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15880" indent="-23796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ефикасније извршење судских пресуд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1500"/>
                            </p:stCondLst>
                            <p:childTnLst>
                              <p:par>
                                <p:cTn id="28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08:20:40Z</dcterms:created>
  <dc:creator>mladen</dc:creator>
  <dc:description/>
  <dc:language>en-US</dc:language>
  <cp:lastModifiedBy>Bojan</cp:lastModifiedBy>
  <dcterms:modified xsi:type="dcterms:W3CDTF">2003-10-06T14:39:43Z</dcterms:modified>
  <cp:revision>46</cp:revision>
  <dc:subject/>
  <dc:title>ПИЛОТ ПРОЈЕКАТ</dc:title>
</cp:coreProperties>
</file>