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3BF-4C23-44A4-A5C8-491A59D3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5D9-90E6-4554-A03C-BB4374F1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032-0949-4957-9539-1484EDFF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FC7-7977-4D19-999D-BC3447FA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3586-637C-453F-81D6-DA2F64E1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79CF-CD65-4C62-93D3-A0921F0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6844-9FB4-4DBF-B7E6-E8281DB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9E0-7887-4F63-B76E-DCBE01C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E04-EEEC-470B-9C45-F1C1FCC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CF6D-1D34-44B7-AA88-8615C2C6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67F-7166-47F8-8165-599C70A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0EA-007D-488D-BC0E-2CA4EAB3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3C64-836A-49E2-AE6B-0802B76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B871-6249-4279-B3E9-E0BA1FC7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5F31-E4B0-48A5-B60F-669B5020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1BC9-A377-47B7-9C55-EA1F8AE3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F6B4-AD14-4363-90BD-A3080BD6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F7B-0489-4E23-8E95-0B434D0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94E-095D-4445-B47D-0A52382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B6C-C666-4EF1-8A3B-8C8ED19E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B3A-6483-4285-9D16-50B1F19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04A-A9A9-4107-A1CE-AF8D7F9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86A-6766-4EC4-BC04-365380C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158-F5B9-476F-ACF0-19BE678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CEA-4E3D-4C1A-8B5A-F711EE42A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60D3-2991-4687-893F-2B15F46B9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7e7ff"/>
                </a:solidFill>
                <a:latin typeface="Arial"/>
              </a:rPr>
              <a:t>Законске и административне препреке развоја МСПП у Србији</a:t>
            </a:r>
            <a:r>
              <a:rPr b="1" i="1" lang="sr-CS" sz="3600" spc="-1" strike="noStrike">
                <a:solidFill>
                  <a:srgbClr val="b7e7ff"/>
                </a:solidFill>
                <a:latin typeface="Arial"/>
              </a:rPr>
              <a:t> и мере подрш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Београд, септембар 2003. го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52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0"/>
            <a:ext cx="4496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Републичка агенција за развој малих и средњих предузећа и предузетниш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850"/>
                            </p:stCondLst>
                            <p:childTnLst>
                              <p:par>
                                <p:cTn id="1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28600" y="1447920"/>
            <a:ext cx="9372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4520" indent="-66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Један од приоритетних циљева за што лакше  превазилажење законских и административних баријера је формирање регистра важећих правних прописа чиме би се укинули сви неважећи прописи (тренутно егзистира близу 20.000 разних правних аката) и учинити да буду доступни јавности (сајт, брошура и др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228600" y="4038480"/>
            <a:ext cx="9372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4520" indent="-66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и принципи правне реформе су хармонизација са законима Европске Уније,  успостављање правне сигурности и усвајање најбоље европске прак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219320"/>
            <a:ext cx="8534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убличка агенција за развој малих и средњих предузећа и предузетниш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429000"/>
            <a:ext cx="761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пличин венац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00 Беогр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.- факс: (+38111) 3346-107; (+38111) 3346-6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Es@net.y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www.sme.sr.gov.y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04920"/>
            <a:ext cx="899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вредни субјекти у Србији (радње и предузећа) још увек се суочавају са врло сложеном процедуром и прописима, како у фази започињања бизниса и свакодневном пословању, тако и у случају затварања предузећ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правном уређењу Републике Србије не постоје прописи који се посебно односе на МСПП, те се њихов положај и пословање могу посматрати само са аспекта општих одредаба везаних за привредне субјекте уопшт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и за МСПП налазе се у и области подзаконских акат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и основни акти или закони предвиђају одређена правила имплементације или моћ да се донесу акти под одређеним законо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аконски акти су неопходан и интегрални део сваког законодавног систем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60200" y="0"/>
            <a:ext cx="929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6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стојећа законска основа  којом се регулише оснивање, пословање и престанак предузећа и радњи обухв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82440" y="1143000"/>
            <a:ext cx="5029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редузећ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риватним предузетниц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Закон о поступку за упис у судски региста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класификацији делатности и о регистру јединица разврставањ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рад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рачуноводств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страним улагањ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спољнотрговинском пословањ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орезу на добит предузећ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облигационим однос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латном промет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орезу на пром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изградњи објек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арничном поступ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ванпарничном поступ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990720"/>
            <a:ext cx="39625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извршном поступ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условима за обављање промета робе, вршење услуга у промету робе и инспекцијском надзор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ринудном поравнању, стечају и ликвидац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концесија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гаранцијском фонд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заложном праву на покретним стварима уписаним у региста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ински закон и др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Најчешће препреке са којима се у законодавном смислу суочавају МСПП и предузетници могу се класификовати на следећи начи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09440" y="990720"/>
          <a:ext cx="8991720" cy="5740200"/>
        </p:xfrm>
        <a:graphic>
          <a:graphicData uri="http://schemas.openxmlformats.org/drawingml/2006/table">
            <a:tbl>
              <a:tblPr/>
              <a:tblGrid>
                <a:gridCol w="3471840"/>
                <a:gridCol w="551988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 послова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е потешкоћ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стровање послова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потребно за регистрацију радње и предузећ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склађеност судских већа, процедура се не обавља на једном месту истовремено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ост решавања захте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и трошкови регистр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воле за градњу и реновирање некретни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потребно за добијање одређених дозвола и трошкова у вези са активностима изградње објекта, надокнад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али трошко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воле за р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жина времена  добијајања дозволе и трошков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г процес сертификације опрем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изнавање страних техничких сертификат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ак времена и новца поновног добијања домаћег сертификат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и везани за поступак допуне атест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а царинска стопа за увоз опреме из иностран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6262560"/>
            <a:ext cx="83808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7240" y="152280"/>
          <a:ext cx="8991360" cy="6529680"/>
        </p:xfrm>
        <a:graphic>
          <a:graphicData uri="http://schemas.openxmlformats.org/drawingml/2006/table">
            <a:tbl>
              <a:tblPr/>
              <a:tblGrid>
                <a:gridCol w="3143160"/>
                <a:gridCol w="5848200"/>
              </a:tblGrid>
              <a:tr h="351000">
                <a:tc>
                  <a:txBody>
                    <a:bodyPr lIns="90000" rIns="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/област послова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е потешкоћ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оз и транзит роб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ребно за усаглашавање са домаћим стандардим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с патентирањ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кови изазвани службеним надокнадама; добијања докумената о усаглашености увозних производа за ЈУС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структури трошкова преовлађују трошкови царињењ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воз роб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трајања организације извоза  и увоз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кови коришћења царинских складиш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зетно високи трошкови осигурањ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тификација произ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ина трошкова неопходних за добијање сертификат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д инспекцијских орг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ечно време боравка инспекција у једном предузећу је изузетно дуго и без стварних ефек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кови подношења обавезних извешт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јање трошкова, потребно време, папирологиј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ески систем, порези и такс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ески систем је примарно у функцији покрића високих јавних трошкова што генерише иманентну потребу њиховог сталног увећањ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ески систем карактерише апсолутну централизованост и редистрибуција са једног ме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600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опходна је промена начина понашања и рада јавне администрације који мора бити транспарантан и обезбеђивати ефикасно извршавање јавних овлашћења и услуга од интереса за МСП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00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опходно у овом сектору извршити адекватне измене које ће се темељити на измен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438280"/>
            <a:ext cx="89154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тодологије статистичких праћења МС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једностављивање процедуре за добијање разних правних докумената, дозвола, решења неопходних за пословање МС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морски систем није прилагођен потребама већинског чланства приватних МС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ни заводи, институти и друге научне и јавне институције нису прилагодиле пружање својих услуга стварним потребама предузетника и МСПП у различитим фазама њиховог посло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чин понашања и однос администрације пре карактерише одбојан и сувише бирократизован однос насупрот потреби да делује подржавају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1600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очава се још увек непостојање и неусаглашеност стандарда у области контроле квалитета производа, непостојање одговарајућих домаћих институција и адекватне опреме за узорковање и контролу квалитета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9051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телектуална својина се не штити на одговарајући начин чиме је отворен простор неограниченим злоупотребама ауторских права.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опходно је доношење нових закона и измена постојећих: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65760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а о ауторским и сродним правима (измена и допу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ознакама географског порек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патентима (измене и допу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жиговима (измена и допу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вној заштити дизај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заштити топографија интегрисаних кол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600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90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новни циљеви законодавних реформи у Србији и јесу стварање уређеног и стабилног правног система и поузданих, ефикасних институција које штите права власника и тржиште од злоупотреба, стварају једнаке услове на тржишту за новопридошле и промовишу адекватне подстицаје за повећање ефикасности, али и смањење баријера за улазак, непотребних трошкова и ризика регулације за инвеститор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267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циљу стварања стабилног правног амбијента Народна скупштина Републике Србије усвојила је више стотина измена, допуна и нових законских и подзаконских аката у периоду од 2001. године до данас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228600" y="914400"/>
            <a:ext cx="9372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4520" indent="-66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форма система регистрације привредних субјеката (радњи, предузећа и других) једна је од кључних институционалних 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1337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једностављивањем законских и административних услова/процедуре за  формирање нових и пословањем постојећих МСПП као и стварањем повољних услова пословања, смањиће се почетни трошкови и претерано администрирање ос оснивања па до прве четири године пословања које се сматрају најкритичнијим  у реализацији пословне идеј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ношење нових закона за подршку развоју постојећих и формирању нових МСП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бољшати систем из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 нацрта закона кроз што веће укључивање различитих изнтересних груп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фикасније извршење судских пресуд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8:20:40Z</dcterms:created>
  <dc:creator>mladen</dc:creator>
  <dc:description/>
  <dc:language>en-US</dc:language>
  <cp:lastModifiedBy>Bojan</cp:lastModifiedBy>
  <dcterms:modified xsi:type="dcterms:W3CDTF">2003-10-06T14:39:43Z</dcterms:modified>
  <cp:revision>46</cp:revision>
  <dc:subject/>
  <dc:title>ПИЛОТ ПРОЈЕКАТ</dc:title>
</cp:coreProperties>
</file>