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3A6-F775-4C9B-AF98-CF340C9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171-A362-4414-86BC-E28051D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692-BD28-4B31-9FCC-AF21CACF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35C-5944-49FD-B7B2-4724ED95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6972-C39A-4CE8-9104-6051F8F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CC2E-883D-448C-A000-3191285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AA3E-A376-4443-93AC-94D7C68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119-540D-44BE-B64D-6957A98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B2D6-FB55-493A-AD6A-A7B49A2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714-71CD-4334-A53A-F73B441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9F7E-6204-4B5D-AB90-6F0DF60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8B9-DF48-4719-90D2-8131613B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01F-6CCA-47C8-9445-08A62B07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E29-6A15-468C-8CBA-73B3CE2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2D2-F6DB-4DD7-86A2-EB8ED7D7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818F-D020-4448-BABB-FA65854E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075-1252-41E3-81C6-F4F37FE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2E7-4514-4867-AD91-5CF363E0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AD8-57D2-47A3-8D6E-F66CC08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388-0D08-4D95-9ACE-7EFA5A8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109-A4E6-41AF-9B55-06E8FCE6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8FD-697C-41E9-B4AA-38ED08DF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D71-17F4-462C-AA53-DABA55A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B31-9866-4006-A153-1F891D39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FB98-32B6-48F0-A040-31BCC8FEAE6B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708200"/>
            <a:ext cx="91468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808-2EB0-4D9B-BA82-753214BBD53A}" type="slidenum">
              <a:rPr b="0" lang="ru-R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371240" y="779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8440" y="762120"/>
            <a:ext cx="64706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Uralska agencija za</a:t>
            </a:r>
            <a:r>
              <a:rPr b="1" lang="sr-Latn-CS" sz="3600" spc="-1" strike="noStrike">
                <a:solidFill>
                  <a:srgbClr val="336699"/>
                </a:solidFill>
                <a:latin typeface="Arial Narrow"/>
              </a:rPr>
              <a:t> podršku malim i srednjim preduzećima, Rusija, </a:t>
            </a: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Perm</a:t>
            </a:r>
            <a:br>
              <a:rPr sz="3200"/>
            </a:b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Vrste MSP klijenata Uralske agencije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prema broju zaposlenih)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057400"/>
          <a:ext cx="7562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562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Klijenti i korisnici glavnih usluga Uralske agencije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74880" y="2135160"/>
          <a:ext cx="610236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4880" y="2135160"/>
                    <a:ext cx="610236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Glavne oblasti aktivnosti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ancelarija konsultanta za preduzetnik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ancelarija za pravni konsaltin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“Yurextreem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etodološki trening cent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Cent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r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za razoj politike i ekspertize u razvoju preduzetništv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Informativni i resurs centar za preduzetničku infrastrukturu u Perm region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Biblioteka poslovnog info centr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6699"/>
                </a:solidFill>
                <a:latin typeface="Arial Narrow"/>
              </a:rPr>
              <a:t>Da li biste savetovali drugima da posete agenciju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? </a:t>
            </a: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(</a:t>
            </a:r>
            <a:r>
              <a:rPr b="1" lang="sr-Latn-CS" sz="3200" spc="-1" strike="noStrike">
                <a:solidFill>
                  <a:srgbClr val="336699"/>
                </a:solidFill>
                <a:latin typeface="Arial Narrow"/>
              </a:rPr>
              <a:t>Istraživanje o klijentima</a:t>
            </a:r>
            <a:r>
              <a:rPr b="1" lang="ru-RU" sz="3200" spc="-1" strike="noStrike">
                <a:solidFill>
                  <a:srgbClr val="336699"/>
                </a:solidFill>
                <a:latin typeface="Arial Narrow"/>
              </a:rPr>
              <a:t>)</a:t>
            </a:r>
            <a:br>
              <a:rPr sz="3200"/>
            </a:b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4280" y="2679840"/>
          <a:ext cx="6854760" cy="264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679840"/>
                    <a:ext cx="685476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Informacije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Uralska Agencija za podršku malim i srednjim preduzećima je osnovana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11</a:t>
            </a:r>
            <a:r>
              <a:rPr b="0" lang="sr-Latn-CS" sz="2800" spc="-1" strike="noStrike">
                <a:solidFill>
                  <a:srgbClr val="ff6600"/>
                </a:solidFill>
                <a:latin typeface="Arial"/>
              </a:rPr>
              <a:t>. avgusta 1995.godine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kao komercijalna organizacija (zatvorena korporacija) u saradnji sa propisima Ruske federacije kojima se osniva mreža regionalnih agencija za podršku i razvoj malih i srednjih preduzeća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Akcionari u korporaciji </a:t>
            </a:r>
            <a:br>
              <a:rPr sz="4000"/>
            </a:b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371600"/>
            <a:ext cx="67057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ostoji 13 akcionara u korporaciji, uključujći i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Vlasnički Fond Perm region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Ruske i moskovske agencije za razvoj MSP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reduzetnici i poslovne javne organizacij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Treneri i organizatori treninga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9999"/>
                </a:solidFill>
                <a:latin typeface="Arial"/>
              </a:rPr>
              <a:t>ACDI Informativna Agencija za ekonomiju i živo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Uralsviazinform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SC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itd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Mis</a:t>
            </a: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ija organizacije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436760"/>
          <a:ext cx="7753320" cy="69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36760"/>
                    <a:ext cx="7753320" cy="69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S</a:t>
            </a: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truktura organizacije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2066760"/>
          <a:ext cx="8458200" cy="38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6760"/>
                    <a:ext cx="8458200" cy="3867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6699"/>
                </a:solidFill>
                <a:latin typeface="Arial Narrow"/>
              </a:rPr>
              <a:t>Agencija u ciframa </a:t>
            </a: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2386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usluženih klijenat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7120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ruženih ličnih konsultacij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242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održana seminara za preduzetnika, sa ukupno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41122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učesnik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6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konferencija i ekspertskih diskusij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7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odružnica agencije smeštenih u regionalnim gradov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7 regiona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nih dekreta o podršci preduzetništv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12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ripremljenih i štamapanih uputstav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6 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obavljenih istraživanj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54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 zakonskih akcija preduzetih u ime preduzetnik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Glavni problemi sa kojima se trenutno suočavaju preduzetnici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Istraživanje o preduzetnicima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771640" y="2276640"/>
          <a:ext cx="609624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76640"/>
                    <a:ext cx="609624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Oblasti u kojima se pružaju konsultacije klijentima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Istraživanje o preduzetnicima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28880" y="2568600"/>
          <a:ext cx="607536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2568600"/>
                    <a:ext cx="607536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1722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Potreba za različitima tipovima informacija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990000"/>
                </a:solidFill>
                <a:latin typeface="Arial"/>
              </a:rPr>
              <a:t>Istraživanje o preduzetnicima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2085840"/>
          <a:ext cx="743760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85840"/>
                    <a:ext cx="743760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3:28:42Z</dcterms:created>
  <dc:creator>Маковецкая С.Г.</dc:creator>
  <dc:description/>
  <dc:language>en-US</dc:language>
  <cp:lastModifiedBy>Bojan</cp:lastModifiedBy>
  <cp:lastPrinted>2003-09-24T06:47:02Z</cp:lastPrinted>
  <dcterms:modified xsi:type="dcterms:W3CDTF">2003-10-06T14:21:16Z</dcterms:modified>
  <cp:revision>86</cp:revision>
  <dc:subject/>
  <dc:title>Уральское агентство поддержки малых и средних предприятий </dc:title>
</cp:coreProperties>
</file>