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EEA-777E-4C10-9F87-5923E4BF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C6B-F2C8-4E2B-8D36-D6F15201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DC5-3595-4756-9D62-47CDB5F3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9A2-B213-4935-91FA-FBBE594D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EABA-8BD9-4E6F-950D-A56F9194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CB03-1E3D-4CE8-82F3-E1C91E78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3576-B649-4A5E-9ECA-3BF9572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7CE-CC06-45DF-8722-4CDEE36F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B3E-6BAB-40E4-9548-A9DC9B6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D9A-5186-4950-9C72-8E669F1F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EC3E-A6A7-4061-9FBD-57B614F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C8A-2C18-4E3F-9DE5-14214DB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6907-362D-4B14-9B60-7141676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24D-0C15-41B4-A13A-5224A51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D43B-FC40-442C-AA39-0DE5C58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3076-5A90-4FEA-9E3C-DA7CFFE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2E1-94EA-4A8F-8EB2-DC301DD5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A2B-1981-4E3D-9E44-D12B29A2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9C7-E773-4BBF-BF14-52FEF49D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6A0-62CD-4730-A6FC-0419D24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9DE-CF08-45F2-8DFA-9F25338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7A8-6DA9-494B-ADEE-39C69E1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C3E-333B-41E8-A49B-73ABF99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C4B-3645-49D8-93A0-1A1E552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8B45-D61C-47F3-A4EC-2ACF82C95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8F9A-9A07-49CA-8CB1-F9F6D63A7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133720"/>
            <a:ext cx="8001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ЛОГА И ЗНАЧАЈ САВЕТА ЗА РЕГУЛАТОРНУ РЕФОРМУ У РЕФОРМИ ПРАВНОГ СИСТЕ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ктобар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4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</a:t>
              </a:r>
              <a:r>
                <a:rPr b="1" lang="sr-CS" sz="1400" spc="-1" strike="noStrike">
                  <a:solidFill>
                    <a:srgbClr val="0099ff"/>
                  </a:solidFill>
                  <a:latin typeface="Arial"/>
                </a:rPr>
                <a:t> </a:t>
              </a:r>
              <a:r>
                <a:rPr b="0" lang="sr-CS" sz="1400" spc="-1" strike="noStrike">
                  <a:solidFill>
                    <a:srgbClr val="0099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685440"/>
            <a:ext cx="779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Очекивани ефек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Координирана активност Владе и министарстава у доношењу и измени прописа који су од утицаја на развој МСП и предузетништва у Србиј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остепено увођење приступа праћења регулаторних ефеката прописа, који је до сада изоста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овећање транспарентности процедура доношења нових и измене постојећих прописа кроз веће укључивање свих заинтересованих група у сам поступак, кроз измене Пословника Владе Р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Усвајање иницијативе од стране Владе РС и стварање јединственог регистра важећих прописа како би се олакшало праћење и примена позитивних законских пропи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07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2640" y="685440"/>
            <a:ext cx="779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Потенцијални ризи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довољна посвећеност и ангажованост представника министарстава у остварењу циљева Са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адекватна комуникација на релацији Савет – Влада Р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постојање услова за прерастање Секретаријата Савета у стално тело владе за регулаторно праћење ефеката пропис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13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700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3b"/>
                </a:solidFill>
                <a:latin typeface="Arial"/>
                <a:ea typeface="Arial"/>
              </a:rPr>
              <a:t>Оформљен одлуком Владе РС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Чланови Савета су заменици министара свих релевантних министарст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има свој секретаријат: Секретар, правни саветник, економски савет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комуницира са министарствима и са Вла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доноси закључке, мишљења или препору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286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56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951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Задаци Саве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ти рад и развој приватног предузетништва и предузећ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је иницијативе и предлоге за измене постојећих и доношење нових закона и других пропи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је претходна мишљења на нацрте закона, других прописа и општих аката у делу који се односи на питања од значаја за рад и развој приватног предузетништва и предузећ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86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63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914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Планиране активности Савета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ff"/>
                </a:solidFill>
                <a:latin typeface="Arial"/>
                <a:ea typeface="Arial"/>
              </a:rPr>
              <a:t>Разматрање конкретних прописа и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остојећих зак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ацрта зак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едлога нових зак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ff"/>
                </a:solidFill>
                <a:latin typeface="Arial"/>
                <a:ea typeface="Arial"/>
              </a:rPr>
              <a:t>Унапређење процеса доношења прописа кроз већ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ну сигур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ефикаснос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транспарентн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6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764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разматрању конкретних проп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љење прегледа плана рада на регулаторним реформама свих министарста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а основу прибављених планова рада разматрање нацрта, са аспекта њиховог утицаја на рад и развој МСП и предузетниш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вање коментара, мишљења и препорука на нацрте прописа са аспекта утицаја прописа на МСП и предузетниш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2860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76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на унапређењу процеса доношења пропис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ffff"/>
                </a:solidFill>
                <a:latin typeface="Arial"/>
                <a:ea typeface="Arial"/>
              </a:rPr>
              <a:t>ВЕЋА ТРАНСПАРЕНТН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1624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Промоција веће транспарентности законодавних реформи и подстицање већег укључивања у процес реформи свих интересних груп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1624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У том смислу, иницирање измена пословника Владе Републике Србије ради увођења обавезности јавне расправе у поступку израде пропис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82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42640" y="10666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на унапређењу процеса доношења прописа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ВЕЋА ПРАВНА СИГУРН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авање иницијативе за </a:t>
            </a:r>
            <a:r>
              <a:rPr b="1" lang="sr-Latn-CS" sz="2400" spc="-1" strike="noStrike">
                <a:solidFill>
                  <a:srgbClr val="ffff3b"/>
                </a:solidFill>
                <a:latin typeface="Arial"/>
                <a:ea typeface="Arial"/>
              </a:rPr>
              <a:t>формирање Регистра важећих пропис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Влади Републике Србиј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циљ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журир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видентир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ажећ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ис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д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једноставног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иступ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егледности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г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лиминис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евазиђен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потребн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ис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2860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8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побољшању законодавног проце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РЕГУЛАТОРНА АНАЛИЗА ЕФЕКАТА ПРОПИ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лагач прописа у образложењу треба да одговори на неколико питања од којих су најважниј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проблем се решава прописо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Зашто је потребна интервенција државе у решавању пробле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су циљеви интервенције држа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Да ли је предлог јасан, конзистентан, разумљив и транспарентан за корисни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95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838080"/>
            <a:ext cx="779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побољшању законодавног проце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РЕГУЛАТОРНА АНАЛИЗА ЕФЕКАТА ПРОПИ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Да ли позитивни ефекти оправдавају трошк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га проблем погађа и на кога ће највероватније утицати предложена решењ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су вероватни трошкови за потрошаче, предузетнике и предузећа, укључујући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МСП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 Какав је утицај прописа на улазак на тржиште и излазак са тржишта, као и на тржишну конкуренциј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ако ће предлог бити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спроведен у пракс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01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jan</cp:lastModifiedBy>
  <dcterms:modified xsi:type="dcterms:W3CDTF">2003-10-06T14:36:59Z</dcterms:modified>
  <cp:revision>12</cp:revision>
  <dc:subject/>
  <dc:title>PowerPoint Presentation</dc:title>
</cp:coreProperties>
</file>