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EDCD-CD10-47BC-93DE-DE1D69102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7E6E-D154-4386-83BD-7098F435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9FBD-4F66-46C7-A407-C9ABF3511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D2F1-4A04-4292-9650-3397F4122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E8AE-016B-4170-B36A-4039084B1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1B1A6-B8F5-4450-AFD1-9B552F7D3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32EB6-61E1-4908-908A-A0C479C39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BC275-91EE-4B7E-A82D-F52190348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DEAC1-F695-423A-8EC5-E9EEE04C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730A3-4BA5-4E47-9840-A8B66C4C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B98D-944B-4B67-A778-4B41A1E5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116B-BA9F-48B7-8741-A160DC2F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DAE8-EAF7-445C-BD51-499C253C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B590-8461-4096-8787-0A5EA9D9F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EB77-F98F-4D4D-BEB5-F79501EC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0172F-3693-40C8-87CF-E997EB0A3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BA29-94D0-445F-9F81-880BE7FA2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DE72-D047-4B76-9731-C228660C7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62A7-AE52-456C-9513-E3B96D8B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EEDA-B824-48E0-A522-99C1E655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DC60-D916-40A4-A2CF-E7193CCE2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78BE-E14F-4555-9EB0-75971533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E376-F794-4E3B-B414-CAD096C2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3F7E-C01F-4C4D-A506-102C9335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A863-126E-450B-A108-02EF1EDBD17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just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just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6EA23-CC79-474B-A86D-2BDEBCF594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438280" y="59436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2133720"/>
            <a:ext cx="800100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ЛОГА И ЗНАЧАЈ САВЕТА ЗА РЕГУЛАТОРНУ РЕФОРМУ У РЕФОРМИ ПРАВНОГ СИСТЕМ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октобар 2003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3191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5943600"/>
            <a:ext cx="7010280" cy="707760"/>
            <a:chOff x="1219320" y="5943600"/>
            <a:chExt cx="7010280" cy="707760"/>
          </a:xfrm>
        </p:grpSpPr>
        <p:sp>
          <p:nvSpPr>
            <p:cNvPr id="149" name=""/>
            <p:cNvSpPr/>
            <p:nvPr/>
          </p:nvSpPr>
          <p:spPr>
            <a:xfrm>
              <a:off x="1981080" y="6019920"/>
              <a:ext cx="62485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ка Србиј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Министарство за привреду и приватизацију</a:t>
              </a:r>
              <a:r>
                <a:rPr b="1" lang="sr-CS" sz="1400" spc="-1" strike="noStrike">
                  <a:solidFill>
                    <a:srgbClr val="0099ff"/>
                  </a:solidFill>
                  <a:latin typeface="Arial"/>
                </a:rPr>
                <a:t> </a:t>
              </a:r>
              <a:r>
                <a:rPr b="0" lang="sr-CS" sz="1400" spc="-1" strike="noStrike">
                  <a:solidFill>
                    <a:srgbClr val="0099ff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50" name=""/>
            <p:cNvGraphicFramePr/>
            <p:nvPr/>
          </p:nvGraphicFramePr>
          <p:xfrm>
            <a:off x="1219320" y="5943600"/>
            <a:ext cx="60012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5943600"/>
                      <a:ext cx="6001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ff"/>
                </a:solidFill>
                <a:latin typeface="Arial"/>
              </a:rPr>
              <a:t>Улога и значај Савета за регулаторну реформу у реформи правног система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42640" y="685440"/>
            <a:ext cx="7799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sr-CS" sz="2800" spc="-1" strike="noStrike">
                <a:solidFill>
                  <a:srgbClr val="ffff3b"/>
                </a:solidFill>
                <a:latin typeface="Arial"/>
                <a:ea typeface="Arial"/>
              </a:rPr>
              <a:t>Очекивани ефект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Координирана активност Владе и министарстава у доношењу и измени прописа који су од утицаја на развој МСП и предузетништва у Србиј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Постепено увођење приступа праћења регулаторних ефеката прописа, који је до сада изостао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Повећање транспарентности процедура доношења нових и измене постојећих прописа кроз веће укључивање свих заинтересованих група у сам поступак, кроз измене Пословника Владе РС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Усвајање иницијативе од стране Владе РС и стварање јединственог регистра важећих прописа како би се олакшало праћење и примена позитивних законских пропис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1219320" y="5943600"/>
            <a:ext cx="7010280" cy="707760"/>
            <a:chOff x="1219320" y="5943600"/>
            <a:chExt cx="7010280" cy="707760"/>
          </a:xfrm>
        </p:grpSpPr>
        <p:sp>
          <p:nvSpPr>
            <p:cNvPr id="207" name=""/>
            <p:cNvSpPr/>
            <p:nvPr/>
          </p:nvSpPr>
          <p:spPr>
            <a:xfrm>
              <a:off x="1981080" y="6019920"/>
              <a:ext cx="62485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ка Србиј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Министарство за привреду и приватизацију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08" name=""/>
            <p:cNvGraphicFramePr/>
            <p:nvPr/>
          </p:nvGraphicFramePr>
          <p:xfrm>
            <a:off x="1219320" y="5943600"/>
            <a:ext cx="60012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5943600"/>
                      <a:ext cx="6001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ff"/>
                </a:solidFill>
                <a:latin typeface="Arial"/>
              </a:rPr>
              <a:t>Улога и значај Савета за регулаторну реформу у реформи правног система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2640" y="685440"/>
            <a:ext cx="7799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sr-CS" sz="3200" spc="-1" strike="noStrike">
                <a:solidFill>
                  <a:srgbClr val="ffff3b"/>
                </a:solidFill>
                <a:latin typeface="Arial"/>
                <a:ea typeface="Arial"/>
              </a:rPr>
              <a:t>Потенцијални ризиц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Недовољна посвећеност и ангажованост представника министарстава у остварењу циљева Савет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Неадекватна комуникација на релацији Савет – Влада Р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Непостојање услова за прерастање Секретаријата Савета у стално тело владе за регулаторно праћење ефеката прописа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219320" y="5943600"/>
            <a:ext cx="7010280" cy="707760"/>
            <a:chOff x="1219320" y="5943600"/>
            <a:chExt cx="7010280" cy="707760"/>
          </a:xfrm>
        </p:grpSpPr>
        <p:sp>
          <p:nvSpPr>
            <p:cNvPr id="213" name=""/>
            <p:cNvSpPr/>
            <p:nvPr/>
          </p:nvSpPr>
          <p:spPr>
            <a:xfrm>
              <a:off x="1981080" y="6019920"/>
              <a:ext cx="62485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ка Србиј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Министарство за привреду и приватизацију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14" name=""/>
            <p:cNvGraphicFramePr/>
            <p:nvPr/>
          </p:nvGraphicFramePr>
          <p:xfrm>
            <a:off x="1219320" y="5943600"/>
            <a:ext cx="60012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5943600"/>
                      <a:ext cx="6001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170000" y="9903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ffff3b"/>
                </a:solidFill>
                <a:latin typeface="Arial"/>
                <a:ea typeface="Arial"/>
              </a:rPr>
              <a:t>Оформљен одлуком Владе РС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Чланови Савета су заменици министара свих релевантних министарста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Савет има свој секретаријат: Секретар, правни саветник, економски саветни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Савет комуницира са министарствима и са Влад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Савет доноси закључке, мишљења или препорук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438280" y="59436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752480" y="228600"/>
            <a:ext cx="678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ff"/>
                </a:solidFill>
                <a:latin typeface="Arial"/>
              </a:rPr>
              <a:t>Улога и значај Савета за регулаторну реформу у реформи правног систем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219320" y="5943600"/>
            <a:ext cx="7010280" cy="707760"/>
            <a:chOff x="1219320" y="5943600"/>
            <a:chExt cx="7010280" cy="707760"/>
          </a:xfrm>
        </p:grpSpPr>
        <p:sp>
          <p:nvSpPr>
            <p:cNvPr id="156" name=""/>
            <p:cNvSpPr/>
            <p:nvPr/>
          </p:nvSpPr>
          <p:spPr>
            <a:xfrm>
              <a:off x="1981080" y="6019920"/>
              <a:ext cx="62485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ка Србиј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Министарство за привреду и приватизацију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57" name=""/>
            <p:cNvGraphicFramePr/>
            <p:nvPr/>
          </p:nvGraphicFramePr>
          <p:xfrm>
            <a:off x="1219320" y="5943600"/>
            <a:ext cx="60012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5943600"/>
                      <a:ext cx="6001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990720" y="609480"/>
            <a:ext cx="795168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3b"/>
                </a:solidFill>
                <a:latin typeface="Arial"/>
                <a:ea typeface="Arial"/>
              </a:rPr>
              <a:t>Задаци Савет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Прати рад и развој приватног предузетништва и предузећ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Даје иницијативе и предлоге за измене постојећих и доношење нових закона и других пропис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150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Даје претходна мишљења на нацрте закона, других прописа и општих аката у делу који се односи на питања од значаја за рад и развој приватног предузетништва и предузећа</a:t>
            </a: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438280" y="59436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52480" y="228600"/>
            <a:ext cx="6782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ff"/>
                </a:solidFill>
                <a:latin typeface="Arial"/>
              </a:rPr>
              <a:t>Улога и значај Савета за регулаторну реформу у реформи правног систем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219320" y="5943600"/>
            <a:ext cx="7010280" cy="707760"/>
            <a:chOff x="1219320" y="5943600"/>
            <a:chExt cx="7010280" cy="707760"/>
          </a:xfrm>
        </p:grpSpPr>
        <p:sp>
          <p:nvSpPr>
            <p:cNvPr id="163" name=""/>
            <p:cNvSpPr/>
            <p:nvPr/>
          </p:nvSpPr>
          <p:spPr>
            <a:xfrm>
              <a:off x="1981080" y="6019920"/>
              <a:ext cx="62485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ка Србиј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Министарство за привреду и приватизацију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64" name=""/>
            <p:cNvGraphicFramePr/>
            <p:nvPr/>
          </p:nvGraphicFramePr>
          <p:xfrm>
            <a:off x="1219320" y="5943600"/>
            <a:ext cx="60012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5943600"/>
                      <a:ext cx="6001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447920" y="228240"/>
            <a:ext cx="76960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ff"/>
                </a:solidFill>
                <a:latin typeface="Arial"/>
              </a:rPr>
              <a:t>Улога и значај Савета за регулаторну реформу у реформи правног система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218960" y="914040"/>
            <a:ext cx="7467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3b"/>
                </a:solidFill>
                <a:latin typeface="Arial"/>
                <a:ea typeface="Arial"/>
              </a:rPr>
              <a:t>Планиране активности Савета</a:t>
            </a:r>
            <a:r>
              <a:rPr b="1" lang="sr-CS" sz="2800" spc="-1" strike="noStrike">
                <a:solidFill>
                  <a:srgbClr val="ffff3b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ffff"/>
                </a:solidFill>
                <a:latin typeface="Arial"/>
                <a:ea typeface="Arial"/>
              </a:rPr>
              <a:t>Разматрање конкретних прописа и то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постојећих закон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нацрта закон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предлога нових зак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ffff"/>
                </a:solidFill>
                <a:latin typeface="Arial"/>
                <a:ea typeface="Arial"/>
              </a:rPr>
              <a:t>Унапређење процеса доношења прописа кроз већу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правну сигурнос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ефикасност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33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транспарентнос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219320" y="5943600"/>
            <a:ext cx="7010280" cy="707760"/>
            <a:chOff x="1219320" y="5943600"/>
            <a:chExt cx="7010280" cy="707760"/>
          </a:xfrm>
        </p:grpSpPr>
        <p:sp>
          <p:nvSpPr>
            <p:cNvPr id="169" name=""/>
            <p:cNvSpPr/>
            <p:nvPr/>
          </p:nvSpPr>
          <p:spPr>
            <a:xfrm>
              <a:off x="1981080" y="6019920"/>
              <a:ext cx="62485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ка Србиј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Министарство за привреду и приватизацију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70" name=""/>
            <p:cNvGraphicFramePr/>
            <p:nvPr/>
          </p:nvGraphicFramePr>
          <p:xfrm>
            <a:off x="1219320" y="5943600"/>
            <a:ext cx="60012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5943600"/>
                      <a:ext cx="6001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295280" y="914040"/>
            <a:ext cx="76471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3b"/>
                </a:solidFill>
                <a:latin typeface="Arial"/>
                <a:ea typeface="Arial"/>
              </a:rPr>
              <a:t>	</a:t>
            </a:r>
            <a:r>
              <a:rPr b="1" lang="sr-CS" sz="2800" spc="-1" strike="noStrike">
                <a:solidFill>
                  <a:srgbClr val="ffff3b"/>
                </a:solidFill>
                <a:latin typeface="Arial"/>
                <a:ea typeface="Arial"/>
              </a:rPr>
              <a:t>Активности Савета у разматрању конкретних пропис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Прављење прегледа плана рада на регулаторним реформама свих министарста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На основу прибављених планова рада разматрање нацрта, са аспекта њиховог утицаја на рад и развој МСП и предузетниш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Давање коментара, мишљења и препорука на нацрте прописа са аспекта утицаја прописа на МСП и предузетништв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438280" y="59436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228600"/>
            <a:ext cx="7238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ff"/>
                </a:solidFill>
                <a:latin typeface="Arial"/>
              </a:rPr>
              <a:t>Улога и значај Савета за регулаторну реформу у реформи правног систем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1219320" y="5943600"/>
            <a:ext cx="7010280" cy="707760"/>
            <a:chOff x="1219320" y="5943600"/>
            <a:chExt cx="7010280" cy="707760"/>
          </a:xfrm>
        </p:grpSpPr>
        <p:sp>
          <p:nvSpPr>
            <p:cNvPr id="176" name=""/>
            <p:cNvSpPr/>
            <p:nvPr/>
          </p:nvSpPr>
          <p:spPr>
            <a:xfrm>
              <a:off x="1981080" y="6019920"/>
              <a:ext cx="62485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ка Србиј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Министарство за привреду и приватизацију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77" name=""/>
            <p:cNvGraphicFramePr/>
            <p:nvPr/>
          </p:nvGraphicFramePr>
          <p:xfrm>
            <a:off x="1219320" y="5943600"/>
            <a:ext cx="60012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5943600"/>
                      <a:ext cx="6001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52280"/>
            <a:ext cx="73915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ff"/>
                </a:solidFill>
                <a:latin typeface="Arial"/>
              </a:rPr>
              <a:t>Улога и значај Савета за регулаторну реформу у реформи правног система</a:t>
            </a: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66680" y="914040"/>
            <a:ext cx="7848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3b"/>
                </a:solidFill>
                <a:latin typeface="Arial"/>
                <a:ea typeface="Arial"/>
              </a:rPr>
              <a:t>	</a:t>
            </a:r>
            <a:r>
              <a:rPr b="1" lang="sr-CS" sz="3200" spc="-1" strike="noStrike">
                <a:solidFill>
                  <a:srgbClr val="ffff3b"/>
                </a:solidFill>
                <a:latin typeface="Arial"/>
                <a:ea typeface="Arial"/>
              </a:rPr>
              <a:t>Активности Савета на унапређењу процеса доношења прописа: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ffff3b"/>
                </a:solidFill>
                <a:latin typeface="Arial"/>
                <a:ea typeface="Arial"/>
              </a:rPr>
              <a:t>	</a:t>
            </a:r>
            <a:r>
              <a:rPr b="1" lang="sr-CS" sz="2600" spc="-1" strike="noStrike">
                <a:solidFill>
                  <a:srgbClr val="00ffff"/>
                </a:solidFill>
                <a:latin typeface="Arial"/>
                <a:ea typeface="Arial"/>
              </a:rPr>
              <a:t>ВЕЋА ТРАНСПАРЕНТНОСТ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1624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Промоција веће транспарентности законодавних реформи и подстицање већег укључивања у процес реформи свих интересних група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 algn="just">
              <a:lnSpc>
                <a:spcPct val="90000"/>
              </a:lnSpc>
              <a:spcBef>
                <a:spcPts val="1624"/>
              </a:spcBef>
              <a:buClr>
                <a:srgbClr val="33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Arial"/>
                <a:ea typeface="Arial"/>
              </a:rPr>
              <a:t>У том смислу, иницирање измена пословника Владе Републике Србије ради увођења обавезности јавне расправе у поступку израде прописа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90000"/>
              </a:lnSpc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219320" y="5943600"/>
            <a:ext cx="7010280" cy="707760"/>
            <a:chOff x="1219320" y="5943600"/>
            <a:chExt cx="7010280" cy="707760"/>
          </a:xfrm>
        </p:grpSpPr>
        <p:sp>
          <p:nvSpPr>
            <p:cNvPr id="182" name=""/>
            <p:cNvSpPr/>
            <p:nvPr/>
          </p:nvSpPr>
          <p:spPr>
            <a:xfrm>
              <a:off x="1981080" y="6019920"/>
              <a:ext cx="62485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ка Србиј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Министарство за привреду и приватизацију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83" name=""/>
            <p:cNvGraphicFramePr/>
            <p:nvPr/>
          </p:nvGraphicFramePr>
          <p:xfrm>
            <a:off x="1219320" y="5943600"/>
            <a:ext cx="60012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5943600"/>
                      <a:ext cx="6001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142640" y="1066680"/>
            <a:ext cx="7799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3b"/>
                </a:solidFill>
                <a:latin typeface="Arial"/>
                <a:ea typeface="Arial"/>
              </a:rPr>
              <a:t>	</a:t>
            </a:r>
            <a:r>
              <a:rPr b="1" lang="sr-CS" sz="2800" spc="-1" strike="noStrike">
                <a:solidFill>
                  <a:srgbClr val="ffff3b"/>
                </a:solidFill>
                <a:latin typeface="Arial"/>
                <a:ea typeface="Arial"/>
              </a:rPr>
              <a:t>Активности Савета на унапређењу процеса доношења прописа</a:t>
            </a:r>
            <a:r>
              <a:rPr b="1" lang="sr-CS" sz="3200" spc="-1" strike="noStrike">
                <a:solidFill>
                  <a:srgbClr val="ffff3b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3b"/>
                </a:solidFill>
                <a:latin typeface="Arial"/>
                <a:ea typeface="Arial"/>
              </a:rPr>
              <a:t>	</a:t>
            </a:r>
            <a:r>
              <a:rPr b="1" lang="sr-CS" sz="2200" spc="-1" strike="noStrike">
                <a:solidFill>
                  <a:srgbClr val="00ffff"/>
                </a:solidFill>
                <a:latin typeface="Arial"/>
                <a:ea typeface="Arial"/>
              </a:rPr>
              <a:t>ВЕЋА ПРАВНА СИГУРНОСТ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50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Д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Arial"/>
              </a:rPr>
              <a:t>авање иницијативе за </a:t>
            </a:r>
            <a:r>
              <a:rPr b="1" lang="sr-Latn-CS" sz="2400" spc="-1" strike="noStrike">
                <a:solidFill>
                  <a:srgbClr val="ffff3b"/>
                </a:solidFill>
                <a:latin typeface="Arial"/>
                <a:ea typeface="Arial"/>
              </a:rPr>
              <a:t>формирање Регистра важећих прописа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при Влади Републике Србије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циљу</a:t>
            </a:r>
            <a:r>
              <a:rPr b="1" lang="sr-Latn-CS" sz="2400" spc="-1" strike="noStrike">
                <a:solidFill>
                  <a:srgbClr val="ffffff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125"/>
              </a:spcBef>
              <a:buClr>
                <a:srgbClr val="33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ажурирања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евидентирања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важећих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рописа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ради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једноставног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риступа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и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регледности</a:t>
            </a:r>
            <a:r>
              <a:rPr b="1" lang="sr-CS" sz="1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1125"/>
              </a:spcBef>
              <a:buClr>
                <a:srgbClr val="333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једнократног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елиминисања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ревазиђених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непотребних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прописа</a:t>
            </a:r>
            <a:r>
              <a:rPr b="1" lang="sr-Latn-CS" sz="1800" spc="-1" strike="noStrike">
                <a:solidFill>
                  <a:srgbClr val="ffffff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438280" y="594360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228600"/>
            <a:ext cx="716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ff"/>
                </a:solidFill>
                <a:latin typeface="Arial"/>
              </a:rPr>
              <a:t>Улога и значај Савета за регулаторну реформу у реформи правног систем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19320" y="5943600"/>
            <a:ext cx="7010280" cy="707760"/>
            <a:chOff x="1219320" y="5943600"/>
            <a:chExt cx="7010280" cy="707760"/>
          </a:xfrm>
        </p:grpSpPr>
        <p:sp>
          <p:nvSpPr>
            <p:cNvPr id="189" name=""/>
            <p:cNvSpPr/>
            <p:nvPr/>
          </p:nvSpPr>
          <p:spPr>
            <a:xfrm>
              <a:off x="1981080" y="6019920"/>
              <a:ext cx="62485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ка Србиј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Министарство за привреду и приватизацију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90" name=""/>
            <p:cNvGraphicFramePr/>
            <p:nvPr/>
          </p:nvGraphicFramePr>
          <p:xfrm>
            <a:off x="1219320" y="5943600"/>
            <a:ext cx="60012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5943600"/>
                      <a:ext cx="6001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00200" y="22860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ff"/>
                </a:solidFill>
                <a:latin typeface="Arial"/>
              </a:rPr>
              <a:t>Улога и значај Савета за регулаторну реформу у реформи правног система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43000" y="83808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3b"/>
                </a:solidFill>
                <a:latin typeface="Arial"/>
                <a:ea typeface="Arial"/>
              </a:rPr>
              <a:t>Активности Савета у побољшању законодавног процес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3b"/>
                </a:solidFill>
                <a:latin typeface="Arial"/>
                <a:ea typeface="Arial"/>
              </a:rPr>
              <a:t>	</a:t>
            </a:r>
            <a:r>
              <a:rPr b="1" lang="sr-CS" sz="2200" spc="-1" strike="noStrike">
                <a:solidFill>
                  <a:srgbClr val="00ffff"/>
                </a:solidFill>
                <a:latin typeface="Arial"/>
                <a:ea typeface="Arial"/>
              </a:rPr>
              <a:t>РЕГУЛАТОРНА АНАЛИЗА ЕФЕКАТА ПРОПИС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250"/>
              </a:spcBef>
              <a:buClr>
                <a:srgbClr val="3333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Предлагач прописа у образложењу треба да одговори на неколико питања од којих су најважниј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Који проблем се решава прописо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м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Зашто је потребна интервенција државе у решавању проблем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Који су циљеви интервенције држав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Да ли је предлог јасан, конзистентан, разумљив и транспарентан за корисник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219320" y="5943600"/>
            <a:ext cx="7010280" cy="707760"/>
            <a:chOff x="1219320" y="5943600"/>
            <a:chExt cx="7010280" cy="707760"/>
          </a:xfrm>
        </p:grpSpPr>
        <p:sp>
          <p:nvSpPr>
            <p:cNvPr id="195" name=""/>
            <p:cNvSpPr/>
            <p:nvPr/>
          </p:nvSpPr>
          <p:spPr>
            <a:xfrm>
              <a:off x="1981080" y="6019920"/>
              <a:ext cx="62485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ка Србиј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Министарство за привреду и приватизацију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196" name=""/>
            <p:cNvGraphicFramePr/>
            <p:nvPr/>
          </p:nvGraphicFramePr>
          <p:xfrm>
            <a:off x="1219320" y="5943600"/>
            <a:ext cx="60012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5943600"/>
                      <a:ext cx="6001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3333ff"/>
                </a:solidFill>
                <a:latin typeface="Arial"/>
              </a:rPr>
              <a:t>Улога и значај Савета за регулаторну реформу у реформи правног система</a:t>
            </a:r>
            <a:br>
              <a:rPr sz="1600"/>
            </a:br>
            <a:endParaRPr b="0" lang="en-US" sz="1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2640" y="838080"/>
            <a:ext cx="779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sr-CS" sz="2800" spc="-1" strike="noStrike">
                <a:solidFill>
                  <a:srgbClr val="ffff3b"/>
                </a:solidFill>
                <a:latin typeface="Arial"/>
                <a:ea typeface="Arial"/>
              </a:rPr>
              <a:t>Активности Савета у побољшању законодавног процеса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3b"/>
                </a:solidFill>
                <a:latin typeface="Arial"/>
                <a:ea typeface="Arial"/>
              </a:rPr>
              <a:t>	</a:t>
            </a:r>
            <a:r>
              <a:rPr b="1" lang="sr-CS" sz="2200" spc="-1" strike="noStrike">
                <a:solidFill>
                  <a:srgbClr val="00ffff"/>
                </a:solidFill>
                <a:latin typeface="Arial"/>
                <a:ea typeface="Arial"/>
              </a:rPr>
              <a:t>РЕГУЛАТОРНА АНАЛИЗА ЕФЕКАТА ПРОПИСА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Да ли позитивни ефекти оправдавају трошков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Кога проблем погађа и на кога ће највероватније утицати предложена решења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Који су вероватни трошкови за потрошаче, предузетнике и предузећа, укључујући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МСП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? Какав је утицај прописа на улазак на тржиште и излазак са тржишта, као и на тржишну конкуренцију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Како ће предлог бити </a:t>
            </a:r>
            <a:r>
              <a:rPr b="1" lang="sr-CS" sz="2000" spc="-1" strike="noStrike">
                <a:solidFill>
                  <a:srgbClr val="ffffff"/>
                </a:solidFill>
                <a:latin typeface="Arial"/>
                <a:ea typeface="Arial"/>
              </a:rPr>
              <a:t>спроведен у пракси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219320" y="5943600"/>
            <a:ext cx="7010280" cy="707760"/>
            <a:chOff x="1219320" y="5943600"/>
            <a:chExt cx="7010280" cy="707760"/>
          </a:xfrm>
        </p:grpSpPr>
        <p:sp>
          <p:nvSpPr>
            <p:cNvPr id="201" name=""/>
            <p:cNvSpPr/>
            <p:nvPr/>
          </p:nvSpPr>
          <p:spPr>
            <a:xfrm>
              <a:off x="1981080" y="6019920"/>
              <a:ext cx="6248520" cy="63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Република Србија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Министарство за привреду и приватизацију </a:t>
              </a:r>
              <a:r>
                <a:rPr b="0" lang="sr-C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aphicFrame>
          <p:nvGraphicFramePr>
            <p:cNvPr id="202" name=""/>
            <p:cNvGraphicFramePr/>
            <p:nvPr/>
          </p:nvGraphicFramePr>
          <p:xfrm>
            <a:off x="1219320" y="5943600"/>
            <a:ext cx="600120" cy="685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0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219320" y="5943600"/>
                      <a:ext cx="600120" cy="685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jan</cp:lastModifiedBy>
  <dcterms:modified xsi:type="dcterms:W3CDTF">2003-10-06T14:36:59Z</dcterms:modified>
  <cp:revision>12</cp:revision>
  <dc:subject/>
  <dc:title>PowerPoint Presentation</dc:title>
</cp:coreProperties>
</file>