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563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E09B-356E-464E-BAB7-A9A39E0E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D8C2-7992-4E03-BEB9-6348E95E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D5A4-B7A8-44A5-A35B-D44BFFEDA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1CDB-275F-4BA0-BD81-4CB3B022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559B-A704-4D6A-8848-42D22156A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BA7D-311F-4E5B-9271-1B4D50EE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1568-F9D5-47AE-9FBD-B7DA91EC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9411-ACAD-448A-B1B5-14DED8A0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004A-C310-4B1B-919C-89213349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CA8C-8AA6-4381-A9AF-BA2E7664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9319-DE57-4151-A66B-60374A98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D2B8-AF41-499F-BE54-5F9A5AF0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CF65-3842-489F-A5C6-39B93617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824C-7675-44E5-B41F-D4D4578B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1E04-A7AB-494F-B583-A8D697EF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0F6A-E802-4173-B198-D35013BC6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FBA4-E4E2-4AF3-98F2-F0150B50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DADE-522F-4C05-9E3E-EB18B641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BA06-A4B5-45EE-B488-FB984F9A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3B82-E769-47BB-BD6A-F94B0F1D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8E46-204C-4DB0-BBD4-6D0ED887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4C44-0394-496B-B890-D335DA81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7440-CE88-41F9-8D80-D23D377A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0194-966D-4D95-8FE6-14B8758B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D32D-8850-4B1E-A64E-D2938EB62BD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37184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7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3E33-15AD-4D78-B338-A9CCA7CC95B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7184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Mala i srednja preduzeća – Nove mogućnosti za Srbiju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62120" y="2743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vovi i preporuke konferencij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lagoje Paunovi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moćnik minist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Beograd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, 6-7.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ktobar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200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6666"/>
                </a:solidFill>
                <a:latin typeface="Arial"/>
              </a:rPr>
              <a:t>Povezivanje obrazovanja i biznis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cionalni program za preduzetničko osposobljavanje na svim nivoima obrazovan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 algn="just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zvoj mreže institucija koje se bave obrazovanjem za preduzetništ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 algn="just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reiranje nastavnih programa i definisanje modaliteta uključivanja “preduzetništva” u obrazovne proce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 algn="just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dizanje nivoa kvaliteta  nastavnog i trening osobl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zgradnja nacionalnog inovacionog sistema kao razvojnog lanca: Obrazovanje-IR-MS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01B5-7924-4EE8-A165-C57318193FE0}" type="slidenum">
              <a:t>10</a:t>
            </a:fld>
          </a:p>
        </p:txBody>
      </p:sp>
    </p:spTree>
  </p:cSld>
  <p:transition spd="slow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6666"/>
                </a:solidFill>
                <a:latin typeface="Arial"/>
              </a:rPr>
              <a:t>Inovacije i tehnologije za MSP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21.veku inovacije su glavni pokretač privrednog rasta i uslovljavaju konkurentnost regiona i nacij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rbija, u cilju razvoja inovativnog društva i stvaranja ekonomije  zasnovane na znanju, mora obezbediti  inovativnost MSP, a samim tim i povećati njegovu  konkurentnos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risteći postojeće potencijale u znanju (sa težištem na doživotnom učenju) i u naučnoistraživačkom sistemu (sa jačanjem veza prema MSP)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 stvarajući povoljne makroekonomske uslove (inovativna politika, pravno i finasijsko okruženje...) i uslove za jačanje preduzetničke kul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B760-2D8D-4F82-866A-8DF5D36A6441}" type="slidenum">
              <a:t>11</a:t>
            </a:fld>
          </a:p>
        </p:txBody>
      </p:sp>
    </p:spTree>
  </p:cSld>
  <p:transition spd="slow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6666"/>
                </a:solidFill>
                <a:latin typeface="Arial"/>
              </a:rPr>
              <a:t>MSP i turiza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bezbedjivanje finansijske i nefinansijske podrške MSP u turizmu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zvoj turizma kroz partnerstvo javnog i privatnog sektora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državanje razvoja turizma kroz koncept klaste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C153-6064-4E95-BE25-9A108821AD05}" type="slidenum">
              <a:t>12</a:t>
            </a:fld>
          </a:p>
        </p:txBody>
      </p:sp>
    </p:spTree>
  </p:cSld>
  <p:transition spd="slow"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66"/>
                </a:solidFill>
                <a:latin typeface="Arial"/>
              </a:rPr>
              <a:t>Kreiranje pozitivnog pravnog okruženja za MSP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Don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enje svih neophodnih zakona iz oblasti kompanijskog prava (a pre svih Zakon o preduz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ima, Zakon o registraciji privrednih subjekata, Zakon o st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aju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likvidaciji itd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) koj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e biti u saglasnosti sa kompanijskim pravom EU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brzanje zakonodavne procedure pri don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enju zakona iz oblasti privrednog prava (nar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ito onih koji se odnose n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SP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unapredjenje koordinacije u postupku izrade propi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sagl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avanje svih propisa u ovoj oblast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don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enje registra propisa koja bi sad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žava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sve pozitivne propise, uključuju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zakone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podzakonska akt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apredjenje zakonodavnog procesa uklju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vanjem svih interesnih grupa u proces don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š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ja propis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E864-F86C-44D4-8BD8-A547C65877E5}" type="slidenum">
              <a:t>13</a:t>
            </a:fld>
          </a:p>
        </p:txBody>
      </p:sp>
    </p:spTree>
  </p:cSld>
  <p:transition spd="slow"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6666"/>
                </a:solidFill>
                <a:latin typeface="Arial"/>
              </a:rPr>
              <a:t>MSP i digitalno dob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razovanje vlasnika, menadžera i zaposlenih u MS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-awareness i e-skil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onska regulativa - koja j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ais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 skladu sa normama EU i koja 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ais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provod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ktura - na nivou koji obezbeđuje “broadband” Interne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voj i primena e-Uprave - uz snažnu, glasnu, neprekidnu i javnu podršku sa najvišeg političkog nivo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istiti najnovija evropska iskustva u primeni e-tehnologija u poslovanju MS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sticati međusob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zmenu iskustava MS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D8A1-082A-41F1-BD46-2DF6808D6468}" type="slidenum">
              <a:t>14</a:t>
            </a:fld>
          </a:p>
        </p:txBody>
      </p:sp>
    </p:spTree>
  </p:cSld>
  <p:transition spd="slow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6666"/>
                </a:solidFill>
                <a:latin typeface="Arial"/>
              </a:rPr>
              <a:t>Finansiranje MSP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ef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isan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lokupnog sistema finansiranja r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ja MSP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zrad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kroekonomske projekcije potreba i izvora sredstava za finansiranje razvoja MSP, posebno sa aspekta ciljeva utvrđenih St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gijom Razvoja MSP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Definisanje zakonskog okvira za kreiranje specijalizovanih institucija (kreditnih, garantnih i investicionih fondova, registar pokretne i nepokretne imovine i td.) i kreiranja novih finansijskih instrumenata i shema na tržišnim osnovam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kacij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r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nika u izradi i bankara u proceni poslovnih projekat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rada «Bele knjige» kako bi se definisali zadaci i identifikovala resorna ministarstva za realizaciju utvrđenih cilje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0690-EB01-417A-9622-0C4BC88422E5}" type="slidenum">
              <a:t>2</a:t>
            </a:fld>
          </a:p>
        </p:txBody>
      </p:sp>
    </p:spTree>
  </p:cSld>
  <p:transition spd="slow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66"/>
                </a:solidFill>
                <a:latin typeface="Arial"/>
              </a:rPr>
              <a:t>Razvoj menadžerskih kapaciteta u MSP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voj najbolje prakse menadžment kapaciteta u MS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većanje svesti MSP o raspoloživim predlozima u odnosu na trening za izvršioce i konsalting uslug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isanje konsolidovanih i preciznih podataka o demografiji, trgovini, regionalnim i lokalnim tržištima, ljudskim resursima itd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azvoj kapaciteta na lokalnom nivou i nivou donatora sa ciljem da se pruži trening i konsalting usluge MS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oboljšanje koordinacije između donatorskih agencija koje su aktivne u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dršci razvoja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S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E836-A05C-47DB-9866-15F72B18A400}" type="slidenum">
              <a:t>3</a:t>
            </a:fld>
          </a:p>
        </p:txBody>
      </p:sp>
    </p:spTree>
  </p:cSld>
  <p:transition spd="slow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66"/>
                </a:solidFill>
                <a:latin typeface="Arial"/>
              </a:rPr>
              <a:t>Regionalne agencije i medjunarodna saradnj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radionici su istaknute neke oblasti potencijalne saradnje izm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srpskih i ruskih regionalnih agencij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k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anje uvoza / izvoza i transfera tehnologije između MSP u Rusiji i Srbiji, razmena baze podataka, promocija, trgovinske misije, it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radnja srpskih i ruskih agencija u oblasti razvoja proizvodnje, finansijskih mehanizama za MSP, standardima kvaliteta usluga, širenje najbolje prakse i nadgradnja kapacite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rening trene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sultan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E776-09D1-4A13-9644-0F21935B35FB}" type="slidenum">
              <a:t>4</a:t>
            </a:fld>
          </a:p>
        </p:txBody>
      </p:sp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66"/>
                </a:solidFill>
                <a:latin typeface="Arial"/>
              </a:rPr>
              <a:t>Nadgradnja naših prednosti</a:t>
            </a:r>
            <a:br>
              <a:rPr sz="3200"/>
            </a:br>
            <a:r>
              <a:rPr b="0" lang="sr-CS" sz="3200" spc="-1" strike="noStrike">
                <a:solidFill>
                  <a:srgbClr val="006666"/>
                </a:solidFill>
                <a:latin typeface="Arial"/>
              </a:rPr>
              <a:t>-</a:t>
            </a:r>
            <a:r>
              <a:rPr b="0" lang="sr-Latn-CS" sz="3200" spc="-1" strike="noStrike">
                <a:solidFill>
                  <a:srgbClr val="006666"/>
                </a:solidFill>
                <a:latin typeface="Arial"/>
              </a:rPr>
              <a:t>sektori i klasteri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jasniti vrednost klastera identifikovanj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jboljih klastera i javnim prezentovanjem njegovog uspeh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rzih uspeh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koja će ohrabriti potencijalne članove klastera da uvide vrednost kooperacij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gućnosti da napra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stupni sk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odnosno da pridobiju najzahtevnije klijente na način tako da mnogi članovi klastera mogu da značajno povećaju svoju dobit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ržišnih marki proizvoda na nacionalnom ili regionalnom nivou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eirati studije slučaja koje bi pokazale mogućnosti za povećanje dobiti saradnjom sa klasteri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koristiti popularne kanale komunikacije  (televizija ...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lada treba da pomogne u promovisanju koncepta klastera.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0E7C-8893-4CF8-8289-98C40A2742A7}" type="slidenum">
              <a:t>5</a:t>
            </a:fld>
          </a:p>
        </p:txBody>
      </p:sp>
    </p:spTree>
  </p:cSld>
  <p:transition spd="slow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66"/>
                </a:solidFill>
                <a:latin typeface="Arial"/>
              </a:rPr>
              <a:t>Lokalno partnerstvo za razvoj malog biznis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kalno partnerstvo stejkholdera je krit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za odrzivost lokalne infrastrukture za podrsku biznisu kao sto su regionalne MSP agencij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loga svakog lokalnog partnera treba da bude zasnovana na njhovoj snazi i treba je definisati na pocetku saradnj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vajanje lokalnih ekonomskih strategija i planov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ri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za razvoj biznisa na lokalnom nivou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est o nužnosti saradnje i partnerska kultura mnogo su značajniji za sardanju stakeholdera nego formalni oblici saradn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reban je razvoj preduzetničke kulture i novog stila menadžmenta u našim opštinama kako bi se ostvario sinergetski efekat razvoj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mal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u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ećim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55AC-C809-40C4-AAB8-B13E95646E9D}" type="slidenum">
              <a:t>6</a:t>
            </a:fld>
          </a:p>
        </p:txBody>
      </p:sp>
    </p:spTree>
  </p:cSld>
  <p:transition spd="slow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6666"/>
                </a:solidFill>
                <a:latin typeface="Arial"/>
              </a:rPr>
              <a:t>Suzbijanje “neformalne ekonomije”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Siva ekonomija deluje kao ograničavajući faktor brže tranzicije privrede i direktno ugožava opstanak i razvoj postojećih i stvaranje novih MSP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Smanjenje sive ekonomije može se ostvariti kroz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Efikasnu javnu upravu usmerenu ka zadovoljenju potreba korisnika, bez korupcij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Pravične, jednostavne i transparentne poreske zakone i regulativu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Konzistentnu, objektivnu i efikasnu primenu poreskih propisa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Racionalnu javnu potrošnj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eformom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05840" indent="-20088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sistema poslovnog registra osnivanjem Agencije za registraciju privrednih subjekata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05840" indent="-20088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poreskog sistema uvođenjem  PDV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05840" indent="-20088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sistema socijalnog osiguranja uvođenjem dobrovoljnog penzijskog i zdravstvenog osiguranja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05840" indent="-20088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finansijskog sistema izgradnjom specijalizovanih institucija za finansiranje potreba razvoja MSP, posebno za start-up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ktivni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 mera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 ekonomske politike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05840" indent="-20088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primenom specifičnih poreskih podsticaja i oslobađanja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za MSP i preduzetnik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05840" indent="-20088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obezbeđivanje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 povoljnijeg pristupa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MSP i preduzetnika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tržištu kapital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058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4009-66CF-4748-BA15-0AED03BEA359}" type="slidenum">
              <a:t>7</a:t>
            </a:fld>
          </a:p>
        </p:txBody>
      </p:sp>
    </p:spTree>
  </p:cSld>
  <p:transition spd="slow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6666"/>
                </a:solidFill>
                <a:latin typeface="Arial"/>
              </a:rPr>
              <a:t>MSP i izvoz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rek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 izvoz MSP s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dostatak finansijskih sredstava i osiguranja izvoznih poslova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adekvatna istraživanja i informacije o potencijalnim izvoznim tržištima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dostatak tehničke pomoći za obezbedjenje  kvaliteta, standarda i dizajna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rgovinske preprek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adekvatno državno finansiranje institucionalne podrše za razvoj promocije i izvoza MSP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76C5-710C-4379-AAF4-00F1BBE15F07}" type="slidenum">
              <a:t>8</a:t>
            </a:fld>
          </a:p>
        </p:txBody>
      </p:sp>
    </p:spTree>
  </p:cSld>
  <p:transition spd="slow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6666"/>
                </a:solidFill>
                <a:latin typeface="Arial"/>
              </a:rPr>
              <a:t>Podržavanje preduzeća-početnik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postojanje fondova za start-up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ophodnost izmene pravne regulative za start-up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efinisanje sistemskog okvira za funkcionisanje mikrokreditnih organizacija i sektora NVO u pružanju podrške razvoju MSP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inansijska i nefinansijska podrška su podjednako važne za start-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rganizovati posebnu konferenciju o privlačenju kapitala za start up firme u Srbij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5FE1-9AF5-4BAD-B000-63B6B4F95080}" type="slidenum">
              <a:t>9</a:t>
            </a:fld>
          </a:p>
        </p:txBody>
      </p:sp>
    </p:spTree>
  </p:cSld>
  <p:transition spd="slow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20:16:13Z</dcterms:created>
  <dc:creator>Vladimir Cupic</dc:creator>
  <dc:description/>
  <dc:language>en-US</dc:language>
  <cp:lastModifiedBy>Bojan</cp:lastModifiedBy>
  <dcterms:modified xsi:type="dcterms:W3CDTF">2003-10-17T13:13:40Z</dcterms:modified>
  <cp:revision>428</cp:revision>
  <dc:subject/>
  <dc:title>Restructuring in Privatization Procedure</dc:title>
</cp:coreProperties>
</file>