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563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F5F-D958-4772-B308-B43EBC5FE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15E-2E59-431B-B0D8-CFECF897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9E91-8B50-404F-91FE-E8D17A6F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BF4F-903B-4C30-9735-3E141531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8B481-854C-4734-AC73-5DBC5FC64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CCF70-1B67-4CF4-A9D0-1EB86C03D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D9FC-2919-471C-BCC3-5B9C118D2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3FCA-494B-4AA4-927F-3BBB50045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F3136-A58D-4006-BE6D-81FC15BDC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0050-A4A5-4E45-87AB-EF2547A55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7071A-168B-4B37-9D34-7D03F607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1E94-0933-473B-B675-A22C9C55E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812E-7D7F-4A9E-B0E9-847ABBEF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F52B6-0CA7-47C9-865F-E64E9D717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FF21-8068-4CD5-9F1A-81DF2AE6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8AA9E-C961-4234-9808-D2F7A293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1CEFF-5081-4989-80E1-62432A96A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BE44-418C-4A25-8045-F991EC09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1CA-1F56-4500-B47D-DDE1F62DE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3FD5-C8A7-440B-B4A3-C9D5407A1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83F1-B48B-48CC-B6A6-8184DBE81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6F9E7-8688-4119-9A15-1E008B0C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476B-2DE5-4955-B347-049F98FA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31A4-BF93-4467-816C-62FFB4722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CB976-4AE1-42E1-AD5C-A3920A589CB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3718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851BC-8421-4D44-B027-7B38A6F90F1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7184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Mala i srednja preduzeća – Nove mogućnosti za Srbiju 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62120" y="2743200"/>
            <a:ext cx="7696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vovi i preporuke konferencije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lagoje Paunović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moćnik minist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Beograd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 6-7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oktobar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200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just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indent="0" algn="just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cover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Povezivanje obrazovanja i biznis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acionalni program za preduzetničko osposobljavanje na svim nivoima obrazovan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voj mreže institucija koje se bave obrazovanjem za preduzetništv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Kreiranje nastavnih programa i definisanje modaliteta uključivanja “preduzetništva” u obrazovne proce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83280" indent="-262800" algn="just">
              <a:lnSpc>
                <a:spcPct val="100000"/>
              </a:lnSpc>
              <a:spcBef>
                <a:spcPts val="601"/>
              </a:spcBef>
              <a:buClr>
                <a:srgbClr val="99cccc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izanje nivoa kvaliteta  nastavnog i trening osoblj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zgradnja nacionalnog inovacionog sistema kao razvojnog lanca: Obrazovanje-IR-MSP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9426-6270-444F-8026-0D35E1B2B082}" type="slidenum">
              <a:t>10</a:t>
            </a:fld>
          </a:p>
        </p:txBody>
      </p:sp>
    </p:spTree>
  </p:cSld>
  <p:transition spd="slow">
    <p:cover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Inovacije i tehnologije za MS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 21.veku inovacije su glavni pokretač privrednog rasta i uslovljavaju konkurentnost regiona i nacij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rbija, u cilju razvoja inovativnog društva i stvaranja ekonomije  zasnovane na znanju, mora obezbediti  inovativnost MSP, a samim tim i povećati njegovu  konkurentnos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risteći postojeće potencijale u znanju (sa težištem na doživotnom učenju) i u naučnoistraživačkom sistemu (sa jačanjem veza prema MSP)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 stvarajući povoljne makroekonomske uslove (inovativna politika, pravno i finasijsko okruženje...) i uslove za jačanje preduzetničke kultur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AEB8-B364-40C1-A5BA-C1FF731C4AE6}" type="slidenum">
              <a:t>11</a:t>
            </a:fld>
          </a:p>
        </p:txBody>
      </p:sp>
    </p:spTree>
  </p:cSld>
  <p:transition spd="slow">
    <p:cover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MSP i turizam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bezbedjivanje finansijske i nefinansijske podrške MSP u turizmu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Razvoj turizma kroz partnerstvo javnog i privatnog sektor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održavanje razvoja turizma kroz koncept klaste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D48-A692-4463-843F-396050CB082B}" type="slidenum">
              <a:t>12</a:t>
            </a:fld>
          </a:p>
        </p:txBody>
      </p:sp>
    </p:spTree>
  </p:cSld>
  <p:transition spd="slow">
    <p:cover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Kreiranje pozitivnog pravnog okruženja za MS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on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je svih neophodnih zakona iz oblasti kompanijskog prava (a pre svih Zakon o preduz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ma, Zakon o registraciji privrednih subjekata, Zakon o st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j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likvidaciji it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 koj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 biti u saglasnosti sa kompanijskim pravom E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brzanje zakonodavne procedure pri don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ju zakona iz oblasti privrednog prava (nar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to onih koji se odnose n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SP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i unapredjenje koordinacije u postupku izrade propis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sagl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avanje svih propisa u ovoj oblast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don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enje registra propisa koja bi sad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žava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sve pozitivne propise, uključuj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ć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zakone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podzakonska akt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napredjenje zakonodavnog procesa uklju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vanjem svih interesnih grupa u proces dono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š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ja propis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264B-0A10-4758-84C5-54872815705B}" type="slidenum">
              <a:t>13</a:t>
            </a:fld>
          </a:p>
        </p:txBody>
      </p:sp>
    </p:spTree>
  </p:cSld>
  <p:transition spd="slow">
    <p:cover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MSP i digitalno dob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razovanje vlasnika, menadžera i zaposlenih u MS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e-awareness i e-skil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akonska regulativa - koja j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i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 skladu sa normama EU i koja s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is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provod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rastruktura - na nivou koji obezbeđuje “broadband” Interne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oj i primena e-Uprave - uz snažnu, glasnu, neprekidnu i javnu podršku sa najvišeg političkog nivo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ristiti najnovija evropska iskustva u primeni e-tehnologija u poslovanju MS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dsticati međusob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razmenu iskustava MS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4AE7-99A4-4386-9AD4-ECF2A42F3E59}" type="slidenum">
              <a:t>14</a:t>
            </a:fld>
          </a:p>
        </p:txBody>
      </p:sp>
    </p:spTree>
  </p:cSld>
  <p:transition spd="slow">
    <p:cover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Finansiranje MSP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ef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sa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elokupnog sistema finansiranja r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ja MSP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zrad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akroekonomske projekcije potreba i izvora sredstava za finansiranje razvoja MSP, posebno sa aspekta ciljeva utvrđenih Str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gijom Razvoja MSP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Definisanje zakonskog okvira za kreiranje specijalizovanih institucija (kreditnih, garantnih i investicionih fondova, registar pokretne i nepokretne imovine i td.) i kreiranja novih finansijskih instrumenata i shema na tržišnim osnovam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ukacija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vr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nika u izradi i bankara u proceni poslovnih projekata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zrada «Bele knjige» kako bi se definisali zadaci i identifikovala resorna ministarstva za realizaciju utvrđenih ciljev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1A34-70E4-47E5-8E4E-072462E3D708}" type="slidenum">
              <a:t>2</a:t>
            </a:fld>
          </a:p>
        </p:txBody>
      </p:sp>
    </p:spTree>
  </p:cSld>
  <p:transition spd="slow">
    <p:cover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Razvoj menadžerskih kapaciteta u MSP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voj najbolje prakse menadžment kapaciteta u MS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većanje svesti MSP o raspoloživim predlozima u odnosu na trening za izvršioce i konsalting uslug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isanje konsolidovanih i preciznih podataka o demografiji, trgovini, regionalnim i lokalnim tržištima, ljudskim resursima itd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azvoj kapaciteta na lokalnom nivou i nivou donatora sa ciljem da se pruži trening i konsalting usluge MS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oboljšanje koordinacije između donatorskih agencija koje su aktivne u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dršci razvoja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SP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E8A0A-7D9B-4598-A9B3-D8B3FF2A20A6}" type="slidenum">
              <a:t>3</a:t>
            </a:fld>
          </a:p>
        </p:txBody>
      </p:sp>
    </p:spTree>
  </p:cSld>
  <p:transition spd="slow">
    <p:cover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Regionalne agencije i medjunarodna saradnj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 radionici su istaknute neke oblasti potencijalne saradnje izm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đ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 srpskih i ruskih regionalnih agencij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k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šanje uvoza / izvoza i transfera tehnologije između MSP u Rusiji i Srbiji, razmena baze podataka, promocija, trgovinske misije, itd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aradnja srpskih i ruskih agencija u oblasti razvoja proizvodnje, finansijskih mehanizama za MSP, standardima kvaliteta usluga, širenje najbolje prakse i nadgradnja kapacitet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ening trene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onsultanat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70C1-7F07-414C-9679-2BD0774215A7}" type="slidenum">
              <a:t>4</a:t>
            </a:fld>
          </a:p>
        </p:txBody>
      </p:sp>
    </p:spTree>
  </p:cSld>
  <p:transition spd="slow">
    <p:cover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Nadgradnja naših prednosti</a:t>
            </a:r>
            <a:br>
              <a:rPr sz="3200"/>
            </a:br>
            <a:r>
              <a:rPr b="0" lang="sr-CS" sz="3200" spc="-1" strike="noStrike">
                <a:solidFill>
                  <a:srgbClr val="006666"/>
                </a:solidFill>
                <a:latin typeface="Arial"/>
              </a:rPr>
              <a:t>-</a:t>
            </a: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sektori i klasteri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jasniti vrednost klastera identifikovanje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ajboljih klastera i javnim prezentovanjem njegovog uspeh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Brzih uspeh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ja će ohrabriti potencijalne članove klastera da uvide vrednost kooperacij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ogućnosti da napra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restupni sko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odnosno da pridobiju najzahtevnije klijente na način tako da mnogi članovi klastera mogu da značajno povećaju svoju dobit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Tržišnih marki proizvoda na nacionalnom ili regionalnom nivo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Kreirati studije slučaja koje bi pokazale mogućnosti za povećanje dobiti saradnjom sa klasteri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koristiti popularne kanale komunikacije  (televizija ...);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Vlada treba da pomogne u promovisanju koncepta klastera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6DD8-5B49-4551-97BB-3B59379B35EF}" type="slidenum">
              <a:t>5</a:t>
            </a:fld>
          </a:p>
        </p:txBody>
      </p:sp>
    </p:spTree>
  </p:cSld>
  <p:transition spd="slow">
    <p:cover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6666"/>
                </a:solidFill>
                <a:latin typeface="Arial"/>
              </a:rPr>
              <a:t>Lokalno partnerstvo za razvoj malog biznisa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kalno partnerstvo stejkholdera je krit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za odrzivost lokalne infrastrukture za podrsku biznisu kao sto su regionalne MSP agencij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loga svakog lokalnog partnera treba da bude zasnovana na njhovoj snazi i treba je definisati na pocetku saradnj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vajanje lokalnih ekonomskih strategija i planova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krit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ič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za razvoj biznisa na lokalnom nivou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Svest o nužnosti saradnje i partnerska kultura mnogo su značajniji za sardanju stakeholdera nego formalni oblici saradn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Potreban je razvoj preduzetničke kulture i novog stila menadžmenta u našim opštinama kako bi se ostvario sinergetski efekat razvoja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mal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u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ećim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394E-5CBC-4DA9-896D-498AB71C7D73}" type="slidenum">
              <a:t>6</a:t>
            </a:fld>
          </a:p>
        </p:txBody>
      </p:sp>
    </p:spTree>
  </p:cSld>
  <p:transition spd="slow">
    <p:cover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Suzbijanje “neformalne ekonomije”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Siva ekonomija deluje kao ograničavajući faktor brže tranzicije privrede i direktno ugožava opstanak i razvoj postojećih i stvaranje novih MSP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Smanjenje sive ekonomije može se ostvariti kroz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Efikasnu javnu upravu usmerenu ka zadovoljenju potreba korisnika, bez korupcije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avične, jednostavne i transparentne poreske zakone i regulativu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onzistentnu, objektivnu i efikasnu primenu poreskih propis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 algn="just">
              <a:lnSpc>
                <a:spcPct val="80000"/>
              </a:lnSpc>
              <a:spcBef>
                <a:spcPts val="400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Racionalnu javnu potrošnju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eformom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sistema poslovnog registra osnivanjem Agencije za registraciju privrednih subjekat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oreskog sistema uvođenjem  PDV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sistema socijalnog osiguranja uvođenjem dobrovoljnog penzijskog i zdravstvenog osiguranja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finansijskog sistema izgradnjom specijalizovanih institucija za finansiranje potreba razvoja MSP, posebno za start-up;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ktivni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mer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ekonomske politike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primenom specifičnih poreskih podsticaja i oslobađanja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 za MSP i preduzetnik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-200880" algn="just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obezbeđivanje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 povoljnijeg pristupa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MSP i preduzetnika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  <a:ea typeface="Arial"/>
              </a:rPr>
              <a:t>tržištu kapital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0058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F9F3-8E70-45F3-AA6F-226F795D3B5F}" type="slidenum">
              <a:t>7</a:t>
            </a:fld>
          </a:p>
        </p:txBody>
      </p:sp>
    </p:spTree>
  </p:cSld>
  <p:transition spd="slow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MSP i izvoz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prek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za izvoz MSP su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dostatak finansijskih sredstava i osiguranja izvoznih poslov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adekvatna istraživanja i informacije o potencijalnim izvoznim tržištim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dostatak tehničke pomoći za obezbedjenje  kvaliteta, standarda i dizajn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Trgovinske preprek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adekvatno državno finansiranje institucionalne podrše za razvoj promocije i izvoza MSP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9776-C40C-43B9-883F-4A171DDC65C5}" type="slidenum">
              <a:t>8</a:t>
            </a:fld>
          </a:p>
        </p:txBody>
      </p:sp>
    </p:spTree>
  </p:cSld>
  <p:transition spd="slow">
    <p:cover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6666"/>
                </a:solidFill>
                <a:latin typeface="Arial"/>
              </a:rPr>
              <a:t>Podržavanje preduzeća-početnik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postojanje fondova za start-up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Neophodnost izmene pravne regulative za start-up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Definisanje sistemskog okvira za funkcionisanje mikrokreditnih organizacija i sektora NVO u pružanju podrške razvoju MSP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Finansijska i nefinansijska podrška su podjednako važne za start-u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Organizovati posebnu konferenciju o privlačenju kapitala za start up firme u Srbij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0DDC-15D8-41E0-9185-8F441CF51851}" type="slidenum">
              <a:t>9</a:t>
            </a:fld>
          </a:p>
        </p:txBody>
      </p:sp>
    </p:spTree>
  </p:cSld>
  <p:transition spd="slow">
    <p:cover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20:16:13Z</dcterms:created>
  <dc:creator>Vladimir Cupic</dc:creator>
  <dc:description/>
  <dc:language>en-US</dc:language>
  <cp:lastModifiedBy>Bojan</cp:lastModifiedBy>
  <dcterms:modified xsi:type="dcterms:W3CDTF">2003-10-17T13:13:40Z</dcterms:modified>
  <cp:revision>428</cp:revision>
  <dc:subject/>
  <dc:title>Restructuring in Privatization Procedure</dc:title>
</cp:coreProperties>
</file>