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EF3D-D432-49B0-B937-4494D9DFA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8942-1CE7-43E2-9854-B4870B95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36356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C2D5-E172-4C62-8BDB-59421A07C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0888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36520" y="16761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0888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636520" y="394488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F40A-1955-41C0-BF01-3B35B7BB4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256C7-8449-4813-B96C-CFA4E37B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D35A-A389-4D8D-B9B4-05F1B8CA6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11A2-7216-431F-B0CD-6A242D91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4C13-3072-49FD-9E84-8AA872EE8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7C58-9049-4785-BAAE-043F6D36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E2C9-D195-4B62-B174-762EAE2CB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363560" y="394488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63E-3C21-4468-9C08-9DC6962A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3560" y="16761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0F21-18C0-431F-BC96-8F51EBB69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-20000"/>
          </a:blip>
          <a:stretch/>
        </p:blipFill>
        <p:spPr>
          <a:xfrm>
            <a:off x="8229600" y="2462040"/>
            <a:ext cx="838080" cy="22622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>
            <a:lum contrast="-20000"/>
          </a:blip>
          <a:stretch/>
        </p:blipFill>
        <p:spPr>
          <a:xfrm>
            <a:off x="8229600" y="0"/>
            <a:ext cx="838080" cy="2514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8191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0E76-C936-407F-AFE4-B19C0F3FBC9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>
            <a:lum contrast="-20000"/>
          </a:blip>
          <a:stretch/>
        </p:blipFill>
        <p:spPr>
          <a:xfrm>
            <a:off x="8229600" y="4724280"/>
            <a:ext cx="838080" cy="213372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8229600" y="0"/>
            <a:ext cx="0" cy="685800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TUDIJA POTENCIJALNOG DOPRINOSA I ULOGE MALIH I SREDNJIH PREDUZEĆA U RAZVOJU SRPSKOG TURIZMA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r Bojan Zečevi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938160" y="5805360"/>
            <a:ext cx="838080" cy="552600"/>
          </a:xfrm>
          <a:prstGeom prst="rect">
            <a:avLst/>
          </a:prstGeom>
          <a:ln w="0">
            <a:noFill/>
          </a:ln>
        </p:spPr>
      </p:pic>
      <p:grpSp>
        <p:nvGrpSpPr>
          <p:cNvPr id="48" name=""/>
          <p:cNvGrpSpPr/>
          <p:nvPr/>
        </p:nvGrpSpPr>
        <p:grpSpPr>
          <a:xfrm>
            <a:off x="1006560" y="5867280"/>
            <a:ext cx="6284880" cy="747720"/>
            <a:chOff x="1006560" y="5867280"/>
            <a:chExt cx="6284880" cy="747720"/>
          </a:xfrm>
        </p:grpSpPr>
        <p:sp>
          <p:nvSpPr>
            <p:cNvPr id="49" name=""/>
            <p:cNvSpPr/>
            <p:nvPr/>
          </p:nvSpPr>
          <p:spPr>
            <a:xfrm>
              <a:off x="1006560" y="5867280"/>
              <a:ext cx="90000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906560" y="5867280"/>
              <a:ext cx="5384880" cy="74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000000"/>
                  </a:solidFill>
                  <a:latin typeface="Arial"/>
                </a:rPr>
                <a:t>Non-finacial Support to SMEs in Serbi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1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An EU - funded project managed by the European Agency for Reconstru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 (NASTAVAK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Vlada Republike Srb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vatiza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mplifikacija procedu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onošenje uredbi koje regulišu primenu Zakona o koncesij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epublička agencija za razvoj malih i srednjih preduzeća i preduzetništva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stvaranje fondova iz kojih će se usmeravati sredstva za progr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egionalne agenci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operacionalizacija  programa Republičke agenc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Opštinske i gradske institucije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sprovođenje simplifikacije procedur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stičke organizac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TOS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– promocija na inostranim tržiš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Lokalne i regionalne organizaci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– promocija na domaćem tržiš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MEĐUNARODNI TURIZAM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Međunarodni turizam je rastao po višoj stopi od svetskog GDP-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Dolasci su rasli po prosečnoj stopi od 6,8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hodi su rasli po prosečnoj stopi od 11,46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Ključni trendov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WTO: Glavna determinanta rasta turizma je svetski GDP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potreba informacione tehnolog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Promena odnosa u lancu distribucij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Rezervisanje u poslednjem trenutk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st special interest turiz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binacija većeg broja kraćih putovan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većani zahtev za sigurnošć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RAZVOJ TURIZMA U SRBIJI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zam u Srbiji je prevashodno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domaći turizam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eo domaćih turista u dolascima 77,4%-94,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deo domaćih turista u noćenjima 87,3%-94,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zam je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80-im stagnirao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, dok je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90-im padao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457200" y="2689200"/>
          <a:ext cx="7238880" cy="3025800"/>
        </p:xfrm>
        <a:graphic>
          <a:graphicData uri="http://schemas.openxmlformats.org/drawingml/2006/table">
            <a:tbl>
              <a:tblPr/>
              <a:tblGrid>
                <a:gridCol w="1218960"/>
                <a:gridCol w="990720"/>
                <a:gridCol w="990360"/>
                <a:gridCol w="936720"/>
                <a:gridCol w="1033560"/>
                <a:gridCol w="1035000"/>
                <a:gridCol w="1033560"/>
              </a:tblGrid>
              <a:tr h="69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5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3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ff0000"/>
                          </a:solidFill>
                          <a:latin typeface="Wingdings"/>
                          <a:ea typeface="Wingdings"/>
                        </a:rPr>
                        <a:t>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2</a:t>
                      </a:r>
                      <a:br>
                        <a:rPr sz="1800"/>
                      </a:b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Wingdings"/>
                          <a:ea typeface="Wingdings"/>
                        </a:rPr>
                        <a:t>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lasci (hilja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7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ćenja (hiljad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zdaci (mil US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1,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"/>
          <p:cNvSpPr/>
          <p:nvPr/>
        </p:nvSpPr>
        <p:spPr>
          <a:xfrm>
            <a:off x="457200" y="5867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deo turizma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društvenom proizvodu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je 2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deo u </a:t>
            </a: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zaposlenosti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– 2,23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TURISTIČKI PROIZVOD SRBIJ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Atrakcij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Prirodne atrakcije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– raznovrsne – planine, banje, nacionalni parkovi i rek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Kulturno nasleđ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velikog broja civiliza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Mali broj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događa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ivlači puno ljudi (Exit, Guč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ma megaatrakc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slovi za borava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roj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ležajeva i sob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je smanjen (1988-2002), dok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broj mesta za seden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ra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Maloprodaj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ije atraktivna za turis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nati i proizvodnja suvenir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dovoljno razvijen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Pristupačno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Drumski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odgovara postojećem stanju u turizmu, ali može da oteža budući razvo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Rečni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prilagođen za prevoz putnik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Železnički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nepouzd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Avio saobraćaj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solidan, ali nepovoljne vez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ULOGA MALIH I SREDNJIH PREDUZEĆA U TURIZMU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Učešće malih i srednjih preduzeća u turizmu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Broju preduzeć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99,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Broju zaposlenih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92,7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Poslovnim prihodim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75%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bog neadekvatnog praćenja SUR-ova podaci su nepouzdan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Turizam područje potencijalnog rast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Samozapošljavan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će imati rastući tren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Niske barijere ulask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pogodne za preduzetništ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Nova područja za rast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Special interest touris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omplementarne aktivnosti </a:t>
            </a: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uz velike objek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INSTITUCIJE I ZAKONODAVSTVO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Državne institucije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Ministarstvo za trgovinu, turizam i uslug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ima dva sektora koji pokrivaju oblast turiz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Turistička organizacija Srbije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– marketing Srbije kao turističke destinac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Lokalne turističke organizaci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Institucije privatnog sektor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YUTA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– udruženje turističkih agen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HORES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– udruženje hotelijera i restorater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Udruženje turističkih vodič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Zakonski akti vezani za turizam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kon o turiz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kon o banj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990033"/>
                </a:solidFill>
                <a:latin typeface="Arial"/>
              </a:rPr>
              <a:t>Zakon o koncesij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Koordinacija među institucijama je nezadovoljavajuć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Stvaranje povoljnih makro uslova za razvoj turiz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bilno okruže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drška za SMEs uopš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midž sigurnost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varanje finansijskih fondova – prikupljanje sredstava od međunarodnih organizacija za potrebe turiz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azvoj modernog informacionog sistema u turizm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Istraživanja postojećih turi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Kupovina podataka za strana tržiš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enchmarking sa glavnim konkuren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 (NASTAVAK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Izrada Internet portala srpskog turizma koji treba da uključi i booking engi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ključivanje svih bitnih aktera u turizm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državanje aktuelnih informacij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Podrška klasterima u turizmu Srbij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astup na inostranom tržišt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odrška kreiranju prepoznatljivih brendov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Uključivanje svih preduzeća turističke privre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azvoj sistema kontrole kvalite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zvoj indikatora kontrole kvalit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enchmarking sa Evropskim preduzeć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Nefinansijska pomoć malim i srednjim preduzećima za kontrolu kvalit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87d7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33"/>
                </a:solidFill>
                <a:latin typeface="Arial"/>
              </a:rPr>
              <a:t>PREPORUKE (NASTAVAK)</a:t>
            </a:r>
            <a:endParaRPr b="1" lang="en-US" sz="36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Unapređivanje veština i znanja kroz trening u turizm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eduzetn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tpušteni radni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adnici koji traže zaposlenje prvi pu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ening u oblastima brzog ras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Trening u tradicionalnim oblasti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eminari za unapređenje kvalite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990033"/>
                </a:solidFill>
                <a:latin typeface="Arial"/>
              </a:rPr>
              <a:t>Razvoj turizma posebnih intere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laninare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Jaha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Bicikliz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ešačenj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Ekoturizam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451"/>
              </a:spcBef>
              <a:buClr>
                <a:srgbClr val="99003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portski ribolo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7T09:09:54Z</dcterms:created>
  <dc:creator>icini</dc:creator>
  <dc:description/>
  <dc:language>en-US</dc:language>
  <cp:lastModifiedBy>Bojan</cp:lastModifiedBy>
  <dcterms:modified xsi:type="dcterms:W3CDTF">2003-10-06T14:19:51Z</dcterms:modified>
  <cp:revision>13</cp:revision>
  <dc:subject/>
  <dc:title>A STUDY OF THE POTENTIONAL CONTRIBUTION AND ROLE OF SMEs IN THE DEVELOPMENT OF SERBIA'S TOURISM INDUSTRY </dc:title>
</cp:coreProperties>
</file>