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DAF8-E437-4669-AB61-94C45BE49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6749-7134-448B-B166-C864EAEA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36356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36356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3F57-B2FE-4D44-B26B-7A6A7B5D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0888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3652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0888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3652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C7D7-22A4-43D6-B001-C571662A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0804-1DE4-4DCF-97F7-5A0C7EB4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258E-FF7D-41BD-9F79-A0BF0AF0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36356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B6D8-336F-4960-88CF-0FA58A31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C889-B8A4-4995-B232-61126066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025E-3258-41FD-91EA-15E8E8D5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356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AC86-0FDC-4858-8AB0-FD80641D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6356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6356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5B15-8EFE-4521-BAB1-24BE6EA7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356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1DAD-423B-4E4C-B815-AD4C9DF9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7d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8229600" y="2462040"/>
            <a:ext cx="838080" cy="22622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>
            <a:lum contrast="-20000"/>
          </a:blip>
          <a:stretch/>
        </p:blipFill>
        <p:spPr>
          <a:xfrm>
            <a:off x="8229600" y="0"/>
            <a:ext cx="838080" cy="251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819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0D36-7FE0-4C10-A02B-30383F2039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>
            <a:lum contrast="-20000"/>
          </a:blip>
          <a:stretch/>
        </p:blipFill>
        <p:spPr>
          <a:xfrm>
            <a:off x="8229600" y="4724280"/>
            <a:ext cx="838080" cy="21337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8229600" y="0"/>
            <a:ext cx="0" cy="685800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7d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TUDIJA POTENCIJALNOG DOPRINOSA I ULOGE MALIH I SREDNJIH PREDUZEĆA U RAZVOJU SRPSKOG TURIZMA 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4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Dr Bojan Zečević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38160" y="5805360"/>
            <a:ext cx="838080" cy="55260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1006560" y="5867280"/>
            <a:ext cx="6284880" cy="747720"/>
            <a:chOff x="1006560" y="5867280"/>
            <a:chExt cx="6284880" cy="747720"/>
          </a:xfrm>
        </p:grpSpPr>
        <p:sp>
          <p:nvSpPr>
            <p:cNvPr id="49" name=""/>
            <p:cNvSpPr/>
            <p:nvPr/>
          </p:nvSpPr>
          <p:spPr>
            <a:xfrm>
              <a:off x="1006560" y="5867280"/>
              <a:ext cx="90000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906560" y="5867280"/>
              <a:ext cx="538488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100" spc="-1" strike="noStrike">
                  <a:solidFill>
                    <a:srgbClr val="000000"/>
                  </a:solidFill>
                  <a:latin typeface="Arial"/>
                </a:rPr>
                <a:t>Non-finacial Support to SMEs in Serbi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 EU - funded project managed by the European Agency for Reconstru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7d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990033"/>
                </a:solidFill>
                <a:latin typeface="Arial"/>
              </a:rPr>
              <a:t>PREPORUKE (NASTAVAK)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Vlada Republike Srbij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ivatizacij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implifikacija procedur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Donošenje uredbi koje regulišu primenu Zakona o koncesija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Republička agencija za razvoj malih i srednjih preduzeća i preduzetništva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– stvaranje fondova iz kojih će se usmeravati sredstva za progr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Regionalne agencije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– operacionalizacija  programa Republičke agencij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Opštinske i gradske institucije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– sprovođenje simplifikacije procedu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Turističke organizacij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TOS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– promocija na inostranim tržišti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Lokalne i regionalne organizacije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– promocija na domaćem tržišt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7d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990033"/>
                </a:solidFill>
                <a:latin typeface="Arial"/>
              </a:rPr>
              <a:t>MEĐUNARODNI TURIZAM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Međunarodni turizam je rastao po višoj stopi od svetskog GDP-a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Dolasci su rasli po prosečnoj stopi od 6,86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ihodi su rasli po prosečnoj stopi od 11,46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Ključni trendov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WTO: Glavna determinanta rasta turizma je svetski GD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Upotreba informacione tehnologij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Promena odnosa u lancu distribucij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Rezervisanje u poslednjem trenutk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ast special interest turiz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ombinacija većeg broja kraćih putovanj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ovećani zahtev za sigurnošć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7d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990033"/>
                </a:solidFill>
                <a:latin typeface="Arial"/>
              </a:rPr>
              <a:t>RAZVOJ TURIZMA U SRBIJI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Turizam u Srbiji je prevashodno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domaći turizam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Udeo domaćih turista u dolascima 77,4%-94,5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Udeo domaćih turista u noćenjima 87,3%-94,5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Turizam je u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80-im stagnirao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, dok je u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90-im padao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2689200"/>
          <a:ext cx="7238880" cy="3025800"/>
        </p:xfrm>
        <a:graphic>
          <a:graphicData uri="http://schemas.openxmlformats.org/drawingml/2006/table">
            <a:tbl>
              <a:tblPr/>
              <a:tblGrid>
                <a:gridCol w="1218960"/>
                <a:gridCol w="990720"/>
                <a:gridCol w="990360"/>
                <a:gridCol w="936720"/>
                <a:gridCol w="1033560"/>
                <a:gridCol w="1035000"/>
                <a:gridCol w="1033560"/>
              </a:tblGrid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5</a:t>
                      </a:r>
                      <a:br>
                        <a:rPr sz="1800"/>
                      </a:br>
                      <a:r>
                        <a:rPr b="1" lang="sr-Latn-CS" sz="18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0</a:t>
                      </a:r>
                      <a:br>
                        <a:rPr sz="1800"/>
                      </a:br>
                      <a:r>
                        <a:rPr b="1" lang="sr-Latn-CS" sz="1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3</a:t>
                      </a:r>
                      <a:br>
                        <a:rPr sz="1800"/>
                      </a:br>
                      <a:r>
                        <a:rPr b="1" lang="sr-Latn-CS" sz="1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br>
                        <a:rPr sz="1800"/>
                      </a:br>
                      <a:r>
                        <a:rPr b="1" lang="sr-Latn-CS" sz="1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br>
                        <a:rPr sz="1800"/>
                      </a:br>
                      <a:r>
                        <a:rPr b="1" lang="sr-Latn-CS" sz="18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lasci (hiljad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ćenja (hiljad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daci (mil US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,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457200" y="5867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deo turizma u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društvenom proizvodu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je 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deo u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zaposlenosti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– 2,2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7d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990033"/>
                </a:solidFill>
                <a:latin typeface="Arial"/>
              </a:rPr>
              <a:t>TURISTIČKI PROIZVOD SRBIJE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trakcij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Prirodne atrakcije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– raznovrsne – planine, banje, nacionalni parkovi i rek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Kulturno nasleđe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velikog broja civilizacij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Mali broj </a:t>
            </a: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događaj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ivlači puno ljudi (Exit, Guč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Nema megaatrakcij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slovi za borava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Broj </a:t>
            </a: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ležajeva i soba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je smanjen (1988-2002), dok </a:t>
            </a: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broj mesta za sedenje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ras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Maloprodaj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nije atraktivna za turis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Zanati i proizvodnja suvenira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nedovoljno razvijen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ristupačnos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Drumski saobraćaj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odgovara postojećem stanju u turizmu, ali može da oteža budući razvoj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Rečni saobraćaj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neprilagođen za prevoz putnik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Železnički saobraćaj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nepouzd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Avio saobraćaj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solidan, ali nepovoljne ve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7d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990033"/>
                </a:solidFill>
                <a:latin typeface="Arial"/>
              </a:rPr>
              <a:t>ULOGA MALIH I SREDNJIH PREDUZEĆA U TURIZMU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češće malih i srednjih preduzeća u turizmu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Broju preduzeća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99,7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Broju zaposlenih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92,7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Poslovnim prihodima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75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Zbog neadekvatnog praćenja SUR-ova podaci su nepouzda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Turizam područje potencijalnog rasta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Samozapošljavanje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će imati rastući tr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Niske barijere ulaska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pogodne za preduzetništv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Nova područja za ras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Special interest touris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omplementarne aktivnosti </a:t>
            </a: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uz velike ob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7d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990033"/>
                </a:solidFill>
                <a:latin typeface="Arial"/>
              </a:rPr>
              <a:t>INSTITUCIJE I ZAKONODAVSTVO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Državne institucij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Ministarstvo za trgovinu, turizam i usluge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ima dva sektora koji pokrivaju oblast turiz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Turistička organizacija Srbije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– marketing Srbije kao turističke destinacij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Lokalne turističke organizacij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nstitucije privatnog sektora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YUT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– udruženje turističkih agencij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HORES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– udruženje hotelijera i restorater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Udruženje turističkih vodič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Zakonski akti vezani za turizam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Zakon o turizm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Zakon o banja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Zakon o koncesija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oordinacija među institucijama je nezadovoljavajuć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7d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990033"/>
                </a:solidFill>
                <a:latin typeface="Arial"/>
              </a:rPr>
              <a:t>PREPORUKE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Stvaranje povoljnih makro uslova za razvoj turiz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tabilno okruženj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odrška za SMEs uopš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Imidž sigurnost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tvaranje finansijskih fondova – prikupljanje sredstava od međunarodnih organizacija za potrebe turiz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Razvoj modernog informacionog sistema u turizm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Istraživanja postojećih turis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upovina podataka za strana tržiš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Benchmarking sa glavnim konkurenti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7d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990033"/>
                </a:solidFill>
                <a:latin typeface="Arial"/>
              </a:rPr>
              <a:t>PREPORUKE (NASTAVAK)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Izrada Internet portala srpskog turizma koji treba da uključi i booking eng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Uključivanje svih bitnih aktera u turizm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E-commer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Održavanje aktuelnih informacij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Podrška klasterima u turizmu Srbij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Nastup na inostranom tržišt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odrška kreiranju prepoznatljivih brendo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Uključivanje svih preduzeća turističke privre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Razvoj sistema kontrole kvalite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azvoj indikatora kontrole kvalite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Benchmarking sa Evropskim preduzeći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Nefinansijska pomoć malim i srednjim preduzećima za kontrolu kvalite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7d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990033"/>
                </a:solidFill>
                <a:latin typeface="Arial"/>
              </a:rPr>
              <a:t>PREPORUKE (NASTAVAK)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Unapređivanje veština i znanja kroz trening u turizm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eduzetnic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Otpušteni radnic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adnici koji traže zaposlenje prvi 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Trening u oblastima brzog ras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Trening u tradicionalnim oblasti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eminari za unapređenje kvalite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Razvoj turizma posebnih intere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laninarenj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Jahanj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Bicikliz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ešačenj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Ekoturiz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portski ribolo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09:09:54Z</dcterms:created>
  <dc:creator>icini</dc:creator>
  <dc:description/>
  <dc:language>en-US</dc:language>
  <cp:lastModifiedBy>Bojan</cp:lastModifiedBy>
  <dcterms:modified xsi:type="dcterms:W3CDTF">2003-10-06T14:19:51Z</dcterms:modified>
  <cp:revision>13</cp:revision>
  <dc:subject/>
  <dc:title>A STUDY OF THE POTENTIONAL CONTRIBUTION AND ROLE OF SMEs IN THE DEVELOPMENT OF SERBIA'S TOURISM INDUSTRY </dc:title>
</cp:coreProperties>
</file>