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E94A-85C4-44E1-9B9A-B6B89B9FA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290B-F76F-435C-A795-D0B7C9665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F1DB-8DDE-4970-B2C6-4FF767DA1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2D50-C0C2-43EE-96B7-DE7D84C9C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6D9B7-B76B-4162-A335-910AB08D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6D6E2-45B6-4D60-BE50-572BE0AB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E57C4-CC6A-4D0B-BEAB-E2FD2B57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30A79-75C7-4303-9F61-D26B48C4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9E6B0-65A2-473C-817F-0700483D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0CC6E-1836-44DB-9194-1721F918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12115-7AA7-43D1-9E5A-042575C8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5057-5A09-4833-9D5A-2F512ED04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B538B-59F5-4DC4-9383-E78F1778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96106-41C6-46D2-97B6-A083D8EA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25A2B-5B1C-47B9-AFFC-155818D4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2143E-DC7A-407F-A78A-CA2D8D89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43530-6D6A-4E37-B6CD-53DC4A61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1BD9-686E-494E-857C-43633D161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A035-BB86-414B-97DB-C70962E0F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8684-D83E-40CD-978E-8738E55AF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C7D4-89CA-497F-BC44-A28D989FA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9260-543E-4E23-8384-C563A91B7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C565-F2E2-4D00-92D8-2F36ACCCF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AED6-FA9B-4D38-8756-2705C67FC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C922-3BDD-42C7-8EA0-B965E4D9FB1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97F7-F288-4ECF-8289-A944733803A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cc66"/>
                </a:solidFill>
                <a:latin typeface="YU Times New Roman"/>
              </a:rPr>
              <a:t>Prof. dr Re</a:t>
            </a:r>
            <a:r>
              <a:rPr b="1" lang="sr-Latn-CS" sz="2800" spc="-1" strike="noStrike">
                <a:solidFill>
                  <a:srgbClr val="ffcc66"/>
                </a:solidFill>
                <a:latin typeface="YU Times New Roman"/>
              </a:rPr>
              <a:t>fik Šećibović,</a:t>
            </a:r>
            <a:br>
              <a:rPr sz="2800"/>
            </a:br>
            <a:r>
              <a:rPr b="1" lang="sr-Latn-CS" sz="2800" spc="-1" strike="noStrike">
                <a:solidFill>
                  <a:srgbClr val="ffcc66"/>
                </a:solidFill>
                <a:latin typeface="YU Times New Roman"/>
              </a:rPr>
              <a:t>pomoćnik ministra prosvete i sporta</a:t>
            </a:r>
            <a:br>
              <a:rPr sz="2400"/>
            </a:br>
            <a:r>
              <a:rPr b="1" lang="sr-Latn-CS" sz="2800" spc="-1" strike="noStrike">
                <a:solidFill>
                  <a:srgbClr val="ffcc66"/>
                </a:solidFill>
                <a:latin typeface="YU Times New Roman"/>
              </a:rPr>
              <a:t>Prof. dr Blagoje Paunović,</a:t>
            </a:r>
            <a:br>
              <a:rPr sz="2800"/>
            </a:br>
            <a:r>
              <a:rPr b="1" lang="sr-Latn-CS" sz="2800" spc="-1" strike="noStrike">
                <a:solidFill>
                  <a:srgbClr val="ffcc66"/>
                </a:solidFill>
                <a:latin typeface="YU Times New Roman"/>
              </a:rPr>
              <a:t>pomoćnik ministra za privredu i privatizaciju</a:t>
            </a:r>
            <a:br>
              <a:rPr sz="2800"/>
            </a:br>
            <a:br>
              <a:rPr sz="2800"/>
            </a:br>
            <a:r>
              <a:rPr b="1" lang="en-US" sz="4000" spc="-1" strike="noStrike">
                <a:solidFill>
                  <a:srgbClr val="ffcc66"/>
                </a:solidFill>
                <a:latin typeface="YU Times New Roman"/>
              </a:rPr>
              <a:t>Stru</a:t>
            </a:r>
            <a:r>
              <a:rPr b="1" lang="sr-Latn-CS" sz="4000" spc="-1" strike="noStrike">
                <a:solidFill>
                  <a:srgbClr val="ffcc66"/>
                </a:solidFill>
                <a:latin typeface="YU Times New Roman"/>
              </a:rPr>
              <a:t>čno obrazovanje u funkciji razvoja malih i srednjih preduzeća i preduzetništva</a:t>
            </a:r>
            <a:r>
              <a:rPr b="0" lang="en-US" sz="4400" spc="-1" strike="noStrike">
                <a:solidFill>
                  <a:srgbClr val="ffcc66"/>
                </a:solidFill>
                <a:latin typeface="YU 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502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45720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61347-311C-4654-9D74-80D75F7D2E4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F1C277-5614-47C7-9831-2EC04EADED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sr-Latn-CS" sz="3000" spc="-1" strike="noStrike">
                <a:solidFill>
                  <a:srgbClr val="ffcc66"/>
                </a:solidFill>
                <a:latin typeface="Times New Roman"/>
              </a:rPr>
              <a:t>Da bi stručno obrazovanje zadovoljilo potrebe MSPP potrebno je delovati na sledeći način u organizaciji i razvoju škola: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Povećati obim zadovoljenja potreba za obuko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 u školama dati 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veći značaj prekvalifikaciji odraslih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(koji nemaju kvalifikaciju ili su dugo nezaposlen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 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prekvalifikacija zaposlenih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u velikim državnim preduzećim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Stručno i profesionalno usavršavanje nastavnog kadra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posebno nastavnika stručnih predmeta i realizatora profesionalne prak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01F7-E089-4C6B-ABE0-BD5363DBE8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ffcc66"/>
                </a:solidFill>
                <a:latin typeface="Times New Roman"/>
              </a:rPr>
              <a:t>KAKO DO KONCEPTA OBRAZOVANJA ZA MSPP?</a:t>
            </a:r>
            <a:endParaRPr b="0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Stručni aspekt reforme stručnog obrazovanja obuhvata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tručno osposobljavanje učenika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i njihovo osposobljavanje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za svet rada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u skladu sa potrebama društva, što podrazumev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povezivanje sa lokalnom zajednicom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povezivanje sa lokalnim tržištem rada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povezivanje sa preduzećima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povezivanje sa profesionalnim asocijacijama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povezivanje sa preduzetnicima i udruženjima, preduzetnika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povezivanje sa institucijama i oblicima neformalnog obrazovanj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5F8A-0BA4-4E05-B4DB-6BF902E8FA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KAKVI TREBA DA BUDU OBRAZOVNI PROFILI ZA MSPP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To su obrazovni profili koji mogu lako da se prilagode mestu i promeni procesa proizvodnje i koji pre svega poznaju ukupno funkcionisanje preduzeć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Pored solidnog obrazovanja, ovi profili imaju u toku školovanja određeni stepen obuke za brzo uključivanje u svet rad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C34C-A8F4-4301-BDD8-8906FA3A13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OSNOVNI PRINCIPI </a:t>
            </a:r>
            <a:br>
              <a:rPr sz="3200"/>
            </a:b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STRUČNOG OBRAZOVANJ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Osnovni principi stručnog obrazovanja odgovaraju interesima MSP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Novi profili u okviru stručnog obrazovanja mogu da u potpunosti  ovladaju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celinom funkcionisanja MSP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Novi (modularni) sistem stručnog obrazovanja treba da obezbedi i određeni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tepen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povezivanja profesionalnih veština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Široke kompetencije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koje su potrebne u savremenoj proizvodnji i u sferi usluga – ne samo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za trenutnu proizvodnju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već za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doživotno osposobljavanje i učenje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860C-CCD1-43B7-ADDF-AC47FBEFAD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cc66"/>
                </a:solidFill>
                <a:latin typeface="Times New Roman"/>
              </a:rPr>
              <a:t>Osnovni praktični koraci u koncipiranju obrazovanja za MSP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Uvođenje novih profila i ukrupnjavanje postojećih kako bi mogli da prate kompletan ciklus razvoja i rada preduzeća (npr. novi profil: poslovni administrator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Uvođenje fleksibilnog sistema obrazovanja koji omogućavca laku prekvalifikaciju i menjanje radnih mes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Unošenje preduzetničkih veština u obrazovanje za ove profi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3490-7B82-4E15-9930-2CB0C39518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cc66"/>
                </a:solidFill>
                <a:latin typeface="Times New Roman"/>
              </a:rPr>
              <a:t>Osnovni praktični koraci u koncipiranju obrazovanja za MSP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Uvođenjem modularne nastave pojačati praktičnu primenu  znanja potrebnih za rad u MS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Uključivanje preduzetnika i stručnjaka iz prakse u formiranje nopvih profila i model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Zajedničko snimanje poslova u privredi koji se obavljaju sa određenim stepenom obrazovanja, što podrazumeva uvođenje novih veština u proces obrazovanj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4639-F263-4766-A8F3-5CB6477163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 YU Bold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YU Times New Roman"/>
              </a:rPr>
              <a:t>CILJ PREDMETA “PREDUZETNI</a:t>
            </a:r>
            <a:r>
              <a:rPr b="1" lang="sr-Latn-CS" sz="2800" spc="-1" strike="noStrike">
                <a:solidFill>
                  <a:srgbClr val="ffcc66"/>
                </a:solidFill>
                <a:latin typeface="YU Times New Roman"/>
              </a:rPr>
              <a:t>Š</a:t>
            </a:r>
            <a:r>
              <a:rPr b="1" lang="en-US" sz="2800" spc="-1" strike="noStrike">
                <a:solidFill>
                  <a:srgbClr val="ffcc66"/>
                </a:solidFill>
                <a:latin typeface="YU Times New Roman"/>
              </a:rPr>
              <a:t>TVO”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Osnovni cilj predloga nastavnog predmeta Preduzetni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š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tvo je da u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č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enicima pru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ž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i </a:t>
            </a:r>
            <a:r>
              <a:rPr b="1" lang="en-US" sz="3200" spc="-1" strike="noStrike">
                <a:solidFill>
                  <a:srgbClr val="eaeaea"/>
                </a:solidFill>
                <a:latin typeface="YU Times New Roman"/>
              </a:rPr>
              <a:t>celovit pregled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svih pitanja relevantnih za </a:t>
            </a:r>
            <a:r>
              <a:rPr b="1" lang="en-US" sz="3200" spc="-1" strike="noStrike">
                <a:solidFill>
                  <a:srgbClr val="eaeaea"/>
                </a:solidFill>
                <a:latin typeface="YU Times New Roman"/>
              </a:rPr>
              <a:t>osnivanje i poslovanje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malog  preduze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ć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a, odnosno preduzetni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č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ke firm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C796-F35E-41FA-867A-4025FA7ED9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YU Times New Roman"/>
              </a:rPr>
              <a:t>CILJ PREDMETA “PREDUZETNIŠTVO”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Celovit proc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kreiranje poslovne idej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osnivanje novog preduze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ć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a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upravljanje teku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ć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im poslovanjem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upravljanje rastom i razvojem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izlazak preduzetnika iz posla (strategije ubiranje efekta od vlasništva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86FF-2DCD-4EF3-BE8A-92504D47A4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66"/>
                </a:solidFill>
                <a:latin typeface="YU Times New Roman"/>
              </a:rPr>
              <a:t>PROGRAM  PREDMETA “PREDUZETNIŠTVO”</a:t>
            </a:r>
            <a:endParaRPr b="0" lang="en-US" sz="27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Predlog programa predmeta “Preduzetništvo” nastoji  da pokrij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osnovne problem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oblasti 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područja poslovne ekonomije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koja su relevantna za upravljanj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preduzetničkom firmom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1752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18FC-671E-4684-88D2-B8604F3DDE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YU Times New Roman"/>
              </a:rPr>
              <a:t>EFEKTI  PREDMETA “PREDUZETNIŠTVO”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Podsticati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učenik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e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koji poseduju preduzetnički talenat da otpočnu samostalno poslovanje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Učenicima koji ne poseduju preduzetnički talenat, energiju i sklonost za samostalno bavljenje poslom 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olakšati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razumevanje specifičnosti poslovanja preduzetničke firme i tako doprine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ti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njihovom uspešnijem radu u ovim pred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u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zećim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B965-B4B0-4A3B-A6E1-3A996A0F0B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cc66"/>
                </a:solidFill>
                <a:latin typeface="YU Times New Roman"/>
              </a:rPr>
              <a:t>NEOPHODNOST PROMENE OBRAZOVNOG SISTEMA ZA POTREBE MALIH I SREDNJIH PREDUZEĆA</a:t>
            </a:r>
            <a:endParaRPr b="0" lang="en-US" sz="2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MSP su najznačajniji stvaraoci novih proizvoda, kreatori novih radnih mesta, znalčajno doprinose razvoju tržišne privrede i predstavljaju najfleksibilniji i na potrebe potrošača najosetljiviji deo svake privred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Brži razvoj preduzetničkih firmi i MSP podrazumeva promene u obrazovnom sistemu u skladu sa potrebama novog privatnog sekto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A60A-5763-40D6-B0ED-B258482A62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YU Times New Roman"/>
              </a:rPr>
              <a:t>ZNAČAJ PREDMETA “PREDUZETNIŠTVO”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U MSP već sada je zaposlena većina radnika u našoj  privredi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Realno je očekivati da će većina sadašnjih učenika, a to još više važi za buduće generacije, svoju egzistenciju vezati za preduzetničke firme i da će im, stoga, znanje iz oblasti preduzeništva biti od velike koristi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Na ovaj način obrazovanje može brzo da  odgovori potrebama privrede, ali i da kroz prekvalifikaciju otvori nova vrata velikom broju nezaposleni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3E42-6506-449E-8065-062B384C09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95280" y="228600"/>
            <a:ext cx="7543800" cy="69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cc66"/>
                </a:solidFill>
                <a:latin typeface="YU Times New Roman"/>
              </a:rPr>
              <a:t>PREDLOG NASTAVNOG PROGRAMA PREDMETA</a:t>
            </a:r>
            <a:r>
              <a:rPr b="0" lang="sl-SI" sz="1600" spc="-1" strike="noStrike">
                <a:solidFill>
                  <a:srgbClr val="eaeaea"/>
                </a:solidFill>
                <a:latin typeface="Times New Roman YU Bold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YU Times New Roman"/>
              </a:rPr>
              <a:t>“PREDUZETNIŠTVO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1.</a:t>
            </a: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Priroda, karakteristike i značaj preduzetništv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1.1. Pojam i razvoj shvatanja preduzetništv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1.2. Značaj preduzetništv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1.3. Faktori razvoja preduzetništva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2.</a:t>
            </a: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Preduzet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1. Poj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2. Karijera preduzetnika - izazovi,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otencijalne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rednosti i nedostac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3. Profil preduzetni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4. Poreklo preduzetni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5. Motivi preduzetni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6. Modeli ugledanja  preduzetni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7. Preduzetnička kultur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3698-8C1D-4B31-BA53-534B710FB7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3.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Preduzetnički proc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3.1. Model preduzetničkog proc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3.2. Promena postojećeg stila živo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3.3. Mogućnosti osnivanja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 novog preduzeć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4.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Kreiranje poslovne ide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4.1. Izvori ideja za poslovne poduhvat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4.2. Inovacije i preduzetništ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4.3. Metode generisanja poslovnih ide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4.4. Preoces planiranja i razvoja proizvo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23C6-F89C-4E52-8978-E676F2E998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5. 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Identifikovanje i evaulacija poslovnih moguć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5.1.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repoznavanje poslovnih mogućnosti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5.2. Identifikovanje i selekcija mogućnosti za nove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oslovne poduhv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5.3. Ocena poslovnih mogućnosti za novi poslovni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oduhv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5.4. Pokretačke sile i detrminante uspešnosti novog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oslovnog poduhv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D613-F23F-4092-9EF5-67997F7A2D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6. </a:t>
            </a: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Interno (korporacijsko) preduzetništ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6.1. Pojam i karakteristik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6.2. Korporacijska kultura vs. kultura internog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reduzetništv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6.3. Postupak razvoja internog preduzetništv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7. </a:t>
            </a: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Strategije otpočinjanja poslova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7.1. Razvoj  novog proizvod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7.2. Razvoj  sličnog proizvo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7.3. Franšiz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7.4. Eksploatacija postojećeg proizvod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7.5. Obezbe|enje pokroviteljstv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7.6. Kupovina postojećeg preduzeć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8B24-CF2E-4FD1-9DC5-5A69EE708F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8. Pravni oblici obavljanja poslovne aktiv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8.1.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reduzet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8.2.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reduzeć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8.2.1.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artnersko društ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8.2.2.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Komanditno društ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8.2.3.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Društvo sa ograničenom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odgovornošć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8.2.4.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Akcionarsko društ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9. Malo preduzeće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                                              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9.1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.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 Poj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       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9.2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.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Vrste malih preduzeć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9.3.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Karakteristike malih preduzeć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6D22-5956-486C-999A-86CB8265FE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10. </a:t>
            </a:r>
            <a:r>
              <a:rPr b="1" lang="sr-Latn-CS" sz="28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Porodično preduzeće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                                                      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0.1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Karakteristike porodičnog preduzeć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0.2.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Odnos porodičnih i poslovnih ciljeva i       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  i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ntere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0.3.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 Kultura porodičnog preduzeć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0.4.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 Upravljački tim porodičnog preduzeć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0.5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Upravljanje sukcesij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8325-4657-470F-9EE3-881F14A243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11. Preduzetnički stil upravljanja (menadžment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1.1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Preduzetnik kao menadž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1.2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Nužna upravljačka znanja i veštine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preduzet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1.3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Razvoj  upravljačke kompetencije preduzet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1.4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Preduzetnički vs. administrativni stil upravljanj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1.5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Tranzicija preduzetničkog u administrativni stil upravljanj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D653-D554-4FB4-809C-D2C66F79DA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aeaea"/>
                </a:solidFill>
                <a:latin typeface="YU Times New Roman"/>
              </a:rPr>
              <a:t>12. S</a:t>
            </a: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pecifičnosti upravljanja</a:t>
            </a:r>
            <a:r>
              <a:rPr b="1" lang="sr-Latn-CS" sz="28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(menadžmenta) </a:t>
            </a:r>
            <a:r>
              <a:rPr b="1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preduzetničkom firm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28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2.1.Osobenosti marketinga malog preduzeć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2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2.2.Upravljanje proizvodnjo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2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2.3. Upravljanje finansija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2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12.4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 Upravljanje ljudskim resursima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zaposleni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2.5. Informacioni sistemi malog preduzeć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E796-F7DE-4DFB-A06B-F4C803BF9A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13.</a:t>
            </a:r>
            <a:r>
              <a:rPr b="1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Poslovni 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3.1. Pojam  poslovnog pla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3.2. Značaj i namena poslovnog pla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3.3. Izrada poslovnog pla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3.4. Sadržina i forma poslovnog plan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14.</a:t>
            </a:r>
            <a:r>
              <a:rPr b="1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Strategije završetka poslovanj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4.1. Nužnost strategije izlask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4.2. Metode procene vrednosti preduzetničke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fir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4.3. Opcije ubiranja efekata od vlasništ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E0D49-D3E1-4EA1-A990-689C19D913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cc66"/>
                </a:solidFill>
                <a:latin typeface="Times New Roman"/>
              </a:rPr>
              <a:t>REFORMA STRUČNOG OBRAZOVANJA</a:t>
            </a:r>
            <a:endParaRPr b="0" lang="en-US" sz="3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Reforma stručnog obrazovanja u Republici Srbiji obuhvata obrazovanje i obučavanje mladih pre svega za potrebe privrede, što podrazumeva da obrazovanje mora da prati najnovije društvene, tehnološke  i ekonomske proce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7C7D-F256-4D4D-AABC-25FF4AED24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cc66"/>
                </a:solidFill>
                <a:latin typeface="Times New Roman"/>
              </a:rPr>
              <a:t>REFORMA STRUČNOG OBRAZOVANJA</a:t>
            </a:r>
            <a:endParaRPr b="0" lang="en-US" sz="3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Reformisano stručno obrazovanje treba da omoguć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kognitivna i teorijska znanja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kao podlogu za sticanje više sofisticiranih stručnih kvalifikacija i sposobnosti, s obzirom na tehnološke promene u procesu rada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široke kompetencije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koje su potrebne savremenoj proizvodnji i uslužnom sektoru, kao osnovu za kontinuirano, doživotno osposobljabvalje i učenje kadrova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stručno obrazovanje koje će </a:t>
            </a: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podržavati samozapošljavanje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i </a:t>
            </a: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podsticati produktivnost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C200-C93D-4E22-AD7E-EB383ECC12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66"/>
                </a:solidFill>
                <a:latin typeface="Times New Roman"/>
              </a:rPr>
              <a:t>Dalji razvoj stručnog obrazovanja treba da uvaži sledeće zahteve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Povećane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potrebe privrede za novim sposobnostim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 kadrova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Obrazovanje mora da podrži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kontinuiranu ekspanziju znanj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Novo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povezivanje obrazovanja i tržišta rad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 uz uvažavanje principa tržišne privrede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Kontrolu kvaliteta obrazovanj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 i veću pažnju rezultatima u obrazovanju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Drugačiju zastupljenost privrede u obrazovanju i fleksibilno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povezivanje obrazovanja, osposobljavanja i rad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Davanje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većeg značaj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 obrazovanju i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povećanje investicij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 u obrazovanje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Unapređenje stručnog obrazovanja, posebno sa aspekta njegove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diversifikacije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, posebno u domenu programa i kurseva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D608-3D67-430F-8744-7A67DF299F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66"/>
                </a:solidFill>
                <a:latin typeface="Times New Roman"/>
              </a:rPr>
              <a:t>Dalji razvoj stručnog obrazovanja treba da uvaži sledeće zahteve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Obezbeđivanje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vertikalne i horizontalne fleksibilnosti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unutar stručnog obrazovanja;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Racionalizacija i usaglašavanje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mreže stručnih škol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sa potrebama privrede i tržišta rada;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Uvođenje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novih oblika nastave i prakse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;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Obezbeđenje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kvalitet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i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evaluacij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učenika, studenata i organizacija;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Uvođenje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standard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i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usaglašavanje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stepena diploma i kvalifikacija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sa svetskim standardim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;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Saradnj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sa svim partnerima;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Diversufikacij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privatnih i državnih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izvora finansiranj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03E6-056E-4F02-98F7-3DC43C58ED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USAGLAŠAVANJE REFORME OBRAZOVANJA SA PROCESIMA U PRIVREDI I NA TRŽIŠTU RAD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Faktori koji usporavaju proces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zatvorenost zemlje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-  neefikasnost i zastarelost obrazovnih programa i  mreže obrazovnih institucija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-  nepovoljna starosna struktura nastavnog kadra i neadekvatan stručni kadar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-  neopremljenost školskih ustanova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-  velike regionalne razlike u kvalitetu obrazovanja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- nedostatak finansijskih sredsta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B90C-DE8F-4138-8349-280E16177A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66"/>
                </a:solidFill>
                <a:latin typeface="Times New Roman"/>
              </a:rPr>
              <a:t>Pretpostavke za uspeh reforme stručnog obrazovanja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Razvoj strategije profesionalnog obrazovanja i obuke, stvaranje novih profila koji odgovaraju novoj ekonomskoj realnosti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Promene u organizaciji nastavnog procesa, uvođenje modularnih oblika nastav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Redefinisanje opštih znanja i utvrđivanje prave kombinacije između opšteg teorijskog i praktičnog transfera znanj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Inoviranje kurikuluma i uvođenje novih metoda obuke, fleksibilno postavljeni obrazovni profili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7ED9-9DF2-4256-9FBC-25B8D4DC27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66"/>
                </a:solidFill>
                <a:latin typeface="Times New Roman"/>
              </a:rPr>
              <a:t>Pretpostavke za uspeh reforme stručnog obrazovanja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Razvoj formalne mreže stručnih škol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Inoviranje opreme i nastavnog materijal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Osamostaljivanje i jačanje stručnih škola u novim uslovima, povezivanje sa lokalnom sredinom, iznalaženje novih načina finansiranj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Usavršavanje direktora i njihovo osposobljavanje za nove uslove rad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E479-A9FC-4E3D-8839-B6419B06A4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jan</cp:lastModifiedBy>
  <dcterms:modified xsi:type="dcterms:W3CDTF">2003-10-06T15:31:10Z</dcterms:modified>
  <cp:revision>32</cp:revision>
  <dc:subject/>
  <dc:title>PowerPoint Presentation</dc:title>
</cp:coreProperties>
</file>