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CBC50-A75E-4107-BB69-AC006FD605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99AC28-633D-42B8-9292-8BACE918FF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613D6-7B44-4703-A3CD-502049E6F2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D365E-0891-4DBA-8EDF-0B7235BA31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5E2BB-5887-48E0-AAD2-9266F5BD4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73325-870D-4B77-A72C-3808D62F9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2B226C-753C-4AE3-AFC2-B065838CE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6EE4C5-1ADB-40C4-85C2-48B750857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B90791-D8C0-43A1-882F-F1536BF09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56A366-F024-4954-8B2B-46745992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94CCD8-7213-4A5B-936D-EE4E853E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6C09FC-64EE-44F0-A168-71536DE75A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DDD05-6350-42DC-96AF-35B7D417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8EC50F-6A06-4702-9F42-C83175D5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085FF2-ECDA-4B7B-9D7E-D50361984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81B56C-B86E-490F-8A08-4C04DE616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986172-46DE-4E9A-8237-482630451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FFE16-125E-4F75-A296-F278E30643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B69A3-93FB-41A9-AF98-7A5A3B9F8A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25EE5-B811-4200-9E95-846FC71D27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E94AC-6A4C-4B43-955A-6ADEDB2B2F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4A2C0-3F85-4F03-B535-CF62F30323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C154C-26C5-4DBB-8B4D-24ADE3D6F3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2D244-AB7F-40D3-92A9-4F3242BB46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DF464-F47A-4315-A76C-992036C2791F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5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D640-7C1A-4DDA-8E42-B7EA9E131CC5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52480" y="304920"/>
            <a:ext cx="7391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2800" spc="-1" strike="noStrike">
                <a:solidFill>
                  <a:srgbClr val="ffcc66"/>
                </a:solidFill>
                <a:latin typeface="YU Times New Roman"/>
              </a:rPr>
              <a:t>Prof. dr Re</a:t>
            </a:r>
            <a:r>
              <a:rPr b="1" lang="sr-Latn-CS" sz="2800" spc="-1" strike="noStrike">
                <a:solidFill>
                  <a:srgbClr val="ffcc66"/>
                </a:solidFill>
                <a:latin typeface="YU Times New Roman"/>
              </a:rPr>
              <a:t>fik Šećibović,</a:t>
            </a:r>
            <a:br>
              <a:rPr sz="2800"/>
            </a:br>
            <a:r>
              <a:rPr b="1" lang="sr-Latn-CS" sz="2800" spc="-1" strike="noStrike">
                <a:solidFill>
                  <a:srgbClr val="ffcc66"/>
                </a:solidFill>
                <a:latin typeface="YU Times New Roman"/>
              </a:rPr>
              <a:t>pomoćnik ministra prosvete i sporta</a:t>
            </a:r>
            <a:br>
              <a:rPr sz="2400"/>
            </a:br>
            <a:r>
              <a:rPr b="1" lang="sr-Latn-CS" sz="2800" spc="-1" strike="noStrike">
                <a:solidFill>
                  <a:srgbClr val="ffcc66"/>
                </a:solidFill>
                <a:latin typeface="YU Times New Roman"/>
              </a:rPr>
              <a:t>Prof. dr Blagoje Paunović,</a:t>
            </a:r>
            <a:br>
              <a:rPr sz="2800"/>
            </a:br>
            <a:r>
              <a:rPr b="1" lang="sr-Latn-CS" sz="2800" spc="-1" strike="noStrike">
                <a:solidFill>
                  <a:srgbClr val="ffcc66"/>
                </a:solidFill>
                <a:latin typeface="YU Times New Roman"/>
              </a:rPr>
              <a:t>pomoćnik ministra za privredu i privatizaciju</a:t>
            </a:r>
            <a:br>
              <a:rPr sz="2800"/>
            </a:br>
            <a:br>
              <a:rPr sz="2800"/>
            </a:br>
            <a:r>
              <a:rPr b="1" lang="en-US" sz="4000" spc="-1" strike="noStrike">
                <a:solidFill>
                  <a:srgbClr val="ffcc66"/>
                </a:solidFill>
                <a:latin typeface="YU Times New Roman"/>
              </a:rPr>
              <a:t>Stru</a:t>
            </a:r>
            <a:r>
              <a:rPr b="1" lang="sr-Latn-CS" sz="4000" spc="-1" strike="noStrike">
                <a:solidFill>
                  <a:srgbClr val="ffcc66"/>
                </a:solidFill>
                <a:latin typeface="YU Times New Roman"/>
              </a:rPr>
              <a:t>čno obrazovanje u funkciji razvoja malih i srednjih preduzeća i preduzetništva</a:t>
            </a:r>
            <a:r>
              <a:rPr b="0" lang="en-US" sz="4400" spc="-1" strike="noStrike">
                <a:solidFill>
                  <a:srgbClr val="ffcc66"/>
                </a:solidFill>
                <a:latin typeface="YU 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91124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76920" y="5029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33720" y="4572000"/>
            <a:ext cx="5638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5F4FCA-F9D0-4C9E-98AF-18DE3A3D940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099F8BB-69FD-43F2-A961-2F69510B33C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1" lang="sr-Latn-CS" sz="3000" spc="-1" strike="noStrike">
                <a:solidFill>
                  <a:srgbClr val="ffcc66"/>
                </a:solidFill>
                <a:latin typeface="Times New Roman"/>
              </a:rPr>
              <a:t>Da bi stručno obrazovanje zadovoljilo potrebe MSPP potrebno je delovati na sledeći način u organizaciji i razvoju škola:</a:t>
            </a:r>
            <a:endParaRPr b="0" lang="en-US" sz="3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Povećati obim zadovoljenja potreba za obukom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-  u školama dati 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veći značaj prekvalifikaciji odraslih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(koji nemaju kvalifikaciju ili su dugo nezaposlen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-  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prekvalifikacija zaposlenih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 u velikim državnim preduzećima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Stručno i profesionalno usavršavanje nastavnog kadra</a:t>
            </a: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, posebno nastavnika stručnih predmeta i realizatora profesionalne praks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5BEE7-A5D9-4B32-83FA-A0F9BD998D8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500" spc="-1" strike="noStrike">
                <a:solidFill>
                  <a:srgbClr val="ffcc66"/>
                </a:solidFill>
                <a:latin typeface="Times New Roman"/>
              </a:rPr>
              <a:t>KAKO DO KONCEPTA OBRAZOVANJA ZA MSPP?</a:t>
            </a:r>
            <a:endParaRPr b="0" lang="en-US" sz="25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Stručni aspekt reforme stručnog obrazovanja obuhvata </a:t>
            </a:r>
            <a:r>
              <a:rPr b="1" lang="sr-Latn-CS" sz="2400" spc="-1" strike="noStrike">
                <a:solidFill>
                  <a:srgbClr val="eaeaea"/>
                </a:solidFill>
                <a:latin typeface="Times New Roman"/>
              </a:rPr>
              <a:t>stručno osposobljavanje učenika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i njihovo osposobljavanje </a:t>
            </a:r>
            <a:r>
              <a:rPr b="1" lang="sr-Latn-CS" sz="2400" spc="-1" strike="noStrike">
                <a:solidFill>
                  <a:srgbClr val="eaeaea"/>
                </a:solidFill>
                <a:latin typeface="Times New Roman"/>
              </a:rPr>
              <a:t>za svet rada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u skladu sa potrebama društva, što podrazumeva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-  povezivanje sa lokalnom zajednicom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-  povezivanje sa lokalnim tržištem rada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-  povezivanje sa preduzećima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-  povezivanje sa profesionalnim asocijacijama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-  povezivanje sa preduzetnicima i udruženjima, preduzetnika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-  povezivanje sa institucijama i oblicima neformalnog obrazovanj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41315-6D7C-424A-B7FF-076B51CA93C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92468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66"/>
                </a:solidFill>
                <a:latin typeface="Times New Roman"/>
              </a:rPr>
              <a:t>KAKVI TREBA DA BUDU OBRAZOVNI PROFILI ZA MSPP?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To su obrazovni profili koji mogu lako da se prilagode mestu i promeni procesa proizvodnje i koji pre svega poznaju ukupno funkcionisanje preduzeć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Pored solidnog obrazovanja, ovi profili imaju u toku školovanja određeni stepen obuke za brzo uključivanje u svet rad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D7C25-0D53-4A0F-85E9-E3AF551FCD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cc66"/>
                </a:solidFill>
                <a:latin typeface="Times New Roman"/>
              </a:rPr>
              <a:t>OSNOVNI PRINCIPI </a:t>
            </a:r>
            <a:br>
              <a:rPr sz="3200"/>
            </a:br>
            <a:r>
              <a:rPr b="0" lang="sr-Latn-CS" sz="3200" spc="-1" strike="noStrike">
                <a:solidFill>
                  <a:srgbClr val="ffcc66"/>
                </a:solidFill>
                <a:latin typeface="Times New Roman"/>
              </a:rPr>
              <a:t>STRUČNOG OBRAZOVANJA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Osnovni principi stručnog obrazovanja odgovaraju interesima MSPP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-  Novi profili u okviru stručnog obrazovanja mogu da u potpunosti  ovladaju </a:t>
            </a:r>
            <a:r>
              <a:rPr b="1" lang="sr-Latn-CS" sz="2400" spc="-1" strike="noStrike">
                <a:solidFill>
                  <a:srgbClr val="eaeaea"/>
                </a:solidFill>
                <a:latin typeface="Times New Roman"/>
              </a:rPr>
              <a:t>celinom funkcionisanja MSP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-  Novi (modularni) sistem stručnog obrazovanja treba da obezbedi i određeni </a:t>
            </a:r>
            <a:r>
              <a:rPr b="1" lang="sr-Latn-CS" sz="2400" spc="-1" strike="noStrike">
                <a:solidFill>
                  <a:srgbClr val="eaeaea"/>
                </a:solidFill>
                <a:latin typeface="Times New Roman"/>
              </a:rPr>
              <a:t>stepen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eaeaea"/>
                </a:solidFill>
                <a:latin typeface="Times New Roman"/>
              </a:rPr>
              <a:t>povezivanja profesionalnih veština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-  </a:t>
            </a:r>
            <a:r>
              <a:rPr b="1" lang="sr-Latn-CS" sz="2400" spc="-1" strike="noStrike">
                <a:solidFill>
                  <a:srgbClr val="eaeaea"/>
                </a:solidFill>
                <a:latin typeface="Times New Roman"/>
              </a:rPr>
              <a:t>Široke kompetencije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koje su potrebne u savremenoj proizvodnji i u sferi usluga – ne samo </a:t>
            </a:r>
            <a:r>
              <a:rPr b="1" lang="sr-Latn-CS" sz="2400" spc="-1" strike="noStrike">
                <a:solidFill>
                  <a:srgbClr val="eaeaea"/>
                </a:solidFill>
                <a:latin typeface="Times New Roman"/>
              </a:rPr>
              <a:t>za trenutnu proizvodnju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već za </a:t>
            </a:r>
            <a:r>
              <a:rPr b="1" lang="sr-Latn-CS" sz="2400" spc="-1" strike="noStrike">
                <a:solidFill>
                  <a:srgbClr val="eaeaea"/>
                </a:solidFill>
                <a:latin typeface="Times New Roman"/>
              </a:rPr>
              <a:t>doživotno osposobljavanje i učenje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79541-9E6D-479F-B096-BBF385E3FA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cc66"/>
                </a:solidFill>
                <a:latin typeface="Times New Roman"/>
              </a:rPr>
              <a:t>Osnovni praktični koraci u koncipiranju obrazovanja za MSP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Uvođenje novih profila i ukrupnjavanje postojećih kako bi mogli da prate kompletan ciklus razvoja i rada preduzeća (npr. novi profil: poslovni administrator)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Uvođenje fleksibilnog sistema obrazovanja koji omogućavca laku prekvalifikaciju i menjanje radnih mest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Unošenje preduzetničkih veština u obrazovanje za ove profil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38E64-DA5D-4DE3-BDD9-ABEAE3CA1D7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ffcc66"/>
                </a:solidFill>
                <a:latin typeface="Times New Roman"/>
              </a:rPr>
              <a:t>Osnovni praktični koraci u koncipiranju obrazovanja za MSP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Uvođenjem modularne nastave pojačati praktičnu primenu  znanja potrebnih za rad u MSP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Uključivanje preduzetnika i stručnjaka iz prakse u formiranje nopvih profila i model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Zajedničko snimanje poslova u privredi koji se obavljaju sa određenim stepenom obrazovanja, što podrazumeva uvođenje novih veština u proces obrazovanj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1B835-F27B-42E0-AAE0-7427414BCF5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Times New Roman YU Bold"/>
              </a:rPr>
              <a:t> </a:t>
            </a:r>
            <a:r>
              <a:rPr b="1" lang="en-US" sz="2800" spc="-1" strike="noStrike">
                <a:solidFill>
                  <a:srgbClr val="ffcc66"/>
                </a:solidFill>
                <a:latin typeface="YU Times New Roman"/>
              </a:rPr>
              <a:t>CILJ PREDMETA “PREDUZETNI</a:t>
            </a:r>
            <a:r>
              <a:rPr b="1" lang="sr-Latn-CS" sz="2800" spc="-1" strike="noStrike">
                <a:solidFill>
                  <a:srgbClr val="ffcc66"/>
                </a:solidFill>
                <a:latin typeface="YU Times New Roman"/>
              </a:rPr>
              <a:t>Š</a:t>
            </a:r>
            <a:r>
              <a:rPr b="1" lang="en-US" sz="2800" spc="-1" strike="noStrike">
                <a:solidFill>
                  <a:srgbClr val="ffcc66"/>
                </a:solidFill>
                <a:latin typeface="YU Times New Roman"/>
              </a:rPr>
              <a:t>TVO”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YU Times New Roman"/>
              </a:rPr>
              <a:t>Osnovni cilj predloga nastavnog predmeta Preduzetni</a:t>
            </a:r>
            <a:r>
              <a:rPr b="0" lang="sr-Latn-CS" sz="3200" spc="-1" strike="noStrike">
                <a:solidFill>
                  <a:srgbClr val="eaeaea"/>
                </a:solidFill>
                <a:latin typeface="YU Times New Roman"/>
              </a:rPr>
              <a:t>š</a:t>
            </a:r>
            <a:r>
              <a:rPr b="0" lang="en-US" sz="3200" spc="-1" strike="noStrike">
                <a:solidFill>
                  <a:srgbClr val="eaeaea"/>
                </a:solidFill>
                <a:latin typeface="YU Times New Roman"/>
              </a:rPr>
              <a:t>tvo je da u</a:t>
            </a:r>
            <a:r>
              <a:rPr b="0" lang="sr-Latn-CS" sz="3200" spc="-1" strike="noStrike">
                <a:solidFill>
                  <a:srgbClr val="eaeaea"/>
                </a:solidFill>
                <a:latin typeface="YU Times New Roman"/>
              </a:rPr>
              <a:t>č</a:t>
            </a:r>
            <a:r>
              <a:rPr b="0" lang="en-US" sz="3200" spc="-1" strike="noStrike">
                <a:solidFill>
                  <a:srgbClr val="eaeaea"/>
                </a:solidFill>
                <a:latin typeface="YU Times New Roman"/>
              </a:rPr>
              <a:t>enicima pru</a:t>
            </a:r>
            <a:r>
              <a:rPr b="0" lang="sr-Latn-CS" sz="3200" spc="-1" strike="noStrike">
                <a:solidFill>
                  <a:srgbClr val="eaeaea"/>
                </a:solidFill>
                <a:latin typeface="YU Times New Roman"/>
              </a:rPr>
              <a:t>ž</a:t>
            </a:r>
            <a:r>
              <a:rPr b="0" lang="en-US" sz="3200" spc="-1" strike="noStrike">
                <a:solidFill>
                  <a:srgbClr val="eaeaea"/>
                </a:solidFill>
                <a:latin typeface="YU Times New Roman"/>
              </a:rPr>
              <a:t>i </a:t>
            </a:r>
            <a:r>
              <a:rPr b="1" lang="en-US" sz="3200" spc="-1" strike="noStrike">
                <a:solidFill>
                  <a:srgbClr val="eaeaea"/>
                </a:solidFill>
                <a:latin typeface="YU Times New Roman"/>
              </a:rPr>
              <a:t>celovit pregled</a:t>
            </a:r>
            <a:r>
              <a:rPr b="0" lang="en-US" sz="3200" spc="-1" strike="noStrike">
                <a:solidFill>
                  <a:srgbClr val="eaeaea"/>
                </a:solidFill>
                <a:latin typeface="YU Times New Roman"/>
              </a:rPr>
              <a:t> svih pitanja relevantnih za </a:t>
            </a:r>
            <a:r>
              <a:rPr b="1" lang="en-US" sz="3200" spc="-1" strike="noStrike">
                <a:solidFill>
                  <a:srgbClr val="eaeaea"/>
                </a:solidFill>
                <a:latin typeface="YU Times New Roman"/>
              </a:rPr>
              <a:t>osnivanje i poslovanje</a:t>
            </a:r>
            <a:r>
              <a:rPr b="0" lang="en-US" sz="3200" spc="-1" strike="noStrike">
                <a:solidFill>
                  <a:srgbClr val="eaeaea"/>
                </a:solidFill>
                <a:latin typeface="YU Times New Roman"/>
              </a:rPr>
              <a:t> malog  preduze</a:t>
            </a:r>
            <a:r>
              <a:rPr b="0" lang="sr-Latn-CS" sz="3200" spc="-1" strike="noStrike">
                <a:solidFill>
                  <a:srgbClr val="eaeaea"/>
                </a:solidFill>
                <a:latin typeface="YU Times New Roman"/>
              </a:rPr>
              <a:t>ć</a:t>
            </a:r>
            <a:r>
              <a:rPr b="0" lang="en-US" sz="3200" spc="-1" strike="noStrike">
                <a:solidFill>
                  <a:srgbClr val="eaeaea"/>
                </a:solidFill>
                <a:latin typeface="YU Times New Roman"/>
              </a:rPr>
              <a:t>a, odnosno preduzetni</a:t>
            </a:r>
            <a:r>
              <a:rPr b="0" lang="sr-Latn-CS" sz="3200" spc="-1" strike="noStrike">
                <a:solidFill>
                  <a:srgbClr val="eaeaea"/>
                </a:solidFill>
                <a:latin typeface="YU Times New Roman"/>
              </a:rPr>
              <a:t>č</a:t>
            </a:r>
            <a:r>
              <a:rPr b="0" lang="en-US" sz="3200" spc="-1" strike="noStrike">
                <a:solidFill>
                  <a:srgbClr val="eaeaea"/>
                </a:solidFill>
                <a:latin typeface="YU Times New Roman"/>
              </a:rPr>
              <a:t>ke firme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06035-FBB2-43D6-B5BB-74CE1EE15D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YU Times New Roman"/>
              </a:rPr>
              <a:t>CILJ PREDMETA “PREDUZETNIŠTVO”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YU Times New Roman"/>
              </a:rPr>
              <a:t>Celovit proce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Font typeface="YU 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YU 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YU Times New Roman"/>
              </a:rPr>
              <a:t>kreiranje poslovne ideje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Font typeface="YU 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YU Times New Roman"/>
              </a:rPr>
              <a:t>osnivanje novog preduze</a:t>
            </a:r>
            <a:r>
              <a:rPr b="0" lang="sr-Latn-CS" sz="3200" spc="-1" strike="noStrike">
                <a:solidFill>
                  <a:srgbClr val="eaeaea"/>
                </a:solidFill>
                <a:latin typeface="YU Times New Roman"/>
              </a:rPr>
              <a:t>ć</a:t>
            </a:r>
            <a:r>
              <a:rPr b="0" lang="en-US" sz="3200" spc="-1" strike="noStrike">
                <a:solidFill>
                  <a:srgbClr val="eaeaea"/>
                </a:solidFill>
                <a:latin typeface="YU Times New Roman"/>
              </a:rPr>
              <a:t>a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Font typeface="YU 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YU Times New Roman"/>
              </a:rPr>
              <a:t>upravljanje teku</a:t>
            </a:r>
            <a:r>
              <a:rPr b="0" lang="sr-Latn-CS" sz="3200" spc="-1" strike="noStrike">
                <a:solidFill>
                  <a:srgbClr val="eaeaea"/>
                </a:solidFill>
                <a:latin typeface="YU Times New Roman"/>
              </a:rPr>
              <a:t>ć</a:t>
            </a:r>
            <a:r>
              <a:rPr b="0" lang="en-US" sz="3200" spc="-1" strike="noStrike">
                <a:solidFill>
                  <a:srgbClr val="eaeaea"/>
                </a:solidFill>
                <a:latin typeface="YU Times New Roman"/>
              </a:rPr>
              <a:t>im poslovanjem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Font typeface="YU 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YU Times New Roman"/>
              </a:rPr>
              <a:t>upravljanje rastom i razvojem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Font typeface="YU 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YU Times New Roman"/>
              </a:rPr>
              <a:t>izlazak preduzetnika iz posla (strategije ubiranje efekta od vlasništva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86EE2-2D97-4CF2-96F9-58477A6E809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cc66"/>
                </a:solidFill>
                <a:latin typeface="YU Times New Roman"/>
              </a:rPr>
              <a:t>PROGRAM  PREDMETA “PREDUZETNIŠTVO”</a:t>
            </a:r>
            <a:endParaRPr b="0" lang="en-US" sz="27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23520" y="1447560"/>
            <a:ext cx="72392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YU Times New Roman"/>
              </a:rPr>
              <a:t>Predlog programa predmeta “Preduzetništvo” nastoji  da pokrij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YU 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YU 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YU Times New Roman"/>
              </a:rPr>
              <a:t>osnovne probleme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YU 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YU 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YU Times New Roman"/>
              </a:rPr>
              <a:t>oblasti 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eaeaea"/>
              </a:buClr>
              <a:buFont typeface="YU 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YU 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YU Times New Roman"/>
              </a:rPr>
              <a:t>područja poslovne ekonomije,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aeaea"/>
                </a:solidFill>
                <a:latin typeface="YU Times New Roman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YU Times New Roman"/>
              </a:rPr>
              <a:t>koja su relevantna za upravljanj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aeaea"/>
                </a:solidFill>
                <a:latin typeface="YU Times New Roman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YU Times New Roman"/>
              </a:rPr>
              <a:t>preduzetničkom firmom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334120" y="175248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AFA12-2581-455C-9120-85D2E46CCE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YU Times New Roman"/>
              </a:rPr>
              <a:t>EFEKTI  PREDMETA “PREDUZETNIŠTVO”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aeaea"/>
                </a:solidFill>
                <a:latin typeface="YU Times New Roman"/>
              </a:rPr>
              <a:t>Podsticati</a:t>
            </a:r>
            <a:r>
              <a:rPr b="0" lang="en-US" sz="3200" spc="-1" strike="noStrike">
                <a:solidFill>
                  <a:srgbClr val="eaeaea"/>
                </a:solidFill>
                <a:latin typeface="YU Times New Roman"/>
              </a:rPr>
              <a:t> učenik</a:t>
            </a:r>
            <a:r>
              <a:rPr b="0" lang="sr-Latn-CS" sz="3200" spc="-1" strike="noStrike">
                <a:solidFill>
                  <a:srgbClr val="eaeaea"/>
                </a:solidFill>
                <a:latin typeface="YU Times New Roman"/>
              </a:rPr>
              <a:t>e</a:t>
            </a:r>
            <a:r>
              <a:rPr b="0" lang="en-US" sz="3200" spc="-1" strike="noStrike">
                <a:solidFill>
                  <a:srgbClr val="eaeaea"/>
                </a:solidFill>
                <a:latin typeface="YU Times New Roman"/>
              </a:rPr>
              <a:t> koji poseduju preduzetnički talenat da otpočnu samostalno poslovanje</a:t>
            </a:r>
            <a:r>
              <a:rPr b="0" lang="sr-Latn-CS" sz="3200" spc="-1" strike="noStrike">
                <a:solidFill>
                  <a:srgbClr val="eaeaea"/>
                </a:solidFill>
                <a:latin typeface="YU Times New Roman"/>
              </a:rPr>
              <a:t>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YU Times New Roman"/>
              </a:rPr>
              <a:t>Učenicima koji ne poseduju preduzetnički talenat, energiju i sklonost za samostalno bavljenje poslom </a:t>
            </a:r>
            <a:r>
              <a:rPr b="0" lang="sr-Latn-CS" sz="3200" spc="-1" strike="noStrike">
                <a:solidFill>
                  <a:srgbClr val="eaeaea"/>
                </a:solidFill>
                <a:latin typeface="YU Times New Roman"/>
              </a:rPr>
              <a:t>olakšati</a:t>
            </a:r>
            <a:r>
              <a:rPr b="0" lang="en-US" sz="3200" spc="-1" strike="noStrike">
                <a:solidFill>
                  <a:srgbClr val="eaeaea"/>
                </a:solidFill>
                <a:latin typeface="YU Times New Roman"/>
              </a:rPr>
              <a:t> razumevanje specifičnosti poslovanja preduzetničke firme i tako doprine</a:t>
            </a:r>
            <a:r>
              <a:rPr b="0" lang="sr-Latn-CS" sz="3200" spc="-1" strike="noStrike">
                <a:solidFill>
                  <a:srgbClr val="eaeaea"/>
                </a:solidFill>
                <a:latin typeface="YU Times New Roman"/>
              </a:rPr>
              <a:t>ti</a:t>
            </a:r>
            <a:r>
              <a:rPr b="0" lang="en-US" sz="3200" spc="-1" strike="noStrike">
                <a:solidFill>
                  <a:srgbClr val="eaeaea"/>
                </a:solidFill>
                <a:latin typeface="YU Times New Roman"/>
              </a:rPr>
              <a:t> njihovom uspešnijem radu u ovim pred</a:t>
            </a:r>
            <a:r>
              <a:rPr b="0" lang="sr-Latn-CS" sz="3200" spc="-1" strike="noStrike">
                <a:solidFill>
                  <a:srgbClr val="eaeaea"/>
                </a:solidFill>
                <a:latin typeface="YU Times New Roman"/>
              </a:rPr>
              <a:t>u</a:t>
            </a:r>
            <a:r>
              <a:rPr b="0" lang="en-US" sz="3200" spc="-1" strike="noStrike">
                <a:solidFill>
                  <a:srgbClr val="eaeaea"/>
                </a:solidFill>
                <a:latin typeface="YU Times New Roman"/>
              </a:rPr>
              <a:t>zećima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8BA3B-A99C-4915-BD66-80C5E1444A9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ffcc66"/>
                </a:solidFill>
                <a:latin typeface="YU Times New Roman"/>
              </a:rPr>
              <a:t>NEOPHODNOST PROMENE OBRAZOVNOG SISTEMA ZA POTREBE MALIH I SREDNJIH PREDUZEĆA</a:t>
            </a:r>
            <a:endParaRPr b="0" lang="en-US" sz="23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MSP su najznačajniji stvaraoci novih proizvoda, kreatori novih radnih mesta, znalčajno doprinose razvoju tržišne privrede i predstavljaju najfleksibilniji i na potrebe potrošača najosetljiviji deo svake privred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Brži razvoj preduzetničkih firmi i MSP podrazumeva promene u obrazovnom sistemu u skladu sa potrebama novog privatnog sektor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279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3A6F8-D193-4A24-95E4-C035178360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66"/>
                </a:solidFill>
                <a:latin typeface="YU Times New Roman"/>
              </a:rPr>
              <a:t>ZNAČAJ PREDMETA “PREDUZETNIŠTVO”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U MSP već sada je zaposlena većina radnika u našoj  privredi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Realno je očekivati da će većina sadašnjih učenika, a to još više važi za buduće generacije, svoju egzistenciju vezati za preduzetničke firme i da će im, stoga, znanje iz oblasti preduzeništva biti od velike koristi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Na ovaj način obrazovanje može brzo da  odgovori potrebama privrede, ali i da kroz prekvalifikaciju otvori nova vrata velikom broju nezaposleni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ED1B4-19FE-4795-B405-3F1BE48F71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295280" y="228600"/>
            <a:ext cx="7543800" cy="69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ffcc66"/>
                </a:solidFill>
                <a:latin typeface="YU Times New Roman"/>
              </a:rPr>
              <a:t>PREDLOG NASTAVNOG PROGRAMA PREDMETA</a:t>
            </a:r>
            <a:r>
              <a:rPr b="0" lang="sl-SI" sz="1600" spc="-1" strike="noStrike">
                <a:solidFill>
                  <a:srgbClr val="eaeaea"/>
                </a:solidFill>
                <a:latin typeface="Times New Roman YU Bold"/>
              </a:rPr>
              <a:t> </a:t>
            </a:r>
            <a:r>
              <a:rPr b="1" lang="sl-SI" sz="2800" spc="-1" strike="noStrike">
                <a:solidFill>
                  <a:srgbClr val="ffcc66"/>
                </a:solidFill>
                <a:latin typeface="YU Times New Roman"/>
              </a:rPr>
              <a:t>“PREDUZETNIŠTVO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YU Times New Roman"/>
              </a:rPr>
              <a:t>1.</a:t>
            </a:r>
            <a:r>
              <a:rPr b="1" lang="sr-Latn-CS" sz="2400" spc="-1" strike="noStrike">
                <a:solidFill>
                  <a:srgbClr val="eaeaea"/>
                </a:solidFill>
                <a:latin typeface="YU Times New Roman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YU Times New Roman"/>
              </a:rPr>
              <a:t>Priroda, karakteristike i značaj preduzetništv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1.1. Pojam i razvoj shvatanja preduzetništv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      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1.2. Značaj preduzetništv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      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1.3. Faktori razvoja preduzetništva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YU Times New Roman"/>
              </a:rPr>
              <a:t>2.</a:t>
            </a:r>
            <a:r>
              <a:rPr b="1" lang="sr-Latn-CS" sz="2400" spc="-1" strike="noStrike">
                <a:solidFill>
                  <a:srgbClr val="eaeaea"/>
                </a:solidFill>
                <a:latin typeface="YU Times New Roman"/>
              </a:rPr>
              <a:t>  </a:t>
            </a:r>
            <a:r>
              <a:rPr b="1" lang="en-US" sz="2400" spc="-1" strike="noStrike">
                <a:solidFill>
                  <a:srgbClr val="eaeaea"/>
                </a:solidFill>
                <a:latin typeface="YU Times New Roman"/>
              </a:rPr>
              <a:t>Preduzetni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2.1. Poja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2.2. Karijera preduzetnika - izazovi,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potencijalne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prednosti i nedostac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2.3. Profil preduzetnik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2.4. Poreklo preduzetnik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2.5. Motivi preduzetnik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2.6. Modeli ugledanja  preduzetnik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2.7. Preduzetnička kultura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eaeaea"/>
                </a:solidFill>
                <a:latin typeface="YU 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588A3-D850-434C-8187-7C7B054C250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l-SI" sz="2800" spc="-1" strike="noStrike">
                <a:solidFill>
                  <a:srgbClr val="ffcc66"/>
                </a:solidFill>
                <a:latin typeface="Times New Roman"/>
              </a:rPr>
              <a:t>PREDLOG NASTAVNOG PROGRAMA PREDMETA</a:t>
            </a:r>
            <a:r>
              <a:rPr b="0" lang="sl-SI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l-SI" sz="2800" spc="-1" strike="noStrike">
                <a:solidFill>
                  <a:srgbClr val="ffcc66"/>
                </a:solidFill>
                <a:latin typeface="Times New Roman"/>
              </a:rPr>
              <a:t>“PREDUZETNIŠTVO”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YU Times New Roman"/>
              </a:rPr>
              <a:t>3. </a:t>
            </a:r>
            <a:r>
              <a:rPr b="1" lang="en-US" sz="2400" spc="-1" strike="noStrike">
                <a:solidFill>
                  <a:srgbClr val="eaeaea"/>
                </a:solidFill>
                <a:latin typeface="YU Times New Roman"/>
              </a:rPr>
              <a:t>Preduzetnički proces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      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3.1. Model preduzetničkog proces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3.2. Promena postojećeg stila život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      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3.3. Mogućnosti osnivanja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 novog preduzeć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YU Times New Roman"/>
              </a:rPr>
              <a:t>4. </a:t>
            </a:r>
            <a:r>
              <a:rPr b="1" lang="en-US" sz="2400" spc="-1" strike="noStrike">
                <a:solidFill>
                  <a:srgbClr val="eaeaea"/>
                </a:solidFill>
                <a:latin typeface="YU Times New Roman"/>
              </a:rPr>
              <a:t>Kreiranje poslovne idej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      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4.1. Izvori ideja za poslovne poduhvate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      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4.2. Inovacije i preduzetništv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4.3. Metode generisanja poslovnih ide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      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4.4. Preoces planiranja i razvoja proizvod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1800F8-F37C-45CD-8E47-A88367DF95E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l-SI" sz="2800" spc="-1" strike="noStrike">
                <a:solidFill>
                  <a:srgbClr val="ffcc66"/>
                </a:solidFill>
                <a:latin typeface="Times New Roman"/>
              </a:rPr>
              <a:t>PREDLOG NASTAVNOG PROGRAMA PREDMETA</a:t>
            </a:r>
            <a:r>
              <a:rPr b="0" lang="sl-SI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l-SI" sz="2800" spc="-1" strike="noStrike">
                <a:solidFill>
                  <a:srgbClr val="ffcc66"/>
                </a:solidFill>
                <a:latin typeface="Times New Roman"/>
              </a:rPr>
              <a:t>“PREDUZETNIŠTVO”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eaeaea"/>
                </a:solidFill>
                <a:latin typeface="YU Times New Roman"/>
              </a:rPr>
              <a:t>5.  </a:t>
            </a:r>
            <a:r>
              <a:rPr b="1" lang="en-US" sz="2400" spc="-1" strike="noStrike">
                <a:solidFill>
                  <a:srgbClr val="eaeaea"/>
                </a:solidFill>
                <a:latin typeface="YU Times New Roman"/>
              </a:rPr>
              <a:t>Identifikovanje i evaulacija poslovnih mogućnost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5.1.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Prepoznavanje poslovnih mogućnosti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	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5.2. Identifikovanje i selekcija mogućnosti za nove</a:t>
            </a: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   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poslovne poduhvat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5.3. Ocena poslovnih mogućnosti za novi poslovni </a:t>
            </a: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poduhva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5.4. Pokretačke sile i detrminante uspešnosti novog </a:t>
            </a: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poslovnog poduhvat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DC8C0-07E7-4285-991E-A80F3B24B59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l-SI" sz="2800" spc="-1" strike="noStrike">
                <a:solidFill>
                  <a:srgbClr val="ffcc66"/>
                </a:solidFill>
                <a:latin typeface="Times New Roman"/>
              </a:rPr>
              <a:t>PREDLOG NASTAVNOG PROGRAMA PREDMETA</a:t>
            </a:r>
            <a:r>
              <a:rPr b="0" lang="sl-SI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l-SI" sz="2800" spc="-1" strike="noStrike">
                <a:solidFill>
                  <a:srgbClr val="ffcc66"/>
                </a:solidFill>
                <a:latin typeface="Times New Roman"/>
              </a:rPr>
              <a:t>“PREDUZETNIŠTVO”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YU Times New Roman"/>
              </a:rPr>
              <a:t>6. </a:t>
            </a:r>
            <a:r>
              <a:rPr b="1" lang="sr-Latn-CS" sz="2400" spc="-1" strike="noStrike">
                <a:solidFill>
                  <a:srgbClr val="eaeaea"/>
                </a:solidFill>
                <a:latin typeface="YU Times New Roman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YU Times New Roman"/>
              </a:rPr>
              <a:t>Interno (korporacijsko) preduzetništv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    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6.1. Pojam i karakteristik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    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6.2. Korporacijska kultura vs. kultura internog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preduzetništva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    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6.3. Postupak razvoja internog preduzetništv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YU Times New Roman"/>
              </a:rPr>
              <a:t>7. </a:t>
            </a:r>
            <a:r>
              <a:rPr b="1" lang="sr-Latn-CS" sz="2400" spc="-1" strike="noStrike">
                <a:solidFill>
                  <a:srgbClr val="eaeaea"/>
                </a:solidFill>
                <a:latin typeface="YU Times New Roman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YU Times New Roman"/>
              </a:rPr>
              <a:t>Strategije otpočinjanja poslovanj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    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7.1. Razvoj  novog proizvoda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    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7.2. Razvoj  sličnog proizvod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    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7.3. Franšizing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    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7.4. Eksploatacija postojećeg proizvoda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    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7.5. Obezbe|enje pokroviteljstv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    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7.6. Kupovina postojećeg preduzeć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25958-E267-4622-9189-311D2BE24EB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l-SI" sz="2800" spc="-1" strike="noStrike">
                <a:solidFill>
                  <a:srgbClr val="ffcc66"/>
                </a:solidFill>
                <a:latin typeface="Times New Roman"/>
              </a:rPr>
              <a:t>PREDLOG NASTAVNOG PROGRAMA PREDMETA</a:t>
            </a:r>
            <a:r>
              <a:rPr b="0" lang="sl-SI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l-SI" sz="2800" spc="-1" strike="noStrike">
                <a:solidFill>
                  <a:srgbClr val="ffcc66"/>
                </a:solidFill>
                <a:latin typeface="Times New Roman"/>
              </a:rPr>
              <a:t>“PREDUZETNIŠTVO”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YU Times New Roman"/>
              </a:rPr>
              <a:t>8. Pravni oblici obavljanja poslovne aktivnost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      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8.1. </a:t>
            </a: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Preduzetnik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      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8.2. </a:t>
            </a: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Preduzeć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8.2.1. </a:t>
            </a: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Partnersko društv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8.2.2. </a:t>
            </a: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Komanditno društv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8.2.3.</a:t>
            </a: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Društvo sa ograničenom</a:t>
            </a: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odgovornošću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8.2.4. </a:t>
            </a: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Akcionarsko društv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YU Times New Roman"/>
              </a:rPr>
              <a:t>9. Malo preduzeće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                                                                                                  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  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9.1</a:t>
            </a: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.  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 Poja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        </a:t>
            </a: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9.2</a:t>
            </a: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.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 </a:t>
            </a: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Vrste malih preduzeća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  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9.3. </a:t>
            </a: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YU Times New Roman"/>
              </a:rPr>
              <a:t>Karakteristike malih preduzeć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B4B64-1838-4C9D-BBDC-73D03572B82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l-SI" sz="2800" spc="-1" strike="noStrike">
                <a:solidFill>
                  <a:srgbClr val="ffcc66"/>
                </a:solidFill>
                <a:latin typeface="Times New Roman"/>
              </a:rPr>
              <a:t>PREDLOG NASTAVNOG PROGRAMA PREDMETA</a:t>
            </a:r>
            <a:r>
              <a:rPr b="0" lang="sl-SI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l-SI" sz="2800" spc="-1" strike="noStrike">
                <a:solidFill>
                  <a:srgbClr val="ffcc66"/>
                </a:solidFill>
                <a:latin typeface="Times New Roman"/>
              </a:rPr>
              <a:t>“PREDUZETNIŠTVO”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YU Times New Roman"/>
              </a:rPr>
              <a:t>10. </a:t>
            </a:r>
            <a:r>
              <a:rPr b="1" lang="sr-Latn-CS" sz="2800" spc="-1" strike="noStrike">
                <a:solidFill>
                  <a:srgbClr val="eaeaea"/>
                </a:solidFill>
                <a:latin typeface="YU Times New Roman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YU Times New Roman"/>
              </a:rPr>
              <a:t>Porodično preduzeće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                                                                                                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10.1. 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Karakteristike porodičnog preduzeć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10.2.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Odnos porodičnih i poslovnih ciljeva i            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       i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nteres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10.3.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 Kultura porodičnog preduzeć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10.4.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 Upravljački tim porodičnog preduzeć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10.5. 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Upravljanje sukcesijo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7E094-6D71-4ED1-909F-541B9733BD4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l-SI" sz="2800" spc="-1" strike="noStrike">
                <a:solidFill>
                  <a:srgbClr val="ffcc66"/>
                </a:solidFill>
                <a:latin typeface="Times New Roman"/>
              </a:rPr>
              <a:t>PREDLOG NASTAVNOG PROGRAMA PREDMETA</a:t>
            </a:r>
            <a:r>
              <a:rPr b="0" lang="sl-SI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l-SI" sz="2800" spc="-1" strike="noStrike">
                <a:solidFill>
                  <a:srgbClr val="ffcc66"/>
                </a:solidFill>
                <a:latin typeface="Times New Roman"/>
              </a:rPr>
              <a:t>“PREDUZETNIŠTVO”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YU Times New Roman"/>
              </a:rPr>
              <a:t>11. Preduzetnički stil upravljanja (menadžment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  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11.1. 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Preduzetnik kao menadž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  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11.2. 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Nužna upravljačka znanja i veštine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       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preduzetnik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      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11.3. 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Razvoj  upravljačke kompetencije preduzetnik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      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11.4. 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Preduzetnički vs. administrativni stil upravljanja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      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11.5. 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Tranzicija preduzetničkog u administrativni stil upravljanj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7E288-B9DA-4C46-8AF5-A596ADC3005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l-SI" sz="2800" spc="-1" strike="noStrike">
                <a:solidFill>
                  <a:srgbClr val="ffcc66"/>
                </a:solidFill>
                <a:latin typeface="Times New Roman"/>
              </a:rPr>
              <a:t>PREDLOG NASTAVNOG PROGRAMA PREDMETA</a:t>
            </a:r>
            <a:r>
              <a:rPr b="0" lang="sl-SI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l-SI" sz="2800" spc="-1" strike="noStrike">
                <a:solidFill>
                  <a:srgbClr val="ffcc66"/>
                </a:solidFill>
                <a:latin typeface="Times New Roman"/>
              </a:rPr>
              <a:t>“PREDUZETNIŠTVO”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eaeaea"/>
                </a:solidFill>
                <a:latin typeface="YU Times New Roman"/>
              </a:rPr>
              <a:t>12. S</a:t>
            </a:r>
            <a:r>
              <a:rPr b="1" lang="en-US" sz="2800" spc="-1" strike="noStrike">
                <a:solidFill>
                  <a:srgbClr val="eaeaea"/>
                </a:solidFill>
                <a:latin typeface="YU Times New Roman"/>
              </a:rPr>
              <a:t>pecifičnosti upravljanja</a:t>
            </a:r>
            <a:r>
              <a:rPr b="1" lang="sr-Latn-CS" sz="2800" spc="-1" strike="noStrike">
                <a:solidFill>
                  <a:srgbClr val="eaeaea"/>
                </a:solidFill>
                <a:latin typeface="YU Times New Roman"/>
              </a:rPr>
              <a:t> </a:t>
            </a:r>
            <a:r>
              <a:rPr b="1" lang="en-US" sz="2800" spc="-1" strike="noStrike">
                <a:solidFill>
                  <a:srgbClr val="eaeaea"/>
                </a:solidFill>
                <a:latin typeface="YU Times New Roman"/>
              </a:rPr>
              <a:t>(menadžmenta) </a:t>
            </a:r>
            <a:r>
              <a:rPr b="1" lang="sr-Latn-CS" sz="2800" spc="-1" strike="noStrike">
                <a:solidFill>
                  <a:srgbClr val="eaeaea"/>
                </a:solidFill>
                <a:latin typeface="YU Times New Roman"/>
              </a:rPr>
              <a:t>    </a:t>
            </a:r>
            <a:r>
              <a:rPr b="1" lang="en-US" sz="2800" spc="-1" strike="noStrike">
                <a:solidFill>
                  <a:srgbClr val="eaeaea"/>
                </a:solidFill>
                <a:latin typeface="YU Times New Roman"/>
              </a:rPr>
              <a:t>preduzetničkom firmo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028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12.1.Osobenosti marketinga malog preduzeć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02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12.2.Upravljanje proizvodnjom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02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12.3. Upravljanje finansijam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102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12.4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 Upravljanje ljudskim resursima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zaposleni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12.5. Informacioni sistemi malog preduzeć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2D53A-AA6C-4AFA-8329-D2F6F4B08ECD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sl-SI" sz="2800" spc="-1" strike="noStrike">
                <a:solidFill>
                  <a:srgbClr val="ffcc66"/>
                </a:solidFill>
                <a:latin typeface="Times New Roman"/>
              </a:rPr>
              <a:t>PREDLOG NASTAVNOG PROGRAMA PREDMETA</a:t>
            </a:r>
            <a:r>
              <a:rPr b="0" lang="sl-SI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l-SI" sz="2800" spc="-1" strike="noStrike">
                <a:solidFill>
                  <a:srgbClr val="ffcc66"/>
                </a:solidFill>
                <a:latin typeface="Times New Roman"/>
              </a:rPr>
              <a:t>“PREDUZETNIŠTVO”</a:t>
            </a:r>
            <a:br>
              <a:rPr sz="2800"/>
            </a:b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YU Times New Roman"/>
              </a:rPr>
              <a:t>13.</a:t>
            </a:r>
            <a:r>
              <a:rPr b="1" lang="sr-Latn-CS" sz="2800" spc="-1" strike="noStrike">
                <a:solidFill>
                  <a:srgbClr val="eaeaea"/>
                </a:solidFill>
                <a:latin typeface="YU Times New Roman"/>
              </a:rPr>
              <a:t>  </a:t>
            </a:r>
            <a:r>
              <a:rPr b="1" lang="en-US" sz="2800" spc="-1" strike="noStrike">
                <a:solidFill>
                  <a:srgbClr val="eaeaea"/>
                </a:solidFill>
                <a:latin typeface="YU Times New Roman"/>
              </a:rPr>
              <a:t>Poslovni pla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13.1. Pojam  poslovnog plan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13.2. Značaj i namena poslovnog plan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13.3. Izrada poslovnog plan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13.4. Sadržina i forma poslovnog plana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YU Times New Roman"/>
              </a:rPr>
              <a:t>14.</a:t>
            </a:r>
            <a:r>
              <a:rPr b="1" lang="sr-Latn-CS" sz="2800" spc="-1" strike="noStrike">
                <a:solidFill>
                  <a:srgbClr val="eaeaea"/>
                </a:solidFill>
                <a:latin typeface="YU Times New Roman"/>
              </a:rPr>
              <a:t>  </a:t>
            </a:r>
            <a:r>
              <a:rPr b="1" lang="en-US" sz="2800" spc="-1" strike="noStrike">
                <a:solidFill>
                  <a:srgbClr val="eaeaea"/>
                </a:solidFill>
                <a:latin typeface="YU Times New Roman"/>
              </a:rPr>
              <a:t>Strategije završetka poslovanj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14.1. Nužnost strategije izlaska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14.2. Metode procene vrednosti preduzetničke 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firm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	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YU Times New Roman"/>
              </a:rPr>
              <a:t>14.3. Opcije ubiranja efekata od vlasništv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DA8AD-7A50-40C5-A5EB-6451FC3DD14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cc66"/>
                </a:solidFill>
                <a:latin typeface="Times New Roman"/>
              </a:rPr>
              <a:t>REFORMA STRUČNOG OBRAZOVANJA</a:t>
            </a:r>
            <a:endParaRPr b="0" lang="en-US" sz="31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eaeaea"/>
                </a:solidFill>
                <a:latin typeface="Times New Roman"/>
              </a:rPr>
              <a:t>Reforma stručnog obrazovanja u Republici Srbiji obuhvata obrazovanje i obučavanje mladih pre svega za potrebe privrede, što podrazumeva da obrazovanje mora da prati najnovije društvene, tehnološke  i ekonomske proces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5079B-0EB8-479A-A8C9-00074E7555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100" spc="-1" strike="noStrike">
                <a:solidFill>
                  <a:srgbClr val="ffcc66"/>
                </a:solidFill>
                <a:latin typeface="Times New Roman"/>
              </a:rPr>
              <a:t>REFORMA STRUČNOG OBRAZOVANJA</a:t>
            </a:r>
            <a:endParaRPr b="0" lang="en-US" sz="31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Reformisano stručno obrazovanje treba da omogući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YU 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eaeaea"/>
                </a:solidFill>
                <a:latin typeface="YU Times New Roman"/>
              </a:rPr>
              <a:t>kognitivna i teorijska znanja</a:t>
            </a: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kao podlogu za sticanje više sofisticiranih stručnih kvalifikacija i sposobnosti, s obzirom na tehnološke promene u procesu rada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YU 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eaeaea"/>
                </a:solidFill>
                <a:latin typeface="YU Times New Roman"/>
              </a:rPr>
              <a:t>široke kompetencije</a:t>
            </a: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koje su potrebne savremenoj proizvodnji i uslužnom sektoru, kao osnovu za kontinuirano, doživotno osposobljabvalje i učenje kadrova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YU 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stručno obrazovanje koje će </a:t>
            </a:r>
            <a:r>
              <a:rPr b="1" lang="sr-Latn-CS" sz="2400" spc="-1" strike="noStrike">
                <a:solidFill>
                  <a:srgbClr val="eaeaea"/>
                </a:solidFill>
                <a:latin typeface="YU Times New Roman"/>
              </a:rPr>
              <a:t>podržavati samozapošljavanje</a:t>
            </a: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 i </a:t>
            </a:r>
            <a:r>
              <a:rPr b="1" lang="sr-Latn-CS" sz="2400" spc="-1" strike="noStrike">
                <a:solidFill>
                  <a:srgbClr val="eaeaea"/>
                </a:solidFill>
                <a:latin typeface="YU Times New Roman"/>
              </a:rPr>
              <a:t>podsticati produktivnost</a:t>
            </a:r>
            <a:r>
              <a:rPr b="0" lang="sr-Latn-CS" sz="2400" spc="-1" strike="noStrike">
                <a:solidFill>
                  <a:srgbClr val="eaeaea"/>
                </a:solidFill>
                <a:latin typeface="YU 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CFA37-C010-492D-B974-9CE5716038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cc66"/>
                </a:solidFill>
                <a:latin typeface="Times New Roman"/>
              </a:rPr>
              <a:t>Dalji razvoj stručnog obrazovanja treba da uvaži sledeće zahteve</a:t>
            </a:r>
            <a:r>
              <a:rPr b="0" lang="sr-Latn-CS" sz="3600" spc="-1" strike="noStrike">
                <a:solidFill>
                  <a:srgbClr val="ffcc66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eaeaea"/>
                </a:solidFill>
                <a:latin typeface="YU Times New Roman"/>
              </a:rPr>
              <a:t>Povećane </a:t>
            </a:r>
            <a:r>
              <a:rPr b="1" lang="sr-Latn-CS" sz="2200" spc="-1" strike="noStrike">
                <a:solidFill>
                  <a:srgbClr val="eaeaea"/>
                </a:solidFill>
                <a:latin typeface="YU Times New Roman"/>
              </a:rPr>
              <a:t>potrebe privrede za novim sposobnostima</a:t>
            </a:r>
            <a:r>
              <a:rPr b="0" lang="sr-Latn-CS" sz="2200" spc="-1" strike="noStrike">
                <a:solidFill>
                  <a:srgbClr val="eaeaea"/>
                </a:solidFill>
                <a:latin typeface="YU Times New Roman"/>
              </a:rPr>
              <a:t> kadrova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eaeaea"/>
                </a:solidFill>
                <a:latin typeface="YU Times New Roman"/>
              </a:rPr>
              <a:t>Obrazovanje mora da podrži </a:t>
            </a:r>
            <a:r>
              <a:rPr b="1" lang="sr-Latn-CS" sz="2200" spc="-1" strike="noStrike">
                <a:solidFill>
                  <a:srgbClr val="eaeaea"/>
                </a:solidFill>
                <a:latin typeface="YU Times New Roman"/>
              </a:rPr>
              <a:t>kontinuiranu ekspanziju znanja</a:t>
            </a:r>
            <a:r>
              <a:rPr b="0" lang="sr-Latn-CS" sz="2200" spc="-1" strike="noStrike">
                <a:solidFill>
                  <a:srgbClr val="eaeaea"/>
                </a:solidFill>
                <a:latin typeface="YU Times New Roman"/>
              </a:rPr>
              <a:t>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eaeaea"/>
                </a:solidFill>
                <a:latin typeface="YU Times New Roman"/>
              </a:rPr>
              <a:t>Novo </a:t>
            </a:r>
            <a:r>
              <a:rPr b="1" lang="sr-Latn-CS" sz="2200" spc="-1" strike="noStrike">
                <a:solidFill>
                  <a:srgbClr val="eaeaea"/>
                </a:solidFill>
                <a:latin typeface="YU Times New Roman"/>
              </a:rPr>
              <a:t>povezivanje obrazovanja i tržišta rada</a:t>
            </a:r>
            <a:r>
              <a:rPr b="0" lang="sr-Latn-CS" sz="2200" spc="-1" strike="noStrike">
                <a:solidFill>
                  <a:srgbClr val="eaeaea"/>
                </a:solidFill>
                <a:latin typeface="YU Times New Roman"/>
              </a:rPr>
              <a:t> uz uvažavanje principa tržišne privrede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200" spc="-1" strike="noStrike">
                <a:solidFill>
                  <a:srgbClr val="eaeaea"/>
                </a:solidFill>
                <a:latin typeface="YU Times New Roman"/>
              </a:rPr>
              <a:t>Kontrolu kvaliteta obrazovanja</a:t>
            </a:r>
            <a:r>
              <a:rPr b="0" lang="sr-Latn-CS" sz="2200" spc="-1" strike="noStrike">
                <a:solidFill>
                  <a:srgbClr val="eaeaea"/>
                </a:solidFill>
                <a:latin typeface="YU Times New Roman"/>
              </a:rPr>
              <a:t> i veću pažnju rezultatima u obrazovanju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eaeaea"/>
                </a:solidFill>
                <a:latin typeface="YU Times New Roman"/>
              </a:rPr>
              <a:t>Drugačiju zastupljenost privrede u obrazovanju i fleksibilno </a:t>
            </a:r>
            <a:r>
              <a:rPr b="1" lang="sr-Latn-CS" sz="2200" spc="-1" strike="noStrike">
                <a:solidFill>
                  <a:srgbClr val="eaeaea"/>
                </a:solidFill>
                <a:latin typeface="YU Times New Roman"/>
              </a:rPr>
              <a:t>povezivanje obrazovanja, osposobljavanja i rada</a:t>
            </a:r>
            <a:r>
              <a:rPr b="0" lang="sr-Latn-CS" sz="2200" spc="-1" strike="noStrike">
                <a:solidFill>
                  <a:srgbClr val="eaeaea"/>
                </a:solidFill>
                <a:latin typeface="YU Times New Roman"/>
              </a:rPr>
              <a:t>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eaeaea"/>
                </a:solidFill>
                <a:latin typeface="YU Times New Roman"/>
              </a:rPr>
              <a:t>Davanje </a:t>
            </a:r>
            <a:r>
              <a:rPr b="1" lang="sr-Latn-CS" sz="2200" spc="-1" strike="noStrike">
                <a:solidFill>
                  <a:srgbClr val="eaeaea"/>
                </a:solidFill>
                <a:latin typeface="YU Times New Roman"/>
              </a:rPr>
              <a:t>većeg značaja</a:t>
            </a:r>
            <a:r>
              <a:rPr b="0" lang="sr-Latn-CS" sz="2200" spc="-1" strike="noStrike">
                <a:solidFill>
                  <a:srgbClr val="eaeaea"/>
                </a:solidFill>
                <a:latin typeface="YU Times New Roman"/>
              </a:rPr>
              <a:t> obrazovanju i </a:t>
            </a:r>
            <a:r>
              <a:rPr b="1" lang="sr-Latn-CS" sz="2200" spc="-1" strike="noStrike">
                <a:solidFill>
                  <a:srgbClr val="eaeaea"/>
                </a:solidFill>
                <a:latin typeface="YU Times New Roman"/>
              </a:rPr>
              <a:t>povećanje investicija</a:t>
            </a:r>
            <a:r>
              <a:rPr b="0" lang="sr-Latn-CS" sz="2200" spc="-1" strike="noStrike">
                <a:solidFill>
                  <a:srgbClr val="eaeaea"/>
                </a:solidFill>
                <a:latin typeface="YU Times New Roman"/>
              </a:rPr>
              <a:t> u obrazovanje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eaeaea"/>
                </a:solidFill>
                <a:latin typeface="YU Times New Roman"/>
              </a:rPr>
              <a:t>Unapređenje stručnog obrazovanja, posebno sa aspekta njegove </a:t>
            </a:r>
            <a:r>
              <a:rPr b="1" lang="sr-Latn-CS" sz="2200" spc="-1" strike="noStrike">
                <a:solidFill>
                  <a:srgbClr val="eaeaea"/>
                </a:solidFill>
                <a:latin typeface="YU Times New Roman"/>
              </a:rPr>
              <a:t>diversifikacije</a:t>
            </a:r>
            <a:r>
              <a:rPr b="0" lang="sr-Latn-CS" sz="2200" spc="-1" strike="noStrike">
                <a:solidFill>
                  <a:srgbClr val="eaeaea"/>
                </a:solidFill>
                <a:latin typeface="YU Times New Roman"/>
              </a:rPr>
              <a:t>, posebno u domenu programa i kurseva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690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6908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96C64-D474-45E8-A197-AC962DC95F3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cc66"/>
                </a:solidFill>
                <a:latin typeface="Times New Roman"/>
              </a:rPr>
              <a:t>Dalji razvoj stručnog obrazovanja treba da uvaži sledeće zahteve</a:t>
            </a:r>
            <a:r>
              <a:rPr b="0" lang="sr-Latn-CS" sz="3600" spc="-1" strike="noStrike">
                <a:solidFill>
                  <a:srgbClr val="ffcc66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eaeaea"/>
                </a:solidFill>
                <a:latin typeface="YU Times New Roman"/>
              </a:rPr>
              <a:t>Obezbeđivanje </a:t>
            </a:r>
            <a:r>
              <a:rPr b="1" lang="sr-Latn-CS" sz="2300" spc="-1" strike="noStrike">
                <a:solidFill>
                  <a:srgbClr val="eaeaea"/>
                </a:solidFill>
                <a:latin typeface="YU Times New Roman"/>
              </a:rPr>
              <a:t>vertikalne i horizontalne fleksibilnosti</a:t>
            </a:r>
            <a:r>
              <a:rPr b="0" lang="sr-Latn-CS" sz="2300" spc="-1" strike="noStrike">
                <a:solidFill>
                  <a:srgbClr val="eaeaea"/>
                </a:solidFill>
                <a:latin typeface="YU Times New Roman"/>
              </a:rPr>
              <a:t> unutar stručnog obrazovanja;</a:t>
            </a:r>
            <a:endParaRPr b="0" lang="en-US" sz="23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eaeaea"/>
                </a:solidFill>
                <a:latin typeface="YU Times New Roman"/>
              </a:rPr>
              <a:t>Racionalizacija i usaglašavanje </a:t>
            </a:r>
            <a:r>
              <a:rPr b="1" lang="sr-Latn-CS" sz="2300" spc="-1" strike="noStrike">
                <a:solidFill>
                  <a:srgbClr val="eaeaea"/>
                </a:solidFill>
                <a:latin typeface="YU Times New Roman"/>
              </a:rPr>
              <a:t>mreže stručnih škola</a:t>
            </a:r>
            <a:r>
              <a:rPr b="0" lang="sr-Latn-CS" sz="2300" spc="-1" strike="noStrike">
                <a:solidFill>
                  <a:srgbClr val="eaeaea"/>
                </a:solidFill>
                <a:latin typeface="YU Times New Roman"/>
              </a:rPr>
              <a:t> sa potrebama privrede i tržišta rada;</a:t>
            </a:r>
            <a:endParaRPr b="0" lang="en-US" sz="23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eaeaea"/>
                </a:solidFill>
                <a:latin typeface="YU Times New Roman"/>
              </a:rPr>
              <a:t>Uvođenje </a:t>
            </a:r>
            <a:r>
              <a:rPr b="1" lang="sr-Latn-CS" sz="2300" spc="-1" strike="noStrike">
                <a:solidFill>
                  <a:srgbClr val="eaeaea"/>
                </a:solidFill>
                <a:latin typeface="YU Times New Roman"/>
              </a:rPr>
              <a:t>novih oblika nastave i prakse</a:t>
            </a:r>
            <a:r>
              <a:rPr b="0" lang="sr-Latn-CS" sz="2300" spc="-1" strike="noStrike">
                <a:solidFill>
                  <a:srgbClr val="eaeaea"/>
                </a:solidFill>
                <a:latin typeface="YU Times New Roman"/>
              </a:rPr>
              <a:t>;</a:t>
            </a:r>
            <a:endParaRPr b="0" lang="en-US" sz="23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eaeaea"/>
                </a:solidFill>
                <a:latin typeface="YU Times New Roman"/>
              </a:rPr>
              <a:t>Obezbeđenje </a:t>
            </a:r>
            <a:r>
              <a:rPr b="1" lang="sr-Latn-CS" sz="2300" spc="-1" strike="noStrike">
                <a:solidFill>
                  <a:srgbClr val="eaeaea"/>
                </a:solidFill>
                <a:latin typeface="YU Times New Roman"/>
              </a:rPr>
              <a:t>kvaliteta</a:t>
            </a:r>
            <a:r>
              <a:rPr b="0" lang="sr-Latn-CS" sz="2300" spc="-1" strike="noStrike">
                <a:solidFill>
                  <a:srgbClr val="eaeaea"/>
                </a:solidFill>
                <a:latin typeface="YU Times New Roman"/>
              </a:rPr>
              <a:t> i </a:t>
            </a:r>
            <a:r>
              <a:rPr b="1" lang="sr-Latn-CS" sz="2300" spc="-1" strike="noStrike">
                <a:solidFill>
                  <a:srgbClr val="eaeaea"/>
                </a:solidFill>
                <a:latin typeface="YU Times New Roman"/>
              </a:rPr>
              <a:t>evaluacija</a:t>
            </a:r>
            <a:r>
              <a:rPr b="0" lang="sr-Latn-CS" sz="2300" spc="-1" strike="noStrike">
                <a:solidFill>
                  <a:srgbClr val="eaeaea"/>
                </a:solidFill>
                <a:latin typeface="YU Times New Roman"/>
              </a:rPr>
              <a:t> učenika, studenata i organizacija;</a:t>
            </a:r>
            <a:endParaRPr b="0" lang="en-US" sz="23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eaeaea"/>
                </a:solidFill>
                <a:latin typeface="YU Times New Roman"/>
              </a:rPr>
              <a:t>Uvođenje </a:t>
            </a:r>
            <a:r>
              <a:rPr b="1" lang="sr-Latn-CS" sz="2300" spc="-1" strike="noStrike">
                <a:solidFill>
                  <a:srgbClr val="eaeaea"/>
                </a:solidFill>
                <a:latin typeface="YU Times New Roman"/>
              </a:rPr>
              <a:t>standarda</a:t>
            </a:r>
            <a:r>
              <a:rPr b="0" lang="sr-Latn-CS" sz="2300" spc="-1" strike="noStrike">
                <a:solidFill>
                  <a:srgbClr val="eaeaea"/>
                </a:solidFill>
                <a:latin typeface="YU Times New Roman"/>
              </a:rPr>
              <a:t> i </a:t>
            </a:r>
            <a:r>
              <a:rPr b="1" lang="sr-Latn-CS" sz="2300" spc="-1" strike="noStrike">
                <a:solidFill>
                  <a:srgbClr val="eaeaea"/>
                </a:solidFill>
                <a:latin typeface="YU Times New Roman"/>
              </a:rPr>
              <a:t>usaglašavanje</a:t>
            </a:r>
            <a:r>
              <a:rPr b="0" lang="sr-Latn-CS" sz="2300" spc="-1" strike="noStrike">
                <a:solidFill>
                  <a:srgbClr val="eaeaea"/>
                </a:solidFill>
                <a:latin typeface="YU Times New Roman"/>
              </a:rPr>
              <a:t> stepena diploma i kvalifikacija </a:t>
            </a:r>
            <a:r>
              <a:rPr b="1" lang="sr-Latn-CS" sz="2300" spc="-1" strike="noStrike">
                <a:solidFill>
                  <a:srgbClr val="eaeaea"/>
                </a:solidFill>
                <a:latin typeface="YU Times New Roman"/>
              </a:rPr>
              <a:t>sa svetskim standardima</a:t>
            </a:r>
            <a:r>
              <a:rPr b="0" lang="sr-Latn-CS" sz="2300" spc="-1" strike="noStrike">
                <a:solidFill>
                  <a:srgbClr val="eaeaea"/>
                </a:solidFill>
                <a:latin typeface="YU Times New Roman"/>
              </a:rPr>
              <a:t>;</a:t>
            </a:r>
            <a:endParaRPr b="0" lang="en-US" sz="23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eaeaea"/>
                </a:solidFill>
                <a:latin typeface="YU Times New Roman"/>
              </a:rPr>
              <a:t>Saradnja</a:t>
            </a:r>
            <a:r>
              <a:rPr b="0" lang="sr-Latn-CS" sz="2300" spc="-1" strike="noStrike">
                <a:solidFill>
                  <a:srgbClr val="eaeaea"/>
                </a:solidFill>
                <a:latin typeface="YU Times New Roman"/>
              </a:rPr>
              <a:t> sa svim partnerima;</a:t>
            </a:r>
            <a:endParaRPr b="0" lang="en-US" sz="23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300" spc="-1" strike="noStrike">
                <a:solidFill>
                  <a:srgbClr val="eaeaea"/>
                </a:solidFill>
                <a:latin typeface="YU Times New Roman"/>
              </a:rPr>
              <a:t>Diversufikacija</a:t>
            </a:r>
            <a:r>
              <a:rPr b="0" lang="sr-Latn-CS" sz="2300" spc="-1" strike="noStrike">
                <a:solidFill>
                  <a:srgbClr val="eaeaea"/>
                </a:solidFill>
                <a:latin typeface="YU Times New Roman"/>
              </a:rPr>
              <a:t> privatnih i državnih </a:t>
            </a:r>
            <a:r>
              <a:rPr b="1" lang="sr-Latn-CS" sz="2300" spc="-1" strike="noStrike">
                <a:solidFill>
                  <a:srgbClr val="eaeaea"/>
                </a:solidFill>
                <a:latin typeface="YU Times New Roman"/>
              </a:rPr>
              <a:t>izvora finansiranja</a:t>
            </a:r>
            <a:r>
              <a:rPr b="0" lang="sr-Latn-CS" sz="2300" spc="-1" strike="noStrike">
                <a:solidFill>
                  <a:srgbClr val="eaeaea"/>
                </a:solidFill>
                <a:latin typeface="YU Times New Roman"/>
              </a:rPr>
              <a:t>.</a:t>
            </a:r>
            <a:endParaRPr b="0" lang="en-US" sz="23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532C7-020C-4205-AA47-5A36417C4D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cc66"/>
                </a:solidFill>
                <a:latin typeface="Times New Roman"/>
              </a:rPr>
              <a:t>USAGLAŠAVANJE REFORME OBRAZOVANJA SA PROCESIMA U PRIVREDI I NA TRŽIŠTU RAD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Faktori koji usporavaju proces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     </a:t>
            </a:r>
            <a:r>
              <a:rPr b="0" lang="sr-Latn-CS" sz="2400" spc="-1" strike="noStrike">
                <a:solidFill>
                  <a:srgbClr val="eaeaea"/>
                </a:solidFill>
                <a:latin typeface="Times New Roman"/>
              </a:rPr>
              <a:t>-  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zatvorenost zemlje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  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-  neefikasnost i zastarelost obrazovnih programa i  mreže obrazovnih institucija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  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-  nepovoljna starosna struktura nastavnog kadra i neadekvatan stručni kadar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  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-  neopremljenost školskih ustanova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  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-  velike regionalne razlike u kvalitetu obrazovanja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    </a:t>
            </a:r>
            <a:r>
              <a:rPr b="0" lang="sr-Latn-CS" sz="2800" spc="-1" strike="noStrike">
                <a:solidFill>
                  <a:srgbClr val="eaeaea"/>
                </a:solidFill>
                <a:latin typeface="YU Times New Roman"/>
              </a:rPr>
              <a:t>- nedostatak finansijskih sredstav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5CA07-879D-4B8A-AB3C-B9BE3C390E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cc66"/>
                </a:solidFill>
                <a:latin typeface="Times New Roman"/>
              </a:rPr>
              <a:t>Pretpostavke za uspeh reforme stručnog obrazovanja: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Razvoj strategije profesionalnog obrazovanja i obuke, stvaranje novih profila koji odgovaraju novoj ekonomskoj realnosti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Promene u organizaciji nastavnog procesa, uvođenje modularnih oblika nastav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Redefinisanje opštih znanja i utvrđivanje prave kombinacije između opšteg teorijskog i praktičnog transfera znanj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Inoviranje kurikuluma i uvođenje novih metoda obuke, fleksibilno postavljeni obrazovni profili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F346D2-EB09-4F35-9DE7-EBAD344375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ffcc66"/>
                </a:solidFill>
                <a:latin typeface="Times New Roman"/>
              </a:rPr>
              <a:t>Pretpostavke za uspeh reforme stručnog obrazovanja: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Razvoj formalne mreže stručnih škol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Inoviranje opreme i nastavnog materijal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Osamostaljivanje i jačanje stručnih škola u novim uslovima, povezivanje sa lokalnom sredinom, iznalaženje novih načina finansiranj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eaeaea"/>
                </a:solidFill>
                <a:latin typeface="Times New Roman"/>
              </a:rPr>
              <a:t>Usavršavanje direktora i njihovo osposobljavanje za nove uslove rad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B036C-2A81-4CBB-AEA4-BF7C547D68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ojan</cp:lastModifiedBy>
  <dcterms:modified xsi:type="dcterms:W3CDTF">2003-10-06T15:31:10Z</dcterms:modified>
  <cp:revision>32</cp:revision>
  <dc:subject/>
  <dc:title>PowerPoint Presentation</dc:title>
</cp:coreProperties>
</file>