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6A6-BC5A-47BE-9E0B-CEACCC7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65C-22B6-4C00-B6EB-DE086EA0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C04-F17E-4360-9F53-B92BB725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D0F-9665-4F6C-9DEF-B580D9E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095C-C959-46A1-BF4D-3D09A02B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DFB0-BF42-4B81-9EB0-083B05EB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A0AB-1EDF-4488-9138-033A6F5B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207-F085-4FEA-B625-B50B7D7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144-C7EB-4099-9D28-3671649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DB46-EEEC-4BDA-8D2F-F709D87C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E4FF-B2BE-4C80-B8B5-22C2A1CF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097-B6A8-417F-8531-2AF3AFB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E946-4A67-4F33-9D8E-86E9212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6EF-45D8-48AF-B215-9A07AF9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E39-B42B-4FD1-B33C-A42E1DE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7821-378F-498E-9787-8F84B8EA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29F4-B417-492C-A766-96C9032A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C5D-7E18-45AB-92B5-48057923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901-A295-4CAF-8014-256110E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BC4-404A-4488-B08D-BB5C389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C4A-8767-4171-A194-651A23E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E92-4BB7-4BD2-869B-4B1C962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DFF-E880-40AF-86B6-546CA85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279-EACF-4DB8-B962-B172E95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0E5-7901-4412-9CDE-4ED519360D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956-B001-47CD-8008-D272DC736F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STRANA ULAGANJA U SRBIJ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11280" y="3789360"/>
            <a:ext cx="640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NJE, PREPREKE I PREDSTOJECE PROMENE PRAVNOG RE</a:t>
            </a: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ŽI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4941720"/>
            <a:ext cx="1081080" cy="79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99"/>
                </a:solidFill>
                <a:latin typeface="Arial"/>
              </a:rPr>
              <a:t>Prome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Zakon o privatizaciji, jun 2001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Zakon o stranim ulaganjima, januar 2002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koncesija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finansijskom lizing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založnom pravu na pokretnim stvarima upisanim u regist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planiranju i izgradnj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Set poreskih zakon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tržištu hartija od vrednosti i drugih finansijkih instrumen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Otklanjanje prepreka (I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Hipote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inudno izvršenje sudskih odlu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Gradsko građevinsko zemljiš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Denacionaliz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anarska prava i prava zaštićenih stanara sa pravo zakupa (stanovanja) u stanovima u privatnoj svoji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Otklanjanje prepreka (II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varna prava strana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oreski režim zaku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Antimonopolski propi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opisi o preduzećima (corporate governan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Registracija preduze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ečaj i likvid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omen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opisa će, čak i sam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po sebi biti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ovi i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iguran pokazatelj investitorima da se investi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to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rska klima nadalje menja u pozitivnom smeru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a biće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i  jedan od elemenata od značaja za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dalje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ivlačenja stranih investicija. Obim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ulaganja i direktnih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tranih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ulaganja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, stoga, nije omeđen samo objektivnim problemima, već i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ekim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ubjektivnim slabostima koje se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u značajnom delu mogu prevazić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eki od propisa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ne primenjuju se u dovoljnoj meri dosledno i efikasno, iako odgovarajuća zakonska osnova postoji. Primera radi, reč je o Zakonu o izvršnom postupku, Zakonu o osnovama svojinsko-pravnih odnosa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i sličn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im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. U tim oblastima do značajnog napretka može doći čak i bez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iz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mene propisa, ali i takve promene moraju biti inicirane, koordinirane i pažljivo kontrolisane od strane nadležnih orga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45:49Z</dcterms:created>
  <dc:creator>.</dc:creator>
  <dc:description/>
  <dc:language>en-US</dc:language>
  <cp:lastModifiedBy>Bojan</cp:lastModifiedBy>
  <dcterms:modified xsi:type="dcterms:W3CDTF">2003-10-06T14:39:06Z</dcterms:modified>
  <cp:revision>2</cp:revision>
  <dc:subject/>
  <dc:title>STRANA ULAGANJA U SRBIJI</dc:title>
</cp:coreProperties>
</file>