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801F-30E0-4237-B68D-279CEF345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6CBB-B424-405C-87B0-AD001E77C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FB935-2FF2-4DC5-8E9E-D5E00404B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9B5C-2974-4F1E-AF6D-DA19BB585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9170-9D0B-4293-8A6C-941F72A69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D6891-A901-47E0-99D9-1A948926F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DA807-1E05-43D3-8551-9CE458583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1E018-9F0E-4CCD-88FF-D877C71E3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450D3-9EEE-45E3-B52C-EE75DFEE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DD851-AE46-410C-9C95-00211AE76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C145-007A-454A-A309-A4FF8882F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423B-FC04-4DA9-9091-4DE0A1510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571AE-C1C6-4F27-B7FB-6C439348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34012-1560-4141-A269-3188BE65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A8658-2BE3-4C96-976B-CE1E7129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6489D-8260-4143-ABA3-DAF49B84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BF461-816C-4024-A537-E4423D0E6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0F99-9346-411A-ADBD-101EDF63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4370-AE8C-4141-8C68-0AF2BB04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1035-FBE2-4B9D-A316-59D1CA33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DE10-C0A7-45DD-90B8-51913383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E21D-EF56-4B21-BF86-4BB8F2EC0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73D1-59F5-48C5-9668-7D24A3E2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C13E-A7CC-4BCE-95CB-CA08F0B06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26099-03E4-4387-8981-19DB21D5B29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AF56-EE3B-497E-9A25-A15AE6C039D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5.png"/><Relationship Id="rId10" Type="http://schemas.openxmlformats.org/officeDocument/2006/relationships/image" Target="../media/image4.wmf"/><Relationship Id="rId1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5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5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Verdana"/>
              </a:rPr>
              <a:t>STRANA ULAGANJA U SRBIJI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2411280" y="3789360"/>
            <a:ext cx="640080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TANJE, PREPREKE I PREDSTOJECE PROMENE PRAVNOG RE</a:t>
            </a:r>
            <a:r>
              <a:rPr b="1" lang="sr-Latn-CS" sz="2000" spc="-1" strike="noStrike">
                <a:solidFill>
                  <a:srgbClr val="ffffff"/>
                </a:solidFill>
                <a:latin typeface="Verdana"/>
              </a:rPr>
              <a:t>ŽI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643280" y="4941720"/>
            <a:ext cx="1081080" cy="798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8604360" y="6308640"/>
            <a:ext cx="28548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ffff99"/>
                </a:solidFill>
                <a:latin typeface="Arial"/>
              </a:rPr>
              <a:t>Promene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Verdana"/>
              </a:rPr>
              <a:t>Zakon o privatizaciji, jun 2001. god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Verdana"/>
              </a:rPr>
              <a:t>Zakon o stranim ulaganjima, januar 2002. god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Verdana"/>
              </a:rPr>
              <a:t>Zakon o koncesijam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Verdana"/>
              </a:rPr>
              <a:t>Zakon o finansijskom lizingu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Verdana"/>
              </a:rPr>
              <a:t>Zakon o založnom pravu na pokretnim stvarima upisanim u regista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Verdana"/>
              </a:rPr>
              <a:t>Zakon o planiranju i izgradnji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Verdana"/>
              </a:rPr>
              <a:t>Set poreskih zakon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Verdana"/>
              </a:rPr>
              <a:t>Zakon o tržištu hartija od vrednosti i drugih finansijkih instrumenata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9"/>
          <a:stretch/>
        </p:blipFill>
        <p:spPr>
          <a:xfrm>
            <a:off x="8604360" y="6308640"/>
            <a:ext cx="285480" cy="304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10"/>
          <a:stretch/>
        </p:blipFill>
        <p:spPr>
          <a:xfrm>
            <a:off x="250920" y="260280"/>
            <a:ext cx="86508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Otklanjanje prepreka (I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Hipotek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Prinudno izvršenje sudskih odluk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Gradsko građevinsko zemljišt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Denacionalizaci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Stanarska prava i prava zaštićenih stanara sa pravo zakupa (stanovanja) u stanovima u privatnoj svojin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6"/>
          <a:stretch/>
        </p:blipFill>
        <p:spPr>
          <a:xfrm>
            <a:off x="8604360" y="6308640"/>
            <a:ext cx="285480" cy="304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7"/>
          <a:stretch/>
        </p:blipFill>
        <p:spPr>
          <a:xfrm>
            <a:off x="250920" y="260280"/>
            <a:ext cx="86508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       </a:t>
            </a: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Otklanjanje prepreka (II)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Stvarna prava stranac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Poreski režim zakup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Antimonopolski propis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Propisi o preduzećima (corporate governance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Registracija preduzeć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Verdana"/>
              </a:rPr>
              <a:t>Stečaj i likvidacij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7"/>
          <a:stretch/>
        </p:blipFill>
        <p:spPr>
          <a:xfrm>
            <a:off x="8604360" y="6308640"/>
            <a:ext cx="285480" cy="30492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8"/>
          <a:stretch/>
        </p:blipFill>
        <p:spPr>
          <a:xfrm>
            <a:off x="250920" y="260280"/>
            <a:ext cx="86508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ffff99"/>
                </a:solidFill>
                <a:latin typeface="Arial"/>
              </a:rPr>
              <a:t>Zaključak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Promen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e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propisa će, čak i sam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e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po sebi biti 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novi i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siguran pokazatelj investitorima da se investi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to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rska klima nadalje menja u pozitivnom smeru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,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 a biće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i  jedan od elemenata od značaja za 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dalje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privlačenja stranih investicija. Obim 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ulaganja i direktnih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stranih 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ulaganja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, stoga, nije omeđen samo objektivnim problemima, već i 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nekim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subjektivnim slabostima koje se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u značajnom delu mogu prevazići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N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eki od propisa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ne primenjuju se u dovoljnoj meri dosledno i efikasno, iako odgovarajuća zakonska osnova postoji. Primera radi, reč je o Zakonu o izvršnom postupku, Zakonu o osnovama svojinsko-pravnih odnosa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i sličn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im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. U tim oblastima do značajnog napretka može doći čak i bez </a:t>
            </a:r>
            <a:r>
              <a:rPr b="0" lang="sr-Latn-CS" sz="2000" spc="-1" strike="noStrike">
                <a:solidFill>
                  <a:srgbClr val="ffffff"/>
                </a:solidFill>
                <a:latin typeface="Verdana"/>
              </a:rPr>
              <a:t>iz</a:t>
            </a:r>
            <a:r>
              <a:rPr b="0" lang="sr-CS" sz="2000" spc="-1" strike="noStrike">
                <a:solidFill>
                  <a:srgbClr val="ffffff"/>
                </a:solidFill>
                <a:latin typeface="Verdana"/>
              </a:rPr>
              <a:t>mene propisa, ali i takve promene moraju biti inicirane, koordinirane i pažljivo kontrolisane od strane nadležnih organ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8604360" y="6308640"/>
            <a:ext cx="285480" cy="30492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250920" y="260280"/>
            <a:ext cx="865080" cy="6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4T18:45:49Z</dcterms:created>
  <dc:creator>.</dc:creator>
  <dc:description/>
  <dc:language>en-US</dc:language>
  <cp:lastModifiedBy>Bojan</cp:lastModifiedBy>
  <dcterms:modified xsi:type="dcterms:W3CDTF">2003-10-06T14:39:06Z</dcterms:modified>
  <cp:revision>2</cp:revision>
  <dc:subject/>
  <dc:title>STRANA ULAGANJA U SRBIJI</dc:title>
</cp:coreProperties>
</file>