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E9FE-EF6B-48F2-A586-CA4E07DE1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083A-DA2F-484D-9E9F-8AE1ADD5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00D4-E9A6-4C5F-A592-383485098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07A4-7246-4E80-96FA-35CAEAC17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B2E2-1CAB-43B5-BFED-35406874E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1ED97-7C26-4238-BFB1-DE13701B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8713-A169-417D-8C9F-6FBF34BA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DC03F-B877-4A5B-8125-601B521B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0D86-CFBA-4F88-948B-29C8250F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CD4A-A814-42E7-9AC5-EA967769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1371-E8A8-438E-9728-5D4F6C55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87C7-86E5-4E8B-B823-EFC7596F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7929-7731-4254-A910-3874209D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7915-F99D-4CE4-8ECD-7032EE52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566F-0914-4C25-AF8F-AB6F75C0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00DF-577E-4CC4-BB7F-2CA9F556E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FBC3-9A36-4FAF-A15F-B8E6B86F8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3BCD-9AB7-4054-B90B-4C2C9BED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7260-966A-4908-8E22-0C8A336A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0F50-3620-4BCF-9DE1-CF365408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0B2A-08DF-4EAA-838E-62C30DD7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C723-89F5-4E31-B285-E2B9F4B8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7038-BEAD-45F1-90E8-0F6082A9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5A91-EAB9-4D08-BCD8-739AF097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C78F-FE6B-4FC3-A9F9-8004EA99A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B618-EE64-44E1-AE1E-2E2D693C8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STANJE I PERSPEKTIVE RAZVOJA MALIH I SREDNJIH PREDUZE</a:t>
            </a:r>
            <a:r>
              <a:rPr b="1" lang="sl-SI" sz="4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A U KRAGUJEVCU I ŠUMADIJSKOM REGIONU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71424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je uloge agencije i servis provajdera za pod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ku MSP (Regionalna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cija za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 i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nja preduze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 “Šumadija”, Agencija za revitali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ju Vlade Republike Srbije) i njihove saradnje sa državnim organima i nevladinim organizacijama , kao i osnivanje udruženja  i asocijacija  privatnih preduzetnik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prema industrijskih zona (privl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je stranih investitora). Uslovi: bez kamate, grejs period 3 – 5 godina, ne placanje poreza na profit u prvih 5 godina rada i oslob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je pl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ja ure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ja gradskog gr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inskog zemljišta, pod uslovom zaposlenja domaceg stru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g kadra, U industrijskim zonama prednost davati preduze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 sa visoko profitnim programima, kvartalnom sektoru i generatorima razvoja (npr. SAD – Texas: generatori razvoja : avio – industrija, telekomunikacij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1362240"/>
            <a:ext cx="777240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adjen Projektni zadatak za izradu Studije  izvodljivosti industrijske zone u Kragujevcu, u toku sprovodjenje tenderskog postupka u saradnji sa GTZ – Nem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 organizacija za tehni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u saradnj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varanje biznis inkubator centara za mala i srednja preduze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(saradnja sa USAID (ACDI/VOCA) i uklju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anje gr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kih inicijativ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hodnost “prevo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ja” privatnih inicijativa iz polulegalnog “sivog” sektora u mala i srednja preduze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i legalne ekonomske tok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RAGUJEVAC</a:t>
            </a:r>
            <a:br>
              <a:rPr sz="8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snovni podaci o gra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06080" y="19051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ografski polo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a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ar region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umadije i Pomoravlja i centar okru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vršina: 835 km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dmorska visina: 18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tna mre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Kragujevac – Ni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of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Kragujevac – Beograd – Subotica – Budimpe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Kragujevac – Podgorica – Bar (luk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Kragujevac – Skoplje – Solun (luk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OVNI</a:t>
            </a:r>
            <a:r>
              <a:rPr b="0" lang="sl-SI" sz="4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32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vrti grad po veli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 u Srbi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 naseljenih mesta, 76 Mesnih zajednic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is 2002.  go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50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kupno stanovnika 180.8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50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 toga u zemlji 175.8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50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 inostranstvu 5.0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50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dsko stanovni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vo 146.510 (81% ukupno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ovni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50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stalo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ovn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tvo 34.362 (19% ukupno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ovni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50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j domacinstava: 63.2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5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grafska kreta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5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solutni rast stanovnika izmedju dva popisa: 7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5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ni rast stanovnika : 1,004 (inde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5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gnacija i realan pad broja stanovni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5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BEGLICE,PROGNANA I INTERNO RASELJE</a:t>
            </a: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LICA U KRAGUJEVC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71160" y="328608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zbeglice iz Hrvatske i Bosne i Hercegovine   2.2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zbegla lica sa Kosova i Metohije                  13.3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UPNO                                                       15.5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APOSLENOST U KRAGUJEVC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d ukupnog broja zaposlenih za 18.822 (1,36 pu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d broja zaposlenih u dr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tvenom sektoru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28.393 (1,74 pu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ast broja zaposlenih  u individualnom sektoru 9.571 (3,82 pu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evidenciji ZZO nal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se 5.566 radnika, koji su svrstani u zaposlene u društvenom sektoru (vanprivreda), tako da je stvaran broj zaposlenih manji za ovaj iz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ojanje fiktivne zaposlenosti (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krivena ne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oslenos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447920" y="2133720"/>
          <a:ext cx="6095880" cy="11318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3880"/>
                <a:gridCol w="152424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.SEK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.SEK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KUP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.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.6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9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.5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Š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MADIJSKI OKRU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vr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 : 2.877 km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uhvata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 Kragujevac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tine : Aran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ovac, Bat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ina, Rača, Kn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povo, Topo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ovništvo po popisu 2002.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kupno stanovništvo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7.807, od to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dsko stanovništvo 242.415 (81,4 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talo 55.392 (18.6 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UZE</a:t>
            </a: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I PREDUZETNI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Kragujev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la preduz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ć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9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 ukupnog broja preduz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ć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(rast od 11,4%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odnosu na 1994. godinu), zapošljavaju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ega 6,4 % ukupno zaposleni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ednja preduz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ć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pad od 14,6%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odnosu na 1994. godinu, zapošljavaju 14,5 % ukupno zaposleni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lika preduz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ć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pad u odnosu na 1994. godinu, one zapošljavaju i dalje oko 79,2% ukupno zaposleni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a preduz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ć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u odnosu na 1994. godinu pov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ć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ju broj zaposlenih za 2,5 pu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Jedna četvrtin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dnika koja je 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ed tranzicije i svojinske transformacij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stala bez posla, zaposlena je u sektoru malih preduze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izacija i promena vlasni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 struktu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sada po starom i novom zakonu u gradu je ukupno privatizovano svega 12 preduz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ć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a preduze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oprinose relativnom jacanju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ne svojine u odnosu na druge oblike svojine – 87,2 % malih preduzeca je u privatnoj svojin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iniraju mala i srednja preduzeca u oblasti trgovine (preko 50%)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sektoru usluga (tercijarne delatnosti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bri poslovni rezultati, fleksibilnost, prilagodljivost tržištu, privatna inicijativa, profitna motivisano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umadijski okr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66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2,3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od ukupnog broja su mala preduze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66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,3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 su srednj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66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4 % velika preduze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o 40 % ukupne privredne aktivnosti u Okrugu još uvek se odvija u sferi “sive”ekonomij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 ukupnog broja zaposlenih , mala preduze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u Okrugu upošljavaju svega 12,4 %, srednja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% a velika 69,6 % zaposleni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ve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broj zaposlenih u malim preduze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 ima opština Kni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50,8 %), dok najve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broj zaposlenih u velikim ima Kragujevac ( 73,4 %) – neophodnost restruktu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anja privre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lovna uspešnost – najuspešnije posluju mala preduze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koja sa svega 8,8 % ukupnog kapitala i 12,4 % zaposlenih stvaraju 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 30 % ukupnog prihoda i 57,3 % dobitk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LJE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je uloge MSP sektora u oblasti industrije ( prehrambena, hemijska, ode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i obu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, industrija lekova, elektronik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atizacija velikih kapaciteta u oblasti turizma i ugostiteljstva i masovniji ulazak MSP u ovaj sektor delatnos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eiranje novih podsticajnih politika z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ku r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ju MSP (u oblasti lokalnih komunalnih taksi,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njenje poreskog optere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ja, obezbe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je potrebnih lokacija i infrastrukture) i adekvatnih mera makroekonomske polit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30T05:35:33Z</dcterms:created>
  <dc:creator>Natasha Pesic Radosavljevic i Milica Pesic</dc:creator>
  <dc:description/>
  <dc:language>en-US</dc:language>
  <cp:lastModifiedBy>Bojan</cp:lastModifiedBy>
  <dcterms:modified xsi:type="dcterms:W3CDTF">2003-10-06T14:44:35Z</dcterms:modified>
  <cp:revision>9</cp:revision>
  <dc:subject/>
  <dc:title>STANJE I PERSPEKTIVE RAZVOJA MALIH I SREDNJIH PREDUZEĆA U KRAGUJEVCU I ŠUMADIJSKOM REGIONU </dc:title>
</cp:coreProperties>
</file>