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1630-402E-45D6-A6CB-29CD3AA91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BDFD-AF0F-443C-AAC5-894C788B6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6EFE-55DE-47E2-B5A6-381BB665C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6B2F-489A-4F6A-9402-57B56C7C6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F17F7-47EB-471E-80D8-02DFE96EB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0DB30-A539-4872-B8D5-68BC7BF7F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56056-E205-46C4-BEF6-5F75D9AAD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BB3D2-83C1-4110-B1BF-9F417DAE3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D2D6C-F616-418A-9C4F-2712A07C8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CBD90-DD2F-4FF0-BAC0-DB5437663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2753E-8C4F-4AFE-96C8-6294CE60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F47D-1BDF-4FB8-B6CB-7AAD19CF5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1D44F-110B-4EFF-B174-C1378ED3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1F405-6D82-4621-8B67-D56C2DD0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FB3CB-68F5-4B5C-B278-CD6D8EAA8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86FA7-58F4-4D2B-9456-C4E53A3CF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EE2E8-9A5B-4E78-917A-6C29D1BAA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01B8-7506-413A-9E9B-FD5FC7BE2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FFF3-76DB-49CB-A003-C92FF7EA7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57EC-412F-4551-B1D2-BC7A0CDFB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2A54-361E-4FC8-B472-05E722B1A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B0E5-5DEC-462A-B6BC-06DEB4F3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3591-F8EE-4212-819C-56BB14D8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D14E-9261-4DA9-BEE4-AEE67887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C9261-BAB3-4819-AB25-22BCEB004F0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F5D98-6F8C-4901-8CCA-5BFFB4E078B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215720"/>
            <a:ext cx="76788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IVA EKONOMIJA</a:t>
            </a:r>
            <a:r>
              <a:rPr b="0" lang="sl-SI" sz="4400" spc="-1" strike="noStrike">
                <a:solidFill>
                  <a:srgbClr val="003366"/>
                </a:solidFill>
                <a:latin typeface="Arial"/>
              </a:rPr>
              <a:t> I MSP</a:t>
            </a:r>
            <a:br>
              <a:rPr sz="4400"/>
            </a:br>
            <a:br>
              <a:rPr sz="1800"/>
            </a:br>
            <a:r>
              <a:rPr b="1" i="1" lang="sl-SI" sz="1800" spc="-1" strike="noStrike">
                <a:solidFill>
                  <a:srgbClr val="003366"/>
                </a:solidFill>
                <a:latin typeface="Arial"/>
              </a:rPr>
              <a:t>Uticaj delovanja sive ekonomije na rast i razvoj MSP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819160" y="2742840"/>
            <a:ext cx="56386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33cc"/>
                </a:solidFill>
                <a:latin typeface="Arial"/>
              </a:rPr>
              <a:t>Milan Lalović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33cc"/>
                </a:solidFill>
                <a:latin typeface="Arial"/>
              </a:rPr>
              <a:t>Konferencija: </a:t>
            </a:r>
            <a:r>
              <a:rPr b="1" lang="sr-CS" sz="1800" spc="-1" strike="noStrike">
                <a:solidFill>
                  <a:srgbClr val="0033cc"/>
                </a:solidFill>
                <a:latin typeface="Arial"/>
              </a:rPr>
              <a:t>‘’</a:t>
            </a:r>
            <a:r>
              <a:rPr b="1" lang="sl-SI" sz="1800" spc="-1" strike="noStrike">
                <a:solidFill>
                  <a:srgbClr val="0033cc"/>
                </a:solidFill>
                <a:latin typeface="Arial"/>
              </a:rPr>
              <a:t>Mala i srednja preduzeća</a:t>
            </a:r>
            <a:r>
              <a:rPr b="1" lang="sr-CS" sz="1800" spc="-1" strike="noStrike">
                <a:solidFill>
                  <a:srgbClr val="0033cc"/>
                </a:solidFill>
                <a:latin typeface="Arial"/>
              </a:rPr>
              <a:t> –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33cc"/>
                </a:solidFill>
                <a:latin typeface="Arial"/>
              </a:rPr>
              <a:t>nove mogućnosti za Srbiju’’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33cc"/>
                </a:solidFill>
                <a:latin typeface="Arial"/>
              </a:rPr>
              <a:t>Beograd, 6-7. oktobar 2003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85800" y="5616720"/>
            <a:ext cx="1219320" cy="803160"/>
          </a:xfrm>
          <a:prstGeom prst="rect">
            <a:avLst/>
          </a:prstGeom>
          <a:ln w="0">
            <a:noFill/>
          </a:ln>
        </p:spPr>
      </p:pic>
      <p:grpSp>
        <p:nvGrpSpPr>
          <p:cNvPr id="213" name=""/>
          <p:cNvGrpSpPr/>
          <p:nvPr/>
        </p:nvGrpSpPr>
        <p:grpSpPr>
          <a:xfrm>
            <a:off x="609480" y="5562720"/>
            <a:ext cx="8152920" cy="914400"/>
            <a:chOff x="609480" y="5562720"/>
            <a:chExt cx="8152920" cy="914400"/>
          </a:xfrm>
        </p:grpSpPr>
        <p:sp>
          <p:nvSpPr>
            <p:cNvPr id="214" name=""/>
            <p:cNvSpPr/>
            <p:nvPr/>
          </p:nvSpPr>
          <p:spPr>
            <a:xfrm>
              <a:off x="609480" y="5562720"/>
              <a:ext cx="128016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889640" y="5562720"/>
              <a:ext cx="687276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n financial support to SMEs in Serb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 EU-funded project managed by the European Agency for Reconstru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F5780-8C26-49A3-8213-487CF7393D1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IVA EKONOMIJA</a:t>
            </a:r>
            <a:r>
              <a:rPr b="0" lang="sl-SI" sz="4400" spc="-1" strike="noStrike">
                <a:solidFill>
                  <a:srgbClr val="003366"/>
                </a:solidFill>
                <a:latin typeface="Arial"/>
              </a:rPr>
              <a:t> I MSP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8305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SIVA EKONOMIJA KAO POLITIČKO PITANJ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Afirmacija sistema vrednosti preduzetničkog društv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zgradnja privrednog sistema u čijem središtu su preduzetnik i MS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 algn="just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trebna reform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68160" indent="-223920" algn="just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poreskog sistema (uvođenje PDV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568160" indent="-223920" algn="just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sistema socijalnog osiguranja (uvođenje dobrovoljnog penzijskog i zdravstvenog osiguranj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568160" indent="-223920" algn="just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finansijskog sistema (izgradnja institucija za finansiranje razvoja MSP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 algn="just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aktivna ekonomska politika prema MS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68160" indent="-223920" algn="just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reska (poreski podsticaji i oslobađanj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68160" indent="-223920" algn="just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reditno-monetarna (povoljniji pristup tržištu kapital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3815-DC7F-4DB9-B217-8393601554C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IVA EKONOMIJA</a:t>
            </a:r>
            <a:r>
              <a:rPr b="0" lang="sl-SI" sz="4400" spc="-1" strike="noStrike">
                <a:solidFill>
                  <a:srgbClr val="003366"/>
                </a:solidFill>
                <a:latin typeface="Arial"/>
              </a:rPr>
              <a:t> I MSP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Verdana"/>
              </a:rPr>
              <a:t>HARMONIČNA EKONOMIJ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usklađenost privredne strukture i privrednog siste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Verdana"/>
              </a:rPr>
              <a:t>SIVA EKONOMIJ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odraz neizgrađenosti privrednog sistema i neefikasnosti ekonomske politik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A3C3-17AA-4437-A0E2-DCE4400ED5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IVA EKONOMIJA</a:t>
            </a:r>
            <a:r>
              <a:rPr b="0" lang="sl-SI" sz="4400" spc="-1" strike="noStrike">
                <a:solidFill>
                  <a:srgbClr val="003366"/>
                </a:solidFill>
                <a:latin typeface="Arial"/>
              </a:rPr>
              <a:t> I MSP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Verdana"/>
              </a:rPr>
              <a:t>Kakav je položaj MSP i preduzetnika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na marginama privrednog sistema i ekonomske politik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i u sivoj zoni poslovanj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0736-32F6-4D6B-B25F-DEFD96C805A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IVA EKONOMIJA</a:t>
            </a:r>
            <a:r>
              <a:rPr b="0" lang="sl-SI" sz="4400" spc="-1" strike="noStrike">
                <a:solidFill>
                  <a:srgbClr val="003366"/>
                </a:solidFill>
                <a:latin typeface="Arial"/>
              </a:rPr>
              <a:t> I MSP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Verdana"/>
              </a:rPr>
              <a:t>SIVA EKONOMIJ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uzroc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pojavni oblic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uticaj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na MS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sl-SI" sz="1800" spc="-1" strike="noStrike">
                <a:solidFill>
                  <a:srgbClr val="000000"/>
                </a:solidFill>
                <a:latin typeface="Verdana"/>
              </a:rPr>
              <a:t>Da li i u kojoj meri i u kojim oblicima može da se toleriše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sl-SI" sz="1800" spc="-1" strike="noStrike">
                <a:solidFill>
                  <a:srgbClr val="000000"/>
                </a:solidFill>
                <a:latin typeface="Verdana"/>
              </a:rPr>
              <a:t>Da li je i u kojoj meri ograničavajući ili podsticajni faktor razvoja MSP i preduzetništva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na korupciju (korelacija?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sl-SI" sz="1800" spc="-1" strike="noStrike">
                <a:solidFill>
                  <a:srgbClr val="000000"/>
                </a:solidFill>
                <a:latin typeface="Verdana"/>
              </a:rPr>
              <a:t>Da li je moguća i u kom stepenu korupcija bez nekontrolisane gotovine u opticaju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818B-B360-4CBE-9C0C-6D55097420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  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IVA EKONOMIJA</a:t>
            </a:r>
            <a:r>
              <a:rPr b="0" lang="sl-SI" sz="4400" spc="-1" strike="noStrike">
                <a:solidFill>
                  <a:srgbClr val="003366"/>
                </a:solidFill>
                <a:latin typeface="Arial"/>
              </a:rPr>
              <a:t> I MSP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Verdana"/>
              </a:rPr>
              <a:t>PDV kao faktor eliminisanja generisanja nekontrolisane gotovine u opticaj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000000"/>
                </a:solidFill>
                <a:latin typeface="Verdana"/>
              </a:rPr>
              <a:t>siva ekonomija - gotovina - korupcij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914400" y="3505320"/>
          <a:ext cx="7296120" cy="2895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505320"/>
                    <a:ext cx="729612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AC5A-9A72-44DE-A699-F9421AF0F91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IVA EKONOMIJA</a:t>
            </a:r>
            <a:r>
              <a:rPr b="0" lang="sl-SI" sz="4400" spc="-1" strike="noStrike">
                <a:solidFill>
                  <a:srgbClr val="003366"/>
                </a:solidFill>
                <a:latin typeface="Arial"/>
              </a:rPr>
              <a:t> I MSP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VA EKONOMIJA DEFORMI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ŠE TRŽIŠ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ne razvija konkurentnost privre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(stvara lažnu sliku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000000"/>
                </a:solidFill>
                <a:latin typeface="Verdana"/>
              </a:rPr>
              <a:t>koji deo strukture MSP ima potencijala da legalno posluj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Kakav je odnos margine profita i poreskog tereta MSP i preduzetnik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uslovi privređivanja MS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vanporeska opterećenj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troškovi registracije i vođenja poslovanj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4DEE-CC39-4CC0-893A-CA67D69EB3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IVA EKONOMIJA</a:t>
            </a:r>
            <a:r>
              <a:rPr b="0" lang="sl-SI" sz="4400" spc="-1" strike="noStrike">
                <a:solidFill>
                  <a:srgbClr val="003366"/>
                </a:solidFill>
                <a:latin typeface="Arial"/>
              </a:rPr>
              <a:t> I MSP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Verdana"/>
              </a:rPr>
              <a:t>Strategija razvoja MSPP 2003-2008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start up 130,000 MS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1 mil. novih radnih mesta u MSP sektor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PORESKI TER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preduzetnika početnik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na zarade zaposleni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Verdana"/>
              </a:rPr>
              <a:t>koliko treba da platim porez a da ne ugrozim sopstveno poslovanj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Verdana"/>
              </a:rPr>
              <a:t>šta imam od toga ako platim ili neplatim porez, npr. kakav je uticaj na dobijanje kredit od bank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9a0000"/>
                </a:solidFill>
                <a:latin typeface="Verdana"/>
              </a:rPr>
              <a:t>Da li je racionalnije za MSP prikrivati prihode i izbegavati oporezivanje ili tražiti legalne izvore za finansiranje razvoj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BD59-AABA-4B63-9E5E-26F4BF0635E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IVA EKONOMIJA</a:t>
            </a:r>
            <a:r>
              <a:rPr b="0" lang="sl-SI" sz="4400" spc="-1" strike="noStrike">
                <a:solidFill>
                  <a:srgbClr val="003366"/>
                </a:solidFill>
                <a:latin typeface="Arial"/>
              </a:rPr>
              <a:t> I MSP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Verdana"/>
              </a:rPr>
              <a:t>U kojoj meri je realno moguć legalan start up novog biznis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3200" spc="-1" strike="noStrike">
                <a:solidFill>
                  <a:srgbClr val="000000"/>
                </a:solidFill>
                <a:latin typeface="Verdana"/>
              </a:rPr>
              <a:t>Koliko sa </a:t>
            </a:r>
            <a:r>
              <a:rPr b="1" i="1" lang="sl-SI" sz="3200" spc="-1" strike="noStrike">
                <a:solidFill>
                  <a:srgbClr val="000000"/>
                </a:solidFill>
                <a:latin typeface="Verdana"/>
              </a:rPr>
              <a:t>poreskog aspekta</a:t>
            </a:r>
            <a:r>
              <a:rPr b="0" i="1" lang="sl-SI" sz="3200" spc="-1" strike="noStrike">
                <a:solidFill>
                  <a:srgbClr val="000000"/>
                </a:solidFill>
                <a:latin typeface="Verdana"/>
              </a:rPr>
              <a:t> treba da košta testiranje preduzetničkih potencijal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336699"/>
                </a:solidFill>
                <a:latin typeface="Verdana"/>
              </a:rPr>
              <a:t>radnja kao dopunsko zanimanj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776F-3DF4-4E70-9B10-3FD13C9EEDF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IVA EKONOMIJA</a:t>
            </a:r>
            <a:r>
              <a:rPr b="0" lang="sl-SI" sz="4400" spc="-1" strike="noStrike">
                <a:solidFill>
                  <a:srgbClr val="003366"/>
                </a:solidFill>
                <a:latin typeface="Arial"/>
              </a:rPr>
              <a:t> I MSP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-380880" y="1981080"/>
          <a:ext cx="1028700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1981080"/>
                    <a:ext cx="102870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DD90-5A69-4442-B84C-E8AF580221B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7T12:49:46Z</dcterms:created>
  <dc:creator>Milan Lalović</dc:creator>
  <dc:description/>
  <dc:language>en-US</dc:language>
  <cp:lastModifiedBy>Bojan</cp:lastModifiedBy>
  <dcterms:modified xsi:type="dcterms:W3CDTF">2003-10-17T13:02:25Z</dcterms:modified>
  <cp:revision>50</cp:revision>
  <dc:subject/>
  <dc:title>FINANSIRANJE MSP</dc:title>
</cp:coreProperties>
</file>