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772275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D5E-4E67-49CA-8C9B-766BC7222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4A07-5F26-45B3-BAFE-0B0D81D6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8EC7-9348-447A-8665-FF6D9214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6F28-F176-4E01-8885-8B309C276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15B2-FA32-4AFA-A049-3ADC907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289-BE4B-43A2-8760-C9871FC1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86C6-6FB6-4830-8EE1-5E79DC732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A161F-2AE3-4848-9B21-73081F7ED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B6D2-921C-4762-B809-B3F3C8E46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BA9-8470-431A-9702-C062556D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CD7F-960C-41CD-9882-3376D3DF3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4816-C41F-448D-BD61-06CB6A3B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2584-9EB9-470C-9E98-F4CE4A8D8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557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GIONALNA PRIVREDNA KOMORA VALJE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4292280"/>
            <a:ext cx="8424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OSNOVE ZA PROGRAM BORBE PROTIV SIVE EKONOMIJE I NELOJALNE KONKURENC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189000"/>
            <a:ext cx="2976480" cy="345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Comic Sans MS"/>
              </a:rPr>
              <a:t>ORGANIZACIJA I UPRAVLJANJ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*  PREDLOG MODELA JE 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l-SI" sz="2400" spc="-1" strike="noStrike">
                <a:solidFill>
                  <a:srgbClr val="000000"/>
                </a:solidFill>
                <a:latin typeface="Comic Sans MS"/>
              </a:rPr>
              <a:t>MODEL PIRAMI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565920" y="1870560"/>
            <a:ext cx="8396640" cy="4226760"/>
            <a:chOff x="565920" y="1870560"/>
            <a:chExt cx="8396640" cy="4226760"/>
          </a:xfrm>
        </p:grpSpPr>
        <p:sp>
          <p:nvSpPr>
            <p:cNvPr id="57" name=""/>
            <p:cNvSpPr/>
            <p:nvPr/>
          </p:nvSpPr>
          <p:spPr>
            <a:xfrm>
              <a:off x="1290240" y="1984680"/>
              <a:ext cx="6547320" cy="4112640"/>
            </a:xfrm>
            <a:prstGeom prst="flowChartExtra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461760" y="3355920"/>
              <a:ext cx="220716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737440" y="4270680"/>
              <a:ext cx="365544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13480" y="5184360"/>
              <a:ext cx="5103720" cy="10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40640" y="2784240"/>
              <a:ext cx="10857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SAVE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606840" y="3698280"/>
              <a:ext cx="1845360" cy="34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Radni tim na nivou PK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281040" y="4499280"/>
              <a:ext cx="2605320" cy="45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Radni timovi na nivou privrednih komor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158200" y="5527800"/>
              <a:ext cx="5067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Operativni  timov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705640" y="335628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60920" y="2212560"/>
              <a:ext cx="2461320" cy="80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000000"/>
                  </a:solidFill>
                  <a:latin typeface="Arial"/>
                </a:rPr>
                <a:t>Nivo preispitivanja i upravljanja projektom na makro niv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152840" y="5184360"/>
              <a:ext cx="180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936480" y="4041720"/>
              <a:ext cx="1918080" cy="6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400" spc="-1" strike="noStrike">
                  <a:solidFill>
                    <a:srgbClr val="000000"/>
                  </a:solidFill>
                  <a:latin typeface="Arial"/>
                </a:rPr>
                <a:t>Nivo preispitivanja i upravljanja na mikro nivo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5849280" y="4270680"/>
              <a:ext cx="1086840" cy="456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5053680" y="2441160"/>
              <a:ext cx="506520" cy="342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109160" y="1870560"/>
              <a:ext cx="2424600" cy="45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100" spc="-1" strike="noStrike">
                  <a:solidFill>
                    <a:srgbClr val="000000"/>
                  </a:solidFill>
                  <a:latin typeface="Arial"/>
                </a:rPr>
                <a:t>VAŽNO - UKLJUČENJE  DRŽAVE I NJENIH INSTITUCIJA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65920" y="3356280"/>
              <a:ext cx="2135880" cy="68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l-SI" sz="1200" spc="-1" strike="noStrike">
                  <a:solidFill>
                    <a:srgbClr val="000000"/>
                  </a:solidFill>
                  <a:latin typeface="Arial"/>
                </a:rPr>
                <a:t>VAŽNO UKLJUČENJE DRŽAVE I NJENIH INSTIT. NA TERENU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135960" y="2326680"/>
              <a:ext cx="904680" cy="686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1800" y="3584160"/>
              <a:ext cx="542160" cy="1029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098880" y="2326680"/>
              <a:ext cx="61596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/>
  </p:transition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0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31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58560" y="981000"/>
            <a:ext cx="8785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OVO SU SAMO POLAZNE OSNOVE SA JEDNOG ASPEKTA RAZMIŠLJANJA STEPEN OBUHVATA I NAČIN RADA ZAVISI PRE SVEGA OD  INTERESA I KOLIČINE ŽELJE DA SE ZAPOČNE JEDAN TEŽAK, SLOŽEN I DUG PROCES UZ ANIMIRANJE I STVARANJE KLIME  DA ŽELIMO DA UREDIMO NAŠ RADNI I ŽIVOTNI PROSTOR  A KOLIKO ĆEMO IMATI SNAGE I VOLJE TO ZAVISI OD NAS OD SVAKOG POJEDIN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79280" y="333000"/>
            <a:ext cx="88884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ZAŠTO 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ŠTO JE TO ISKAZANA POTREBA PRIVRE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ZAKONSKA OBAVE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UGROŽAVA ZDRAVLJE I BEZBEDNOST LJU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SPREČAVA STRANE INVESTICIJ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OVODJENJE POD ZNAK PITANJA KORIŠĆENJA DOBIJENIH  UNILATERARNIH TRGOVINSKIH POVLASTICA OD EU ( napr. šeć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VODI KA POJAVI RAZNIH VIDOVA KRIMIN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ŠTA DO SADA ZNA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A POSTOJI ZONA SIVE EKONOMIJE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- DA POSTOJI NELOJALNA KONKURENCIJA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GDE SE SVE MOGU PREPOZNATI IZVORI SIVE EKONOMIJE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OIZVODNJ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proizvoda i usluga na tržištu onih koji nisu registrovan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na tržištu proizvoda sa lažnim deklaracijama ili b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ojava na tržištu "plagijata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UVO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neregularan uvoz , šve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iskazivanje nerealne osnovice za carinjen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fiktivne fak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FIKTIVAN IZVO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ZAPOSLEN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neprijavljeni zaposleni radnic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radnici  se vode da  rade u još uvek društvenim preduzećima - a rade na crno u drugim preduzeć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ijavljeni radnici - plaćanje obaveza na najniže osno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TRGOVI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veliki prometi preko fiktivnih firm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- promet preko "malih ulaza" - za pokrić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5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45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45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45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7138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 U KOM OBIMU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 KOJOM UČEŠĆEM U POJEDINIM GRANAMA PRIVRE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 KAKVOM TERITORIJALNOM RASPOREDJENOŠĆ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ŠTA SU UZROC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KOJE SU MERE I INSTITUCIJE KOJE IMAMO NA RASPOLAGANJU I KAKVA JE NJIHOVA SINHRONIZOVANOST AKCIJA NA TERENU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KO OD ODGOVORA NA POSTAVLJENA PITANJA IMA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delimič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što procenjuje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nešto nagadjam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konkretne primere ima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* SASVIM JE IZVESNO DA SE NA OVOM POLJU PODUDARAJU CILJEVI I INTERESI PRE SVIH DRŽAVE I PRIVREDE I DA MOŽEMO I MORAMO SE ORGANIZOVATI  NA JEDINSTVENOM I SISTEMSKOM PRISTUPU U BORBI PROTIV SIVE EKONOMIJE I NELOJALNE KONKURENCI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250560" y="1341000"/>
            <a:ext cx="867564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*SVI PUTEVI POČINJU PRVIM KORAKOM*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ONO ŠTO POSTO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treba za sistemskim pristupom u zajedničkom projekt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treba iskazana od privrednika za uredjenje tržiš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postojeća infrastruktura institucija države i privre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- aktivna zakonska regulativ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KAKO?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2560" y="189000"/>
            <a:ext cx="889308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ŠTA JE NAŠ OSNOVNI CILJ ?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pronadjemo ciljne grupe koje imaju interes za ovaj projekat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ih  povežemo i organizujemo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da postavimo ciljeve - prvo opšte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svodjenje zone sive ekonomije na nivo zemalja EU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- konkretne - da odredimo jednu granu - u kojoj ćemo utvrditi stanje - tekstilnu industriju - definisati napr. da se u prvoj godini % zone sive ekonomije u ovoj grani smanji za 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404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REALIZACIJA PO VI FAZA 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OSNOVNI PRINCIP - PROCESNI PRISTU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197000"/>
            <a:ext cx="85075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 FAZA  ili FAZA PRIPR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DENTIFIKACIJU CILJNIH GRUPA KOJE ŽELE DA UČESTVUJU U KREIRANJU I REALIZACIJI OVOG PROJEK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ORGANIZACIONE I TEHNIČKE PRIPRE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I FAZA  ili FAZA UTVRDJIVANJA POSTOJEĆEG S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SISTEMSKOG, STRUKTURNOG I TERENSKOG SNIMANJA ST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UTVRDJIVANJE POLITIKE ,  KONKRETNIH CILJEVA, PRIORITETA OD MAKRO DO MIKRO NIVO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OMOCIJA I PREZENTACIJA - MARKETING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II FAZA il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ZA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IPREM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ZA OPERATIVNO SPROVODJEN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PROGRAM REALIZACIJ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ORGANIZACIJU NA REALIZACIJI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DEFINISATI BUDŽET PROGRAMA ili IZVORE FINASIR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8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8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4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8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0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80"/>
                                        <p:tgtEl>
                                          <p:spTgt spid="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5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7" dur="80"/>
                                        <p:tgtEl>
                                          <p:spTgt spid="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1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2" dur="80"/>
                                        <p:tgtEl>
                                          <p:spTgt spid="5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50752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V FAZA  ili FAZA  SPROVODJENJ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USTVREDJENOG PROGRAMA NA SVIM NIVOI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V FAZA ili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AZA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PROJEKTOVANJ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MONITORIN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IZRADITI PROGRAM MONITORINGA I PRAĆENJA REALIZACIJE I EFEKATA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VI FAZA ili FAZA KONTROLE I PREISPITIVANJ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SPROVODJENJE MONITORINGA I OCENE REZULTATA I PREISPITIVANJE EFIKASNOSTI I EFEKTIVNOSTI PROJEK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(SA OSNOVNIM IZLAZOM IZEMRENIM REZULTATOM UČINKA, POREDJENJEM SA ZADATIM PARAMETRIMA ILI CILJEVIMA I PREDLOZI ZA POBOLJŠANJA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omic Sans MS"/>
              </a:rPr>
              <a:t>OVO NIJE KRAJ - OVO JE SAMO JEDNA KONTROLNA TAČKA PROCE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4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5" dur="80"/>
                                        <p:tgtEl>
                                          <p:spTgt spid="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99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PAŽNJ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ZNAČAJ FAZE -II - SISTEMSKOG STRUKTURNOG I TERENSKOG SNIMANJA STAN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ISTEMSKO SNIMANJE STANJA PODRAZUME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aktivne zakonske regulative i stepena njene usaglašenosti sa propisima EU  i stepena njene primenjivosti u prak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stanja institucija koje sprovode tu regulativu ( pogodnosti organizacije, kadrovske osposobljenosti, obučenosti, opremljenos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tehničkih standarda i propis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snimanje tehničke podrške ( sistem akreditacije, standardizacija, pokrivenost proizvoda standardima, raspoloživost laboratorija 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STRUKTURNO SNIMANJ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definisanje obi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utvrdjivanje ciljnih grupa  ( ono što nas interesuje je snimanje po granama privrede, po tipu vlasništva, modelu organizovanosti ili neorganizovanost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- ako prepoznajemo izvore - snimanje po izvori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CILJ OVE FAZE  JE  UTVRDJIVANJE STEPENA PRIORITETA ALI NA BAZI REALNE PROCENE I DEFINISANJE  PROGRAM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6" dur="10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24T10:30:49Z</dcterms:created>
  <dc:creator>Sanja</dc:creator>
  <dc:description/>
  <dc:language>en-US</dc:language>
  <cp:lastModifiedBy>Bojan</cp:lastModifiedBy>
  <dcterms:modified xsi:type="dcterms:W3CDTF">2003-10-06T14:47:22Z</dcterms:modified>
  <cp:revision>13</cp:revision>
  <dc:subject/>
  <dc:title>REGIONALNA PRIVREDNA KOMORA VALJEVO</dc:title>
</cp:coreProperties>
</file>