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364-4C84-4657-9D8B-EA022B19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014-5838-4E73-9A74-D91CF4FB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34A-BBB2-4E1D-A49D-4DC7F7C5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CAC-0348-40CB-AEA6-42C9CB99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FDD-F8BC-45CE-BE5C-988B49E3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C4C-39FB-4CBC-95B4-07D085D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07B-5FA7-4E0F-97C3-6A47086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832-B24F-4676-AE94-65B8722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090-1852-4E2A-ACD1-39E5B43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EAE-4C72-4251-B132-50EBB0F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461-C69A-451A-8230-3E3D6519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747-CE91-4E71-AF85-77829ACD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63F-0999-4000-B69F-8E0DAFBEF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557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ONALNA PRIVREDNA KOMORA VALJ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429228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NOVE ZA PROGRAM BORBE PROTIV SIVE EKONOMIJE I NELOJALNE KONKUREN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97648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Comic Sans MS"/>
              </a:rPr>
              <a:t>ORGANIZACIJA I UPRAVLJAN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*  PREDLOG MODELA JE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MODEL PIR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65920" y="1870560"/>
            <a:ext cx="8396640" cy="4226760"/>
            <a:chOff x="565920" y="1870560"/>
            <a:chExt cx="8396640" cy="4226760"/>
          </a:xfrm>
        </p:grpSpPr>
        <p:sp>
          <p:nvSpPr>
            <p:cNvPr id="57" name=""/>
            <p:cNvSpPr/>
            <p:nvPr/>
          </p:nvSpPr>
          <p:spPr>
            <a:xfrm>
              <a:off x="1290240" y="1984680"/>
              <a:ext cx="6547320" cy="4112640"/>
            </a:xfrm>
            <a:prstGeom prst="flowChartExtra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461760" y="3355920"/>
              <a:ext cx="220716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37440" y="4270680"/>
              <a:ext cx="365544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3480" y="5184360"/>
              <a:ext cx="510372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0640" y="2784240"/>
              <a:ext cx="1085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SAVE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06840" y="3698280"/>
              <a:ext cx="18453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Radni tim na nivou P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81040" y="4499280"/>
              <a:ext cx="2605320" cy="45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Radni timovi na nivou privrednih kom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8200" y="5527800"/>
              <a:ext cx="5067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Operativni  timo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05640" y="335628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0920" y="2212560"/>
              <a:ext cx="2461320" cy="80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000000"/>
                  </a:solidFill>
                  <a:latin typeface="Arial"/>
                </a:rPr>
                <a:t>Nivo preispitivanja i upravljanja projektom na makro niv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52840" y="5184360"/>
              <a:ext cx="18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36480" y="4041720"/>
              <a:ext cx="191808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000000"/>
                  </a:solidFill>
                  <a:latin typeface="Arial"/>
                </a:rPr>
                <a:t>Nivo preispitivanja i upravljanja na mikro niv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849280" y="4270680"/>
              <a:ext cx="1086840" cy="45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053680" y="2441160"/>
              <a:ext cx="50652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9160" y="1870560"/>
              <a:ext cx="2424600" cy="45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100" spc="-1" strike="noStrike">
                  <a:solidFill>
                    <a:srgbClr val="000000"/>
                  </a:solidFill>
                  <a:latin typeface="Arial"/>
                </a:rPr>
                <a:t>VAŽNO - UKLJUČENJE  DRŽAVE I NJENIH INSTITUCI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5920" y="3356280"/>
              <a:ext cx="213588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VAŽNO UKLJUČENJE DRŽAVE I NJENIH INSTIT. NA TERE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5960" y="2326680"/>
              <a:ext cx="90468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1800" y="3584160"/>
              <a:ext cx="542160" cy="102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98880" y="2326680"/>
              <a:ext cx="6159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8560" y="981000"/>
            <a:ext cx="878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VO SU SAMO POLAZNE OSNOVE SA JEDNOG ASPEKTA RAZMIŠLJANJA STEPEN OBUHVATA I NAČIN RADA ZAVISI PRE SVEGA OD  INTERESA I KOLIČINE ŽELJE DA SE ZAPOČNE JEDAN TEŽAK, SLOŽEN I DUG PROCES UZ ANIMIRANJE I STVARANJE KLIME  DA ŽELIMO DA UREDIMO NAŠ RADNI I ŽIVOTNI PROSTOR  A KOLIKO ĆEMO IMATI SNAGE I VOLJE TO ZAVISI OD NAS OD SVAKOG POJEDIN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88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ZAŠT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ŠTO JE TO ISKAZANA POTREBA PRIVR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ZAKONSKA OBAV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UGROŽAVA ZDRAVLJE I BEZBEDNOST LJU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SPREČAVA STRANE INVEST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OVODJENJE POD ZNAK PITANJA KORIŠĆENJA DOBIJENIH  UNILATERARNIH TRGOVINSKIH POVLASTICA OD EU ( napr. šeć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VODI KA POJAVI RAZNIH VIDOVA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ŠTA DO SADA ZNA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A POSTOJI ZONA SIVE EKONOMIJ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A POSTOJI NELOJALNA KONKURENCIJ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GDE SE SVE MOGU PREPOZNATI IZVORI SIVE EKONOMIJ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proizvoda i usluga na tržištu onih koji nisu registrova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na tržištu proizvoda sa lažnim deklaracijama ili b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na tržištu "plagijat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UVO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neregularan uvoz , šve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iskazivanje nerealne osnovice za carin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fiktivne fak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FIKTIVAN IZVO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ZAPOSLE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neprijavljeni zaposleni rad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radnici  se vode da  rade u još uvek društvenim preduzećima - a rade na crno u drugim preduzeć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ijavljeni radnici - plaćanje obaveza na najniže osn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TRG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veliki prometi preko fiktivnih fir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omet preko "malih ulaza" - za pokrić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 U KOM OBIMU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 KOJOM UČEŠĆEM U POJEDINIM GRANAMA PRIVRE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 KAKVOM TERITORIJALNOM RASPOREDJENOŠĆ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ŠTA SU UZROC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KOJE SU MERE I INSTITUCIJE KOJE IMAMO NA RASPOLAGANJU I KAKVA JE NJIHOVA SINHRONIZOVANOST AKCIJA NA TERENU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KO OD ODGOVORA NA POSTAVLJENA PITANJA IM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delimič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što procenjuj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što nagadja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konkretne primere im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SVIM JE IZVESNO DA SE NA OVOM POLJU PODUDARAJU CILJEVI I INTERESI PRE SVIH DRŽAVE I PRIVREDE I DA MOŽEMO I MORAMO SE ORGANIZOVATI  NA JEDINSTVENOM I SISTEMSKOM PRISTUPU U BORBI PROTIV SIVE EKONOMIJE I NELOJALNE KONKUREN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*SVI PUTEVI POČINJU PRVIM KORAKOM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ONO ŠTO POST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treba za sistemskim pristupom u zajedničkom projek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treba iskazana od privrednika za uredjenje tržiš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stojeća infrastruktura institucija države i privre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aktivna zakonska regula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KAKO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ŠTA JE NAŠ OSNOVNI CILJ 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pronadjemo ciljne grupe koje imaju interes za ovaj projekat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ih  povežemo i organizujemo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postavimo ciljeve - prvo opšte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svodjenje zone sive ekonomije na nivo zemalja EU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konkretne - da odredimo jednu granu - u kojoj ćemo utvrditi stanje - tekstilnu industriju - definisati napr. da se u prvoj godini % zone sive ekonomije u ovoj grani smanji za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ALIZACIJA PO VI FAZA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SNOVNI PRINCIP - PROCESNI PRIS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 FAZA  ili FAZA PRIPR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DENTIFIKACIJU CILJNIH GRUPA KOJE ŽELE DA UČESTVUJU U KREIRANJU I REALIZACIJI OVOG PROJEK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ORGANIZACIONE I TEHNIČKE PRIPR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I FAZA  ili FAZA UTVRDJIVANJA POSTOJEĆEG S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SISTEMSKOG, STRUKTURNOG I TERENSKOG SNIMANJA S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UTVRDJIVANJE POLITIKE ,  KONKRETNIH CILJEVA, PRIORITETA OD MAKRO DO MIKRO NIV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OMOCIJA I PREZENTACIJA - MARKETING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II FAZA il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ZA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IPRE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ZA OPERATIVNO SPROVODJE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PROGRAM REALIZACI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ORGANIZACIJU NA REALIZACIJI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BUDŽET PROGRAMA ili IZVORE FINASIR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507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V FAZA  ili FAZA  SPROVODJENJ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USTVREDJENOG PROGRAMA NA SVIM NI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V FAZA il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ZA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OJEKTOVAN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MONITORI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ZRADITI PROGRAM MONITORINGA I PRAĆENJA REALIZACIJE I EFEKATA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VI FAZA ili FAZA KONTROLE I PREISPITIV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MONITORINGA I OCENE REZULTATA I PREISPITIVANJE EFIKASNOSTI I EFEKTIVNOSTI PROJEK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(SA OSNOVNIM IZLAZOM IZEMRENIM REZULTATOM UČINKA, POREDJENJEM SA ZADATIM PARAMETRIMA ILI CILJEVIMA I PREDLOZI ZA POBOLJŠANJ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OVO NIJE KRAJ - OVO JE SAMO JEDNA KONTROLNA TAČKA PROC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AŽNJ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NAČAJ FAZE -II - SISTEMSKOG STRUKTURNOG I TERENSKOG SNIMANJA ST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ISTEMSKO SNIMANJE STANJA PODRAZUME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aktivne zakonske regulative i stepena njene usaglašenosti sa propisima EU  i stepena njene primenjivosti u prak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stanja institucija koje sprovode tu regulativu ( pogodnosti organizacije, kadrovske osposobljenosti, obučenosti, opremlje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tehničkih standarda i prop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tehničke podrške ( sistem akreditacije, standardizacija, pokrivenost proizvoda standardima, raspoloživost laboratorija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TRUKTURNO SNIM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definisanje ob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utvrdjivanje ciljnih grupa  ( ono što nas interesuje je snimanje po granama privrede, po tipu vlasništva, modelu organizovanosti ili neorganizovanos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ako prepoznajemo izvore - snimanje po izvo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CILJ OVE FAZE  JE  UTVRDJIVANJE STEPENA PRIORITETA ALI NA BAZI REALNE PROCENE I DEFINISANJE  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10:30:49Z</dcterms:created>
  <dc:creator>Sanja</dc:creator>
  <dc:description/>
  <dc:language>en-US</dc:language>
  <cp:lastModifiedBy>Bojan</cp:lastModifiedBy>
  <dcterms:modified xsi:type="dcterms:W3CDTF">2003-10-06T14:47:22Z</dcterms:modified>
  <cp:revision>13</cp:revision>
  <dc:subject/>
  <dc:title>REGIONALNA PRIVREDNA KOMORA VALJEVO</dc:title>
</cp:coreProperties>
</file>