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F35-F114-4241-99F7-5B035306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239-8577-461B-B442-13EC6A6E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2A6-F04A-4152-8170-97F098D6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4C3-305B-4CB8-9198-8340F966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699-3104-49DF-8EAE-47F838EF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A81-C41C-4C81-8B6C-55BAE6F0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AA8-8219-4CB8-B562-FC4F4F2E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830-9C43-4635-93C0-7616C0A6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8B0-D3F3-4CE2-941A-93459521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883-6B7D-4C27-A7AA-F1BD85FF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473-8C72-4AB8-935B-560BCE3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9C7-D43E-4676-8A6D-795BFF7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50F7-D230-4D97-B09F-9AF17107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oit.gov.il/tamas" TargetMode="External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istemi i alatke za podršku MSP – primer Izra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Dr. Danilo Golija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omoćnik mini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Ministarstvo za nauku, tehnologiju i razvo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Republike Srb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705-0B63-4E60-A8C5-E4004B0F2E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BDC - centri za podršku i razvoj malih bizni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gionalni, loka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kub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hnološ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lovni (bizn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entri podrške poslovnim udružen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pecijalizovani (poljoprivreda, hi-tech, tekstil, vidi Italij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entar dobija budžet od ISMEA baziran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gram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govorenim posebnim aktivnostima (npr. tr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snovani kao NGO, neprofitni (not 4 pro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634-6489-4318-9910-0C7137338D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Usluge koje pruža SB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icijalna konsultacija i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fesionalne konsultacije (out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3,000 poseta godiš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0% se samo pojave prvi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utoring,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pućivanje na finasijske iz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formativne usl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z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Y (preko Intern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BDC konsultant (“SA”, ne “ZA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vatni konsul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mrežavanje i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nosi sa lokalnim i regionalnim vlas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A4E-77A0-413A-949F-7F2A75966B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Javna podrška tehnološkim MSP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5175360"/>
        </p:xfrm>
        <a:graphic>
          <a:graphicData uri="http://schemas.openxmlformats.org/drawingml/2006/table">
            <a:tbl>
              <a:tblPr/>
              <a:tblGrid>
                <a:gridCol w="3352680"/>
                <a:gridCol w="213372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za (stanj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ltac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sir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ja proizvoda ili uslu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D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da biz koncep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D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entna pretra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U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 trži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 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ja izvodljiv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R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 pr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I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i 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D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E56-DF2A-427B-B656-8A906D57B3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Javna podrška tehnološkim MSP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3805200"/>
        </p:xfrm>
        <a:graphic>
          <a:graphicData uri="http://schemas.openxmlformats.org/drawingml/2006/table">
            <a:tbl>
              <a:tblPr/>
              <a:tblGrid>
                <a:gridCol w="3352680"/>
                <a:gridCol w="213372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za (stanj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ltac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sir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gradnja bizni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ni ugov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D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P kreditni f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al za r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P kreditni f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 aktiv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jalna proizvodnja / beta fa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457200" y="55627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NUFA – mali “GO-NO GO” fond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MIT – Ministry of Industry and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MESILA – Hi-tech SBDC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OCS – Office of the Chief Scientist of 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F12-21D3-473F-8F1B-43B539765A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CS (Office of the Chief Scientist): javna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ansijsk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podrš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industrije i trgov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vilni R&amp;D je 4.2% B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avna podrška r&amp;D ide kroz 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hief Scientist obično nije Dr. rego biz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nd rizičnog kapitala (VC = venture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$400M, 740 projekata, 50% projekata se odb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-seed” progr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kub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neric ($300M, 500 fir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yalty (3-5% budućeg prom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NUFA (go - no 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 magnet (acade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ffar (biot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it.gov.il/t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D50-7EFF-4A84-B4B9-32DDF26156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a li sistem podrške MSP može biti samoodrži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obar sistem mora biti JAVAN, ne priv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hod od klijenata je 10% - 40% (grado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udžetski izvori: vlada, filantropske institucije, međunarodni don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rška MSP je PROFES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ako želi da bude do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nije dotiran, MSP ne može priuštiti dobre SBDC usl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E59-6C0B-4BDB-98F4-4937363E5C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Hv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avak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Izraelu i učešće na 4-nedeljnom kursu “Promocija hi-tech i R&amp;D baziranih MSP” su omogući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mbasada Izraela u Beog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SHAV – Center for Int’l Cooperation, Isreali Ministry of Foreign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ja porodica (godišnji odm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984-606E-4C20-9436-B925A08B1C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itanje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treba država da uradi a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stanovnika naglo poraste z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~20% u veoma kratkom perio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govor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) pošalje ih za Australiju ili Kan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) uspostavi skup socijaln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) “zamoli” velike firme da ih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pos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) zatraži pomoć stranih dona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) uspostavi sistem sveobuhvatne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egralne MSP podrš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FD6-9CD3-4741-9423-2FDD297990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zr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800,000 imigranata iz ex-S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eriod od dve godine 1990 – 19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tko koji imigrant je govorio lokalni jezik (Hebrejsk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cajan broj visoko obrazovanih (+/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inistarstvo za absorp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entralni sistem podrške MSP, posebno “mikro” preduzećima od &lt; 10 zaposlen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B0C-0F8F-4145-AF83-235D8DE9FE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zr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žava osnovana 1948 na principu socijalističke pri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laz na tržišnu privredu 80-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98% svih preduzeća su M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0% zaposlenih rade u MSP s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opa “smrtnosti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/3 nepodržanih MSP “umre” u toku prve 3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3 podržanih MSP “umre” u toku prve 3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FF9-EBEE-4056-8772-FD2D070DA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ednosti M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varanje novih radnih m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liki broj zaposle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iska cena ($2,000 za 4 radna mesta u Indij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atko v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ov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leksibilnost i sposobnost prilagođ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nji rizik za društvo / lokalnu zajedni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prinos ekonomskom rastu i razvo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štvene pre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dividualne prednosti (osećaj ponosa, samopotvrđivanja,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A64-30B1-4D2F-B272-0A4E3289E5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istemi i alatke za podršku MSP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eobuhvatan i integralan sistem podr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sultantska podr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form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nansijska podr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589-C3EF-49F0-B2D0-893F4DD07A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rganizacija sistema podrš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MEA (Isreali SME Agency) – centralna Agencija za podršku 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reža regionalnih i specijalizovanih SBDC (Small Biz Dev Center) centara za podršku i razvoj malih bizn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atke podrš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otova, “off the shelf” reš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rsonalizovana “custom made” reš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61C-87B8-42A9-B204-FFDCCBD156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MEA – Izraelska Agencija za podršku M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icira i primenjuje politike V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vara alatke za podršku M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tivira i koordinira sve agencije koje rade sa MSP, ali ne komunicira sa MSP direk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ostavlja regionalne i druge centre i vodi i nadgleda njihov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icira zakonske okvire vezane za rad i razvoj M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avlja trening i edukaciju (train the trai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icira obrazovanje za preduzetniš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ostavlja informacioni sistem i baze podataka za start up i M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icira uspostavljanje finansijskij instrumenata podrš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vara povoljno javno mn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98% budžetsko finansiranje ($4.5M, sasečeno sa $10M; 10 zaposlenih, konsul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5F5-7C4C-4626-8878-52131A7B34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8:33:08Z</dcterms:created>
  <dc:creator>Prof.Dr.Tibor Sabo</dc:creator>
  <dc:description/>
  <dc:language>en-US</dc:language>
  <cp:lastModifiedBy>Bojan</cp:lastModifiedBy>
  <dcterms:modified xsi:type="dcterms:W3CDTF">2003-10-06T14:49:46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73659441</vt:r8>
  </property>
  <property fmtid="{D5CDD505-2E9C-101B-9397-08002B2CF9AE}" pid="3" name="_AuthorEmail">
    <vt:lpwstr>danilo_golijanin@mntr.sr.gov.yu</vt:lpwstr>
  </property>
  <property fmtid="{D5CDD505-2E9C-101B-9397-08002B2CF9AE}" pid="4" name="_AuthorEmailDisplayName">
    <vt:lpwstr>Danilo WebMail</vt:lpwstr>
  </property>
  <property fmtid="{D5CDD505-2E9C-101B-9397-08002B2CF9AE}" pid="5" name="_EmailSubject">
    <vt:lpwstr>Vasi slajdovi za konferenciju.</vt:lpwstr>
  </property>
  <property fmtid="{D5CDD505-2E9C-101B-9397-08002B2CF9AE}" pid="6" name="_ReviewingToolsShownOnce">
    <vt:lpwstr/>
  </property>
</Properties>
</file>