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B53-E168-4F8A-A249-5B50A1BA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BDD-B7F9-4451-9BA8-842FF6D4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B3E-11D9-41C9-984C-AD1BB4CC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924-95AD-4471-B3D1-9DF80A38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50BB-7B96-4731-8F6A-294BD420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0363-A903-4E51-9028-BE57B652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835B-2086-4115-9DD4-D18F06BC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BF94-C912-4F5F-96F2-B72A7EA5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8E67-6F23-42D2-81CC-1178EEDD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5825-6998-4DC3-8061-64623087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035D-7C7F-4B71-9A7C-C0AC18E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903-29AE-48EA-9C34-86EDEC65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CC8A-AFF5-4496-9BF0-A79B05FD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6036-3F53-445A-B50C-2615CBE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0D48-62D1-4B5E-A49D-3EC398A5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DB6A-0556-4042-8DF4-29106DCB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413A-7AD0-4BAA-B8D0-06074CBB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D52-34BF-43E6-BFB7-B33A369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78C-9AE6-494A-A82F-FCE75D46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0F1-91E4-40A7-9067-1EA817E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A2A-EB81-4790-80BC-7A4393EB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194-47EE-44F9-8DAB-BDBC49A1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742-AF68-413D-8D34-8FB71B7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DE9-3010-4F3D-BA4C-1838F0D2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55B9-D783-4936-BF8D-56FD44E256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A97-91CD-4E9B-AE4A-B44FDE0971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mes@net.yu" TargetMode="External"/><Relationship Id="rId2" Type="http://schemas.openxmlformats.org/officeDocument/2006/relationships/hyperlink" Target="http://www.sme.sr.gov.yu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Републичка агенција за развој МСП</a:t>
            </a:r>
            <a:br>
              <a:rPr sz="2400"/>
            </a:b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  и предузетништв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681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sr-CS" sz="3200" spc="-1" strike="noStrike">
                <a:solidFill>
                  <a:srgbClr val="000000"/>
                </a:solidFill>
                <a:latin typeface="Tahoma"/>
              </a:rPr>
              <a:t>Саветодавне услуге за нова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sr-C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Tahoma"/>
              </a:rPr>
              <a:t>и мала предузећ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р Ненад Пенези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иректо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Конференција МС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Београ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6-7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октоба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2003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Саветодавне услуге за нова и мала предузећ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92468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Значај ових услуга за подстицај предузетништва и усмеравање предузе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удући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едузетницима и МСП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због своје величин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золације и искуств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често недостаје одговарајући приступ важним информацијама и ресурси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себно финансијама и технологиј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достатак услуга вођених тржиштем у многим земљама у транзициј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/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749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Саветодавне услуге за нова и мала предузећ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Широки обим услуга подршке и саветодавних услуга на основу потреба предузетни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зависи о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тепена образовања и пословног искуства предузетни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Личних квалификација и способност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ироде активности и гранских карактеристи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ивоа пословне организациј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Фазе животног циклуса предузећ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четна фаз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експанзиј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асположиве предузетничке инфраструктур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617400"/>
            <a:ext cx="75722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Саветодавне услуге за нова и мала предузећ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ема нашем искуству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дентификоване су најважније категорије саветодавних услуга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Финансије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иступ, управљање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..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 раној и /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ли развојној фази пословне акивности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одршка у развоју бизнис плана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авне услуг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регистрациј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говор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друге правне услуг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слуге маркетинга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нформације о тржишту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истраживање тржишта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контакти у продаји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савети или контакти у дистрибуцији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..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редузетничка обука и обука у менаџмент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Повезивање са другим МСП и интернационализација пословних активнос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одабир партнер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учешће страних партнер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617400"/>
            <a:ext cx="75722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Саветодавне услуге за нова и мала предузећ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Троугао подршке новим и малим предузећи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743200"/>
            <a:ext cx="3276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тратегија развоја МС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литик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724280"/>
            <a:ext cx="19047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нституције подрш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58308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МС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4724280"/>
            <a:ext cx="19051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грами саветодавних услу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895120" y="358128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358128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6576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ahoma"/>
              </a:rPr>
              <a:t>Потребе МСП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ahoma"/>
              </a:rPr>
              <a:t>Нова, предузећа у развоју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Tahoma"/>
              </a:rPr>
              <a:t>извозници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Tahoma"/>
              </a:rPr>
              <a:t>технологиј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7960" y="3809880"/>
            <a:ext cx="60948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50720" y="6094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Саветодавне услуге за нова и мала предузећ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ључна питања/дилеме у политиц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а ли донатори и држава треба да интервенишу или н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колико интервениш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о које мере и како постићи ефикаснос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кључивање приватног сектора у пружању услуг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држивос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ластице и наплаћивањ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бим пружених услуг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17400"/>
            <a:ext cx="75722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Саветодавне услуге за нова и мала предузећ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ки изазов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епоруке по питању пружања саветодавних услуга новим и малим предузећи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смислити и пружити саветодавне услуг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нтервенисат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у деловима тржишта где недостају такве услуг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Управљати пословним саветодавним услугама/програмима као комерцијалним ентитети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зградити пословне саветодавне услуге на основу јасне идентификације потреба МСП и обезбедити у свим регионима флексибилан обим услуг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оји се може прилагодити променљивим потребам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17400"/>
            <a:ext cx="75722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Саветодавне услуге за нова и мала предузећ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ки изазов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епоруке по питању пружања саветодавних услуга новим и малим предузећим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Укључивање приватног сектора у пружање саветодавних услуга и дугорочно планирање да приватни сектор пружа ове услуг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ланирање одрживости у осмишљавању и планирању финансија везаних за саветодавне услуге и тражење више извора финансирањ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Управљање процесом селекциј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буке и надзора запослених на пружању саветодавних услуг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50720" y="9903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333399"/>
                </a:solidFill>
                <a:latin typeface="Tahoma"/>
              </a:rPr>
              <a:t>Саветодавне услуге за нова и мала предузећ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вала на пажњ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Др Ненад Д. Пенезић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Директ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Републичка агенција за развој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МСП и предузетниш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Београд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Топличин венац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19/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Тел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/</a:t>
            </a:r>
            <a:r>
              <a:rPr b="0" lang="sr-CS" sz="2000" spc="-1" strike="noStrike">
                <a:solidFill>
                  <a:srgbClr val="000000"/>
                </a:solidFill>
                <a:latin typeface="Tahoma"/>
              </a:rPr>
              <a:t>Факс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: +381 11 33 46 601, 33 46 1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sl-SI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smes@net.y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me.sr.gov.y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16:22:00Z</dcterms:created>
  <dc:creator>pcs</dc:creator>
  <dc:description/>
  <dc:language>en-US</dc:language>
  <cp:lastModifiedBy>Bojan</cp:lastModifiedBy>
  <dcterms:modified xsi:type="dcterms:W3CDTF">2003-10-06T15:10:59Z</dcterms:modified>
  <cp:revision>58</cp:revision>
  <dc:subject/>
  <dc:title>Serbian Agency for the Development of SME and Entrepreneurship</dc:title>
</cp:coreProperties>
</file>