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29.png" ContentType="image/png"/>
  <Override PartName="/ppt/media/image2.wmf" ContentType="image/x-wmf"/>
  <Override PartName="/ppt/media/image27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3.wmf" ContentType="image/x-wmf"/>
  <Override PartName="/ppt/media/image8.jpeg" ContentType="image/jpeg"/>
  <Override PartName="/ppt/media/image30.png" ContentType="image/png"/>
  <Override PartName="/ppt/media/image20.png" ContentType="image/png"/>
  <Override PartName="/ppt/media/image9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2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1.wmf" ContentType="image/x-wmf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5909-0F46-48E5-9301-B28778E12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8DDE-F164-4260-9C05-DC8EA64B7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8E19-85C5-41E3-B835-AD4789BA1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5AA7-860A-4AC8-864D-85A7BACBFF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373D-3F66-4B93-A7EE-5D7C5B58EA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7B16-650A-4454-9DF0-9EA0CE9D0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EFF6-5AB6-4628-B6B8-369C7A25B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4D56-2FEE-47FC-96CF-C7760087E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7FA7-E457-441E-9A10-0C0F9F252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9905-28A4-4435-A84B-DC4E711B0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943F-7A3B-4690-84F3-59AF2EC83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5FDA-FAE7-4392-BCD5-FA5511645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84360" y="6081840"/>
            <a:ext cx="4859280" cy="682560"/>
            <a:chOff x="684360" y="6081840"/>
            <a:chExt cx="4859280" cy="682560"/>
          </a:xfrm>
        </p:grpSpPr>
        <p:graphicFrame>
          <p:nvGraphicFramePr>
            <p:cNvPr id="3" name=""/>
            <p:cNvGraphicFramePr/>
            <p:nvPr/>
          </p:nvGraphicFramePr>
          <p:xfrm>
            <a:off x="684360" y="6081840"/>
            <a:ext cx="4859280" cy="68256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4360" y="6081840"/>
                      <a:ext cx="485928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684360" y="6081840"/>
              <a:ext cx="4859280" cy="68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4A37-D6E8-4292-B920-3E80C1642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14479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685800" y="6095880"/>
          <a:ext cx="828720" cy="547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6095880"/>
                    <a:ext cx="8287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1673280" y="6167520"/>
          <a:ext cx="5483160" cy="500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3280" y="6167520"/>
                    <a:ext cx="54831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onferenci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la i srednja preduzeća u Srbiji” 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net - novo okruženje za MS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ograd, Oktobar 20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988F-7DDF-4DF8-BC8D-0FB014E764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P u Srbiji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2520" y="1676520"/>
            <a:ext cx="51087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k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razvijena infrastruk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en digitalizacije ispod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iki broj dvojnika (više stotina hiljada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 korišćenje e-poslovanja neophodan j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Internet širokog opsega (broadband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SL (Telek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žični internet (provajder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blovski Internet (kablovski distributer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048120" cy="1952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00400" y="4648320"/>
            <a:ext cx="2286000" cy="1265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867280" y="3657600"/>
            <a:ext cx="2590920" cy="245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14400" y="4648320"/>
            <a:ext cx="1676520" cy="133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BF8D-69F3-4D2D-9301-5E8FF29580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P u Srbiji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0400" y="2209680"/>
            <a:ext cx="75708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onska regul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kon o Telekomunikacijama usvojen u aprilu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nekim delovima odgovara evropskim normama 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predviđeno osnivanje nezavisnog regulatornog tel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cija za telekomunikacije u roku od 60 da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ije još osnov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ksplicitno podržava monopol Telekom do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je definisana deregulacija lokalne petl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dovoljno podržana zaštita koris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e zavisi od doslednosti u sprovođenj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kon o elektronskom potpi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dlog je u Skupštini Srb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71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613FE-5C14-4982-A073-07EAFF3359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P u Srbiji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4880" y="1600200"/>
            <a:ext cx="554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infrastruktura i 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2003 značajno povećan kapacitet našeg Internet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(nekoliko 155Mbps linkova ka inostranstv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 i dalje nezadovoljavajuća pristupna mrež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postojanje nacionalnog Exchange poin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pozitivna inicijativa PTT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e Internet pristupa padaj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 je kvalitet - prvenstven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igur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vo podrške korisnic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720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191120" y="4038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2133720" cy="17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9569-7405-475E-91A2-3BA6C6349D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P u Srbiji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3360" y="2514600"/>
            <a:ext cx="52642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ublička Agencija za MS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igital inicijativa u Srbij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dizanje svesti o potrebi uvođenja e-poslovanj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eža za podrš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onalne agencije za M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ite Agencije za MSP (+ I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nerstvo javnih i privatnih institu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vezivanje sa obrazovnim institucij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61944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A4E2-18D5-4AF9-86AD-F90078D63B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P u Srbiji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523880"/>
            <a:ext cx="723888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Upr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iki broj državnih institucija u Srbiji nadležan za I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cija za razvoj Informatike i Intern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Upr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anet - tok informacija između vladinih 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tranet - pristup građana i firmi servisima vl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net - predstavljanje aktivnosti vlade na Interne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andardi - u svim oblastima (nabav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-poslov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avn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net pristup - brz, siguran, jef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nansir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-obrazov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stitucionalno i vaninstitucional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-komšil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moorganizovanje i povratna veza prema vla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0" y="4038480"/>
            <a:ext cx="1809720" cy="1333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96080" y="1676520"/>
            <a:ext cx="695520" cy="89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55A5-F4D3-4A02-8C28-94518C0494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P u Srbiji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523880"/>
            <a:ext cx="72388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Upr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starstvo za nauku, tehnologiju i razv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bian Public Licenc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cija za unapređenje državne upr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pređivanje e-sposobnosti kod državnih službe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2920" y="3581280"/>
            <a:ext cx="113004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10280" y="2133720"/>
            <a:ext cx="1295640" cy="11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759B-563C-4105-A7E2-AD15766397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OT   MSP e-Bi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587680"/>
            <a:ext cx="6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57080" y="1527120"/>
          <a:ext cx="7828200" cy="600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527120"/>
                    <a:ext cx="7828200" cy="600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C62E-0534-4BED-89AC-E4B8A3CBB0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uć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business, e-commerce, e-b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-business, m-commerce, m-b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-comme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i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i-magination, i-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le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EEC9-A336-4C52-9BF0-727AC18AC4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drž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roda Intern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opske inicij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bij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postojeće stanje, potrebe i plan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8341-3699-429A-90A9-68A53787E8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 - virtuelni baz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maadi2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521964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maadi5" descr=""/>
          <p:cNvPicPr/>
          <p:nvPr/>
        </p:nvPicPr>
        <p:blipFill>
          <a:blip r:embed="rId2"/>
          <a:stretch/>
        </p:blipFill>
        <p:spPr>
          <a:xfrm>
            <a:off x="6095880" y="1676520"/>
            <a:ext cx="2857680" cy="1724040"/>
          </a:xfrm>
          <a:prstGeom prst="rect">
            <a:avLst/>
          </a:prstGeom>
          <a:ln w="0">
            <a:noFill/>
          </a:ln>
        </p:spPr>
      </p:pic>
      <p:pic>
        <p:nvPicPr>
          <p:cNvPr id="56" name="0212camelt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4572000" cy="1496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3280320"/>
            <a:ext cx="3276360" cy="399240"/>
          </a:xfrm>
          <a:prstGeom prst="wedgeRectCallout">
            <a:avLst>
              <a:gd name="adj1" fmla="val 36231"/>
              <a:gd name="adj2" fmla="val -16855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ciona magistr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086240" y="3580920"/>
            <a:ext cx="1143360" cy="3052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k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581280"/>
            <a:ext cx="1143000" cy="304920"/>
          </a:xfrm>
          <a:prstGeom prst="wedgeRectCallout">
            <a:avLst>
              <a:gd name="adj1" fmla="val -173472"/>
              <a:gd name="adj2" fmla="val 58281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aadi9" descr=""/>
          <p:cNvPicPr/>
          <p:nvPr/>
        </p:nvPicPr>
        <p:blipFill>
          <a:blip r:embed="rId4"/>
          <a:stretch/>
        </p:blipFill>
        <p:spPr>
          <a:xfrm>
            <a:off x="6248520" y="4191120"/>
            <a:ext cx="2381040" cy="1981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66880" y="5791320"/>
            <a:ext cx="2590920" cy="304560"/>
          </a:xfrm>
          <a:prstGeom prst="wedgeRectCallout">
            <a:avLst>
              <a:gd name="adj1" fmla="val 130819"/>
              <a:gd name="adj2" fmla="val -38385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zmena inform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471600" y="28605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EDB7-0962-4A2D-AF7E-48C6865952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 - virtuelni bazar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tockexchange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657600" cy="2413080"/>
          </a:xfrm>
          <a:prstGeom prst="rect">
            <a:avLst/>
          </a:prstGeom>
          <a:ln w="0">
            <a:noFill/>
          </a:ln>
        </p:spPr>
      </p:pic>
      <p:pic>
        <p:nvPicPr>
          <p:cNvPr id="65" name="stockeschange03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stockexchange02" descr=""/>
          <p:cNvPicPr/>
          <p:nvPr/>
        </p:nvPicPr>
        <p:blipFill>
          <a:blip r:embed="rId3"/>
          <a:stretch/>
        </p:blipFill>
        <p:spPr>
          <a:xfrm>
            <a:off x="762120" y="4114800"/>
            <a:ext cx="2857320" cy="1943280"/>
          </a:xfrm>
          <a:prstGeom prst="rect">
            <a:avLst/>
          </a:prstGeom>
          <a:ln w="0">
            <a:noFill/>
          </a:ln>
        </p:spPr>
      </p:pic>
      <p:pic>
        <p:nvPicPr>
          <p:cNvPr id="67" name="tokyo-stock-market" descr=""/>
          <p:cNvPicPr/>
          <p:nvPr/>
        </p:nvPicPr>
        <p:blipFill>
          <a:blip r:embed="rId4"/>
          <a:stretch/>
        </p:blipFill>
        <p:spPr>
          <a:xfrm>
            <a:off x="5334120" y="1600200"/>
            <a:ext cx="1904760" cy="2114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95680" y="4575600"/>
            <a:ext cx="1447920" cy="399240"/>
          </a:xfrm>
          <a:prstGeom prst="wedgeRectCallout">
            <a:avLst>
              <a:gd name="adj1" fmla="val -159097"/>
              <a:gd name="adj2" fmla="val -2922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zar d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58EE-E34B-4269-A0A8-5210E1C92D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ropske inicij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1911240" cy="2819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19520" y="2819520"/>
            <a:ext cx="58672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The story of the e-Economy is complex, but it is one we need to understand. The prosperity of the EU's 377 million citizens - or about half a billion if we include the candidate countries - depends on it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mano Prodi, President of the European Com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5943600" cy="703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5800" y="4952880"/>
            <a:ext cx="1828800" cy="1020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40600" y="4191120"/>
            <a:ext cx="290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Politička podršk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snaž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gla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nepreki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jav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91F1-B31A-45D8-B006-F0D875F1D1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ropske inicijativ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514600"/>
            <a:ext cx="769644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urope 2002 ciljevi koji su ostvareni u zadatom rok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dvostručen broj rezidencijalnih Internet korisnik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okružen pravni okvir u telekomunikacij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 cena Internet pristu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oro sve firme i škole povezana na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ropa sada ima najbrži backbone link za istraživačke institu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postavljen je najveći deo pravne regulative za e-comme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većan broj servisa državne uprave na Interne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postavlja se infrastruktura neophodna za korišćenje SmartC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državama članicama usvojene preporuke za korišćenje weba za ljude sa posebnim potreb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362320" cy="7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E461-E3C4-4A85-93AA-730391E683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ropske inicijativ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514600"/>
            <a:ext cx="769644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urope 2005 ciljev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rne javne usluge će biti on-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business okruženj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a bi sve ovo moglo da radi biće izgrađ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velike brzine (broadband), široko dostupan, jef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urnosna informaciona infrastruk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381040" cy="65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377F-5A94-47A0-B1AF-13AA318B46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ropske inicijative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2860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98680" y="2514600"/>
            <a:ext cx="620352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Digital inicij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kovati glavne prepreke na koje MSP nailaze ko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implementacije e-business tehnologija i poslovne prak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dložiti konkretne akcije za pomoć MSP da ovladaju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digitalnim tehnologij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zbediti konzistentnost različitih politika i inicijativa n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evropskom, nacionalnom, regionalnom i lokalnom niv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čenje na konkretnim primerima (best pract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renje rezultata (benchmark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B475-EDCF-4022-B21F-6EC54E243F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ropske inicijative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2860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0480" y="2514600"/>
            <a:ext cx="73782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Digital priorite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movisanje okruženja i pravnog okvira stimulativnog za e-poslovanj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i preduzetništv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ogućiti da MSP što lakše iskoriste rezultate naučnih istraživanj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i tehnološkog napre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zbediti da što veći broj zaposlenih ovlada ICT znanj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59FF-0954-4437-8997-05C94DB69B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09:08:08Z</dcterms:created>
  <dc:creator>Vojislav Rodic</dc:creator>
  <dc:description/>
  <dc:language>en-US</dc:language>
  <cp:lastModifiedBy>Igor Brkanovic</cp:lastModifiedBy>
  <dcterms:modified xsi:type="dcterms:W3CDTF">2003-10-07T09:04:37Z</dcterms:modified>
  <cp:revision>103</cp:revision>
  <dc:subject/>
  <dc:title>Rodic lecture</dc:title>
</cp:coreProperties>
</file>