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D6B-E29D-4D91-B0E4-66673971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42E-7304-4EE2-9D07-3BDEA833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52-44B3-49E7-95FA-74B5DC53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953-1D7B-4478-A364-1DAADD27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01EC-2108-403A-97E8-07D28546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B5F5-9804-4E8C-9670-851BB8D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7D16-AE1A-4D52-89D4-7AEC690E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34A6-D62E-4415-AC6E-7099FC0E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C52-7338-4C1F-A72E-8A588359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D8A-D192-4601-89DB-B8C9686A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2DC-DB20-42B7-B336-F8C2402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924-E59E-42EE-88E8-499E9C4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6278-D024-4F74-A386-9DB0DE0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4EE-64F9-4630-95C8-1742E9C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D35-545C-41F0-A977-FD085AB5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481D-4CEB-4B0D-8D0C-7B631923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A370-8079-4364-8EB7-2D907B1C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87E-3EE8-4BA2-8330-8E26FFB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347-6B32-4813-AEFF-89222FA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A8D-29F5-4A2B-A13D-4D38B73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3B2-1930-44A3-8229-58C7CE52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7C4-F671-4B8C-866B-97D727D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945-C92F-40A2-A401-BED12A7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305-14BD-4DD0-9C49-800E951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60F7-83A9-4935-9587-3C97C12AB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E675-8D29-4D99-B7E2-D730C5C31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560" y="1484280"/>
            <a:ext cx="709308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00"/>
                </a:solidFill>
                <a:latin typeface="Times New Roman"/>
              </a:rPr>
              <a:t>Regionalni centri/agencije za razvoj MSPP – razvoj  partnerskih odnosa na regionalnom niv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5877000"/>
            <a:ext cx="115272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2627280" y="5950080"/>
          <a:ext cx="4176720" cy="701640"/>
        </p:xfrm>
        <a:graphic>
          <a:graphicData uri="http://schemas.openxmlformats.org/drawingml/2006/table">
            <a:tbl>
              <a:tblPr/>
              <a:tblGrid>
                <a:gridCol w="226800"/>
                <a:gridCol w="3949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Projekat finansira EU, a realizuje Evropska agencija za rekonstrukciju 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mspue" descr=""/>
          <p:cNvPicPr/>
          <p:nvPr/>
        </p:nvPicPr>
        <p:blipFill>
          <a:blip r:embed="rId2"/>
          <a:stretch/>
        </p:blipFill>
        <p:spPr>
          <a:xfrm>
            <a:off x="1187280" y="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19640" y="3789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00"/>
                </a:solidFill>
                <a:latin typeface="Times New Roman"/>
              </a:rPr>
              <a:t>Snežana Selaković, direktor RC za razvoj MSPP “Zlatibor”, Uži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4648320"/>
            <a:ext cx="49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00000"/>
                </a:solidFill>
                <a:latin typeface="Times New Roman"/>
              </a:rPr>
              <a:t>Beograd, 06.10.2003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REPREKE I PROBL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razvijenost tržišta konsultantskih usluga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Potražnja- ne postoji tradicija; nisu spremni da plate; očekivanja da usluge budu besplatne (zbog osnivača, donatora...)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Ponuda-nedovoljan broj kvalitetnih konsultanata, naročito za brzo rastuća MSP; velika zavisnost RC od LSP..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333300"/>
                </a:solidFill>
                <a:latin typeface="Arial"/>
              </a:rPr>
              <a:t>Šta nakon podrške EAR-a (Service Support Scheme)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REPREKE I PROBLEMI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Nedovoljno razvijena infrastruktura za podršku preduzetništvu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dostaje strategija lokalnog (regionalnog) razvoj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dostaje finansijska podrška MS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rešeni problemi registracije i legalizacije imovine (za kolateral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ma inkubatora, tehn.parkova..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ARTNERST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752480"/>
            <a:ext cx="749160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Ministarstvo za privredu i privatizaciju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Republička agencija za razvoj MSP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RZT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SIEP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ARTNERSTVA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773360"/>
            <a:ext cx="74916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Regionalna razvojna alijansa</a:t>
            </a: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Definisanje i konsenzualno sprovođenje regionalne razvojne strategije (vizija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Upravljanje razvojem – koordinacija razvojnih inicijativa i resursa u smeru strateških ciljev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Stvaranje organizacijskih struktura koje će sprovoditi akcij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0" y="4365720"/>
          <a:ext cx="108900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365720"/>
                    <a:ext cx="108900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286000" y="907920"/>
            <a:ext cx="6858000" cy="3048120"/>
          </a:xfrm>
          <a:prstGeom prst="cloudCallout">
            <a:avLst>
              <a:gd name="adj1" fmla="val -9305"/>
              <a:gd name="adj2" fmla="val 62865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Comic Sans MS"/>
              </a:rPr>
              <a:t>Da li smo spremni da (na regionalnom nivou) preuzmemo sudbinu u svoje ruke?!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6600"/>
                </a:solidFill>
                <a:latin typeface="Times New Roman"/>
              </a:rPr>
              <a:t>Projekat “Nefinansijska podrška razvoju sektora MSP u Srbiji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76360" y="2060640"/>
            <a:ext cx="7491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Traje 2 godin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Finansira EU, realizuje EA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7 regionalnih agencija za razvoj MSP: Kragujevac, Kruševac, Niš, Zaječar, Zrenjanin, Užice i Beogra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436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Regionalni centri / agenci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9760" y="2060640"/>
            <a:ext cx="746460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D.O.O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Osnivači – javni, privatni i nevladin sektor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00"/>
                </a:solidFill>
                <a:latin typeface="Arial"/>
              </a:rPr>
              <a:t>(Vlada RS, Skupštine opština, Regionalne privredne komore, Udruženja preduzetnika, banke, NVO..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mspue" descr=""/>
          <p:cNvPicPr/>
          <p:nvPr/>
        </p:nvPicPr>
        <p:blipFill>
          <a:blip r:embed="rId1"/>
          <a:stretch/>
        </p:blipFill>
        <p:spPr>
          <a:xfrm>
            <a:off x="7020000" y="1332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VIZ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989000"/>
            <a:ext cx="65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Da postane </a:t>
            </a:r>
            <a:r>
              <a:rPr b="1" i="1" lang="sr-Latn-CS" sz="3600" spc="-1" strike="noStrike">
                <a:solidFill>
                  <a:srgbClr val="333300"/>
                </a:solidFill>
                <a:latin typeface="Times New Roman"/>
              </a:rPr>
              <a:t>najvažniji učesnik</a:t>
            </a: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 u procesu razvoja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MSP sektora u okrugu/regionu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6" name="mspue" descr=""/>
          <p:cNvPicPr/>
          <p:nvPr/>
        </p:nvPicPr>
        <p:blipFill>
          <a:blip r:embed="rId1"/>
          <a:stretch/>
        </p:blipFill>
        <p:spPr>
          <a:xfrm>
            <a:off x="6732720" y="11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MI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1989000"/>
            <a:ext cx="65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Da pružanjem neposredne podrške kako postojećim MSPP, tako i potencijalnim preduzetnicima, podstiče razvoj sektora MSP i doprinosi rastu društvenog proizvoda i otvaranju novih radnih mesta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9" name="mspue" descr=""/>
          <p:cNvPicPr/>
          <p:nvPr/>
        </p:nvPicPr>
        <p:blipFill>
          <a:blip r:embed="rId1"/>
          <a:stretch/>
        </p:blipFill>
        <p:spPr>
          <a:xfrm>
            <a:off x="6948360" y="442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Šta smo do sada uradil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196640"/>
            <a:ext cx="74916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Razvoj tržišta konsultantskih usluga</a:t>
            </a: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Formirali mrežu akreditovanih servis provajder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Razvili i ponudili tržištu sledeće proizvode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Paket usluga za registraciju preduzeća/radnje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Orijentacione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bazične 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I napredne 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treninge za one koji započinju sopstveni bizni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Napredne treninge iz raznih oblasti (spoljno-trgovinsko poslovanje, e-business, marketing, poslovno komuniciranje, poslovni engleski...), za one MSPP koji žele da unaprede svoje poslovanje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Savetovanje iz svih oblasti poslovanja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Poslovno planiranje .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Šta smo do sada uradili?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196640"/>
            <a:ext cx="74916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Razvoj partnerskih odnosa na regionalnom nivou sa</a:t>
            </a: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Lokalnom samoupravom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u cilju otvaranja lokalnih podcentara, zajedničke inicijative za osnivanje garancijskih šema, razvoj preduzetničke infrastrukture i sl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Bankama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protok informacija, upućivanje klijenata..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Donatorima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učestvovali u realizaciji projekata koji podstiču razvoj preduzetništva u saradnji sa drugim partnerima na regionalnom nivou, upućivanje klijenata..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Dr. Stejkholderima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organizovali preduzetničke sajmove, formirali ažurne baze podataka o sektoru MSP, zajedno organizovali treninge..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Šta smo do sada uradili?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196640"/>
            <a:ext cx="74916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Jačanje mreže za podršku sektoru MSPP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Potpisivanjem Protokola o saradnji formirali mrežu regionalnih centara/agencija podržanih od strane E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Potpisali Ugovor o saradnji sa Republičkom agencijo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Uzimali učešće u svim aktivnostima iniciranim od pojedinih RC/RA, kao i Republičke agencije, a koji su od interesa za mrež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Razmena informacija, proizvoda i sl. unutar mrež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Gde je naše mes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87572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0" i="1" lang="sl-SI" sz="3200" spc="-1" strike="noStrike">
                <a:solidFill>
                  <a:srgbClr val="333300"/>
                </a:solidFill>
                <a:latin typeface="Arial"/>
              </a:rPr>
              <a:t>Regionalne agencije i centri imaće važnu ulogu u razvoju MSPP i biće realizatori i katalizatori konkretne podrške vlasnicima i menadžerima malih i srednjih preduzeća i preduzetnicima u početnoj fazi njihovog rada, kao i tokom rasta i razvoja.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Izvod iz Strategije razvoja MSPP u RS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2003-2008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85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385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385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85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385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385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8:53:03Z</dcterms:created>
  <dc:creator>Snezana Selakovic</dc:creator>
  <dc:description/>
  <dc:language>en-US</dc:language>
  <cp:lastModifiedBy>Bojan</cp:lastModifiedBy>
  <dcterms:modified xsi:type="dcterms:W3CDTF">2003-10-06T14:45:35Z</dcterms:modified>
  <cp:revision>23</cp:revision>
  <dc:subject/>
  <dc:title>REGIONALNI CENTAR ZA RAZVOJ MSP I PREDUZETNIŠTVA - ZLATIB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