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wmf" ContentType="image/x-wmf"/>
  <Override PartName="/ppt/media/explode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03F7-6200-42A7-861F-5D24831C5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2397-F947-4DF3-9A94-0C7E84CD7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B90D-456F-4D96-A7CF-5CD30115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8549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681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274140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8549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9681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0586-87DA-4224-A7E0-1BFA592EB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7267-4B76-45DC-80B9-D45FB6BEE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448A-A136-4607-9649-C7D0B1429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0D4D-A434-4EF9-B881-A2324BC25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A1197-C077-4C09-9281-1D792A40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479C-2190-432A-A973-88A1F0E03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2738520" y="1380600"/>
            <a:ext cx="625320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732A-9D0D-4F81-AA4C-9B62D4703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FEB1A-6E11-4904-9184-811CEC3A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28F9-1405-4C65-8946-53EAFDEF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83D8-178F-4EC4-AF3A-673594E3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7BA56-6348-49DD-9972-F42085CAB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A6BA1-D1A7-40BF-A283-4BF063924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8A6F4-8F04-4EEB-8D7A-8B639133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549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968160" y="412416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274140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8549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968160" y="4795920"/>
            <a:ext cx="201240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687A8-9816-4CDE-B15A-57759023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624996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0535-6E2B-4837-8A99-4829B8EB3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A8BF-8EA1-4FFA-9F42-EB16FD380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C992-DA5E-4A9C-B96B-396E9D19D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2738520" y="1380600"/>
            <a:ext cx="6253200" cy="1081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FB7C-9240-48C6-945E-5D30FF90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A2A3-4571-4580-B369-29B73BE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4320" y="479592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FACE-DC4F-4ED4-B4A3-BEE61BB32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74140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4320" y="4124160"/>
            <a:ext cx="304992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2741400" y="4795920"/>
            <a:ext cx="6249960" cy="6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33F9-74A8-4B48-9F93-2DB03D70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5134-B568-4B2B-8A1E-6B546A41C4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656D-DCA4-449D-9C91-4C41D9A0C5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50560" y="1484280"/>
            <a:ext cx="7093080" cy="23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990000"/>
                </a:solidFill>
                <a:latin typeface="Times New Roman"/>
              </a:rPr>
              <a:t>Regionalni centri/agencije za razvoj MSPP – razvoj  partnerskih odnosa na regionalnom nivo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476360" y="5877000"/>
            <a:ext cx="1152720" cy="77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2627280" y="5950080"/>
          <a:ext cx="4176720" cy="701640"/>
        </p:xfrm>
        <a:graphic>
          <a:graphicData uri="http://schemas.openxmlformats.org/drawingml/2006/table">
            <a:tbl>
              <a:tblPr/>
              <a:tblGrid>
                <a:gridCol w="226800"/>
                <a:gridCol w="3949920"/>
              </a:tblGrid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Projekat finansira EU, a realizuje Evropska agencija za rekonstrukciju </a:t>
                      </a:r>
                      <a:endParaRPr b="0" lang="en-US" sz="1600" spc="-1" strike="noStrike">
                        <a:solidFill>
                          <a:srgbClr val="3333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6" name="mspue" descr=""/>
          <p:cNvPicPr/>
          <p:nvPr/>
        </p:nvPicPr>
        <p:blipFill>
          <a:blip r:embed="rId2"/>
          <a:stretch/>
        </p:blipFill>
        <p:spPr>
          <a:xfrm>
            <a:off x="1187280" y="0"/>
            <a:ext cx="1314720" cy="1314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3419640" y="37893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00"/>
                </a:solidFill>
                <a:latin typeface="Times New Roman"/>
              </a:rPr>
              <a:t>Snežana Selaković, direktor RC za razvoj MSPP “Zlatibor”, Užic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995640" y="4648320"/>
            <a:ext cx="49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800000"/>
                </a:solidFill>
                <a:latin typeface="Times New Roman"/>
              </a:rPr>
              <a:t>Beograd, 06.10.2003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PREPREKE I PROBLEM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04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razvijenost tržišta konsultantskih usluga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Potražnja- ne postoji tradicija; nisu spremni da plate; očekivanja da usluge budu besplatne (zbog osnivača, donatora...) 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Ponuda-nedovoljan broj kvalitetnih konsultanata, naročito za brzo rastuća MSP; velika zavisnost RC od LSP...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333300"/>
                </a:solidFill>
                <a:latin typeface="Arial"/>
              </a:rPr>
              <a:t>Šta nakon podrške EAR-a (Service Support Scheme)?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0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2" dur="1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3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" dur="10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500"/>
                            </p:stCondLst>
                            <p:childTnLst>
                              <p:par>
                                <p:cTn id="3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10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4" dur="10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PREPREKE I PROBLEMI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Nedovoljno razvijena infrastruktura za podršku preduzetništvu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dostaje strategija lokalnog (regionalnog) razvoj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dostaje finansijska podrška MSP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rešeni problemi registracije i legalizacije imovine (za kolateral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-533520">
              <a:spcBef>
                <a:spcPts val="10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Nema inkubatora, tehn.parkova..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0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6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1500"/>
                            </p:stCondLst>
                            <p:childTnLst>
                              <p:par>
                                <p:cTn id="3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0" dur="10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2500"/>
                            </p:stCondLst>
                            <p:childTnLst>
                              <p:par>
                                <p:cTn id="35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4" dur="10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500"/>
                            </p:stCondLst>
                            <p:childTnLst>
                              <p:par>
                                <p:cTn id="35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8" dur="10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500"/>
                            </p:stCondLst>
                            <p:childTnLst>
                              <p:par>
                                <p:cTn id="36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2" dur="10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PARTNERSTV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500120" y="1752480"/>
            <a:ext cx="749160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Ministarstvo za privredu i privatizaciju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Republička agencija za razvoj MSPP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RZT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SIEPA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4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1500"/>
                            </p:stCondLst>
                            <p:childTnLst>
                              <p:par>
                                <p:cTn id="3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10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2500"/>
                            </p:stCondLst>
                            <p:childTnLst>
                              <p:par>
                                <p:cTn id="38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10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3500"/>
                            </p:stCondLst>
                            <p:childTnLst>
                              <p:par>
                                <p:cTn id="3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1000"/>
                                        <p:tgtEl>
                                          <p:spTgt spid="1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PARTNERSTVA 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500120" y="1773360"/>
            <a:ext cx="7491600" cy="4465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Regionalna razvojna alijansa</a:t>
            </a:r>
            <a:r>
              <a:rPr b="0" lang="sl-SI" sz="32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Definisanje i konsenzualno sprovođenje regionalne razvojne strategije (vizija)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Upravljanje razvojem – koordinacija razvojnih inicijativa i resursa u smeru strateških ciljeva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Stvaranje organizacijskih struktura koje će sprovoditi akcije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0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1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2" dur="1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500"/>
                            </p:stCondLst>
                            <p:childTnLst>
                              <p:par>
                                <p:cTn id="4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6" dur="1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3500"/>
                            </p:stCondLst>
                            <p:childTnLst>
                              <p:par>
                                <p:cTn id="4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0" dur="1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6" name=""/>
          <p:cNvGraphicFramePr/>
          <p:nvPr/>
        </p:nvGraphicFramePr>
        <p:xfrm>
          <a:off x="4572000" y="4365720"/>
          <a:ext cx="1089000" cy="234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4365720"/>
                    <a:ext cx="1089000" cy="23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" name=""/>
          <p:cNvSpPr/>
          <p:nvPr/>
        </p:nvSpPr>
        <p:spPr>
          <a:xfrm>
            <a:off x="2286000" y="907920"/>
            <a:ext cx="6858000" cy="3048120"/>
          </a:xfrm>
          <a:prstGeom prst="cloudCallout">
            <a:avLst>
              <a:gd name="adj1" fmla="val -9305"/>
              <a:gd name="adj2" fmla="val 62865"/>
            </a:avLst>
          </a:prstGeom>
          <a:solidFill>
            <a:srgbClr val="ffff00"/>
          </a:solidFill>
          <a:ln w="936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Comic Sans MS"/>
              </a:rPr>
              <a:t>Da li smo spremni da (na regionalnom nivou) preuzmemo sudbinu u svoje ruke?!</a:t>
            </a:r>
            <a:endParaRPr b="0" lang="en-US" sz="2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0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996600"/>
                </a:solidFill>
                <a:latin typeface="Times New Roman"/>
              </a:rPr>
              <a:t>Projekat “Nefinansijska podrška razvoju sektora MSP u Srbiji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76360" y="2060640"/>
            <a:ext cx="74916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Traje 2 godine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Finansira EU, realizuje EAR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7 regionalnih agencija za razvoj MSP: Kragujevac, Kruševac, Niš, Zaječar, Zrenjanin, Užice i Beograd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99760" y="228240"/>
            <a:ext cx="4367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Regionalni centri / agencij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99760" y="2060640"/>
            <a:ext cx="7464600" cy="417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D.O.O.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Osnivači – javni, privatni i nevladin sektor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333300"/>
                </a:solidFill>
                <a:latin typeface="Arial"/>
              </a:rPr>
              <a:t>(Vlada RS, Skupštine opština, Regionalne privredne komore, Udruženja preduzetnika, banke, NVO...)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73" name="mspue" descr=""/>
          <p:cNvPicPr/>
          <p:nvPr/>
        </p:nvPicPr>
        <p:blipFill>
          <a:blip r:embed="rId1"/>
          <a:stretch/>
        </p:blipFill>
        <p:spPr>
          <a:xfrm>
            <a:off x="7020000" y="13320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500"/>
                            </p:stCondLst>
                            <p:childTnLst>
                              <p:par>
                                <p:cTn id="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"/>
                            </p:stCondLst>
                            <p:childTnLst>
                              <p:par>
                                <p:cTn id="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VIZ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8000" y="1989000"/>
            <a:ext cx="6551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333300"/>
                </a:solidFill>
                <a:latin typeface="Times New Roman"/>
              </a:rPr>
              <a:t>Da postane </a:t>
            </a:r>
            <a:r>
              <a:rPr b="1" i="1" lang="sr-Latn-CS" sz="3600" spc="-1" strike="noStrike">
                <a:solidFill>
                  <a:srgbClr val="333300"/>
                </a:solidFill>
                <a:latin typeface="Times New Roman"/>
              </a:rPr>
              <a:t>najvažniji učesnik</a:t>
            </a:r>
            <a:r>
              <a:rPr b="0" i="1" lang="sr-Latn-CS" sz="3600" spc="-1" strike="noStrike">
                <a:solidFill>
                  <a:srgbClr val="333300"/>
                </a:solidFill>
                <a:latin typeface="Times New Roman"/>
              </a:rPr>
              <a:t> u procesu razvoja 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333300"/>
                </a:solidFill>
                <a:latin typeface="Times New Roman"/>
              </a:rPr>
              <a:t>MSP sektora u okrugu/regionu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6" name="mspue" descr=""/>
          <p:cNvPicPr/>
          <p:nvPr/>
        </p:nvPicPr>
        <p:blipFill>
          <a:blip r:embed="rId1"/>
          <a:stretch/>
        </p:blipFill>
        <p:spPr>
          <a:xfrm>
            <a:off x="6732720" y="117360"/>
            <a:ext cx="1726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MISIJ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1989000"/>
            <a:ext cx="65516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600" spc="-1" strike="noStrike">
                <a:solidFill>
                  <a:srgbClr val="333300"/>
                </a:solidFill>
                <a:latin typeface="Times New Roman"/>
              </a:rPr>
              <a:t>Da pružanjem neposredne podrške kako postojećim MSPP, tako i potencijalnim preduzetnicima, podstiče razvoj sektora MSP i doprinosi rastu društvenog proizvoda i otvaranju novih radnih mesta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9" name="mspue" descr=""/>
          <p:cNvPicPr/>
          <p:nvPr/>
        </p:nvPicPr>
        <p:blipFill>
          <a:blip r:embed="rId1"/>
          <a:stretch/>
        </p:blipFill>
        <p:spPr>
          <a:xfrm>
            <a:off x="6948360" y="44280"/>
            <a:ext cx="1727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0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Šta smo do sada uradili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00120" y="1196640"/>
            <a:ext cx="74916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Razvoj tržišta konsultantskih usluga</a:t>
            </a: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Formirali mrežu akreditovanih servis provajder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333300"/>
                </a:solidFill>
                <a:latin typeface="Arial"/>
              </a:rPr>
              <a:t>Razvili i ponudili tržištu sledeće proizvode: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Paket usluga za registraciju preduzeća/radnje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Orijentacione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, 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bazične </a:t>
            </a:r>
            <a:r>
              <a:rPr b="0" lang="en-US" sz="2000" spc="-1" strike="noStrike">
                <a:solidFill>
                  <a:srgbClr val="333300"/>
                </a:solidFill>
                <a:latin typeface="Arial"/>
              </a:rPr>
              <a:t>I napredne 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treninge za one koji započinju sopstveni biznis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Napredne treninge iz raznih oblasti (spoljno-trgovinsko poslovanje, e-business, marketing, poslovno komuniciranje, poslovni engleski...), za one MSPP koji žele da unaprede svoje poslovanje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Savetovanje iz svih oblasti poslovanja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Poslovno planiranje ...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7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1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2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3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"/>
                            </p:stCondLst>
                            <p:childTnLst>
                              <p:par>
                                <p:cTn id="14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500"/>
                            </p:stCondLst>
                            <p:childTnLst>
                              <p:par>
                                <p:cTn id="15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3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500"/>
                            </p:stCondLst>
                            <p:childTnLst>
                              <p:par>
                                <p:cTn id="1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5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7500"/>
                            </p:stCondLst>
                            <p:childTnLst>
                              <p:par>
                                <p:cTn id="16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9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8000"/>
                            </p:stCondLst>
                            <p:childTnLst>
                              <p:par>
                                <p:cTn id="17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3" dur="5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Šta smo do sada uradili? (2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196640"/>
            <a:ext cx="74916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333300"/>
                </a:solidFill>
                <a:latin typeface="Arial"/>
              </a:rPr>
              <a:t>Razvoj partnerskih odnosa na regionalnom nivou sa</a:t>
            </a: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00"/>
                </a:solidFill>
                <a:latin typeface="Arial"/>
              </a:rPr>
              <a:t>Lokalnom samoupravom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 (u cilju otvaranja lokalnih podcentara, zajedničke inicijative za osnivanje garancijskih šema, razvoj preduzetničke infrastrukture i sl.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00"/>
                </a:solidFill>
                <a:latin typeface="Arial"/>
              </a:rPr>
              <a:t>Bankama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 (protok informacija, upućivanje klijenata...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00"/>
                </a:solidFill>
                <a:latin typeface="Arial"/>
              </a:rPr>
              <a:t>Donatorima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 (učestvovali u realizaciji projekata koji podstiču razvoj preduzetništva u saradnji sa drugim partnerima na regionalnom nivou, upućivanje klijenata...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333300"/>
                </a:solidFill>
                <a:latin typeface="Arial"/>
              </a:rPr>
              <a:t>Dr. Stejkholderima</a:t>
            </a:r>
            <a:r>
              <a:rPr b="0" lang="sl-SI" sz="2000" spc="-1" strike="noStrike">
                <a:solidFill>
                  <a:srgbClr val="333300"/>
                </a:solidFill>
                <a:latin typeface="Arial"/>
              </a:rPr>
              <a:t> (organizovali preduzetničke sajmove, formirali ažurne baze podataka o sektoru MSP, zajedno organizovali treninge...)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0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500"/>
                            </p:stCondLst>
                            <p:childTnLst>
                              <p:par>
                                <p:cTn id="18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6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0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500"/>
                            </p:stCondLst>
                            <p:childTnLst>
                              <p:par>
                                <p:cTn id="2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8" dur="500"/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2" dur="500"/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996600"/>
                </a:solidFill>
                <a:latin typeface="Times New Roman"/>
              </a:rPr>
              <a:t>Šta smo do sada uradili?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500120" y="1196640"/>
            <a:ext cx="749160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333300"/>
                </a:solidFill>
                <a:latin typeface="Arial"/>
              </a:rPr>
              <a:t>Jačanje mreže za podršku sektoru MSPP: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00"/>
                </a:solidFill>
                <a:latin typeface="Arial"/>
              </a:rPr>
              <a:t>Potpisivanjem Protokola o saradnji formirali mrežu regionalnih centara/agencija podržanih od strane EAR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00"/>
                </a:solidFill>
                <a:latin typeface="Arial"/>
              </a:rPr>
              <a:t>Potpisali Ugovor o saradnji sa Republičkom agencijo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00"/>
                </a:solidFill>
                <a:latin typeface="Arial"/>
              </a:rPr>
              <a:t>Uzimali učešće u svim aktivnostima iniciranim od pojedinih RC/RA, kao i Republičke agencije, a koji su od interesa za mrežu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800"/>
              </a:spcBef>
              <a:buClr>
                <a:srgbClr val="990000"/>
              </a:buClr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333300"/>
                </a:solidFill>
                <a:latin typeface="Arial"/>
              </a:rPr>
              <a:t>Razmena informacija, proizvoda i sl. unutar mreže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1500"/>
                            </p:stCondLst>
                            <p:childTnLst>
                              <p:par>
                                <p:cTn id="24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000"/>
                            </p:stCondLst>
                            <p:childTnLst>
                              <p:par>
                                <p:cTn id="2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500"/>
                            </p:stCondLst>
                            <p:childTnLst>
                              <p:par>
                                <p:cTn id="2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3000"/>
                            </p:stCondLst>
                            <p:childTnLst>
                              <p:par>
                                <p:cTn id="25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5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9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3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500"/>
                            </p:stCondLst>
                            <p:childTnLst>
                              <p:par>
                                <p:cTn id="2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7" dur="500"/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996600"/>
                </a:solidFill>
                <a:latin typeface="Times New Roman"/>
              </a:rPr>
              <a:t>Gde je naše mesto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5640" y="1196640"/>
            <a:ext cx="7875720" cy="504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3200" spc="-1" strike="noStrike">
                <a:solidFill>
                  <a:srgbClr val="333300"/>
                </a:solidFill>
                <a:latin typeface="Arial"/>
              </a:rPr>
              <a:t>“</a:t>
            </a:r>
            <a:r>
              <a:rPr b="0" i="1" lang="sl-SI" sz="3200" spc="-1" strike="noStrike">
                <a:solidFill>
                  <a:srgbClr val="333300"/>
                </a:solidFill>
                <a:latin typeface="Arial"/>
              </a:rPr>
              <a:t>Regionalne agencije i centri imaće važnu ulogu u razvoju MSPP i biće realizatori i katalizatori konkretne podrške vlasnicima i menadžerima malih i srednjih preduzeća i preduzetnicima u početnoj fazi njihovog rada, kao i tokom rasta i razvoja.”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Izvod iz Strategije razvoja MSPP u RS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333300"/>
                </a:solidFill>
                <a:latin typeface="Arial"/>
              </a:rPr>
              <a:t>2003-2008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385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5" dur="38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7" dur="38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9" dur="385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9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500"/>
                            </p:stCondLst>
                            <p:childTnLst>
                              <p:par>
                                <p:cTn id="29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385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385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7" dur="385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9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99" dur="385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385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385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7" dur="385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09" dur="385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7T18:53:03Z</dcterms:created>
  <dc:creator>Snezana Selakovic</dc:creator>
  <dc:description/>
  <dc:language>en-US</dc:language>
  <cp:lastModifiedBy>Bojan</cp:lastModifiedBy>
  <dcterms:modified xsi:type="dcterms:W3CDTF">2003-10-06T14:45:35Z</dcterms:modified>
  <cp:revision>23</cp:revision>
  <dc:subject/>
  <dc:title>REGIONALNI CENTAR ZA RAZVOJ MSP I PREDUZETNIŠTVA - ZLATIB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