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AFE-824D-4484-AE55-148836F6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054-6B90-46E3-A9AE-094C8D14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AC7-D7F1-4BDE-8A32-517502A3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B45-F622-475F-ADA3-0B17995B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BD0-CF69-43A8-92A2-E56C09C8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2EC-6E01-4871-A155-BBCEFAD5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B7B-777F-46AB-AD43-BB281C3D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BCD-DF0F-4EA0-AE5B-AFD975F4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767-994C-42DD-A34B-B0C36593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2F5-A2DA-4759-A599-3BAF180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32A-5DE3-4A39-BBE1-44AEE98A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4C7-9D34-4216-B7BC-4E9385B5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CFBE-5C18-4DEB-A864-0C5D7F610F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3160" y="1374840"/>
            <a:ext cx="8772480" cy="52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slug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konomsko planiranje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azvoj investicionih projek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Ekonomsko praćenje poslovanja preduze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Istraživanje tržišta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straživanje i analiza makroekonomskih faktora koji utiču na razvoj i poslovanje M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straživanje i analiza specifičnih industrijskih sek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Priprema projekta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Složene ekonomske i tehničke konsult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laniranje i izbor tehnologije i opr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n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formacione tehnologije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kumulacija i distribucija poslovnih inform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azvoj softvera za biznis i veb sajtovi preduze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40464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8000" y="2557440"/>
            <a:ext cx="55436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Broj MSP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,9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us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Broj privatnih preduzetnik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2,4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us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posleni u MS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iše o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adne sn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Učešće MSP u ukupnoj proizvodnji više od 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824360" y="2552760"/>
          <a:ext cx="4427640" cy="447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2552760"/>
                    <a:ext cx="4427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148360" y="213372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Industrijska struktura M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atistički profil malog biznisa. Region Voronježa u Rusij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27734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4797360"/>
            <a:ext cx="3168360" cy="1739880"/>
          </a:xfrm>
          <a:prstGeom prst="rect">
            <a:avLst/>
          </a:prstGeom>
          <a:gradFill rotWithShape="0">
            <a:gsLst>
              <a:gs pos="0">
                <a:srgbClr val="2b2ba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roizvodnj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oljoprivr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Građevinarst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rgovina i ugostiteljst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rugi sektori industrij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7200" y="1379520"/>
            <a:ext cx="87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teškoće u razvoju M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1773360"/>
            <a:ext cx="878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Nedostatak finansijskih resu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iše o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%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SP izražava potrebu za dodatnim resursima kapitala da bi se finansirale svakodnevne aktivnosti i investicioni projek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anje o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5%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SP koristi kredite ban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360" y="3213000"/>
            <a:ext cx="878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Nedostaci u zakonskoj regula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0%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SP nije zadovoljno sa postojećim propisima u vezi sa izdavanjem dozvola, propisima i računovodst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0360" y="4437000"/>
            <a:ext cx="878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Administrativne prepre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0%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SP ima konflikte sa državnim organim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0360" y="5383080"/>
            <a:ext cx="878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Informaciona ograni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SP su hitno potrebne informacije o potencijalnim dobavljačima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76 %)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ržištu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56 %) ,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esursima kapital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42 %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 novim tehnologijama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41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7200" y="1374840"/>
            <a:ext cx="875844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Zainteresovanost MSP za stranu podrš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prema istraživanjima sprovedenim u Voronježkom regionu u 2002.godini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rimanje ruskih investicij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6 %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rimanje stranih investicij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ehnička i tehnološka podrška z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nvesticione proje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nvesticioni projekt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azvoj biznis planov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9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naliza finansijskog poslovanj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9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raženje novih klijena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straživanje tržišt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9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raženje opreme i tehnologij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9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7200" y="1374840"/>
            <a:ext cx="875844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škoće u kooperaciji između MSP i njihove infrastrukture za podrš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200000"/>
              </a:lnSpc>
              <a:spcBef>
                <a:spcPts val="50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umnje u vezi sa profesionalizmom konsulta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2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Visoki troškovi za kvalitetne konsultantske usl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2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Nedostatak finansijskih resursa za M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7200" y="1374840"/>
            <a:ext cx="87584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vi mehanizmi podrške preduzetništ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AUČ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47680" y="3581280"/>
            <a:ext cx="2114640" cy="2127240"/>
            <a:chOff x="247680" y="3581280"/>
            <a:chExt cx="2114640" cy="2127240"/>
          </a:xfrm>
        </p:grpSpPr>
        <p:sp>
          <p:nvSpPr>
            <p:cNvPr id="75" name=""/>
            <p:cNvSpPr/>
            <p:nvPr/>
          </p:nvSpPr>
          <p:spPr>
            <a:xfrm>
              <a:off x="247680" y="3581280"/>
              <a:ext cx="2114640" cy="1123920"/>
            </a:xfrm>
            <a:prstGeom prst="flowChartAlternateProcess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Takmičenja za M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7680" y="4813200"/>
              <a:ext cx="2114640" cy="895320"/>
            </a:xfrm>
            <a:prstGeom prst="flowChartAlternateProcess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Takmičenja z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konsultantsk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organizaci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057400" y="1981080"/>
            <a:ext cx="3943440" cy="3705480"/>
            <a:chOff x="2057400" y="1981080"/>
            <a:chExt cx="3943440" cy="3705480"/>
          </a:xfrm>
        </p:grpSpPr>
        <p:sp>
          <p:nvSpPr>
            <p:cNvPr id="78" name=""/>
            <p:cNvSpPr/>
            <p:nvPr/>
          </p:nvSpPr>
          <p:spPr>
            <a:xfrm>
              <a:off x="3581280" y="2765520"/>
              <a:ext cx="2419560" cy="2104920"/>
            </a:xfrm>
            <a:prstGeom prst="flowChartAlternateProcess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ahoma"/>
                </a:rPr>
                <a:t>Usluge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konsal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forma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cion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podrš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razvoj investicionih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projekat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5240" y="5172120"/>
              <a:ext cx="3057480" cy="5144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Konsultantske kompani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05240" y="1981080"/>
              <a:ext cx="3057480" cy="5144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M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62280" y="3314880"/>
              <a:ext cx="0" cy="1841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57400" y="2800440"/>
              <a:ext cx="1380960" cy="55224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Tahoma"/>
                </a:rPr>
                <a:t>auče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62280" y="2505240"/>
              <a:ext cx="0" cy="27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794120" y="4879440"/>
              <a:ext cx="0" cy="279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794120" y="2509560"/>
              <a:ext cx="0" cy="245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172200" y="1933560"/>
            <a:ext cx="2781360" cy="2943360"/>
          </a:xfrm>
          <a:custGeom>
            <a:avLst/>
            <a:gdLst>
              <a:gd name="textAreaLeft" fmla="*/ 135720 w 2781360"/>
              <a:gd name="textAreaRight" fmla="*/ 2645640 w 2781360"/>
              <a:gd name="textAreaTop" fmla="*/ 135720 h 2943360"/>
              <a:gd name="textAreaBottom" fmla="*/ 2807640 h 2943360"/>
            </a:gdLst>
            <a:ahLst/>
            <a:rect l="textAreaLeft" t="textAreaTop" r="textAreaRight" b="textAreaBottom"/>
            <a:pathLst>
              <a:path w="21600" h="22858">
                <a:moveTo>
                  <a:pt x="3600" y="0"/>
                </a:moveTo>
                <a:arcTo wR="3600" hR="3600" stAng="16200000" swAng="-5400000"/>
                <a:lnTo>
                  <a:pt x="0" y="19258"/>
                </a:lnTo>
                <a:arcTo wR="3600" hR="3600" stAng="10800000" swAng="-5400000"/>
                <a:lnTo>
                  <a:pt x="18000" y="22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efefe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Očekivani rezultati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ružanje i dobijanj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valitetnih konsultantski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usl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oboljšanje poslov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Razvoj tržišta 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onsultantske uslu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54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entar za investicioni razvoj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34936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Misija centra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781360"/>
            <a:ext cx="81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oboljšanje investicione i poslovne kulture među preduzetnic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Kreiranje povoljnih makroekonomskih uslova za investi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396864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Aktivnosti centra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6360" y="4405320"/>
            <a:ext cx="81723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oboljšanje investicionog zakonodav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kumulacija i pružanje informacija u vezi sa biznisom i anal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Konsalting za različita pitanja u vezi sa investicij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6:50:10Z</dcterms:created>
  <dc:creator>Hlopov Roman</dc:creator>
  <dc:description/>
  <dc:language>en-US</dc:language>
  <cp:lastModifiedBy>Bojan</cp:lastModifiedBy>
  <dcterms:modified xsi:type="dcterms:W3CDTF">2003-10-06T14:23:14Z</dcterms:modified>
  <cp:revision>105</cp:revision>
  <dc:subject/>
  <dc:title>Заголовок слайда отсутствует</dc:title>
</cp:coreProperties>
</file>