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AA6A-C2C3-485A-86DA-6DB6899F4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B86C-008F-44A6-8824-2C5FDA09F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3AD0-64DB-461D-8538-E4DDF56C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E490-A05F-41E9-81E9-E9889652D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B24E-97A3-4C40-9F4D-074CCFB2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B6E4-C380-4D85-8A7A-1D6AC3C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BC78-D38D-4E0E-9B14-688CBC399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D81C-086B-4C01-B018-3504DD29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E5D6-C028-4C4D-BD36-77E9E5C9D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768B-D077-43AF-B0BB-50E43668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6E21-890F-4D3E-8554-9658E97D3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D9EC-2A1F-4E31-9E7A-1F5AE509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28E9-54F9-423A-8F4B-6C2D5965D62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3160" y="1374840"/>
            <a:ext cx="8772480" cy="522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Uslug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         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E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konomsko planiranje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azvoj investicionih projek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Ekonomsko praćenje poslovanja preduzeć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Istraživanje tržišta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straživanje i analiza makroekonomskih faktora koji utiču na razvoj i poslovanje M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straživanje i analiza specifičnih industrijskih sekto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Priprema projekta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Složene ekonomske i tehničke konsulta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laniranje i izbor tehnologije i opre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In</a:t>
            </a: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formacione tehnologije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Akumulacija i distribucija poslovnih informac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azvoj softvera za biznis i veb sajtovi preduzeć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476360" y="40464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108000" y="2557440"/>
            <a:ext cx="554364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Broj MSP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3,9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us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Broj privatnih preduzetnik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2,4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ous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Zaposleni u MSP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iše od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25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      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adne sn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Učešće MSP u ukupnoj proizvodnji više od 3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824360" y="2552760"/>
          <a:ext cx="4427640" cy="44766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24360" y="2552760"/>
                    <a:ext cx="4427640" cy="44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5148360" y="2133720"/>
            <a:ext cx="39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Industrijska struktura M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48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tatistički profil malog biznisa. Region Voronježa u Rusiji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27734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651640" y="4797360"/>
            <a:ext cx="3168360" cy="1739880"/>
          </a:xfrm>
          <a:prstGeom prst="rect">
            <a:avLst/>
          </a:prstGeom>
          <a:gradFill rotWithShape="0">
            <a:gsLst>
              <a:gs pos="0">
                <a:srgbClr val="2b2ba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roizvodnj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oljoprivre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rans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Građevinarst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rgovina i ugostiteljst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Drugi sektori industrij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87200" y="1379520"/>
            <a:ext cx="87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Poteškoće u razvoju M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60360" y="1773360"/>
            <a:ext cx="8783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Nedostatak finansijskih resu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Više o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60%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SP izražava potrebu za dodatnim resursima kapitala da bi se finansirale svakodnevne aktivnosti i investicioni projek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anje od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25%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SP koristi kredite banak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60360" y="3213000"/>
            <a:ext cx="878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Nedostaci u zakonskoj regulati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40%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SP nije zadovoljno sa postojećim propisima u vezi sa izdavanjem dozvola, propisima i računovodstv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60360" y="4437000"/>
            <a:ext cx="878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Administrativne preprek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0%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SP ima konflikte sa državnim organim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0360" y="5383080"/>
            <a:ext cx="8783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Informaciona ograničen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MSP su hitno potrebne informacije o potencijalnim dobavljačima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76 %),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ržištu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56 %) ,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esursima kapital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42 %)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 novim tehnologijama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(41 %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7200" y="1374840"/>
            <a:ext cx="8758440" cy="49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Zainteresovanost MSP za stranu podrš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(</a:t>
            </a:r>
            <a:r>
              <a:rPr b="0" lang="sr-Latn-CS" sz="1800" spc="-1" strike="noStrike">
                <a:solidFill>
                  <a:srgbClr val="ffff00"/>
                </a:solidFill>
                <a:latin typeface="Times New Roman"/>
              </a:rPr>
              <a:t>prema istraživanjima sprovedenim u Voronježkom regionu u 2002.godini</a:t>
            </a: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rimanje ruskih investicij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6 %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rimanje stranih investicij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ehnička i tehnološka podrška za 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0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nvesticione projek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nvesticioni projekti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/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razvoj biznis planov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9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Analiza finansijskog poslovanj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9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raženje novih klijenata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 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52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Istraživanje tržišta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9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Traženje opreme i tehnologija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49 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87200" y="1374840"/>
            <a:ext cx="8758440" cy="46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škoće u kooperaciji između MSP i njihove infrastrukture za podršk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200000"/>
              </a:lnSpc>
              <a:spcBef>
                <a:spcPts val="50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ffffff"/>
                </a:solidFill>
                <a:latin typeface="Tahoma"/>
              </a:rPr>
              <a:t>Sumnje u vezi sa profesionalizmom konsultan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2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Visoki troškovi za kvalitetne konsultantske uslu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2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sr-Latn-CS" sz="1800" spc="-1" strike="noStrike">
                <a:solidFill>
                  <a:srgbClr val="ffffff"/>
                </a:solidFill>
                <a:latin typeface="Tahoma"/>
              </a:rPr>
              <a:t>Nedostatak finansijskih resursa za M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2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187200" y="1374840"/>
            <a:ext cx="875844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Novi mehanizmi podrške preduzetništv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V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AUČ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</a:t>
            </a:r>
            <a:r>
              <a:rPr b="0" lang="sr-Latn-CS" sz="2000" spc="-1" strike="noStrike">
                <a:solidFill>
                  <a:srgbClr val="ffff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247680" y="3581280"/>
            <a:ext cx="2114640" cy="2127240"/>
            <a:chOff x="247680" y="3581280"/>
            <a:chExt cx="2114640" cy="2127240"/>
          </a:xfrm>
        </p:grpSpPr>
        <p:sp>
          <p:nvSpPr>
            <p:cNvPr id="75" name=""/>
            <p:cNvSpPr/>
            <p:nvPr/>
          </p:nvSpPr>
          <p:spPr>
            <a:xfrm>
              <a:off x="247680" y="3581280"/>
              <a:ext cx="2114640" cy="1123920"/>
            </a:xfrm>
            <a:prstGeom prst="flowChartAlternateProcess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Takmičenja za M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47680" y="4813200"/>
              <a:ext cx="2114640" cy="895320"/>
            </a:xfrm>
            <a:prstGeom prst="flowChartAlternateProcess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Takmičenja z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konsultantsk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organizaci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2057400" y="1981080"/>
            <a:ext cx="3943440" cy="3705480"/>
            <a:chOff x="2057400" y="1981080"/>
            <a:chExt cx="3943440" cy="3705480"/>
          </a:xfrm>
        </p:grpSpPr>
        <p:sp>
          <p:nvSpPr>
            <p:cNvPr id="78" name=""/>
            <p:cNvSpPr/>
            <p:nvPr/>
          </p:nvSpPr>
          <p:spPr>
            <a:xfrm>
              <a:off x="3581280" y="2765520"/>
              <a:ext cx="2419560" cy="2104920"/>
            </a:xfrm>
            <a:prstGeom prst="flowChartAlternateProcess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ahoma"/>
                </a:rPr>
                <a:t>Usluge</a:t>
              </a:r>
              <a:r>
                <a:rPr b="1" lang="ru-RU" sz="1800" spc="-1" strike="noStrike">
                  <a:solidFill>
                    <a:srgbClr val="000000"/>
                  </a:solidFill>
                  <a:latin typeface="Tahoma"/>
                </a:rPr>
                <a:t>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konsalt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informa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ciona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podršk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razvoj investicionih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projekata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05240" y="5172120"/>
              <a:ext cx="3057480" cy="5144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Konsultantske kompanij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505240" y="1981080"/>
              <a:ext cx="3057480" cy="514440"/>
            </a:xfrm>
            <a:prstGeom prst="rect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1800" spc="-1" strike="noStrike">
                  <a:solidFill>
                    <a:srgbClr val="000000"/>
                  </a:solidFill>
                  <a:latin typeface="Tahoma"/>
                </a:rPr>
                <a:t>MS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62280" y="3314880"/>
              <a:ext cx="0" cy="184140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57400" y="2800440"/>
              <a:ext cx="1380960" cy="552240"/>
            </a:xfrm>
            <a:prstGeom prst="ellipse">
              <a:avLst/>
            </a:prstGeom>
            <a:gradFill rotWithShape="0">
              <a:gsLst>
                <a:gs pos="0">
                  <a:srgbClr val="00cc99"/>
                </a:gs>
                <a:gs pos="100000">
                  <a:srgbClr val="fefefe"/>
                </a:gs>
              </a:gsLst>
              <a:lin ang="135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V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Tahoma"/>
                </a:rPr>
                <a:t>auče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762280" y="2505240"/>
              <a:ext cx="0" cy="2793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V="1">
              <a:off x="4794120" y="4879440"/>
              <a:ext cx="0" cy="27972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4794120" y="2509560"/>
              <a:ext cx="0" cy="245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" name=""/>
          <p:cNvSpPr/>
          <p:nvPr/>
        </p:nvSpPr>
        <p:spPr>
          <a:xfrm>
            <a:off x="6172200" y="1933560"/>
            <a:ext cx="2781360" cy="2943360"/>
          </a:xfrm>
          <a:custGeom>
            <a:avLst/>
            <a:gdLst>
              <a:gd name="textAreaLeft" fmla="*/ 135720 w 2781360"/>
              <a:gd name="textAreaRight" fmla="*/ 2645640 w 2781360"/>
              <a:gd name="textAreaTop" fmla="*/ 135720 h 2943360"/>
              <a:gd name="textAreaBottom" fmla="*/ 2807640 h 2943360"/>
            </a:gdLst>
            <a:ahLst/>
            <a:rect l="textAreaLeft" t="textAreaTop" r="textAreaRight" b="textAreaBottom"/>
            <a:pathLst>
              <a:path w="21600" h="22858">
                <a:moveTo>
                  <a:pt x="3600" y="0"/>
                </a:moveTo>
                <a:arcTo wR="3600" hR="3600" stAng="16200000" swAng="-5400000"/>
                <a:lnTo>
                  <a:pt x="0" y="19258"/>
                </a:lnTo>
                <a:arcTo wR="3600" hR="3600" stAng="10800000" swAng="-5400000"/>
                <a:lnTo>
                  <a:pt x="18000" y="22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fefefe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Tahoma"/>
              </a:rPr>
              <a:t>Očekivani rezultati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ružanje i dobijanj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kvalitetnih konsultantski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uslug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Poboljšanje poslov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kul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Razvoj tržišta z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ahoma"/>
              </a:rPr>
              <a:t>Konsultantske uslu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c1254"/>
            </a:gs>
            <a:gs pos="100000">
              <a:srgbClr val="3d28b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380880"/>
            <a:ext cx="9144000" cy="10098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1143000" cy="10112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0" y="1546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</a:rPr>
              <a:t>Centar za investicioni razvoj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349360"/>
            <a:ext cx="77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Misija centra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1280" y="2781360"/>
            <a:ext cx="8172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oboljšanje investicione i poslovne kulture među preduzetnici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Kreiranje povoljnih makroekonomskih uslova za investicij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396864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ffff00"/>
                </a:solidFill>
                <a:latin typeface="Tahoma"/>
              </a:rPr>
              <a:t>Aktivnosti centra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76360" y="4405320"/>
            <a:ext cx="8172360" cy="11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Poboljšanje investicionog zakonodavst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Akumulacija i pružanje informacija u vezi sa biznisom i anal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r-Latn-CS" sz="1800" spc="-1" strike="noStrike">
                <a:solidFill>
                  <a:srgbClr val="ffffff"/>
                </a:solidFill>
                <a:latin typeface="Tahoma"/>
              </a:rPr>
              <a:t>Konsalting za različita pitanja u vezi sa investicij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523880" y="60660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ffffff"/>
                </a:solidFill>
                <a:latin typeface="Tahoma"/>
              </a:rPr>
              <a:t>Regionalna Agencija Voronjež za podršku MS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4T06:50:10Z</dcterms:created>
  <dc:creator>Hlopov Roman</dc:creator>
  <dc:description/>
  <dc:language>en-US</dc:language>
  <cp:lastModifiedBy>Bojan</cp:lastModifiedBy>
  <dcterms:modified xsi:type="dcterms:W3CDTF">2003-10-06T14:23:14Z</dcterms:modified>
  <cp:revision>105</cp:revision>
  <dc:subject/>
  <dc:title>Заголовок слайда отсутствует</dc:title>
</cp:coreProperties>
</file>