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72B308A-7A82-4F33-A0FB-360B7A544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3240" y="4705200"/>
            <a:ext cx="4965840" cy="445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rget 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n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y (finance &amp; purchas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ke (planning, productivity and qua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lfil (inventory mngt, transport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761-9000-42A0-B2CB-13661978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085-06F5-4536-94EB-EE652E36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935-228B-4872-8AEC-1C93064E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86B-FCC1-4123-9DF8-D9561B65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2F4-D831-4973-A724-84F98BCA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950-1115-4616-AC41-7AED87F4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FEC-EA5F-4472-95E0-A3967DBA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903-6E2F-4D47-976E-C7887F0E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ED2-58BB-44DD-BC3F-9ED51F7A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9C2-1263-41FA-8A82-CBD686B9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D95-A1CB-4FC5-81A9-E0D889AC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0E0-CDBB-4CDA-B71C-0C2B3C85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C622-B39C-4F95-B057-0CA8EDEA6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1774800" cy="6861240"/>
            <a:chOff x="0" y="0"/>
            <a:chExt cx="1774800" cy="6861240"/>
          </a:xfrm>
        </p:grpSpPr>
        <p:grpSp>
          <p:nvGrpSpPr>
            <p:cNvPr id="49" name=""/>
            <p:cNvGrpSpPr/>
            <p:nvPr/>
          </p:nvGrpSpPr>
          <p:grpSpPr>
            <a:xfrm>
              <a:off x="0" y="0"/>
              <a:ext cx="1774800" cy="6861240"/>
              <a:chOff x="0" y="0"/>
              <a:chExt cx="1774800" cy="6861240"/>
            </a:xfrm>
          </p:grpSpPr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749600" cy="686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0" y="2209680"/>
                <a:ext cx="1736640" cy="4648320"/>
              </a:xfrm>
              <a:prstGeom prst="rect">
                <a:avLst/>
              </a:prstGeom>
              <a:solidFill>
                <a:srgbClr val="ffb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880" y="5486400"/>
                <a:ext cx="1771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ALBAN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BOSNIA AND HERZEGOVI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FYR MACEDON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SERBIA AND MONTENEGR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53" name=""/>
              <p:cNvGraphicFramePr/>
              <p:nvPr/>
            </p:nvGraphicFramePr>
            <p:xfrm>
              <a:off x="228600" y="6324480"/>
              <a:ext cx="1143000" cy="4572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4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28600" y="6324480"/>
                        <a:ext cx="11430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5" name=""/>
            <p:cNvSpPr/>
            <p:nvPr/>
          </p:nvSpPr>
          <p:spPr>
            <a:xfrm>
              <a:off x="79560" y="4724280"/>
              <a:ext cx="156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THEAST EUROP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TERPRIS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19320" y="6477120"/>
              <a:ext cx="182520" cy="156960"/>
            </a:xfrm>
            <a:prstGeom prst="ellipse">
              <a:avLst/>
            </a:prstGeom>
            <a:solidFill>
              <a:srgbClr val="ffc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320" y="5410080"/>
              <a:ext cx="1600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743200" y="1066680"/>
            <a:ext cx="4876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Southea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Europ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Enterprise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44956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Razvoj menad</a:t>
            </a:r>
            <a:r>
              <a:rPr b="1" lang="sr-Latn-CS" sz="4000" spc="-1" strike="noStrike">
                <a:solidFill>
                  <a:srgbClr val="ff9933"/>
                </a:solidFill>
                <a:latin typeface="Arial"/>
              </a:rPr>
              <a:t>žerskih sposobnosti u MS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8840" y="1523880"/>
            <a:ext cx="6899400" cy="4919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Značajne promene u poslovnom okružen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ompetitivni faktori se menjaju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Vlasnici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upravljaju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 M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Vrlo dobro poznavanje jednog ili više aspekata upravljanja preduzeć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cd3517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izvodnja / proizvo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/ usluge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cd3517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daja / nabav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cd3517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klapanje ugovor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Osnovni problem: shvatanje ili priznavanje realnih potreba preduzeć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Nedostatak ekspertize i poznavanja os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lih oblasti upravljanja preduzeć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55600"/>
            <a:ext cx="6864480" cy="1055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99"/>
                </a:solidFill>
                <a:latin typeface="Arial"/>
              </a:rPr>
              <a:t>Sadašnja situa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1774800" cy="6861240"/>
            <a:chOff x="0" y="0"/>
            <a:chExt cx="1774800" cy="6861240"/>
          </a:xfrm>
        </p:grpSpPr>
        <p:grpSp>
          <p:nvGrpSpPr>
            <p:cNvPr id="63" name=""/>
            <p:cNvGrpSpPr/>
            <p:nvPr/>
          </p:nvGrpSpPr>
          <p:grpSpPr>
            <a:xfrm>
              <a:off x="0" y="0"/>
              <a:ext cx="1774800" cy="6861240"/>
              <a:chOff x="0" y="0"/>
              <a:chExt cx="1774800" cy="6861240"/>
            </a:xfrm>
          </p:grpSpPr>
          <p:pic>
            <p:nvPicPr>
              <p:cNvPr id="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749600" cy="686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0" y="2209680"/>
                <a:ext cx="1736640" cy="4648320"/>
              </a:xfrm>
              <a:prstGeom prst="rect">
                <a:avLst/>
              </a:prstGeom>
              <a:solidFill>
                <a:srgbClr val="ffb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80" y="5486400"/>
                <a:ext cx="1771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ALBAN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BOSNIA AND HERZEGOVI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FYR MACEDON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SERBIA AND MONTENEGR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7" name=""/>
              <p:cNvGraphicFramePr/>
              <p:nvPr/>
            </p:nvGraphicFramePr>
            <p:xfrm>
              <a:off x="228600" y="6324480"/>
              <a:ext cx="1143000" cy="4572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28600" y="6324480"/>
                        <a:ext cx="11430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9" name=""/>
            <p:cNvSpPr/>
            <p:nvPr/>
          </p:nvSpPr>
          <p:spPr>
            <a:xfrm>
              <a:off x="79560" y="4724280"/>
              <a:ext cx="156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THEAST EUROP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TERPRIS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9320" y="6477120"/>
              <a:ext cx="182520" cy="156960"/>
            </a:xfrm>
            <a:prstGeom prst="ellipse">
              <a:avLst/>
            </a:prstGeom>
            <a:solidFill>
              <a:srgbClr val="ffc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320" y="5410080"/>
              <a:ext cx="1600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8840" y="1752480"/>
            <a:ext cx="6899400" cy="4719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Strateško planir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Upravljanje finans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rketing menad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žment</a:t>
            </a: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Arial"/>
              </a:rPr>
              <a:t>Praćenje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Upravljanje kadrovskim resurs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Upravljanje proizvodnjom /osnovnom delatnošnj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Kontrola kvali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lanir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Logis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Razumevanj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S-a /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internog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zve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šta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304920"/>
            <a:ext cx="6864480" cy="1218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Koje su to neophodne </a:t>
            </a:r>
            <a:r>
              <a:rPr b="1" lang="sr-Latn-CS" sz="3600" spc="-1" strike="noStrike">
                <a:solidFill>
                  <a:srgbClr val="000099"/>
                </a:solidFill>
                <a:latin typeface="Arial"/>
              </a:rPr>
              <a:t>menadžerske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ve</a:t>
            </a:r>
            <a:r>
              <a:rPr b="1" lang="sr-Latn-CS" sz="3600" spc="-1" strike="noStrike">
                <a:solidFill>
                  <a:srgbClr val="000099"/>
                </a:solidFill>
                <a:latin typeface="Arial"/>
              </a:rPr>
              <a:t>šti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0"/>
            <a:ext cx="1774800" cy="6861240"/>
            <a:chOff x="0" y="0"/>
            <a:chExt cx="1774800" cy="6861240"/>
          </a:xfrm>
        </p:grpSpPr>
        <p:grpSp>
          <p:nvGrpSpPr>
            <p:cNvPr id="75" name=""/>
            <p:cNvGrpSpPr/>
            <p:nvPr/>
          </p:nvGrpSpPr>
          <p:grpSpPr>
            <a:xfrm>
              <a:off x="0" y="0"/>
              <a:ext cx="1774800" cy="6861240"/>
              <a:chOff x="0" y="0"/>
              <a:chExt cx="1774800" cy="6861240"/>
            </a:xfrm>
          </p:grpSpPr>
          <p:pic>
            <p:nvPicPr>
              <p:cNvPr id="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749600" cy="686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0" y="2209680"/>
                <a:ext cx="1736640" cy="4648320"/>
              </a:xfrm>
              <a:prstGeom prst="rect">
                <a:avLst/>
              </a:prstGeom>
              <a:solidFill>
                <a:srgbClr val="ffb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80" y="5486400"/>
                <a:ext cx="1771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ALBAN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BOSNIA AND HERZEGOVI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FYR MACEDON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SERBIA AND MONTENEGR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9" name=""/>
              <p:cNvGraphicFramePr/>
              <p:nvPr/>
            </p:nvGraphicFramePr>
            <p:xfrm>
              <a:off x="228600" y="6324480"/>
              <a:ext cx="1143000" cy="4572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28600" y="6324480"/>
                        <a:ext cx="11430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1" name=""/>
            <p:cNvSpPr/>
            <p:nvPr/>
          </p:nvSpPr>
          <p:spPr>
            <a:xfrm>
              <a:off x="79560" y="4724280"/>
              <a:ext cx="156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THEAST EUROP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TERPRIS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19320" y="6477120"/>
              <a:ext cx="182520" cy="156960"/>
            </a:xfrm>
            <a:prstGeom prst="ellipse">
              <a:avLst/>
            </a:prstGeom>
            <a:solidFill>
              <a:srgbClr val="ffc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320" y="5410080"/>
              <a:ext cx="1600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00400" y="2608200"/>
            <a:ext cx="4343400" cy="58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Obuka za menadž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380880"/>
            <a:ext cx="6864480" cy="17416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99"/>
                </a:solidFill>
                <a:latin typeface="Arial"/>
              </a:rPr>
              <a:t>Kako p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remostiti </a:t>
            </a:r>
            <a:r>
              <a:rPr b="1" lang="sr-Latn-CS" sz="3600" spc="-1" strike="noStrike">
                <a:solidFill>
                  <a:srgbClr val="000099"/>
                </a:solidFill>
                <a:latin typeface="Arial"/>
              </a:rPr>
              <a:t>razlike između postojećih i neophodnih sposobnost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0"/>
            <a:ext cx="1774800" cy="6861240"/>
            <a:chOff x="0" y="0"/>
            <a:chExt cx="1774800" cy="6861240"/>
          </a:xfrm>
        </p:grpSpPr>
        <p:grpSp>
          <p:nvGrpSpPr>
            <p:cNvPr id="87" name=""/>
            <p:cNvGrpSpPr/>
            <p:nvPr/>
          </p:nvGrpSpPr>
          <p:grpSpPr>
            <a:xfrm>
              <a:off x="0" y="0"/>
              <a:ext cx="1774800" cy="6861240"/>
              <a:chOff x="0" y="0"/>
              <a:chExt cx="1774800" cy="6861240"/>
            </a:xfrm>
          </p:grpSpPr>
          <p:pic>
            <p:nvPicPr>
              <p:cNvPr id="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749600" cy="686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0" y="2209680"/>
                <a:ext cx="1736640" cy="4648320"/>
              </a:xfrm>
              <a:prstGeom prst="rect">
                <a:avLst/>
              </a:prstGeom>
              <a:solidFill>
                <a:srgbClr val="ffb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880" y="5486400"/>
                <a:ext cx="1771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ALBAN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BOSNIA AND HERZEGOVI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FYR MACEDON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SERBIA AND MONTENEGR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91" name=""/>
              <p:cNvGraphicFramePr/>
              <p:nvPr/>
            </p:nvGraphicFramePr>
            <p:xfrm>
              <a:off x="228600" y="6324480"/>
              <a:ext cx="1143000" cy="4572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28600" y="6324480"/>
                        <a:ext cx="11430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3" name=""/>
            <p:cNvSpPr/>
            <p:nvPr/>
          </p:nvSpPr>
          <p:spPr>
            <a:xfrm>
              <a:off x="79560" y="4724280"/>
              <a:ext cx="156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THEAST EUROP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TERPRIS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19320" y="6477120"/>
              <a:ext cx="182520" cy="156960"/>
            </a:xfrm>
            <a:prstGeom prst="ellipse">
              <a:avLst/>
            </a:prstGeom>
            <a:solidFill>
              <a:srgbClr val="ffc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320" y="5410080"/>
              <a:ext cx="1600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962520" y="3581280"/>
            <a:ext cx="2590560" cy="654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ns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4675320"/>
            <a:ext cx="6095880" cy="1564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Arial"/>
              </a:rPr>
              <a:t>Obuka organizovana u samim preduzećima sa fokusom na razvoj menadžerskih sposob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33720" y="1981080"/>
            <a:ext cx="6781680" cy="373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E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Arial"/>
              </a:rPr>
              <a:t>USAID finansirani program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EAR </a:t>
            </a:r>
            <a:r>
              <a:rPr b="0" lang="sr-Latn-CS" sz="2600" spc="-1" strike="noStrike">
                <a:solidFill>
                  <a:srgbClr val="000099"/>
                </a:solidFill>
                <a:latin typeface="Arial"/>
              </a:rPr>
              <a:t>centri za M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Arial"/>
              </a:rPr>
              <a:t>Obrazovne institucij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Arial"/>
              </a:rPr>
              <a:t>CID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I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Arial"/>
              </a:rPr>
              <a:t>Domaća konsultantska mrež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buClr>
                <a:srgbClr val="cd351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Arial"/>
              </a:rPr>
              <a:t>I druge opcije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468360"/>
            <a:ext cx="6864480" cy="1055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99"/>
                </a:solidFill>
                <a:latin typeface="Arial"/>
              </a:rPr>
              <a:t>Postojeća ponu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774800" cy="6861240"/>
            <a:chOff x="0" y="0"/>
            <a:chExt cx="1774800" cy="6861240"/>
          </a:xfrm>
        </p:grpSpPr>
        <p:grpSp>
          <p:nvGrpSpPr>
            <p:cNvPr id="101" name=""/>
            <p:cNvGrpSpPr/>
            <p:nvPr/>
          </p:nvGrpSpPr>
          <p:grpSpPr>
            <a:xfrm>
              <a:off x="0" y="0"/>
              <a:ext cx="1774800" cy="6861240"/>
              <a:chOff x="0" y="0"/>
              <a:chExt cx="1774800" cy="686124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749600" cy="686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0" y="2209680"/>
                <a:ext cx="1736640" cy="4648320"/>
              </a:xfrm>
              <a:prstGeom prst="rect">
                <a:avLst/>
              </a:prstGeom>
              <a:solidFill>
                <a:srgbClr val="ffb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80" y="5486400"/>
                <a:ext cx="1771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ALBAN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BOSNIA AND HERZEGOVI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FYR MACEDON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SERBIA AND MONTENEGR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5" name=""/>
              <p:cNvGraphicFramePr/>
              <p:nvPr/>
            </p:nvGraphicFramePr>
            <p:xfrm>
              <a:off x="228600" y="6324480"/>
              <a:ext cx="1143000" cy="4572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6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28600" y="6324480"/>
                        <a:ext cx="11430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7" name=""/>
            <p:cNvSpPr/>
            <p:nvPr/>
          </p:nvSpPr>
          <p:spPr>
            <a:xfrm>
              <a:off x="79560" y="4724280"/>
              <a:ext cx="156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THEAST EUROP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TERPRIS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19320" y="6477120"/>
              <a:ext cx="182520" cy="156960"/>
            </a:xfrm>
            <a:prstGeom prst="ellipse">
              <a:avLst/>
            </a:prstGeom>
            <a:solidFill>
              <a:srgbClr val="ffc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320" y="5410080"/>
              <a:ext cx="1600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1774800" cy="6861240"/>
            <a:chOff x="0" y="0"/>
            <a:chExt cx="1774800" cy="6861240"/>
          </a:xfrm>
        </p:grpSpPr>
        <p:grpSp>
          <p:nvGrpSpPr>
            <p:cNvPr id="111" name=""/>
            <p:cNvGrpSpPr/>
            <p:nvPr/>
          </p:nvGrpSpPr>
          <p:grpSpPr>
            <a:xfrm>
              <a:off x="0" y="0"/>
              <a:ext cx="1774800" cy="6861240"/>
              <a:chOff x="0" y="0"/>
              <a:chExt cx="1774800" cy="686124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749600" cy="686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2209680"/>
                <a:ext cx="1736640" cy="4648320"/>
              </a:xfrm>
              <a:prstGeom prst="rect">
                <a:avLst/>
              </a:prstGeom>
              <a:solidFill>
                <a:srgbClr val="ffb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80" y="5486400"/>
                <a:ext cx="1771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ALBAN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BOSNIA AND HERZEGOVI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FYR MACEDON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SERBIA AND MONTENEGR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5" name=""/>
              <p:cNvGraphicFramePr/>
              <p:nvPr/>
            </p:nvGraphicFramePr>
            <p:xfrm>
              <a:off x="228600" y="6324480"/>
              <a:ext cx="1143000" cy="4572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16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28600" y="6324480"/>
                        <a:ext cx="11430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17" name=""/>
            <p:cNvSpPr/>
            <p:nvPr/>
          </p:nvSpPr>
          <p:spPr>
            <a:xfrm>
              <a:off x="79560" y="4724280"/>
              <a:ext cx="156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THEAST EUROP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TERPRIS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6477120"/>
              <a:ext cx="182520" cy="156960"/>
            </a:xfrm>
            <a:prstGeom prst="ellipse">
              <a:avLst/>
            </a:prstGeom>
            <a:solidFill>
              <a:srgbClr val="ffc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320" y="5410080"/>
              <a:ext cx="1600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05120" y="304920"/>
            <a:ext cx="6931080" cy="914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99"/>
                </a:solidFill>
                <a:latin typeface="Arial"/>
              </a:rPr>
              <a:t>Aktivnosti SEED-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1551960"/>
            <a:ext cx="2090880" cy="489960"/>
          </a:xfrm>
          <a:prstGeom prst="rect">
            <a:avLst/>
          </a:prstGeom>
          <a:noFill/>
          <a:ln w="57240">
            <a:solidFill>
              <a:srgbClr val="cd3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3333ff"/>
                </a:solidFill>
                <a:latin typeface="Arial"/>
              </a:rPr>
              <a:t>Obuk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51240" y="1551960"/>
            <a:ext cx="2301840" cy="48996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3333ff"/>
                </a:solidFill>
                <a:latin typeface="Arial"/>
              </a:rPr>
              <a:t>Konsalting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1551240"/>
            <a:ext cx="2209680" cy="76428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3333ff"/>
                </a:solidFill>
                <a:latin typeface="Arial"/>
              </a:rPr>
              <a:t>Specijalni program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2214360"/>
            <a:ext cx="2074680" cy="299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Obuka za menadžment iz svih oblasti upravljanja poslovan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Obuka iz oblasti poslovnog poveziv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8880" y="2598840"/>
            <a:ext cx="2284200" cy="2533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3920" indent="-22392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Konsalting malih i srednjih preduzeć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Konsalting u okviru poslovnog poveziv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2590920"/>
            <a:ext cx="2222280" cy="253332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Razvoj fakultetskog kad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Unapređenje kapaciteta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doma</a:t>
            </a:r>
            <a:r>
              <a:rPr b="0" lang="sr-Latn-CS" sz="2000" spc="-1" strike="noStrike" u="sng">
                <a:solidFill>
                  <a:srgbClr val="000099"/>
                </a:solidFill>
                <a:uFillTx/>
                <a:latin typeface="Arial"/>
              </a:rPr>
              <a:t>će konsultantske industr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5943600"/>
            <a:ext cx="4381560" cy="414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 </a:t>
            </a:r>
            <a:r>
              <a:rPr b="0" lang="sr-Latn-CS" sz="21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oslovna udruženj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71720" y="5867280"/>
            <a:ext cx="4581360" cy="52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17600" y="1411200"/>
            <a:ext cx="6561360" cy="5294520"/>
          </a:xfrm>
          <a:prstGeom prst="rect">
            <a:avLst/>
          </a:prstGeom>
          <a:solidFill>
            <a:srgbClr val="ffffff"/>
          </a:solidFill>
          <a:ln cap="rnd" w="33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87520" y="2693880"/>
            <a:ext cx="257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4320" y="2509920"/>
            <a:ext cx="887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08480" y="6300720"/>
            <a:ext cx="1001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94360" y="6300720"/>
            <a:ext cx="12985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6162840"/>
            <a:ext cx="1423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09720" y="6253200"/>
            <a:ext cx="12193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0920" y="6033960"/>
            <a:ext cx="22446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97720" y="6213600"/>
            <a:ext cx="1423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32720" y="6103800"/>
            <a:ext cx="12189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6224760"/>
            <a:ext cx="6334200" cy="390240"/>
          </a:xfrm>
          <a:prstGeom prst="rect">
            <a:avLst/>
          </a:prstGeom>
          <a:noFill/>
          <a:ln cap="rnd" w="22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2400" y="6113520"/>
            <a:ext cx="12916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3333cc"/>
                </a:solidFill>
                <a:latin typeface="Arial"/>
              </a:rPr>
              <a:t>Direktna isporu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36760" y="6313320"/>
            <a:ext cx="6175440" cy="230400"/>
          </a:xfrm>
          <a:prstGeom prst="rect">
            <a:avLst/>
          </a:prstGeom>
          <a:solidFill>
            <a:srgbClr val="ffffcc"/>
          </a:solidFill>
          <a:ln w="11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Verdana"/>
              </a:rPr>
              <a:t>Konsalting usluge u oblasti poslovnog povezivan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311560" y="1503360"/>
            <a:ext cx="6333840" cy="514440"/>
            <a:chOff x="2311560" y="1503360"/>
            <a:chExt cx="6333840" cy="514440"/>
          </a:xfrm>
        </p:grpSpPr>
        <p:sp>
          <p:nvSpPr>
            <p:cNvPr id="143" name=""/>
            <p:cNvSpPr/>
            <p:nvPr/>
          </p:nvSpPr>
          <p:spPr>
            <a:xfrm>
              <a:off x="2311560" y="1627200"/>
              <a:ext cx="6333840" cy="390600"/>
            </a:xfrm>
            <a:prstGeom prst="rect">
              <a:avLst/>
            </a:prstGeom>
            <a:noFill/>
            <a:ln cap="rnd"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04640" y="1503360"/>
              <a:ext cx="6040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cc99"/>
                  </a:solidFill>
                  <a:latin typeface="Arial"/>
                </a:rPr>
                <a:t>Proc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61960" y="1716120"/>
              <a:ext cx="6175080" cy="2300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Verdana"/>
                </a:rPr>
                <a:t>Logistički lanac </a:t>
              </a: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/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Verdana"/>
                </a:rPr>
                <a:t> Procena informacione tehnologi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059360" y="2138400"/>
            <a:ext cx="2854080" cy="122544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2319480" y="3441600"/>
            <a:ext cx="6298920" cy="2610000"/>
            <a:chOff x="2319480" y="3441600"/>
            <a:chExt cx="6298920" cy="2610000"/>
          </a:xfrm>
        </p:grpSpPr>
        <p:sp>
          <p:nvSpPr>
            <p:cNvPr id="148" name=""/>
            <p:cNvSpPr/>
            <p:nvPr/>
          </p:nvSpPr>
          <p:spPr>
            <a:xfrm>
              <a:off x="3716280" y="3441600"/>
              <a:ext cx="3230640" cy="171720"/>
            </a:xfrm>
            <a:custGeom>
              <a:avLst/>
              <a:gdLst/>
              <a:ahLst/>
              <a:rect l="l" t="t" r="r" b="b"/>
              <a:pathLst>
                <a:path w="1507" h="84">
                  <a:moveTo>
                    <a:pt x="753" y="84"/>
                  </a:moveTo>
                  <a:lnTo>
                    <a:pt x="0" y="0"/>
                  </a:lnTo>
                  <a:lnTo>
                    <a:pt x="1507" y="0"/>
                  </a:lnTo>
                  <a:lnTo>
                    <a:pt x="753" y="84"/>
                  </a:lnTo>
                  <a:close/>
                </a:path>
              </a:pathLst>
            </a:custGeom>
            <a:solidFill>
              <a:srgbClr val="ccccff"/>
            </a:solidFill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1120" y="5557680"/>
              <a:ext cx="706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0920" y="5557680"/>
              <a:ext cx="1014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1120" y="5557680"/>
              <a:ext cx="706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00920" y="5557680"/>
              <a:ext cx="1014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19480" y="3755880"/>
              <a:ext cx="6298920" cy="2046600"/>
            </a:xfrm>
            <a:prstGeom prst="rect">
              <a:avLst/>
            </a:prstGeom>
            <a:noFill/>
            <a:ln cap="rnd" w="22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57760" y="3949560"/>
              <a:ext cx="141768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14840" y="5052960"/>
              <a:ext cx="1868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44920" y="4579920"/>
              <a:ext cx="22208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56080" y="5184720"/>
              <a:ext cx="22557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35640" y="4156200"/>
              <a:ext cx="20383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36800" y="3894120"/>
              <a:ext cx="1492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89040" y="3905280"/>
              <a:ext cx="15145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82160" y="3870360"/>
              <a:ext cx="118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Kako biti kvalitetan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57640" y="4087800"/>
              <a:ext cx="684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56920" y="405144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dobavljač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92600" y="4162320"/>
              <a:ext cx="9460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1880" y="4151160"/>
              <a:ext cx="12067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86280" y="4148280"/>
              <a:ext cx="55872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49480" y="4135320"/>
              <a:ext cx="8431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92600" y="4451400"/>
              <a:ext cx="9223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04080" y="3878280"/>
              <a:ext cx="1492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61320" y="3878280"/>
              <a:ext cx="15145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61320" y="38894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45360" y="4071960"/>
              <a:ext cx="900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45000" y="4083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67640" y="4714920"/>
              <a:ext cx="16858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05560" y="4978440"/>
              <a:ext cx="4446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11880" y="4915080"/>
              <a:ext cx="69372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29360" y="5194440"/>
              <a:ext cx="11383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92920" y="5205240"/>
              <a:ext cx="14572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87680" y="5184720"/>
              <a:ext cx="23576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30640" y="5418000"/>
              <a:ext cx="111600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36800" y="3894120"/>
              <a:ext cx="1492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89040" y="4000680"/>
              <a:ext cx="151452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57640" y="4087800"/>
              <a:ext cx="684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92600" y="4162320"/>
              <a:ext cx="9460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01880" y="4151160"/>
              <a:ext cx="12067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86280" y="4148280"/>
              <a:ext cx="55872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49480" y="4135320"/>
              <a:ext cx="8431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04080" y="3878280"/>
              <a:ext cx="1492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61320" y="3878280"/>
              <a:ext cx="15145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60960" y="3889440"/>
              <a:ext cx="957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Kako biti dob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distributer?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45360" y="4071960"/>
              <a:ext cx="900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45000" y="4083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05560" y="4978440"/>
              <a:ext cx="4446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11880" y="4915080"/>
              <a:ext cx="69372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63720" y="5365800"/>
              <a:ext cx="15717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09880" y="5040360"/>
              <a:ext cx="1162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73440" y="5040360"/>
              <a:ext cx="13906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8480" y="4749840"/>
              <a:ext cx="7063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78280" y="4749840"/>
              <a:ext cx="10141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63720" y="5365800"/>
              <a:ext cx="15717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09880" y="5040360"/>
              <a:ext cx="1162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73440" y="5040360"/>
              <a:ext cx="13906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38480" y="4749840"/>
              <a:ext cx="7063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78280" y="4749840"/>
              <a:ext cx="10141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96960" y="3846600"/>
              <a:ext cx="1962360" cy="18889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04120" y="3848040"/>
              <a:ext cx="1962000" cy="1886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6000" y="3884760"/>
              <a:ext cx="1744560" cy="18507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84760" y="3900600"/>
              <a:ext cx="1498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000000"/>
                  </a:solidFill>
                  <a:latin typeface="Arial"/>
                </a:rPr>
                <a:t>Kako biti kvalitetna velika kompanija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60680" y="4603680"/>
              <a:ext cx="947880" cy="2746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63320" y="3665520"/>
              <a:ext cx="4762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ff3300"/>
                  </a:solidFill>
                  <a:latin typeface="Arial"/>
                </a:rPr>
                <a:t>Obu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60680" y="4246560"/>
              <a:ext cx="947880" cy="3016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60680" y="4935600"/>
              <a:ext cx="947880" cy="277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73440" y="467676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Proizvedi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40040" y="430380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Naba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3080" y="4808520"/>
              <a:ext cx="939960" cy="436680"/>
            </a:xfrm>
            <a:prstGeom prst="rect">
              <a:avLst/>
            </a:prstGeom>
            <a:solidFill>
              <a:srgbClr val="ffcc00"/>
            </a:solidFill>
            <a:ln w="11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53080" y="4284720"/>
              <a:ext cx="939960" cy="449280"/>
            </a:xfrm>
            <a:prstGeom prst="rect">
              <a:avLst/>
            </a:prstGeom>
            <a:solidFill>
              <a:srgbClr val="ffcc00"/>
            </a:solidFill>
            <a:ln w="11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37400" y="444348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94480" y="4795920"/>
              <a:ext cx="884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Služba prodaje i odnosi sa kupci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49600" y="4983120"/>
              <a:ext cx="85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spuni zahteve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36920" y="5316480"/>
              <a:ext cx="1854000" cy="345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37640" y="5416560"/>
              <a:ext cx="184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Strategije poslovnog povezivan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10240" y="4656240"/>
              <a:ext cx="1590480" cy="258840"/>
            </a:xfrm>
            <a:prstGeom prst="rect">
              <a:avLst/>
            </a:prstGeom>
            <a:solidFill>
              <a:srgbClr val="9999ff"/>
            </a:solidFill>
            <a:ln w="11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97280" y="4976640"/>
              <a:ext cx="1590840" cy="309600"/>
            </a:xfrm>
            <a:prstGeom prst="rect">
              <a:avLst/>
            </a:prstGeom>
            <a:solidFill>
              <a:srgbClr val="9999ff"/>
            </a:solidFill>
            <a:ln w="11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99080" y="5340240"/>
              <a:ext cx="1590480" cy="322200"/>
            </a:xfrm>
            <a:prstGeom prst="rect">
              <a:avLst/>
            </a:prstGeom>
            <a:solidFill>
              <a:srgbClr val="9999ff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57760" y="4991040"/>
              <a:ext cx="14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Viškovi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prekvalifikaci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12920" y="4710240"/>
              <a:ext cx="1137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Nove poslovne ide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74040" y="5351400"/>
              <a:ext cx="118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zrada biznis plano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19600" y="4300560"/>
              <a:ext cx="1590840" cy="297000"/>
            </a:xfrm>
            <a:prstGeom prst="rect">
              <a:avLst/>
            </a:prstGeom>
            <a:solidFill>
              <a:srgbClr val="9999ff"/>
            </a:solidFill>
            <a:ln w="11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92760" y="4400640"/>
              <a:ext cx="126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pin Off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05280" y="4233960"/>
              <a:ext cx="393480" cy="985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6200000">
              <a:off x="2760840" y="4568400"/>
              <a:ext cx="917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Pregled posl. povezivan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50200" y="5316480"/>
              <a:ext cx="1854000" cy="345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0920" y="5429160"/>
              <a:ext cx="184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Strategije poslovnog povezivan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45160" y="5892840"/>
              <a:ext cx="1350720" cy="158760"/>
            </a:xfrm>
            <a:custGeom>
              <a:avLst/>
              <a:gdLst/>
              <a:ahLst/>
              <a:rect l="l" t="t" r="r" b="b"/>
              <a:pathLst>
                <a:path w="1507" h="84">
                  <a:moveTo>
                    <a:pt x="753" y="84"/>
                  </a:moveTo>
                  <a:lnTo>
                    <a:pt x="0" y="0"/>
                  </a:lnTo>
                  <a:lnTo>
                    <a:pt x="1507" y="0"/>
                  </a:lnTo>
                  <a:lnTo>
                    <a:pt x="753" y="84"/>
                  </a:lnTo>
                  <a:close/>
                </a:path>
              </a:pathLst>
            </a:custGeom>
            <a:solidFill>
              <a:srgbClr val="ccccff"/>
            </a:solidFill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48080" y="4221000"/>
              <a:ext cx="393480" cy="986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6200000">
              <a:off x="2303640" y="4555800"/>
              <a:ext cx="917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Pregled logistič. lanca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013600" y="4284720"/>
              <a:ext cx="393840" cy="985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7769160" y="4615920"/>
              <a:ext cx="917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Pregled posl. povezivan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56400" y="4272120"/>
              <a:ext cx="393840" cy="985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7308720" y="4603320"/>
              <a:ext cx="917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Pregled logistič. lanca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0" y="0"/>
            <a:ext cx="1774800" cy="6861240"/>
            <a:chOff x="0" y="0"/>
            <a:chExt cx="1774800" cy="6861240"/>
          </a:xfrm>
        </p:grpSpPr>
        <p:grpSp>
          <p:nvGrpSpPr>
            <p:cNvPr id="242" name=""/>
            <p:cNvGrpSpPr/>
            <p:nvPr/>
          </p:nvGrpSpPr>
          <p:grpSpPr>
            <a:xfrm>
              <a:off x="0" y="0"/>
              <a:ext cx="1774800" cy="6861240"/>
              <a:chOff x="0" y="0"/>
              <a:chExt cx="1774800" cy="6861240"/>
            </a:xfrm>
          </p:grpSpPr>
          <p:pic>
            <p:nvPicPr>
              <p:cNvPr id="24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749600" cy="686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0" y="2209680"/>
                <a:ext cx="1736640" cy="4648320"/>
              </a:xfrm>
              <a:prstGeom prst="rect">
                <a:avLst/>
              </a:prstGeom>
              <a:solidFill>
                <a:srgbClr val="ffb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880" y="5486400"/>
                <a:ext cx="1771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ALBAN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BOSNIA AND HERZEGOVI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FYR MACEDON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eaeaea"/>
                    </a:solidFill>
                    <a:latin typeface="Arial"/>
                  </a:rPr>
                  <a:t>SERBIA AND MONTENEGR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46" name=""/>
              <p:cNvGraphicFramePr/>
              <p:nvPr/>
            </p:nvGraphicFramePr>
            <p:xfrm>
              <a:off x="228600" y="6324480"/>
              <a:ext cx="1143000" cy="457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6324480"/>
                        <a:ext cx="11430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48" name=""/>
            <p:cNvSpPr/>
            <p:nvPr/>
          </p:nvSpPr>
          <p:spPr>
            <a:xfrm>
              <a:off x="79560" y="4724280"/>
              <a:ext cx="156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THEAST EUROP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TERPRIS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19320" y="6477120"/>
              <a:ext cx="182520" cy="156960"/>
            </a:xfrm>
            <a:prstGeom prst="ellipse">
              <a:avLst/>
            </a:prstGeom>
            <a:solidFill>
              <a:srgbClr val="ffc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20" y="5410080"/>
              <a:ext cx="1600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057400" y="304920"/>
            <a:ext cx="6931080" cy="914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99"/>
                </a:solidFill>
                <a:latin typeface="Arial"/>
              </a:rPr>
              <a:t>Program poslovnog povezivanj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08:30:09Z</dcterms:created>
  <dc:creator>MVukadinovic</dc:creator>
  <dc:description/>
  <dc:language>en-US</dc:language>
  <cp:lastModifiedBy>Bojan</cp:lastModifiedBy>
  <dcterms:modified xsi:type="dcterms:W3CDTF">2003-10-17T12:51:48Z</dcterms:modified>
  <cp:revision>14</cp:revision>
  <dc:subject/>
  <dc:title>PowerPoint Presentation</dc:title>
</cp:coreProperties>
</file>