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4F87-075C-4A7C-AA99-428C5459B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78B4-C7A9-4BB6-B767-D5DF0BE3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0913-989C-4DA6-841F-E4F0BCD86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4C70-BA6B-44CA-9469-CD10C398B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383F-2C8D-4D15-884C-EAD4ADE48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0B87B-3524-425D-AEE1-98BC2C48F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F67F-9477-4D5E-9ADB-118C79EA7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0879-9DD5-4EF7-BF26-29524A66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8CD9-6951-4039-B478-FACDD1771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660D3-9B03-44AF-AB64-D322D3C7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ED3F2-6723-47C8-9B48-E73A38D0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7F1F-F0EE-4C1C-AF03-6AA3B533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FC4BD-0105-40BA-9316-20BECAB2A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D72E-0714-4DDD-B988-873E34625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AFF1-CAA9-47E9-8F38-8D6E101B9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E6851-B96A-4AAE-B68C-DDFA38F9B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67F3F-F2F4-4805-B8B3-17DD89659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F4B6-27CD-45F5-A13C-76CC97D1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DBCC2-3DB9-4EF2-A72B-B867AECB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54F93-81FC-404A-87D7-59DEF2C61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B5E3-5EF4-4A5B-9B07-405562FB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709B-945F-463A-803B-E27D3007C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60F5-4DC3-4893-B9F2-A9828916E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7CBCC-F400-405A-A53A-39CBC49F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2C179B-EFFD-408F-A5EE-B6481CFB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F547BD-5CB4-4C0E-A873-BFC847BE5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0CFF2-276E-4E15-9D1E-4204631E0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CC0081-87B6-4348-A868-C9A3EFA7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D761B-694F-4542-A49B-DCD57300B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AC68-C2EF-46B8-968C-9CFB95310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EC1A-E9DA-4BAE-8060-C5682D59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9D85-5888-4815-A40A-B09DAADE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8CD96-D900-49E9-80B7-CADA5A5F3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F2D9-7AA9-46BB-AC6E-B794ABEB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C272-864B-48C6-936F-FA234F8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659B-F4D3-4247-AAC6-C2B096E5B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120" y="1676520"/>
            <a:ext cx="7086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120" y="2819520"/>
            <a:ext cx="7086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199880" indent="-171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F85CB-0F41-4364-BD2A-1C3B35DF93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962840" y="228600"/>
            <a:ext cx="0" cy="1523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D6C6F-E548-4BEA-BE9E-F387C078C3C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5921280"/>
            <a:ext cx="2666880" cy="93672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8077320" y="152280"/>
            <a:ext cx="914040" cy="1447560"/>
            <a:chOff x="8077320" y="152280"/>
            <a:chExt cx="914040" cy="1447560"/>
          </a:xfrm>
        </p:grpSpPr>
        <p:sp>
          <p:nvSpPr>
            <p:cNvPr id="50" name=""/>
            <p:cNvSpPr/>
            <p:nvPr/>
          </p:nvSpPr>
          <p:spPr>
            <a:xfrm>
              <a:off x="8077320" y="152280"/>
              <a:ext cx="137520" cy="1332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271360" y="15228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65400" y="15228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077320" y="34020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71360" y="340200"/>
              <a:ext cx="137520" cy="1332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65400" y="34020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9440" y="340200"/>
              <a:ext cx="137520" cy="1332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77320" y="528120"/>
              <a:ext cx="137520" cy="133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271360" y="528120"/>
              <a:ext cx="137520" cy="1332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65400" y="528120"/>
              <a:ext cx="137520" cy="133200"/>
            </a:xfrm>
            <a:prstGeom prst="ellipse">
              <a:avLst/>
            </a:prstGeom>
            <a:solidFill>
              <a:srgbClr val="db060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9440" y="52812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53840" y="52812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077320" y="714960"/>
              <a:ext cx="137520" cy="134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271360" y="714960"/>
              <a:ext cx="137520" cy="134280"/>
            </a:xfrm>
            <a:prstGeom prst="ellipse">
              <a:avLst/>
            </a:prstGeom>
            <a:solidFill>
              <a:srgbClr val="db06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65400" y="714960"/>
              <a:ext cx="137520" cy="13428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59440" y="714960"/>
              <a:ext cx="137520" cy="134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77320" y="902880"/>
              <a:ext cx="137520" cy="13428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271360" y="902880"/>
              <a:ext cx="137520" cy="13428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65400" y="902880"/>
              <a:ext cx="137520" cy="13428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9440" y="902880"/>
              <a:ext cx="137520" cy="13428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53840" y="902880"/>
              <a:ext cx="137520" cy="1342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077320" y="109116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271360" y="1091160"/>
              <a:ext cx="137520" cy="1332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65400" y="1091160"/>
              <a:ext cx="137520" cy="1332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59440" y="109116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77320" y="127908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271360" y="1279080"/>
              <a:ext cx="137520" cy="1332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65400" y="1279080"/>
              <a:ext cx="137520" cy="133200"/>
            </a:xfrm>
            <a:prstGeom prst="ellipse">
              <a:avLst/>
            </a:prstGeom>
            <a:solidFill>
              <a:srgbClr val="d8d8e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9440" y="127908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271360" y="1466640"/>
              <a:ext cx="137520" cy="1332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59440" y="1466640"/>
              <a:ext cx="137520" cy="133200"/>
            </a:xfrm>
            <a:prstGeom prst="ellipse">
              <a:avLst/>
            </a:prstGeom>
            <a:solidFill>
              <a:srgbClr val="d8d8e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 flipH="1">
            <a:off x="228600" y="1676520"/>
            <a:ext cx="87631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0"/>
            <a:ext cx="7848720" cy="1600200"/>
          </a:xfrm>
          <a:prstGeom prst="rect">
            <a:avLst/>
          </a:prstGeom>
          <a:solidFill>
            <a:srgbClr val="6699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320"/>
            <a:ext cx="9144000" cy="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315200" y="228600"/>
            <a:ext cx="0" cy="5334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DA932-ED8E-4CC9-B5F3-4A5C37CC5B5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7467480" y="2971800"/>
            <a:ext cx="1338480" cy="2189160"/>
            <a:chOff x="7467480" y="2971800"/>
            <a:chExt cx="1338480" cy="2189160"/>
          </a:xfrm>
        </p:grpSpPr>
        <p:sp>
          <p:nvSpPr>
            <p:cNvPr id="126" name=""/>
            <p:cNvSpPr/>
            <p:nvPr/>
          </p:nvSpPr>
          <p:spPr>
            <a:xfrm>
              <a:off x="7467480" y="2971800"/>
              <a:ext cx="201600" cy="2016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51880" y="29718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35920" y="29718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467480" y="32562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51880" y="3256200"/>
              <a:ext cx="201600" cy="201600"/>
            </a:xfrm>
            <a:prstGeom prst="ellipse">
              <a:avLst/>
            </a:prstGeom>
            <a:solidFill>
              <a:srgbClr val="ff000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035920" y="325620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319960" y="3256200"/>
              <a:ext cx="201600" cy="2016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467480" y="3540240"/>
              <a:ext cx="201600" cy="201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751880" y="3540240"/>
              <a:ext cx="201600" cy="201600"/>
            </a:xfrm>
            <a:prstGeom prst="ellipse">
              <a:avLst/>
            </a:prstGeom>
            <a:solidFill>
              <a:srgbClr val="ff000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35920" y="3540240"/>
              <a:ext cx="201600" cy="201600"/>
            </a:xfrm>
            <a:prstGeom prst="ellipse">
              <a:avLst/>
            </a:prstGeom>
            <a:solidFill>
              <a:srgbClr val="db0601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19960" y="354024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604360" y="354024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467480" y="3822840"/>
              <a:ext cx="201600" cy="203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751880" y="3822840"/>
              <a:ext cx="201600" cy="203040"/>
            </a:xfrm>
            <a:prstGeom prst="ellipse">
              <a:avLst/>
            </a:prstGeom>
            <a:solidFill>
              <a:srgbClr val="db060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035920" y="3822840"/>
              <a:ext cx="201600" cy="20304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19960" y="3822840"/>
              <a:ext cx="201600" cy="20304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67480" y="4106880"/>
              <a:ext cx="201600" cy="203400"/>
            </a:xfrm>
            <a:prstGeom prst="ellipse">
              <a:avLst/>
            </a:prstGeom>
            <a:solidFill>
              <a:srgbClr val="db06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51880" y="4106880"/>
              <a:ext cx="201600" cy="2034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035920" y="4106880"/>
              <a:ext cx="201600" cy="2034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319960" y="4106880"/>
              <a:ext cx="201600" cy="2034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604360" y="4106880"/>
              <a:ext cx="20160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467480" y="439128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751880" y="4391280"/>
              <a:ext cx="201600" cy="201600"/>
            </a:xfrm>
            <a:prstGeom prst="ellipse">
              <a:avLst/>
            </a:prstGeom>
            <a:solidFill>
              <a:srgbClr val="00006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035920" y="4391280"/>
              <a:ext cx="201600" cy="201600"/>
            </a:xfrm>
            <a:prstGeom prst="ellipse">
              <a:avLst/>
            </a:prstGeom>
            <a:solidFill>
              <a:srgbClr val="000066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19960" y="439128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67480" y="467532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51880" y="4675320"/>
              <a:ext cx="201600" cy="201600"/>
            </a:xfrm>
            <a:prstGeom prst="ellipse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035920" y="4675320"/>
              <a:ext cx="201600" cy="201600"/>
            </a:xfrm>
            <a:prstGeom prst="ellipse">
              <a:avLst/>
            </a:prstGeom>
            <a:solidFill>
              <a:srgbClr val="d8d8e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319960" y="467532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51880" y="4959360"/>
              <a:ext cx="20160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19960" y="4959360"/>
              <a:ext cx="201600" cy="201600"/>
            </a:xfrm>
            <a:prstGeom prst="ellipse">
              <a:avLst/>
            </a:prstGeom>
            <a:solidFill>
              <a:srgbClr val="d8d8e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04920"/>
            <a:ext cx="9144000" cy="2514600"/>
          </a:xfrm>
          <a:prstGeom prst="rect">
            <a:avLst/>
          </a:prstGeom>
          <a:solidFill>
            <a:srgbClr val="6699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457200"/>
            <a:ext cx="9144000" cy="0"/>
          </a:xfrm>
          <a:prstGeom prst="line">
            <a:avLst/>
          </a:prstGeom>
          <a:ln w="76320">
            <a:solidFill>
              <a:srgbClr val="66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5969160"/>
            <a:ext cx="2590920" cy="88884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office@siepa.sr.gov.yu" TargetMode="External"/><Relationship Id="rId2" Type="http://schemas.openxmlformats.org/officeDocument/2006/relationships/hyperlink" Target="http://www.siepa.sr.gov.yu/" TargetMode="External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siepa.sr.gov.yu/" TargetMode="Externa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240" y="533160"/>
            <a:ext cx="7086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ПРОМОЦИЈА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  <a:ea typeface="Andalus"/>
              </a:rPr>
              <a:t> 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ИЗВОЗА</a:t>
            </a:r>
            <a:br>
              <a:rPr sz="4400"/>
            </a:b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РЕПУБЛИКЕ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  <a:ea typeface="Andalus"/>
              </a:rPr>
              <a:t> </a:t>
            </a:r>
            <a:r>
              <a:rPr b="1" lang="sr-CS" sz="4400" spc="-1" strike="noStrike">
                <a:solidFill>
                  <a:srgbClr val="330066"/>
                </a:solidFill>
                <a:latin typeface="Garamond"/>
              </a:rPr>
              <a:t>СРБИЈЕ</a:t>
            </a:r>
            <a:endParaRPr b="1" lang="en-US" sz="44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304560" y="19807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Bookman Old Style"/>
              </a:rPr>
              <a:t>A</a:t>
            </a:r>
            <a:r>
              <a:rPr b="0" lang="sr-CS" sz="2600" spc="-1" strike="noStrike">
                <a:solidFill>
                  <a:srgbClr val="808080"/>
                </a:solidFill>
                <a:latin typeface="Bookman Old Style"/>
              </a:rPr>
              <a:t>генција за улагања и промоцију извоз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981080" y="4836960"/>
            <a:ext cx="3505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42280" y="6019920"/>
            <a:ext cx="294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330066"/>
                </a:solidFill>
                <a:latin typeface="Arial"/>
              </a:rPr>
              <a:t>Мр Ирена Пос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9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ЗАХВАЉУЈЕМО СЕ НА ПАЖЊ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0010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Агенција за улагања и промоцију извоза </a:t>
            </a:r>
            <a:r>
              <a:rPr b="1" lang="en-US" sz="3000" spc="-1" strike="noStrike">
                <a:solidFill>
                  <a:srgbClr val="003399"/>
                </a:solidFill>
                <a:latin typeface="Arial"/>
              </a:rPr>
              <a:t>SIEPA</a:t>
            </a:r>
            <a:br>
              <a:rPr sz="3000"/>
            </a:b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Тел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: +381 11 3248 040</a:t>
            </a:r>
            <a:br>
              <a:rPr sz="3000"/>
            </a:br>
            <a:r>
              <a:rPr b="0" lang="sr-CS" sz="3000" spc="-1" strike="noStrike">
                <a:solidFill>
                  <a:srgbClr val="003399"/>
                </a:solidFill>
                <a:latin typeface="Arial"/>
              </a:rPr>
              <a:t>Факс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: +381 11 3248 227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e-mail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office@siepa.sr.gov.yu</a:t>
            </a: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 </a:t>
            </a:r>
            <a:br>
              <a:rPr sz="3000"/>
            </a:br>
            <a:r>
              <a:rPr b="0" lang="en-US" sz="3000" spc="-1" strike="noStrike">
                <a:solidFill>
                  <a:srgbClr val="003399"/>
                </a:solidFill>
                <a:latin typeface="Arial"/>
              </a:rPr>
              <a:t>Web: </a:t>
            </a:r>
            <a:r>
              <a:rPr b="0" lang="en-US" sz="3000" spc="-1" strike="noStrike" u="sng">
                <a:solidFill>
                  <a:srgbClr val="7e9ce8"/>
                </a:solidFill>
                <a:uFillTx/>
                <a:latin typeface="Arial"/>
                <a:hlinkClick r:id="rId2"/>
              </a:rPr>
              <a:t>www.siepa.sr.gov.y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ромоција инвестиционих могућ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одршка инвеститор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ромоција извозних потенцијала Срб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Подизање конкуретности предуз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777777"/>
                </a:solidFill>
                <a:latin typeface="Arial"/>
              </a:rPr>
              <a:t>База инвестиционих и извозних пројеката</a:t>
            </a:r>
            <a:r>
              <a:rPr b="0" lang="sl-SI" sz="30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9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0066"/>
                </a:solidFill>
                <a:latin typeface="Bookman Old Style"/>
              </a:rPr>
              <a:t>A</a:t>
            </a:r>
            <a:r>
              <a:rPr b="0" lang="sr-CS" sz="3600" spc="-1" strike="noStrike">
                <a:solidFill>
                  <a:srgbClr val="330066"/>
                </a:solidFill>
                <a:latin typeface="Bookman Old Style"/>
              </a:rPr>
              <a:t>генција за улагања и промоцију извоза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ОРГАНИЗАЦИОНА </a:t>
            </a:r>
            <a:br>
              <a:rPr sz="3600"/>
            </a:br>
            <a:r>
              <a:rPr b="0" lang="sr-CS" sz="3600" spc="-1" strike="noStrike">
                <a:solidFill>
                  <a:srgbClr val="330066"/>
                </a:solidFill>
                <a:latin typeface="Arial"/>
              </a:rPr>
              <a:t>СТРУКТУР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28600" y="1828800"/>
            <a:ext cx="8537040" cy="4121280"/>
            <a:chOff x="228600" y="1828800"/>
            <a:chExt cx="8537040" cy="4121280"/>
          </a:xfrm>
        </p:grpSpPr>
        <p:cxnSp>
          <p:nvCxnSpPr>
            <p:cNvPr id="206" name="_s22539"/>
            <p:cNvCxnSpPr/>
            <p:nvPr/>
          </p:nvCxnSpPr>
          <p:spPr>
            <a:xfrm flipH="1" flipV="1" rot="5400000">
              <a:off x="2946600" y="1090440"/>
              <a:ext cx="146880" cy="2993760"/>
            </a:xfrm>
            <a:prstGeom prst="bentConnector3">
              <a:avLst>
                <a:gd name="adj1" fmla="val 4987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07" name="_s22537"/>
            <p:cNvCxnSpPr>
              <a:stCxn id="208" idx="0"/>
              <a:endCxn id="209" idx="2"/>
            </p:cNvCxnSpPr>
            <p:nvPr/>
          </p:nvCxnSpPr>
          <p:spPr>
            <a:xfrm flipV="1" rot="16200000">
              <a:off x="5919120" y="1093680"/>
              <a:ext cx="146880" cy="2986920"/>
            </a:xfrm>
            <a:prstGeom prst="bentConnector3">
              <a:avLst>
                <a:gd name="adj1" fmla="val 49877"/>
              </a:avLst>
            </a:prstGeom>
            <a:ln w="28440">
              <a:solidFill>
                <a:srgbClr val="808080"/>
              </a:solidFill>
              <a:miter/>
            </a:ln>
          </p:spPr>
        </p:cxnSp>
        <p:cxnSp>
          <p:nvCxnSpPr>
            <p:cNvPr id="210" name="_s22538"/>
            <p:cNvCxnSpPr>
              <a:stCxn id="211" idx="0"/>
              <a:endCxn id="209" idx="2"/>
            </p:cNvCxnSpPr>
            <p:nvPr/>
          </p:nvCxnSpPr>
          <p:spPr>
            <a:xfrm flipH="1" flipV="1" rot="5400000">
              <a:off x="4153680" y="2854080"/>
              <a:ext cx="686160" cy="5400"/>
            </a:xfrm>
            <a:prstGeom prst="bentConnector3">
              <a:avLst>
                <a:gd name="adj1" fmla="val 16640"/>
              </a:avLst>
            </a:prstGeom>
            <a:ln w="28440">
              <a:solidFill>
                <a:srgbClr val="808080"/>
              </a:solidFill>
              <a:miter/>
            </a:ln>
          </p:spPr>
        </p:cxnSp>
        <p:sp>
          <p:nvSpPr>
            <p:cNvPr id="209" name="_s22540"/>
            <p:cNvSpPr/>
            <p:nvPr/>
          </p:nvSpPr>
          <p:spPr>
            <a:xfrm>
              <a:off x="3429000" y="1828800"/>
              <a:ext cx="2138760" cy="685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330066"/>
                  </a:solidFill>
                  <a:latin typeface="Arial"/>
                </a:rPr>
                <a:t>ДИРЕКТО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22541"/>
            <p:cNvSpPr/>
            <p:nvPr/>
          </p:nvSpPr>
          <p:spPr>
            <a:xfrm>
              <a:off x="228600" y="2660760"/>
              <a:ext cx="2559960" cy="3129480"/>
            </a:xfrm>
            <a:custGeom>
              <a:avLst/>
              <a:gdLst>
                <a:gd name="textAreaLeft" fmla="*/ 124920 w 2559960"/>
                <a:gd name="textAreaRight" fmla="*/ 2435040 w 2559960"/>
                <a:gd name="textAreaTop" fmla="*/ 124920 h 3129480"/>
                <a:gd name="textAreaBottom" fmla="*/ 3004560 h 3129480"/>
              </a:gdLst>
              <a:ahLst/>
              <a:rect l="textAreaLeft" t="textAreaTop" r="textAreaRight" b="textAreaBottom"/>
              <a:pathLst>
                <a:path w="21600" h="26405">
                  <a:moveTo>
                    <a:pt x="3600" y="0"/>
                  </a:moveTo>
                  <a:arcTo wR="3600" hR="3600" stAng="16200000" swAng="-5400000"/>
                  <a:lnTo>
                    <a:pt x="0" y="22805"/>
                  </a:lnTo>
                  <a:arcTo wR="3600" hR="3600" stAng="10800000" swAng="-5400000"/>
                  <a:lnTo>
                    <a:pt x="18000" y="26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 anchorCtr="1">
              <a:noAutofit/>
            </a:bodyPr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ПОДРШК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НВЕСТИТОРИ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22542"/>
            <p:cNvSpPr/>
            <p:nvPr/>
          </p:nvSpPr>
          <p:spPr>
            <a:xfrm>
              <a:off x="3047040" y="3200040"/>
              <a:ext cx="2897640" cy="27500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МАРКЕТИНГ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 АНАЛИЗ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22543"/>
            <p:cNvSpPr/>
            <p:nvPr/>
          </p:nvSpPr>
          <p:spPr>
            <a:xfrm>
              <a:off x="6205680" y="2660760"/>
              <a:ext cx="2559960" cy="3129480"/>
            </a:xfrm>
            <a:custGeom>
              <a:avLst/>
              <a:gdLst>
                <a:gd name="textAreaLeft" fmla="*/ 124920 w 2559960"/>
                <a:gd name="textAreaRight" fmla="*/ 2435040 w 2559960"/>
                <a:gd name="textAreaTop" fmla="*/ 124920 h 3129480"/>
                <a:gd name="textAreaBottom" fmla="*/ 3004560 h 3129480"/>
              </a:gdLst>
              <a:ahLst/>
              <a:rect l="textAreaLeft" t="textAreaTop" r="textAreaRight" b="textAreaBottom"/>
              <a:pathLst>
                <a:path w="21600" h="26405">
                  <a:moveTo>
                    <a:pt x="3600" y="0"/>
                  </a:moveTo>
                  <a:arcTo wR="3600" hR="3600" stAng="16200000" swAng="-5400000"/>
                  <a:lnTo>
                    <a:pt x="0" y="22805"/>
                  </a:lnTo>
                  <a:arcTo wR="3600" hR="3600" stAng="10800000" swAng="-5400000"/>
                  <a:lnTo>
                    <a:pt x="18000" y="2640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24313"/>
                  </a:srgbClr>
                </a:gs>
                <a:gs pos="100000">
                  <a:srgbClr val="469eba">
                    <a:alpha val="24313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360" rIns="54360" tIns="27360" bIns="27360" anchor="ctr">
              <a:noAutofit/>
            </a:bodyPr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СЕКТОР ЗА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ПРОМОЦИЈУ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330066"/>
                  </a:solidFill>
                  <a:latin typeface="Arial"/>
                </a:rPr>
                <a:t>ИЗВ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ПОЗИЦИЈ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762120" y="2362320"/>
            <a:ext cx="7848360" cy="3448080"/>
            <a:chOff x="762120" y="2362320"/>
            <a:chExt cx="7848360" cy="3448080"/>
          </a:xfrm>
        </p:grpSpPr>
        <p:sp>
          <p:nvSpPr>
            <p:cNvPr id="216" name=""/>
            <p:cNvSpPr/>
            <p:nvPr/>
          </p:nvSpPr>
          <p:spPr>
            <a:xfrm>
              <a:off x="762120" y="2362320"/>
              <a:ext cx="1793880" cy="136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МИНИСТАРСТВА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ДРУГЕ ДРЖАВ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ОРГАНИЗ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6720" y="4343400"/>
              <a:ext cx="2579400" cy="1467000"/>
            </a:xfrm>
            <a:prstGeom prst="ellipse">
              <a:avLst/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800" spc="-1" strike="noStrike">
                  <a:solidFill>
                    <a:srgbClr val="330066"/>
                  </a:solidFill>
                  <a:latin typeface="Arial"/>
                </a:rPr>
                <a:t>S </a:t>
              </a:r>
              <a:r>
                <a:rPr b="1" i="1" lang="sr-Latn-CS" sz="2800" spc="-1" strike="noStrike">
                  <a:solidFill>
                    <a:srgbClr val="ff3300"/>
                  </a:solidFill>
                  <a:latin typeface="Arial"/>
                </a:rPr>
                <a:t>I </a:t>
              </a:r>
              <a:r>
                <a:rPr b="1" i="1" lang="sr-Latn-CS" sz="2800" spc="-1" strike="noStrike">
                  <a:solidFill>
                    <a:srgbClr val="330066"/>
                  </a:solidFill>
                  <a:latin typeface="Arial"/>
                </a:rPr>
                <a:t>E P 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819520" y="2743200"/>
              <a:ext cx="3547800" cy="1152360"/>
            </a:xfrm>
            <a:prstGeom prst="roundRect">
              <a:avLst>
                <a:gd name="adj" fmla="val 0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МИНИСТРСТВО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ЗА ЕКОНОМСК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330066"/>
                  </a:solidFill>
                  <a:latin typeface="Arial"/>
                </a:rPr>
                <a:t>ВЕЗЕ СА ИНОСТРАНСТВ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62120" y="4038480"/>
              <a:ext cx="205740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ПРЕДУЗЕЋА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ПРИВРЕДНЕ КОМОР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77120" y="4038480"/>
              <a:ext cx="2057400" cy="1143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ДОМАЋИ И И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 </a:t>
              </a: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САЈМОВ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705720" y="2362320"/>
              <a:ext cx="1904760" cy="13618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9999">
                    <a:alpha val="43137"/>
                  </a:srgbClr>
                </a:gs>
                <a:gs pos="50000">
                  <a:srgbClr val="ffffff">
                    <a:alpha val="43137"/>
                  </a:srgbClr>
                </a:gs>
                <a:gs pos="100000">
                  <a:srgbClr val="669999">
                    <a:alpha val="43137"/>
                  </a:srgbClr>
                </a:gs>
              </a:gsLst>
              <a:lin ang="540000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АМБАСАДЕ И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МЕЂУНАРДОДНЕ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CS" sz="1400" spc="-1" strike="noStrike">
                  <a:solidFill>
                    <a:srgbClr val="330066"/>
                  </a:solidFill>
                  <a:latin typeface="Arial"/>
                </a:rPr>
                <a:t>ОРГАНИЗ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22" name=""/>
          <p:cNvCxnSpPr>
            <a:stCxn id="216" idx="3"/>
            <a:endCxn id="217" idx="2"/>
          </p:cNvCxnSpPr>
          <p:nvPr/>
        </p:nvCxnSpPr>
        <p:spPr>
          <a:xfrm>
            <a:off x="2556000" y="3042720"/>
            <a:ext cx="721440" cy="2034360"/>
          </a:xfrm>
          <a:prstGeom prst="bentConnector3">
            <a:avLst>
              <a:gd name="adj1" fmla="val 499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3" name=""/>
          <p:cNvCxnSpPr>
            <a:stCxn id="221" idx="1"/>
            <a:endCxn id="217" idx="6"/>
          </p:cNvCxnSpPr>
          <p:nvPr/>
        </p:nvCxnSpPr>
        <p:spPr>
          <a:xfrm flipV="1" rot="10800000">
            <a:off x="5855400" y="3042000"/>
            <a:ext cx="850320" cy="2034360"/>
          </a:xfrm>
          <a:prstGeom prst="bentConnector3">
            <a:avLst>
              <a:gd name="adj1" fmla="val 4989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4" name=""/>
          <p:cNvCxnSpPr>
            <a:stCxn id="219" idx="3"/>
            <a:endCxn id="217" idx="0"/>
          </p:cNvCxnSpPr>
          <p:nvPr/>
        </p:nvCxnSpPr>
        <p:spPr>
          <a:xfrm flipV="1">
            <a:off x="2819160" y="4343040"/>
            <a:ext cx="1748520" cy="267120"/>
          </a:xfrm>
          <a:prstGeom prst="bentConnector4">
            <a:avLst>
              <a:gd name="adj1" fmla="val 13076"/>
              <a:gd name="adj2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5" name=""/>
          <p:cNvCxnSpPr>
            <a:stCxn id="220" idx="1"/>
            <a:endCxn id="217" idx="0"/>
          </p:cNvCxnSpPr>
          <p:nvPr/>
        </p:nvCxnSpPr>
        <p:spPr>
          <a:xfrm rot="10800000">
            <a:off x="4566600" y="4342680"/>
            <a:ext cx="1910520" cy="267120"/>
          </a:xfrm>
          <a:prstGeom prst="bentConnector4">
            <a:avLst>
              <a:gd name="adj1" fmla="val 16208"/>
              <a:gd name="adj2" fmla="val 1858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ЕКТОР ЗА ПРОМОЦИЈУ ИЗВОЗ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560" y="2057040"/>
            <a:ext cx="83818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РАЗВОЈ ИЗВОЗНОГ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ОРГАНИЗАЦИЈА ПРОМОТИВНИХ АКТИВ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ТРГОВИНСКО-ИНФОРМАЦИОНИ СЕРВ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ЗАЛАГАЊЕ ЗА ИЗВОЗНУ ПОЛИТ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77777"/>
                </a:solidFill>
                <a:latin typeface="Arial"/>
              </a:rPr>
              <a:t>ПРОЈЕКАТ РАЗВОЈА ИЗВОЗА</a:t>
            </a:r>
            <a:r>
              <a:rPr b="0" lang="sr-CS" sz="2400" spc="-1" strike="noStrike">
                <a:solidFill>
                  <a:srgbClr val="777777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6400800" y="5029200"/>
            <a:ext cx="1298520" cy="8683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763560" y="556272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–финансиран пројекат, који спроводи ЕА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РАЗВОЈ ИЗВОЗНОГ МАРКЕТИНГА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1532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32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ОБУК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3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РОЈЕКАТ МАРКЕТИНШКОГ РАЗВО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5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САЈМ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300000"/>
              </a:lnSpc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ТРГОВИНСКЕ МИС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-360" y="122040"/>
            <a:ext cx="80010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ОРГАНИЗАЦИЈА ПРОМОТИВНИХ АКТИВНОСТИ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533160" y="1719360"/>
            <a:ext cx="830556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ПОВЕЗИВАЊЕ С ИНОСТРАНИМ ПАРТНЕР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9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ТРЖИШ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808080"/>
                </a:solidFill>
                <a:latin typeface="Arial"/>
              </a:rPr>
              <a:t>СПОЉНО-ТРГОВИНСКЕ ИНФОРМ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ТРГОВИНСКО ИНФОРМАЦИОНИ СЕРВИС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723888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ИНТЕРНЕТ ПРЕЗЕНТАЦИЈА</a:t>
            </a:r>
            <a:br>
              <a:rPr sz="3200"/>
            </a:br>
            <a:r>
              <a:rPr b="1" lang="sr-Latn-CS" sz="3200" spc="-1" strike="noStrike" u="sng">
                <a:solidFill>
                  <a:srgbClr val="7e9ce8"/>
                </a:solidFill>
                <a:uFillTx/>
                <a:latin typeface="Arial"/>
                <a:hlinkClick r:id="rId1"/>
              </a:rPr>
              <a:t>www.siepa.sr.gov.yu</a:t>
            </a:r>
            <a:br>
              <a:rPr sz="3200"/>
            </a:b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50496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ИЗВОЗНА ПРОЦЕДУ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СТАНДАР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КАЛЕНДАР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1981080"/>
            <a:ext cx="38098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ОДАЦИ О ТРЖИШТИ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ЛИНКОВ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808080"/>
                </a:solidFill>
                <a:latin typeface="Arial"/>
              </a:rPr>
              <a:t>ПОЈМОВНИ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4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3:48:17Z</dcterms:created>
  <dc:creator>gorana.veselinovic</dc:creator>
  <dc:description/>
  <dc:language>en-US</dc:language>
  <cp:lastModifiedBy>Bojan</cp:lastModifiedBy>
  <dcterms:modified xsi:type="dcterms:W3CDTF">2003-10-06T14:41:41Z</dcterms:modified>
  <cp:revision>4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73341408</vt:r8>
  </property>
  <property fmtid="{D5CDD505-2E9C-101B-9397-08002B2CF9AE}" pid="3" name="_AuthorEmail">
    <vt:lpwstr>gorana.veselinovic@siepa.sr.gov.yu</vt:lpwstr>
  </property>
  <property fmtid="{D5CDD505-2E9C-101B-9397-08002B2CF9AE}" pid="4" name="_AuthorEmailDisplayName">
    <vt:lpwstr>Gorana Veselinovic</vt:lpwstr>
  </property>
  <property fmtid="{D5CDD505-2E9C-101B-9397-08002B2CF9AE}" pid="5" name="_EmailSubject">
    <vt:lpwstr/>
  </property>
  <property fmtid="{D5CDD505-2E9C-101B-9397-08002B2CF9AE}" pid="6" name="_PreviousAdHocReviewCycleID">
    <vt:r8>-2081511005</vt:r8>
  </property>
  <property fmtid="{D5CDD505-2E9C-101B-9397-08002B2CF9AE}" pid="7" name="_ReviewingToolsShownOnce">
    <vt:lpwstr/>
  </property>
  <property fmtid="{D5CDD505-2E9C-101B-9397-08002B2CF9AE}" pid="8" name="_TemplateID">
    <vt:lpwstr>TC010721241033</vt:lpwstr>
  </property>
</Properties>
</file>