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76E-7949-4437-AA68-F2ACFBA0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9A4-DA56-4866-AD04-5C8A1B31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A5F-98D5-4F56-A5FB-2B29D89A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558-A679-4967-8EC9-0CD29859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EA82-BFE1-4F2B-A76D-EA3C8AD3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A11E-A33B-447E-B2B0-295CC676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D843-9179-4EB9-8EEA-FBCA6B2C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B1B2-3BED-49A5-B8BA-407AE44D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FE4B-8A9B-4F31-9A04-5669A373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7B5D-F277-4FDD-9871-BA49AB1E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BC75-6654-41DD-9FE0-80B6B7B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7AE-F84C-4EA6-B4E3-B2D8D91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7172-FAC4-4F6D-8A2A-F804050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A72A-0A21-434F-9905-1EABAC3F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E151-A37E-4FFE-99D3-B1C4722E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9E7B-AC33-4D5C-AC89-E47406D7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AAE7-84B6-44F8-8F0D-C2F5DD4A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F8E8-BF72-4517-A30E-977C1838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8784-2F7F-4FA0-94D7-2F3A819C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CAC3C-1D32-49E9-A624-D9090998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01FB-66ED-403D-8AE7-A2477BCA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58E8-5788-4646-83F8-F9FB95B4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472-561A-4493-B47B-32265F59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FAE4-422F-42E5-B325-24E9D86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2521-6D23-4060-BDF2-B8045743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4C15-2BDC-47A1-A324-4C53905A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E396-81DA-4CCF-BF60-F356BFBA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DE6C-3C91-41CF-87EC-DBA88B4F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F623-79F6-4CC2-B2E8-E65CC2A0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94AF-C779-45BE-83C3-2C00CE81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7B7-D729-4E6E-A26C-88123114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7C3-041D-4EB0-B807-1E745A11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4A5-7DC8-4662-9921-D52BBA61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DD3-774F-4D65-95A5-512CD96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633-8740-4375-BC96-4AA043A3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A07-5E9E-41B6-953B-7DA76C0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74CB-059C-420A-9B13-D622D478EE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2840" y="228600"/>
            <a:ext cx="0" cy="1523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DAC1-D01B-44C8-A97D-B8DF3AE818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921280"/>
            <a:ext cx="2666880" cy="9367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8077320" y="152280"/>
            <a:ext cx="914040" cy="1447560"/>
            <a:chOff x="8077320" y="152280"/>
            <a:chExt cx="914040" cy="1447560"/>
          </a:xfrm>
        </p:grpSpPr>
        <p:sp>
          <p:nvSpPr>
            <p:cNvPr id="50" name=""/>
            <p:cNvSpPr/>
            <p:nvPr/>
          </p:nvSpPr>
          <p:spPr>
            <a:xfrm>
              <a:off x="8077320" y="152280"/>
              <a:ext cx="137520" cy="13320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71360" y="15228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65400" y="15228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77320" y="34020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71360" y="340200"/>
              <a:ext cx="137520" cy="13320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65400" y="34020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59440" y="340200"/>
              <a:ext cx="137520" cy="133200"/>
            </a:xfrm>
            <a:prstGeom prst="ellipse">
              <a:avLst/>
            </a:prstGeom>
            <a:solidFill>
              <a:srgbClr val="db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77320" y="52812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71360" y="528120"/>
              <a:ext cx="137520" cy="133200"/>
            </a:xfrm>
            <a:prstGeom prst="ellips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65400" y="528120"/>
              <a:ext cx="137520" cy="133200"/>
            </a:xfrm>
            <a:prstGeom prst="ellipse">
              <a:avLst/>
            </a:prstGeom>
            <a:solidFill>
              <a:srgbClr val="db060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59440" y="52812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53840" y="52812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77320" y="714960"/>
              <a:ext cx="137520" cy="134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71360" y="714960"/>
              <a:ext cx="137520" cy="134280"/>
            </a:xfrm>
            <a:prstGeom prst="ellipse">
              <a:avLst/>
            </a:prstGeom>
            <a:solidFill>
              <a:srgbClr val="db06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65400" y="714960"/>
              <a:ext cx="137520" cy="13428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59440" y="714960"/>
              <a:ext cx="137520" cy="1342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77320" y="902880"/>
              <a:ext cx="137520" cy="134280"/>
            </a:xfrm>
            <a:prstGeom prst="ellipse">
              <a:avLst/>
            </a:prstGeom>
            <a:solidFill>
              <a:srgbClr val="db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71360" y="902880"/>
              <a:ext cx="137520" cy="134280"/>
            </a:xfrm>
            <a:prstGeom prst="ellipse">
              <a:avLst/>
            </a:prstGeom>
            <a:solidFill>
              <a:srgbClr val="0000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65400" y="902880"/>
              <a:ext cx="137520" cy="13428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59440" y="902880"/>
              <a:ext cx="137520" cy="1342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53840" y="902880"/>
              <a:ext cx="137520" cy="134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77320" y="109116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71360" y="1091160"/>
              <a:ext cx="137520" cy="133200"/>
            </a:xfrm>
            <a:prstGeom prst="ellipse">
              <a:avLst/>
            </a:prstGeom>
            <a:solidFill>
              <a:srgbClr val="0000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65400" y="1091160"/>
              <a:ext cx="137520" cy="13320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59440" y="1091160"/>
              <a:ext cx="137520" cy="133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77320" y="127908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71360" y="127908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65400" y="1279080"/>
              <a:ext cx="137520" cy="133200"/>
            </a:xfrm>
            <a:prstGeom prst="ellipse">
              <a:avLst/>
            </a:prstGeom>
            <a:solidFill>
              <a:srgbClr val="d8d8e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659440" y="1279080"/>
              <a:ext cx="137520" cy="133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271360" y="1466640"/>
              <a:ext cx="137520" cy="133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59440" y="1466640"/>
              <a:ext cx="137520" cy="133200"/>
            </a:xfrm>
            <a:prstGeom prst="ellipse">
              <a:avLst/>
            </a:prstGeom>
            <a:solidFill>
              <a:srgbClr val="d8d8e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228600" y="1676520"/>
            <a:ext cx="8763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848720" cy="1600200"/>
          </a:xfrm>
          <a:prstGeom prst="rect">
            <a:avLst/>
          </a:prstGeom>
          <a:solidFill>
            <a:srgbClr val="6699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320"/>
            <a:ext cx="9144000" cy="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315200" y="228600"/>
            <a:ext cx="0" cy="5334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90C5-DF0C-45EB-A6AC-3AB3450AD5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467480" y="2971800"/>
            <a:ext cx="1338480" cy="2189160"/>
            <a:chOff x="7467480" y="2971800"/>
            <a:chExt cx="1338480" cy="2189160"/>
          </a:xfrm>
        </p:grpSpPr>
        <p:sp>
          <p:nvSpPr>
            <p:cNvPr id="126" name=""/>
            <p:cNvSpPr/>
            <p:nvPr/>
          </p:nvSpPr>
          <p:spPr>
            <a:xfrm>
              <a:off x="7467480" y="2971800"/>
              <a:ext cx="201600" cy="20160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51880" y="297180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35920" y="297180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5620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51880" y="3256200"/>
              <a:ext cx="201600" cy="20160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35920" y="325620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19960" y="3256200"/>
              <a:ext cx="201600" cy="201600"/>
            </a:xfrm>
            <a:prstGeom prst="ellipse">
              <a:avLst/>
            </a:prstGeom>
            <a:solidFill>
              <a:srgbClr val="db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7480" y="354024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1880" y="3540240"/>
              <a:ext cx="201600" cy="201600"/>
            </a:xfrm>
            <a:prstGeom prst="ellips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35920" y="3540240"/>
              <a:ext cx="201600" cy="201600"/>
            </a:xfrm>
            <a:prstGeom prst="ellipse">
              <a:avLst/>
            </a:prstGeom>
            <a:solidFill>
              <a:srgbClr val="db060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9960" y="354024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04360" y="354024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7480" y="3822840"/>
              <a:ext cx="201600" cy="203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51880" y="3822840"/>
              <a:ext cx="201600" cy="203040"/>
            </a:xfrm>
            <a:prstGeom prst="ellipse">
              <a:avLst/>
            </a:prstGeom>
            <a:solidFill>
              <a:srgbClr val="db06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35920" y="3822840"/>
              <a:ext cx="201600" cy="20304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19960" y="3822840"/>
              <a:ext cx="201600" cy="203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67480" y="4106880"/>
              <a:ext cx="201600" cy="203400"/>
            </a:xfrm>
            <a:prstGeom prst="ellipse">
              <a:avLst/>
            </a:prstGeom>
            <a:solidFill>
              <a:srgbClr val="db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51880" y="4106880"/>
              <a:ext cx="201600" cy="203400"/>
            </a:xfrm>
            <a:prstGeom prst="ellipse">
              <a:avLst/>
            </a:prstGeom>
            <a:solidFill>
              <a:srgbClr val="0000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35920" y="4106880"/>
              <a:ext cx="201600" cy="20340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9960" y="4106880"/>
              <a:ext cx="201600" cy="2034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4360" y="4106880"/>
              <a:ext cx="2016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7480" y="439128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51880" y="4391280"/>
              <a:ext cx="201600" cy="201600"/>
            </a:xfrm>
            <a:prstGeom prst="ellipse">
              <a:avLst/>
            </a:prstGeom>
            <a:solidFill>
              <a:srgbClr val="0000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35920" y="4391280"/>
              <a:ext cx="201600" cy="20160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19960" y="43912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7480" y="467532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51880" y="467532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5920" y="4675320"/>
              <a:ext cx="201600" cy="201600"/>
            </a:xfrm>
            <a:prstGeom prst="ellipse">
              <a:avLst/>
            </a:prstGeom>
            <a:solidFill>
              <a:srgbClr val="d8d8e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19960" y="467532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51880" y="495936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19960" y="4959360"/>
              <a:ext cx="201600" cy="201600"/>
            </a:xfrm>
            <a:prstGeom prst="ellipse">
              <a:avLst/>
            </a:prstGeom>
            <a:solidFill>
              <a:srgbClr val="d8d8e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4920"/>
            <a:ext cx="9144000" cy="2514600"/>
          </a:xfrm>
          <a:prstGeom prst="rect">
            <a:avLst/>
          </a:prstGeom>
          <a:solidFill>
            <a:srgbClr val="6699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2590920" cy="888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office@siepa.sr.gov.yu" TargetMode="External"/><Relationship Id="rId2" Type="http://schemas.openxmlformats.org/officeDocument/2006/relationships/hyperlink" Target="http://www.siepa.sr.gov.yu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epa.sr.gov.yu/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0066"/>
                </a:solidFill>
                <a:latin typeface="Garamond"/>
              </a:rPr>
              <a:t>ПРОМОЦИЈА</a:t>
            </a:r>
            <a:r>
              <a:rPr b="1" lang="sr-CS" sz="4400" spc="-1" strike="noStrike">
                <a:solidFill>
                  <a:srgbClr val="330066"/>
                </a:solidFill>
                <a:latin typeface="Garamond"/>
                <a:ea typeface="Andalus"/>
              </a:rPr>
              <a:t> </a:t>
            </a:r>
            <a:r>
              <a:rPr b="1" lang="sr-CS" sz="4400" spc="-1" strike="noStrike">
                <a:solidFill>
                  <a:srgbClr val="330066"/>
                </a:solidFill>
                <a:latin typeface="Garamond"/>
              </a:rPr>
              <a:t>ИЗВОЗА</a:t>
            </a:r>
            <a:br>
              <a:rPr sz="4400"/>
            </a:br>
            <a:r>
              <a:rPr b="1" lang="sr-CS" sz="4400" spc="-1" strike="noStrike">
                <a:solidFill>
                  <a:srgbClr val="330066"/>
                </a:solidFill>
                <a:latin typeface="Garamond"/>
              </a:rPr>
              <a:t>РЕПУБЛИКЕ</a:t>
            </a:r>
            <a:r>
              <a:rPr b="1" lang="sr-CS" sz="4400" spc="-1" strike="noStrike">
                <a:solidFill>
                  <a:srgbClr val="330066"/>
                </a:solidFill>
                <a:latin typeface="Garamond"/>
                <a:ea typeface="Andalus"/>
              </a:rPr>
              <a:t> </a:t>
            </a:r>
            <a:r>
              <a:rPr b="1" lang="sr-CS" sz="4400" spc="-1" strike="noStrike">
                <a:solidFill>
                  <a:srgbClr val="330066"/>
                </a:solidFill>
                <a:latin typeface="Garamond"/>
              </a:rPr>
              <a:t>СРБИЈЕ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ookman Old Style"/>
              </a:rPr>
              <a:t>A</a:t>
            </a:r>
            <a:r>
              <a:rPr b="0" lang="sr-CS" sz="2600" spc="-1" strike="noStrike">
                <a:solidFill>
                  <a:srgbClr val="808080"/>
                </a:solidFill>
                <a:latin typeface="Bookman Old Style"/>
              </a:rPr>
              <a:t>генција за улагања и промоцију изв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836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42280" y="601992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30066"/>
                </a:solidFill>
                <a:latin typeface="Arial"/>
              </a:rPr>
              <a:t>Мр Ирена По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ЗАХВАЉУЈЕМО СЕ НА ПАЖЊ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001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3399"/>
                </a:solidFill>
                <a:latin typeface="Arial"/>
              </a:rPr>
              <a:t>Агенција за улагања и промоцију извоза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SIEPA</a:t>
            </a:r>
            <a:br>
              <a:rPr sz="3000"/>
            </a:br>
            <a:r>
              <a:rPr b="0" lang="sr-CS" sz="3000" spc="-1" strike="noStrike">
                <a:solidFill>
                  <a:srgbClr val="003399"/>
                </a:solidFill>
                <a:latin typeface="Arial"/>
              </a:rPr>
              <a:t>Тел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: +381 11 3248 040</a:t>
            </a:r>
            <a:br>
              <a:rPr sz="3000"/>
            </a:br>
            <a:r>
              <a:rPr b="0" lang="sr-CS" sz="3000" spc="-1" strike="noStrike">
                <a:solidFill>
                  <a:srgbClr val="003399"/>
                </a:solidFill>
                <a:latin typeface="Arial"/>
              </a:rPr>
              <a:t>Факс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: +381 11 3248 227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-mail: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office@siepa.sr.gov.yu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b: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siepa.sr.gov.y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Промоција инвестиционих могућ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Подршка инвеститори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Промоција извозних потенцијала Срб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Подизање конкуретности предузе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База инвестиционих и извозних пројеката</a:t>
            </a:r>
            <a:r>
              <a:rPr b="0" lang="sl-SI" sz="3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Bookman Old Style"/>
              </a:rPr>
              <a:t>A</a:t>
            </a:r>
            <a:r>
              <a:rPr b="0" lang="sr-CS" sz="3600" spc="-1" strike="noStrike">
                <a:solidFill>
                  <a:srgbClr val="330066"/>
                </a:solidFill>
                <a:latin typeface="Bookman Old Style"/>
              </a:rPr>
              <a:t>генција за улагања и промоцију извоза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0066"/>
                </a:solidFill>
                <a:latin typeface="Arial"/>
              </a:rPr>
              <a:t>ОРГАНИЗАЦИОНА </a:t>
            </a:r>
            <a:br>
              <a:rPr sz="3600"/>
            </a:br>
            <a:r>
              <a:rPr b="0" lang="sr-CS" sz="3600" spc="-1" strike="noStrike">
                <a:solidFill>
                  <a:srgbClr val="330066"/>
                </a:solidFill>
                <a:latin typeface="Arial"/>
              </a:rPr>
              <a:t>СТРУКТУР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1828800"/>
            <a:ext cx="8537040" cy="4121280"/>
            <a:chOff x="228600" y="1828800"/>
            <a:chExt cx="8537040" cy="4121280"/>
          </a:xfrm>
        </p:grpSpPr>
        <p:cxnSp>
          <p:nvCxnSpPr>
            <p:cNvPr id="206" name="_s22539"/>
            <p:cNvCxnSpPr/>
            <p:nvPr/>
          </p:nvCxnSpPr>
          <p:spPr>
            <a:xfrm flipH="1" flipV="1" rot="5400000">
              <a:off x="2946600" y="1090440"/>
              <a:ext cx="146880" cy="2993760"/>
            </a:xfrm>
            <a:prstGeom prst="bentConnector3">
              <a:avLst>
                <a:gd name="adj1" fmla="val 4987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7" name="_s22537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919120" y="1093680"/>
              <a:ext cx="146880" cy="2986920"/>
            </a:xfrm>
            <a:prstGeom prst="bentConnector3">
              <a:avLst>
                <a:gd name="adj1" fmla="val 4987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0" name="_s22538"/>
            <p:cNvCxnSpPr>
              <a:stCxn id="211" idx="0"/>
              <a:endCxn id="209" idx="2"/>
            </p:cNvCxnSpPr>
            <p:nvPr/>
          </p:nvCxnSpPr>
          <p:spPr>
            <a:xfrm flipH="1" flipV="1" rot="5400000">
              <a:off x="4153680" y="2854080"/>
              <a:ext cx="686160" cy="5400"/>
            </a:xfrm>
            <a:prstGeom prst="bentConnector3">
              <a:avLst>
                <a:gd name="adj1" fmla="val 1664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09" name="_s22540"/>
            <p:cNvSpPr/>
            <p:nvPr/>
          </p:nvSpPr>
          <p:spPr>
            <a:xfrm>
              <a:off x="3429000" y="1828800"/>
              <a:ext cx="2138760" cy="68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469eba">
                    <a:alpha val="2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330066"/>
                  </a:solidFill>
                  <a:latin typeface="Arial"/>
                </a:rPr>
                <a:t>ДИР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22541"/>
            <p:cNvSpPr/>
            <p:nvPr/>
          </p:nvSpPr>
          <p:spPr>
            <a:xfrm>
              <a:off x="228600" y="2660760"/>
              <a:ext cx="2559960" cy="3129480"/>
            </a:xfrm>
            <a:custGeom>
              <a:avLst/>
              <a:gdLst>
                <a:gd name="textAreaLeft" fmla="*/ 124920 w 2559960"/>
                <a:gd name="textAreaRight" fmla="*/ 2435040 w 2559960"/>
                <a:gd name="textAreaTop" fmla="*/ 124920 h 3129480"/>
                <a:gd name="textAreaBottom" fmla="*/ 3004560 h 3129480"/>
              </a:gdLst>
              <a:ahLst/>
              <a:rect l="textAreaLeft" t="textAreaTop" r="textAreaRight" b="textAreaBottom"/>
              <a:pathLst>
                <a:path w="21600" h="26405">
                  <a:moveTo>
                    <a:pt x="3600" y="0"/>
                  </a:moveTo>
                  <a:arcTo wR="3600" hR="3600" stAng="16200000" swAng="-5400000"/>
                  <a:lnTo>
                    <a:pt x="0" y="22805"/>
                  </a:lnTo>
                  <a:arcTo wR="3600" hR="3600" stAng="10800000" swAng="-5400000"/>
                  <a:lnTo>
                    <a:pt x="18000" y="264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469eba">
                    <a:alpha val="2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 anchorCtr="1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СЕКТОР З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ПОДРШК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ИНВЕСТИТОРИ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22542"/>
            <p:cNvSpPr/>
            <p:nvPr/>
          </p:nvSpPr>
          <p:spPr>
            <a:xfrm>
              <a:off x="3047040" y="3200040"/>
              <a:ext cx="2897640" cy="2750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469eba">
                    <a:alpha val="2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СЕКТОР З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МАРКЕТИН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И АНАЛИЗ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22543"/>
            <p:cNvSpPr/>
            <p:nvPr/>
          </p:nvSpPr>
          <p:spPr>
            <a:xfrm>
              <a:off x="6205680" y="2660760"/>
              <a:ext cx="2559960" cy="3129480"/>
            </a:xfrm>
            <a:custGeom>
              <a:avLst/>
              <a:gdLst>
                <a:gd name="textAreaLeft" fmla="*/ 124920 w 2559960"/>
                <a:gd name="textAreaRight" fmla="*/ 2435040 w 2559960"/>
                <a:gd name="textAreaTop" fmla="*/ 124920 h 3129480"/>
                <a:gd name="textAreaBottom" fmla="*/ 3004560 h 3129480"/>
              </a:gdLst>
              <a:ahLst/>
              <a:rect l="textAreaLeft" t="textAreaTop" r="textAreaRight" b="textAreaBottom"/>
              <a:pathLst>
                <a:path w="21600" h="26405">
                  <a:moveTo>
                    <a:pt x="3600" y="0"/>
                  </a:moveTo>
                  <a:arcTo wR="3600" hR="3600" stAng="16200000" swAng="-5400000"/>
                  <a:lnTo>
                    <a:pt x="0" y="22805"/>
                  </a:lnTo>
                  <a:arcTo wR="3600" hR="3600" stAng="10800000" swAng="-5400000"/>
                  <a:lnTo>
                    <a:pt x="18000" y="264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469eba">
                    <a:alpha val="2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СЕКТОР З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ПРОМОЦИЈ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ИЗВ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ПОЗИЦИЈ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62120" y="2362320"/>
            <a:ext cx="7848360" cy="3448080"/>
            <a:chOff x="762120" y="2362320"/>
            <a:chExt cx="7848360" cy="3448080"/>
          </a:xfrm>
        </p:grpSpPr>
        <p:sp>
          <p:nvSpPr>
            <p:cNvPr id="216" name=""/>
            <p:cNvSpPr/>
            <p:nvPr/>
          </p:nvSpPr>
          <p:spPr>
            <a:xfrm>
              <a:off x="762120" y="2362320"/>
              <a:ext cx="1793880" cy="136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МИНИСТАРСТВА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ДРУГЕ ДРЖАВ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ОРГАНИЗАЦИЈ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6720" y="4343400"/>
              <a:ext cx="2579400" cy="1467000"/>
            </a:xfrm>
            <a:prstGeom prst="ellipse">
              <a:avLst/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330066"/>
                  </a:solidFill>
                  <a:latin typeface="Arial"/>
                </a:rPr>
                <a:t>S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Arial"/>
                </a:rPr>
                <a:t>I </a:t>
              </a:r>
              <a:r>
                <a:rPr b="1" i="1" lang="sr-Latn-CS" sz="2800" spc="-1" strike="noStrike">
                  <a:solidFill>
                    <a:srgbClr val="330066"/>
                  </a:solidFill>
                  <a:latin typeface="Arial"/>
                </a:rPr>
                <a:t>E P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19520" y="2743200"/>
              <a:ext cx="3547800" cy="1152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0066"/>
                  </a:solidFill>
                  <a:latin typeface="Arial"/>
                </a:rPr>
                <a:t>МИНИСТР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0066"/>
                  </a:solidFill>
                  <a:latin typeface="Arial"/>
                </a:rPr>
                <a:t>ЗА ЕКОНОМСК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0066"/>
                  </a:solidFill>
                  <a:latin typeface="Arial"/>
                </a:rPr>
                <a:t>ВЕЗЕ СА ИНОСТРАНСТВ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4038480"/>
              <a:ext cx="205740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ПРЕДУЗЕЋА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ПРИВРЕДНЕ КОМ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038480"/>
              <a:ext cx="205740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ДОМАЋИ И И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САЈМОВ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05720" y="2362320"/>
              <a:ext cx="1904760" cy="136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АМБАСАДЕ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МЕЂУНАРДОД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ОРГАНИЗАЦИЈ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2" name=""/>
          <p:cNvCxnSpPr>
            <a:stCxn id="216" idx="3"/>
            <a:endCxn id="217" idx="2"/>
          </p:cNvCxnSpPr>
          <p:nvPr/>
        </p:nvCxnSpPr>
        <p:spPr>
          <a:xfrm>
            <a:off x="2556000" y="3042720"/>
            <a:ext cx="721440" cy="203436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1"/>
            <a:endCxn id="217" idx="6"/>
          </p:cNvCxnSpPr>
          <p:nvPr/>
        </p:nvCxnSpPr>
        <p:spPr>
          <a:xfrm flipV="1" rot="10800000">
            <a:off x="5855400" y="3042000"/>
            <a:ext cx="850320" cy="2034360"/>
          </a:xfrm>
          <a:prstGeom prst="bentConnector3">
            <a:avLst>
              <a:gd name="adj1" fmla="val 49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9" idx="3"/>
            <a:endCxn id="217" idx="0"/>
          </p:cNvCxnSpPr>
          <p:nvPr/>
        </p:nvCxnSpPr>
        <p:spPr>
          <a:xfrm flipV="1">
            <a:off x="2819160" y="4343040"/>
            <a:ext cx="1748520" cy="267120"/>
          </a:xfrm>
          <a:prstGeom prst="bentConnector4">
            <a:avLst>
              <a:gd name="adj1" fmla="val 13076"/>
              <a:gd name="adj2" fmla="val 1858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0" idx="1"/>
            <a:endCxn id="217" idx="0"/>
          </p:cNvCxnSpPr>
          <p:nvPr/>
        </p:nvCxnSpPr>
        <p:spPr>
          <a:xfrm rot="10800000">
            <a:off x="4566600" y="4342680"/>
            <a:ext cx="1910520" cy="267120"/>
          </a:xfrm>
          <a:prstGeom prst="bentConnector4">
            <a:avLst>
              <a:gd name="adj1" fmla="val 16208"/>
              <a:gd name="adj2" fmla="val 1858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СЕКТОР ЗА ПРОМОЦИЈУ ИЗВОЗ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РАЗВОЈ ИЗВОЗНОГ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ОРГАНИЗАЦИЈА ПРОМОТИВНИХ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ТРГОВИНСКО-ИНФОРМАЦИОНИ СЕРВ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ЗАЛАГАЊЕ ЗА ИЗВОЗНУ ПОЛИ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77777"/>
                </a:solidFill>
                <a:latin typeface="Arial"/>
              </a:rPr>
              <a:t>ПРОЈЕКАТ РАЗВОЈА ИЗВОЗА</a:t>
            </a: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298520" cy="868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63560" y="556272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финансиран пројекат, који спроводи Е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РАЗВОЈ ИЗВОЗНОГ МАРКЕТИНГ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2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ОБ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ПРОЈЕКАТ МАРКЕТИНШКОГ РАЗВО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САЈМО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ТРГОВИНСКЕ МИС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ОРГАНИЗАЦИЈА ПРОМОТИВНИХ АКТИВНО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33160" y="1719360"/>
            <a:ext cx="83055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ПОВЕЗИВАЊЕ С ИНОСТРАНИМ ПАРТНЕР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ТРЖИШ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СПОЉНО-ТРГОВИНСКЕ ИНФО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ТРГОВИНСКО ИНФОРМАЦИОНИ СЕРВИС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ИНТЕРНЕТ ПРЕЗЕНТАЦИЈА</a:t>
            </a:r>
            <a:br>
              <a:rPr sz="3200"/>
            </a:br>
            <a:r>
              <a:rPr b="1" lang="sr-Latn-CS" sz="3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siepa.sr.gov.yu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504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ИЗВОЗНА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СТАНДАР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КАЛЕНДА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1981080"/>
            <a:ext cx="3809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ПОДАЦИ О ТРЖИШТИ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ЛИНКО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ПОЈМОВ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3:48:17Z</dcterms:created>
  <dc:creator>gorana.veselinovic</dc:creator>
  <dc:description/>
  <dc:language>en-US</dc:language>
  <cp:lastModifiedBy>Bojan</cp:lastModifiedBy>
  <dcterms:modified xsi:type="dcterms:W3CDTF">2003-10-06T14:41:41Z</dcterms:modified>
  <cp:revision>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73341408</vt:r8>
  </property>
  <property fmtid="{D5CDD505-2E9C-101B-9397-08002B2CF9AE}" pid="3" name="_AuthorEmail">
    <vt:lpwstr>gorana.veselinovic@siepa.sr.gov.yu</vt:lpwstr>
  </property>
  <property fmtid="{D5CDD505-2E9C-101B-9397-08002B2CF9AE}" pid="4" name="_AuthorEmailDisplayName">
    <vt:lpwstr>Gorana Veselinovic</vt:lpwstr>
  </property>
  <property fmtid="{D5CDD505-2E9C-101B-9397-08002B2CF9AE}" pid="5" name="_EmailSubject">
    <vt:lpwstr/>
  </property>
  <property fmtid="{D5CDD505-2E9C-101B-9397-08002B2CF9AE}" pid="6" name="_PreviousAdHocReviewCycleID">
    <vt:r8>-2081511005</vt:r8>
  </property>
  <property fmtid="{D5CDD505-2E9C-101B-9397-08002B2CF9AE}" pid="7" name="_ReviewingToolsShownOnce">
    <vt:lpwstr/>
  </property>
  <property fmtid="{D5CDD505-2E9C-101B-9397-08002B2CF9AE}" pid="8" name="_TemplateID">
    <vt:lpwstr>TC010721241033</vt:lpwstr>
  </property>
</Properties>
</file>