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19A64-2282-484F-A4E3-13DAFBE0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7CE17-91C7-46C2-9CA2-1E6853C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D4F09-7648-43E3-B461-3C97B267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8B6F8-E506-4049-9A9C-30F37A24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B58AE-CF13-4152-9B1D-29BCC946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48456-237C-4E1F-A20D-0E18CEA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C992C-4BB8-40CE-8C90-90DC7B3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A8B88-8467-4488-8C80-A0C4FC4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851F6-F78D-48E2-9BC4-4FA21B76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042B8-9564-41CB-A679-14494A1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E23DA-853C-45D9-BBB3-9B04047E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F45B-41AF-4AD6-977D-54F41310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7848360" y="6095520"/>
            <a:ext cx="144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rcRect l="25002" t="12390" r="21429" b="19483"/>
          <a:stretch/>
        </p:blipFill>
        <p:spPr>
          <a:xfrm>
            <a:off x="8305920" y="6242040"/>
            <a:ext cx="8380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93E1-68B7-4FCE-9B23-605C592DC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SMEs@net.yu" TargetMode="External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730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09480" y="1371600"/>
            <a:ext cx="8153640" cy="119124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едузетничка обука у функцији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аљег развоја МСП сектора у Србији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Филиповић Снежана, менаџер за едукацију и консалтинг</a:t>
            </a:r>
            <a:br>
              <a:rPr sz="2400"/>
            </a:b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Топличин венац 19</a:t>
            </a:r>
            <a:br>
              <a:rPr sz="2400"/>
            </a:b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Телефон-факс: 381 11 3346601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SMEs@net.yu</a:t>
            </a:r>
            <a:br>
              <a:rPr sz="2400"/>
            </a:br>
            <a:br>
              <a:rPr sz="3200"/>
            </a:b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Београд, октобар 2003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РЗТР – СТАТИСТИКА ТРЕНИНГА*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62120" y="2666880"/>
          <a:ext cx="7772400" cy="1201680"/>
        </p:xfrm>
        <a:graphic>
          <a:graphicData uri="http://schemas.openxmlformats.org/drawingml/2006/table">
            <a:tbl>
              <a:tblPr/>
              <a:tblGrid>
                <a:gridCol w="2971800"/>
                <a:gridCol w="1371600"/>
                <a:gridCol w="1295280"/>
                <a:gridCol w="990720"/>
                <a:gridCol w="1143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</a:t>
                      </a:r>
                      <a:r>
                        <a:rPr b="1" lang="sr-C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енинга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формативни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533520" y="4191120"/>
            <a:ext cx="8229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imes New Roman"/>
              </a:rPr>
              <a:t>*</a:t>
            </a:r>
            <a:r>
              <a:rPr b="1" lang="sr-CS" sz="1600" spc="-1" strike="noStrike">
                <a:solidFill>
                  <a:srgbClr val="40458c"/>
                </a:solidFill>
                <a:latin typeface="Times New Roman"/>
              </a:rPr>
              <a:t>Тренинзи у извођењу тренера РЗТР-а. Иначе одржан је 41 тренинг са 932 полазника у извођењу Републичке и регионалних агенција за развој МСПП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660066"/>
                </a:solidFill>
                <a:latin typeface="Times New Roman"/>
              </a:rPr>
              <a:t>МЕЂУНАРОДНЕ ОРГАНИЗАЦИЈЕ – СТАТИСТИКА ТРЕНИНГА</a:t>
            </a:r>
            <a:endParaRPr b="0" lang="en-US" sz="3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5240" y="1981080"/>
          <a:ext cx="8839080" cy="4108680"/>
        </p:xfrm>
        <a:graphic>
          <a:graphicData uri="http://schemas.openxmlformats.org/drawingml/2006/table">
            <a:tbl>
              <a:tblPr/>
              <a:tblGrid>
                <a:gridCol w="609480"/>
                <a:gridCol w="4361040"/>
                <a:gridCol w="1506240"/>
                <a:gridCol w="914400"/>
                <a:gridCol w="685800"/>
                <a:gridCol w="762120"/>
              </a:tblGrid>
              <a:tr h="3049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860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EED-a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Fidic уговори за грађевинарство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Како припремити понуду која побеђује» - изградњ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Маркетинг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Маркетиншке способности за консултанте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Програм за развој управљања (за генералне директоре)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Програм за развој управљања (за директоре)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Програм обуке за кредитне службенике/аналитичаре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Развој консалтинга као бизниса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Рачуноводство за не-рачуновође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Све што треба да знате о финансијском обрачуну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Стратешко планирање – тренинг тренера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Стратешко планирање и управљање променама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Управљање људским ресурсима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Шта ће међународни лидер хтети да зна о мом бизнису – тренинг тренера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«Шта ће међународни лидер хтети да зна о мом бизнису?»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imes New Roman"/>
              </a:rPr>
              <a:t>КОНСУЛТАНТСКЕ ФИРМЕ – СТАТИСТИКА ТРЕНИНГ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4480" y="2413080"/>
          <a:ext cx="8915400" cy="2286000"/>
        </p:xfrm>
        <a:graphic>
          <a:graphicData uri="http://schemas.openxmlformats.org/drawingml/2006/table">
            <a:tbl>
              <a:tblPr/>
              <a:tblGrid>
                <a:gridCol w="2057400"/>
                <a:gridCol w="944280"/>
                <a:gridCol w="2027520"/>
                <a:gridCol w="1523880"/>
                <a:gridCol w="838080"/>
                <a:gridCol w="762120"/>
                <a:gridCol w="762120"/>
              </a:tblGrid>
              <a:tr h="457200"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560">
                <a:tc rowSpan="2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erra`s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ио школа за произвођаче органске хран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ио школа за саветодавц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erra`s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456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атна консултантска кућа "Прагма", public relations agency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нинг радионица за ПР менаџере и односе са јавношћу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атна консултантска кућа "Прагма", public relations agency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4920">
                <a:tc gridSpan="2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9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СТАТИСТИКА ТРЕНИНГА ПО ОКРУЗИМА</a:t>
            </a:r>
            <a:r>
              <a:rPr b="0" lang="sr-C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09480" y="1676520"/>
          <a:ext cx="7772400" cy="4427280"/>
        </p:xfrm>
        <a:graphic>
          <a:graphicData uri="http://schemas.openxmlformats.org/drawingml/2006/table">
            <a:tbl>
              <a:tblPr/>
              <a:tblGrid>
                <a:gridCol w="3198960"/>
                <a:gridCol w="2367000"/>
                <a:gridCol w="2206440"/>
              </a:tblGrid>
              <a:tr h="2210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Округ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ЕОГРАД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7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.0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ОР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АНИЧЕВ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ЈЕЧАР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ПАДНО-БАЧ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ЛАТИБОР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АБЛАНИЧ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УЖНО-БАНАТ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УЖНО-БАЧ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КОЛУБАР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МАЧВАН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МОРАВИЧ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ШАВ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ОМОРАВ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ЧИЊ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АСИН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3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АШ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СЕВЕРНО-БАНАТ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СЕВЕРНО-БАЧ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1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СРЕДЊЕ-БАНАТ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1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СРЕМ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ШУМАДИЈСК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9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2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СТАТИСТИКА ТРЕНИНГА ПО ЦИЉНИМ ГРУПА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295280" y="1676520"/>
          <a:ext cx="6477120" cy="430668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215640"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7800">
                <a:tc rowSpan="5"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шестомесеч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9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2"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 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8800">
                <a:tc rowSpan="4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7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 gridSpan="2"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 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2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4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6000">
                <a:tc rowSpan="5">
                  <a:txBody>
                    <a:bodyPr lIns="90000" rIns="9000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6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шестомесеч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 gridSpan="2"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 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9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8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ЗБИРНА СТАТИ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62120" y="1676520"/>
          <a:ext cx="7772400" cy="4284720"/>
        </p:xfrm>
        <a:graphic>
          <a:graphicData uri="http://schemas.openxmlformats.org/drawingml/2006/table">
            <a:tbl>
              <a:tblPr/>
              <a:tblGrid>
                <a:gridCol w="2338200"/>
                <a:gridCol w="3195720"/>
                <a:gridCol w="1227240"/>
                <a:gridCol w="1011240"/>
              </a:tblGrid>
              <a:tr h="3045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6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агенције за развој МСП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2</a:t>
                      </a: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агенције за развој МСП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.0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6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комор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0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8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коморе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54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међународне организа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међународне организације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51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7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3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О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8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4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65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публички завод за тржиште рад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публички завод за тржиште рада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96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сервис провајдер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сервис провајдери 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9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108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9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8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СЛЕДЕЋИ КОРАЦ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Националне стратегије образовања одрасли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Имплементација Стратегије развоја МСП до 2008. године у делу који се односи на едукацију (тачка 5.6 и 5.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Реформа образовног система (увођење предмета предузетништво у завршне разреде основног, у средње, више и високе образовне институције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СЛЕДЕЋИ КОРАЦ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Ширење мреже регионалних агенциј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Стварање предузетничког друштва и културе засноване на перманентном учењ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Подстицање развоја приватних консултантских фир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УВОДНЕ НАПОМЕН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imes New Roman"/>
              </a:rPr>
              <a:t>Један од ограничавајућих фактора развоја предузетништва је недостатак одговарајуће едукативне подршке, који је последиц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Недовољне прилагођености система образовања потребама тржиш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Недовољног броја приватних консултантских фир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imes New Roman"/>
              </a:rPr>
              <a:t>Недовољно изграђена мрежа регионалних агенција за развој МСП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УВОДНЕ НАПОМЕН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С</a:t>
            </a:r>
            <a:r>
              <a:rPr b="1" lang="sr-C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ална едукација и унапређење предузетничких знања и вештина </a:t>
            </a: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треба да буде </a:t>
            </a:r>
            <a:r>
              <a:rPr b="1" lang="sr-C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манентан проце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Вакуум у потребама предузетника </a:t>
            </a: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у знањима и вештинама </a:t>
            </a:r>
            <a:r>
              <a:rPr b="1" lang="sr-C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до момента реформисања образовног система и до појаве већег броја </a:t>
            </a: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консултантских фирми превазилази се организацијом тренинга од стране релевантних организација (државних и приватних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0066"/>
                </a:solidFill>
                <a:latin typeface="Times New Roman"/>
              </a:rPr>
              <a:t>ИНСТИТУЦИЈЕ</a:t>
            </a:r>
            <a:r>
              <a:rPr b="0" lang="sr-C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40458c"/>
                </a:solidFill>
                <a:latin typeface="Times New Roman"/>
              </a:rPr>
              <a:t>Ф</a:t>
            </a: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акултети и институти – државни и приват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Привредне комор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Републичка и регионалне агенције и центри за развој МСП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Републички завод за тржиште рад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Приватне консултантске фирм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40458c"/>
                </a:solidFill>
                <a:latin typeface="Times New Roman"/>
              </a:rPr>
              <a:t>Међународне организациј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imes New Roman"/>
              </a:rPr>
              <a:t>ФАКУЛТЕТИ/ИНСТИТУТИ – СТАТИСТИКА ТРЕНИНГ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914400"/>
          <a:ext cx="9001080" cy="5332320"/>
        </p:xfrm>
        <a:graphic>
          <a:graphicData uri="http://schemas.openxmlformats.org/drawingml/2006/table">
            <a:tbl>
              <a:tblPr/>
              <a:tblGrid>
                <a:gridCol w="703080"/>
                <a:gridCol w="3865680"/>
                <a:gridCol w="1752480"/>
                <a:gridCol w="1066680"/>
                <a:gridCol w="762120"/>
                <a:gridCol w="851040"/>
              </a:tblGrid>
              <a:tr h="3366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ститут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Економски институт, Београд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Економски институт, Београд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ститут Adizes SE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9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ститут Adizes SEE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9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ститут за развој МСП д.о.о.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9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ститут за развој МСП д.о.о.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3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Отворени универзитет Суботиц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шестомесеч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Отворени универзитет Суботица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 gridSpan="2"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Институт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4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39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660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Факултет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Економски факултет Ниш - Институт за економска истраживањ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Економски факултет Ниш - Институт за економска истраживања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ољопривредни факултет Београд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ољопривредни факултет Београд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Факултет организационих наука, Београд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5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Факултет организационих наука, Београд -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7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 gridSpan="2"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Факултет Сума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5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8120"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8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84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imes New Roman"/>
              </a:rPr>
              <a:t>ПРИВРЕДНЕ КОМОРЕ – СТАТИСТИКА ТРЕНИНГ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58760" y="-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74600" y="16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143000"/>
          <a:ext cx="8991360" cy="5092560"/>
        </p:xfrm>
        <a:graphic>
          <a:graphicData uri="http://schemas.openxmlformats.org/drawingml/2006/table">
            <a:tbl>
              <a:tblPr/>
              <a:tblGrid>
                <a:gridCol w="838080"/>
                <a:gridCol w="620640"/>
                <a:gridCol w="3746520"/>
                <a:gridCol w="1576440"/>
                <a:gridCol w="914400"/>
                <a:gridCol w="609480"/>
                <a:gridCol w="685800"/>
              </a:tblGrid>
              <a:tr h="2746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9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1680">
                <a:tc rowSpan="9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Срб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Србије - Сектор за малу привреду и предузетништв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Србије - Сектор за малу привреду и предузетништво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Центар за менаџмент и едукацију Привредне коморе Срб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9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4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ије одређен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Центар за менаџмент и едукацију Привредне коморе Србије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0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Србије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15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 rowSpan="18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Београд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Београда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Војводин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Привредна комора Војводине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Привредна Комора Ваљев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0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Привредна Комора Ваљево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1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Привредна Комора Зрењанин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Привредна Комора Зрењанин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Привредна комора Крагујевац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Привредна комора Крагујевац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е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14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 gridSpan="2"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30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imes New Roman"/>
              </a:rPr>
              <a:t>РЕПУБЛИЧКА АГЕНЦИЈА – СТАТИСТИКА ТРЕНИНГ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4480" y="1994040"/>
          <a:ext cx="8915400" cy="289548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  <a:gridCol w="1752840"/>
                <a:gridCol w="1143000"/>
                <a:gridCol w="838080"/>
                <a:gridCol w="914400"/>
              </a:tblGrid>
              <a:tr h="457200"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тренинг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0040">
                <a:tc rowSpan="4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публичка агенција за развој МСП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изнис план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Како да започнем бизнис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Камо да започнем бизнис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енинг тренера за рад у регионалним центрима РЗТР-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 gridSpan="4">
                  <a:txBody>
                    <a:bodyPr lIns="45720" rIns="4572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публичка агенција за развој МСП Сума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sr-C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9</a:t>
                      </a: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imes New Roman"/>
              </a:rPr>
              <a:t>РЕГИОНАЛНЕ АГЕНЦИЈЕ – СТАТИСТИКА ТРЕНИНГА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7640" y="1495440"/>
          <a:ext cx="8382240" cy="4724280"/>
        </p:xfrm>
        <a:graphic>
          <a:graphicData uri="http://schemas.openxmlformats.org/drawingml/2006/table">
            <a:tbl>
              <a:tblPr/>
              <a:tblGrid>
                <a:gridCol w="4434120"/>
                <a:gridCol w="1371600"/>
                <a:gridCol w="1128600"/>
                <a:gridCol w="685800"/>
                <a:gridCol w="762120"/>
              </a:tblGrid>
              <a:tr h="3049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Агенција за економски развој Санџака - СЕДА, Нови Пазар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Агенција за економски развој Санџака - СЕДА, Нови Пазар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агенција за развој МСП Суботиц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агенција за развој МСП Суботица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492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агенција за развој МСП, д.о.о. Ниш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0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а агенција за развој МСП, д.о.о. Ниш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 rowSpan="3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алих и средњих предузећа " Алма Монс", Нови Сад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алих и средњих предузећа " Алма Монс", Нови Сад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- Банат, д.о.о. Зрењанин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- Банат, д.о.о. Зрењанин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9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Београд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Београд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0458c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8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imes New Roman"/>
              </a:rPr>
              <a:t>РЕГИОНАЛНЕ АГЕНЦИЈЕ – СТАТИСТИКА ТРЕНИНГА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905120"/>
          <a:ext cx="8153280" cy="3962160"/>
        </p:xfrm>
        <a:graphic>
          <a:graphicData uri="http://schemas.openxmlformats.org/drawingml/2006/table">
            <a:tbl>
              <a:tblPr/>
              <a:tblGrid>
                <a:gridCol w="3733560"/>
                <a:gridCol w="1198440"/>
                <a:gridCol w="478080"/>
                <a:gridCol w="1066680"/>
                <a:gridCol w="762120"/>
                <a:gridCol w="914400"/>
              </a:tblGrid>
              <a:tr h="3049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зив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ип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Трајањ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тренинг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рој полазник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Златибор д.о.о., Ужиц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Златибор д.о.о., Ужице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4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Крушевац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институциј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шестомесеч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Крушевац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8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Тимок, д.о.о. Зајечар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једн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 gridSpan="3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Тимок, д.о.о. Зајечар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7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720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Шумадија, д.о.о.за информационе, едукативне и консултантске услуге Крагујевац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стојећа предузећ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за почетнике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више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дводневни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1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егионални центар за развој МСП Шумадија, д.о.о.за информационе, едукативне и консултантске услуге Крагујевац - Сума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52640">
                <a:tc gridSpan="2"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Укупно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33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sr-C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091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9:17:38Z</dcterms:created>
  <dc:creator>snezana</dc:creator>
  <dc:description/>
  <dc:language>en-US</dc:language>
  <cp:lastModifiedBy>Bojan</cp:lastModifiedBy>
  <dcterms:modified xsi:type="dcterms:W3CDTF">2003-10-17T13:04:38Z</dcterms:modified>
  <cp:revision>29</cp:revision>
  <dc:subject/>
  <dc:title>PowerPoint Presentation</dc:title>
</cp:coreProperties>
</file>