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1157040" y="4130640"/>
            <a:ext cx="77914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570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51494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791160" y="198108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425640" y="198108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1157040" y="413064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6"/>
          <p:cNvSpPr>
            <a:spLocks noGrp="1"/>
          </p:cNvSpPr>
          <p:nvPr>
            <p:ph/>
          </p:nvPr>
        </p:nvSpPr>
        <p:spPr>
          <a:xfrm>
            <a:off x="3791160" y="413064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7"/>
          <p:cNvSpPr>
            <a:spLocks noGrp="1"/>
          </p:cNvSpPr>
          <p:nvPr>
            <p:ph/>
          </p:nvPr>
        </p:nvSpPr>
        <p:spPr>
          <a:xfrm>
            <a:off x="6425640" y="413064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 type="subTitle"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180800" y="609120"/>
            <a:ext cx="7715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1570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1494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157040" y="4130640"/>
            <a:ext cx="77914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8cf4ea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85760" cy="6845400"/>
            <a:chOff x="0" y="0"/>
            <a:chExt cx="1085760" cy="684540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1085760" cy="6845400"/>
            </a:xfrm>
            <a:prstGeom prst="rect">
              <a:avLst/>
            </a:prstGeom>
            <a:gradFill rotWithShape="0">
              <a:gsLst>
                <a:gs pos="0">
                  <a:srgbClr val="114ffb"/>
                </a:gs>
                <a:gs pos="50000">
                  <a:srgbClr val="030f32"/>
                </a:gs>
                <a:gs pos="100000">
                  <a:srgbClr val="114ff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6320" y="162000"/>
              <a:ext cx="152280" cy="6543720"/>
              <a:chOff x="76320" y="162000"/>
              <a:chExt cx="152280" cy="6543720"/>
            </a:xfrm>
          </p:grpSpPr>
          <p:sp>
            <p:nvSpPr>
              <p:cNvPr id="5" name=""/>
              <p:cNvSpPr/>
              <p:nvPr/>
            </p:nvSpPr>
            <p:spPr>
              <a:xfrm>
                <a:off x="76320" y="1752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320" y="1981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6320" y="22096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6320" y="24382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26668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2895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3124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33526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35812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38098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4038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4267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44956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47242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49528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5181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5410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56386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58672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60958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6324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6553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6192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8478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10764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76320" y="13050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76320" y="15336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2209680"/>
            <a:ext cx="7772400" cy="19051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8cf4ea"/>
                </a:solidFill>
                <a:latin typeface="Times New Roman"/>
              </a:rPr>
              <a:t>Obrazov</a:t>
            </a:r>
            <a:r>
              <a:rPr b="0" lang="en-US" sz="4000" spc="-1" strike="noStrike">
                <a:solidFill>
                  <a:srgbClr val="8cf4ea"/>
                </a:solidFill>
                <a:latin typeface="Times New Roman"/>
              </a:rPr>
              <a:t>anje </a:t>
            </a:r>
            <a:r>
              <a:rPr b="0" lang="sr-Latn-CS" sz="4000" spc="-1" strike="noStrike">
                <a:solidFill>
                  <a:srgbClr val="8cf4ea"/>
                </a:solidFill>
                <a:latin typeface="Times New Roman"/>
              </a:rPr>
              <a:t>i</a:t>
            </a:r>
            <a:r>
              <a:rPr b="0" lang="en-US" sz="4000" spc="-1" strike="noStrike">
                <a:solidFill>
                  <a:srgbClr val="8cf4ea"/>
                </a:solidFill>
                <a:latin typeface="Times New Roman"/>
              </a:rPr>
              <a:t> ra</a:t>
            </a:r>
            <a:r>
              <a:rPr b="0" lang="sr-Latn-CS" sz="4000" spc="-1" strike="noStrike">
                <a:solidFill>
                  <a:srgbClr val="8cf4ea"/>
                </a:solidFill>
                <a:latin typeface="Times New Roman"/>
              </a:rPr>
              <a:t>z</a:t>
            </a:r>
            <a:r>
              <a:rPr b="0" lang="en-US" sz="4000" spc="-1" strike="noStrike">
                <a:solidFill>
                  <a:srgbClr val="8cf4ea"/>
                </a:solidFill>
                <a:latin typeface="Times New Roman"/>
              </a:rPr>
              <a:t>voj </a:t>
            </a:r>
            <a:r>
              <a:rPr b="0" lang="sr-Latn-CS" sz="4000" spc="-1" strike="noStrike">
                <a:solidFill>
                  <a:srgbClr val="8cf4ea"/>
                </a:solidFill>
                <a:latin typeface="Times New Roman"/>
              </a:rPr>
              <a:t>preduzetništva</a:t>
            </a:r>
            <a:br>
              <a:rPr sz="4000"/>
            </a:br>
            <a:endParaRPr b="0" lang="en-US" sz="40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447920" y="228600"/>
            <a:ext cx="723888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rof. dr Svetislav Paunović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Fakultet </a:t>
            </a:r>
            <a:r>
              <a:rPr b="1" lang="sr-Latn-CS" sz="3200" spc="-1" strike="noStrike">
                <a:solidFill>
                  <a:srgbClr val="ffffff"/>
                </a:solidFill>
                <a:latin typeface="Times New Roman"/>
              </a:rPr>
              <a:t>za menadžment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BK Beograd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3962520"/>
            <a:ext cx="74678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ffffff"/>
                </a:solidFill>
                <a:latin typeface="Times New Roman"/>
              </a:rPr>
              <a:t>Međunarodna konferencij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Mala i srednja preduzeća –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nove mogućnosti za Srbiju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ffffff"/>
                </a:solidFill>
                <a:latin typeface="Times New Roman"/>
              </a:rPr>
              <a:t>Beogr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ffffff"/>
                </a:solidFill>
                <a:latin typeface="Times New Roman"/>
              </a:rPr>
              <a:t>6 – 7 oktobar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 200</a:t>
            </a:r>
            <a:r>
              <a:rPr b="1" i="1" lang="sr-Latn-CS" sz="28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8cf4ea"/>
                </a:solidFill>
                <a:latin typeface="Times New Roman"/>
              </a:rPr>
              <a:t>Sistem srednjeg obrazovanja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Dalji razvoj ličnih kvalite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Podizanje svesti o značaju preduzetničkog ponašanja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Filozofija “kreirati posao sam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Učenje uz ra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Specifični trening programi za uspešno vođenje biznis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80800" y="228240"/>
            <a:ext cx="771516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8cf4ea"/>
                </a:solidFill>
                <a:latin typeface="Times New Roman"/>
              </a:rPr>
              <a:t>Univerzitetsko obrazovanje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57040" y="1447920"/>
            <a:ext cx="779148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Kvalitet i kvantitet informacija, znanja i veština za pokretanje biznis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Razvoj kapaciteta za sagledavanje relevantnih elemenata u evaluaciji konkretnih poslovnih projek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Razvoj veština u procesu identifikovanja poslovnih problema i načina njihovog rešavanj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Veštine prepoznavanja poslovnih šans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80800" y="0"/>
            <a:ext cx="7715160" cy="1295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8cf4ea"/>
                </a:solidFill>
                <a:latin typeface="Times New Roman"/>
              </a:rPr>
              <a:t>Kako realizovati ove programe?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57040" y="1294920"/>
            <a:ext cx="779148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Ex-katedra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istup 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stavlja slušaoca u poziciju pasivnog učesnika i memoratora informacij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Proaktivni i interaktivni pristup stavlja slušaoca u poziciju aktivnog učesnika i korisnika informacij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i="1" lang="sr-Latn-CS" sz="3200" spc="-1" strike="noStrike">
                <a:solidFill>
                  <a:srgbClr val="ffffff"/>
                </a:solidFill>
                <a:latin typeface="Times New Roman"/>
              </a:rPr>
              <a:t>Edukatori/profesori/treneri koji se bave obrazovanjem za preduzetništvo moraju i sami da budu “preduzetnici” i da primenjuju preduzetničke metode i tehnike u tim procesim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1157040" y="380880"/>
            <a:ext cx="760572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sr-Latn-C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Latn-C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Latn-C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sr-Latn-CS" sz="3200" spc="-1" strike="noStrike">
                <a:solidFill>
                  <a:srgbClr val="ffffff"/>
                </a:solidFill>
                <a:latin typeface="Times New Roman"/>
              </a:rPr>
              <a:t>Nacionalni program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sr-Latn-CS" sz="3200" spc="-1" strike="noStrike">
                <a:solidFill>
                  <a:srgbClr val="ffffff"/>
                </a:solidFill>
                <a:latin typeface="Times New Roman"/>
              </a:rPr>
              <a:t>za preduzetničko osposobljavanj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Razvoj mreže institucija koje se bave obrazovanjem za preduzetništv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Kreiranje nastavnih programa i definisanje modaliteta uključenj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ove problematike u obrazovne procese na svim nivoim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Podizanje nivoa kvaliteta nastavnog i trening osoblj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80800" y="-36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8cf4ea"/>
                </a:solidFill>
                <a:latin typeface="Times New Roman"/>
              </a:rPr>
              <a:t>O preduzetništvu</a:t>
            </a:r>
            <a:endParaRPr b="0" lang="en-US" sz="40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1760" y="1143000"/>
            <a:ext cx="818676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Ključni razvojni resu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Akciono orijentisani </a:t>
            </a: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način razmišljanj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Poslovna filozofija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koja u centar interesovanja stavlja i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novacij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Veoma redak resurs – sku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Biti rođen” vs. “može se naučiti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Preduzetništvo u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lim predu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z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ćima i u velikim kompanijam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Preuzetnički duh – bitna karakteristika modernih menadžer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80800" y="304560"/>
            <a:ext cx="7715160" cy="99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8cf4ea"/>
                </a:solidFill>
                <a:latin typeface="Times New Roman"/>
              </a:rPr>
              <a:t>Obrazovanje za preduzetništvo</a:t>
            </a:r>
            <a:endParaRPr b="0" lang="en-US" sz="40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57040" y="1447560"/>
            <a:ext cx="77914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Potreba podsticanja razvoja preduzetničkog razmišljanja i preduzetničkih veštin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Preduzetništvo je prepoznato kao bazična veština u procesu perma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ntnog obrazovanj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Obrazovanje za preduzetništv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se praktično realizuje na svim nivoima formalnog obrazovanja u zemljama EU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80800" y="22824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8cf4ea"/>
                </a:solidFill>
                <a:latin typeface="Times New Roman"/>
              </a:rPr>
              <a:t>Obrazovanje za preduzetništvo (2)</a:t>
            </a:r>
            <a:endParaRPr b="0" lang="en-US" sz="40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1981080"/>
            <a:ext cx="8339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3200" spc="-1" strike="noStrike">
                <a:solidFill>
                  <a:srgbClr val="ffffff"/>
                </a:solidFill>
                <a:latin typeface="Times New Roman"/>
              </a:rPr>
              <a:t>Ekspertska grupa EU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definiše obrazovanje za preduzetništvo ne samo kao proces pripremanja, obrazovanja i treninga za kreiranje biznisa, već u jednom širem kontekstu kao </a:t>
            </a:r>
            <a:r>
              <a:rPr b="1" i="1" lang="sr-Latn-CS" sz="3200" spc="-1" strike="noStrike">
                <a:solidFill>
                  <a:srgbClr val="ffffff"/>
                </a:solidFill>
                <a:latin typeface="Times New Roman"/>
              </a:rPr>
              <a:t>proces razvoja preduzetničkog načina razmišljanja, preduzetničkih veština i ličnih kvaliteta koji nisu direktno vezani za formiranje i vođenje biznis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96284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8cf4ea"/>
                </a:solidFill>
                <a:latin typeface="Times New Roman"/>
              </a:rPr>
              <a:t>Ciljevi obrazovanja za preduzetništvo </a:t>
            </a:r>
            <a:endParaRPr b="0" lang="en-US" sz="40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Podizanje svesti o značaju preuzimanja odgovor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sti za sopstvenu sudbinu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Napuštanje filozofije “dobiti posao” i prihvatanje filozofije “kreirati posao sam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Promovisanje preduzetničkih kvaliteta koji su aplikativni u skori svim obl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tima rada i delovanja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82964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8cf4ea"/>
                </a:solidFill>
                <a:latin typeface="Times New Roman"/>
              </a:rPr>
              <a:t>Nalazi ekspertske grupe EU</a:t>
            </a:r>
            <a:endParaRPr b="0" lang="en-US" sz="40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3394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Forum EU “Trening za preduzetništvo” 2003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8cf4ea"/>
              </a:buClr>
              <a:buSzPct val="7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Potreban je preduzetnički vođen obrazovni siste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8cf4ea"/>
              </a:buClr>
              <a:buSzPct val="7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Potrebno je kreirati strategiju koja uključuje sve nivoe formalnog i neformalnog obrazovanja i sve relevantne igrače (profesore, trenere, učenike, studente, preduzeća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8cf4ea"/>
              </a:buClr>
              <a:buSzPct val="7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Preduzetništvo se mora tretirati kao bazični set veština koji se stalno nadograđuje u procesu doživotnog obrazovanja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80800" y="228240"/>
            <a:ext cx="7715160" cy="1219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8cf4ea"/>
                </a:solidFill>
                <a:latin typeface="Times New Roman"/>
              </a:rPr>
              <a:t>Nalazi ekspertske grupe EU (2)</a:t>
            </a:r>
            <a:endParaRPr b="0" lang="en-US" sz="40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57040" y="1600200"/>
            <a:ext cx="77914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4) 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Obrazovni proces treba da se pripremi za nove izazov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) Potrebno je kreirati koncept obrazovanja za preduzetništvo koji će imati dugoročnu komponenet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(6) “Preduzetništvo uključiti u nacionalne obrazovne planove i programe” vs. “preduzetništvo kao dopunski, dodatni ili izborni predmet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80800" y="22824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8cf4ea"/>
                </a:solidFill>
                <a:latin typeface="Times New Roman"/>
              </a:rPr>
              <a:t>Obrazovanje za preduzetništvo u Srbiji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57040" y="1294920"/>
            <a:ext cx="779148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Nije integrisano u sistem osnovnog i srednjeg obrazovanj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Mali je broj privatnih i državnih fakulteta na kojima se preduzetništvo tretira kao poseban predme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Veći je broj fakulteta gde se ova materija obrađuje u okviru pojedinih predme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8cf4ea"/>
                </a:solidFill>
                <a:latin typeface="Times New Roman"/>
              </a:rPr>
              <a:t>Sistem osnovnog obrazovanja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Podsticanje i spoznaja ličnih kvaliteta učenika (kreativnost, samostalnost, akciona orijentisanost, takmičarski duh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Razvijati samostalne i aktivne forme učenj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Učenje kroz igru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Prezentacija jednostavnih primera iz prak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Poseta lokalnim preduzećima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25T11:45:32Z</dcterms:created>
  <dc:creator>Prof.dr Svetislav Paunović</dc:creator>
  <dc:description/>
  <dc:language>en-US</dc:language>
  <cp:lastModifiedBy>Bojan</cp:lastModifiedBy>
  <dcterms:modified xsi:type="dcterms:W3CDTF">2003-10-06T15:32:49Z</dcterms:modified>
  <cp:revision>74</cp:revision>
  <dc:subject/>
  <dc:title>Entrepreneurship education</dc:title>
</cp:coreProperties>
</file>