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3139-17CC-4FC6-B05B-6D0BDD7A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0BDD-CD8A-4031-AA43-A780D176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ED8C-DE1F-4BE5-BCE4-6528CC25E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1E3D-2CBB-4060-8A59-8DF367393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60D2-5C10-453D-9416-6D2EEF49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FE39-53E9-420A-A521-DD1BD041B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063A-F94F-4F2A-931C-59863C25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3BA6-5F8F-493B-95C6-6BA24BBC6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9DDB-5AD4-4D84-AF86-BFA0D3122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EBE3-2D36-460A-9BA5-681FD7023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0EE2-BE25-481C-AFAC-D42D29A4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A90BF-A642-4C9B-B016-D7C652E5E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EACF2-5199-43A2-9299-E256E0746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79250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SP u Srbiji i izvoz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95280" y="3429000"/>
            <a:ext cx="6400800" cy="1752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onferencija o MSP u Srbi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ogr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tobar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001000" y="629604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80880" y="62992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Assistance  to SMEs in Serbi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1. Preduzece i izvoz </a:t>
            </a:r>
            <a:br>
              <a:rPr sz="1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</a:t>
            </a:r>
            <a:r>
              <a:rPr b="0" lang="sr-Latn-CS" sz="3600" spc="-1" strike="noStrike">
                <a:solidFill>
                  <a:srgbClr val="000000"/>
                </a:solidFill>
                <a:latin typeface="Arial Black"/>
              </a:rPr>
              <a:t>ktna prodaj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irektna nabavka za klijenta i upravljanje svim kontakti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tvorena prodaj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administrativna kancelarija na izvozn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daja preko Intern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153280" y="6315120"/>
            <a:ext cx="838440" cy="5522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85920" y="6276960"/>
            <a:ext cx="312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Assistance to SMEs in Serbia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Preduzece i izvoz </a:t>
            </a:r>
            <a:br>
              <a:rPr sz="4000"/>
            </a:br>
            <a:r>
              <a:rPr b="0" lang="sr-Latn-CS" sz="4000" spc="-1" strike="noStrike">
                <a:solidFill>
                  <a:srgbClr val="000000"/>
                </a:solidFill>
                <a:latin typeface="Arial Black"/>
              </a:rPr>
              <a:t>Pitanja izvoz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cija proizvo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dređivanje ce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siguranje transporta i tranz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rediti za izvoz – m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đunarodni trgovinski rizi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Finansiranje izvoz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enadžment rizi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8153280" y="6315120"/>
            <a:ext cx="838440" cy="5522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85920" y="6276960"/>
            <a:ext cx="312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Assistance to SMEs in Serbia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Arial Black"/>
              </a:rPr>
              <a:t>Deo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2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 Black"/>
              </a:rPr>
              <a:t>Država i izvoz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Međunarodna MSP konferen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ogr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ptemb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153280" y="6315120"/>
            <a:ext cx="838440" cy="5522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2320" y="6253200"/>
            <a:ext cx="349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Project “Non Financi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Assistance to SMEs in Serbia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Država i izvoz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</a:t>
            </a:r>
            <a:r>
              <a:rPr b="0" lang="sr-Latn-CS" sz="3600" spc="-1" strike="noStrike">
                <a:solidFill>
                  <a:srgbClr val="000000"/>
                </a:solidFill>
                <a:latin typeface="Arial Black"/>
              </a:rPr>
              <a:t>rbiji je potrebno više izvo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0" lang="sr-Latn-CS" sz="2800" spc="-1" strike="noStrike" u="sng">
                <a:solidFill>
                  <a:srgbClr val="ffffff"/>
                </a:solidFill>
                <a:uFillTx/>
                <a:latin typeface="Arial"/>
              </a:rPr>
              <a:t>rbiji je potreban jak izvozni sektor da bi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manjila veliki strani trgovinski defic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Absorbovala postojeće neupotrebljene proizvodne kapacitete na malom domaćem tržiš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oprinela nacionalnom bogatstvu i zaposle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oboljšala konkurentnost i kvalitet preuzeća i proizvo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153280" y="6315120"/>
            <a:ext cx="838440" cy="5522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85920" y="6249960"/>
            <a:ext cx="312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Assistance to SMEs in Serbia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Država i izvoz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4000"/>
            </a:br>
            <a:r>
              <a:rPr b="0" lang="sr-Latn-CS" sz="4000" spc="-1" strike="noStrike">
                <a:solidFill>
                  <a:srgbClr val="000000"/>
                </a:solidFill>
                <a:latin typeface="Arial Black"/>
              </a:rPr>
              <a:t>Prepreke za izvoz MS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edostatak finansija i osiguran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eadekvatne informacije i istraživanje potencijalnih izvoznih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ma tehničke podrške za kvalitet, standarde i dizaj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ovinske prepre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eadekvatna institucionalna podrška razvoju i promociji izvoza M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8153280" y="6315120"/>
            <a:ext cx="838440" cy="552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85920" y="6249960"/>
            <a:ext cx="312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Assistance to SMEs in Serbia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Država i izvoz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</a:t>
            </a:r>
            <a:r>
              <a:rPr b="0" lang="sr-Latn-CS" sz="4000" spc="-1" strike="noStrike">
                <a:solidFill>
                  <a:srgbClr val="000000"/>
                </a:solidFill>
                <a:latin typeface="Arial Black"/>
              </a:rPr>
              <a:t>rioriteti polit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mot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vna podrška za glavna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vne i savetodavne usl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Razvoj izvoznih kapaciteta konkurentskih M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zvozne finansije i osiguran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Šema standarda kvalit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onatorska podrška u promociji trgov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153280" y="6315120"/>
            <a:ext cx="838440" cy="5522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85920" y="6249960"/>
            <a:ext cx="312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Assistance to SMEs in Serbia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Država i izvoz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N</a:t>
            </a:r>
            <a:r>
              <a:rPr b="0" lang="sr-Latn-CS" sz="4000" spc="-1" strike="noStrike">
                <a:solidFill>
                  <a:srgbClr val="000000"/>
                </a:solidFill>
                <a:latin typeface="Arial Black"/>
              </a:rPr>
              <a:t>ove usluge za izvozni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Sektor za izvoz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EPA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-e je ojačan i program tehničke podrške koji finansira EU je poče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Glavna uloga Sektora za izvoz SIEP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Promo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cija srpskih roba i usluga na stranim tržištima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”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8153280" y="6315120"/>
            <a:ext cx="838440" cy="5522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85920" y="6249960"/>
            <a:ext cx="312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Assistance to SMEs in Serbia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2. 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Država i izvoz</a:t>
            </a:r>
            <a:br>
              <a:rPr sz="3600"/>
            </a:br>
            <a:r>
              <a:rPr b="0" lang="sr-Latn-CS" sz="3600" spc="-1" strike="noStrike">
                <a:solidFill>
                  <a:srgbClr val="000000"/>
                </a:solidFill>
                <a:latin typeface="Arial Black"/>
              </a:rPr>
              <a:t>Podrška izvoznim kapacitetima MS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ojekat USAID-a za razvoj preduzeća u Srbiji podržava izvoz MSP koji su klij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Mreža regionalnih MSP agencija pruža direktne savetodavne, informativne i trening usluge MS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apaciteti pružaoca usluga MSP je poboljšava kroz različite projek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153280" y="6315120"/>
            <a:ext cx="838440" cy="5522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85920" y="6249960"/>
            <a:ext cx="312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Assistance to SMEs in Serbia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zentacija u dva del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Preduzeća i iz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ržava i izvo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zvoz i MS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001000" y="629604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80880" y="62866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Assistance  to SMEs in Serbi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Preduzece i izvoz </a:t>
            </a:r>
            <a:br>
              <a:rPr sz="4000"/>
            </a:br>
            <a:r>
              <a:rPr b="0" lang="sr-Latn-CS" sz="4000" spc="-1" strike="noStrike">
                <a:solidFill>
                  <a:srgbClr val="000000"/>
                </a:solidFill>
                <a:latin typeface="Arial Black"/>
              </a:rPr>
              <a:t>Zašto izvoz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?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Arial"/>
              </a:rPr>
              <a:t>Ciljevi za izvoz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a se poveća prodaja i profitabil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a se iskoriste proizvodni kapaciteti do maksimu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Da se postigne veća poslovna sigurnost širenjem rizika preko brojnih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01000" y="629604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57200" y="62866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Assistance  to SMEs in Serbi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Preduzece i izvoz </a:t>
            </a:r>
            <a:br>
              <a:rPr sz="4000"/>
            </a:br>
            <a:r>
              <a:rPr b="0" lang="sr-Latn-CS" sz="4000" spc="-1" strike="noStrike">
                <a:solidFill>
                  <a:srgbClr val="000000"/>
                </a:solidFill>
                <a:latin typeface="Arial Black"/>
              </a:rPr>
              <a:t>Zašto izvoz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?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Arial"/>
              </a:rPr>
              <a:t>Razlozi za izvoz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edostatak mogućnosti za razvoj na srpskom tržišt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Nedovoljan broj klijenata u Srbiji za postojeće proizv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001000" y="629604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57200" y="62866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Assistance  to SMEs in Serbi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1.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 Preduzece i izvoz </a:t>
            </a:r>
            <a:br>
              <a:rPr sz="4000"/>
            </a:br>
            <a:r>
              <a:rPr b="0" lang="sr-Latn-CS" sz="4000" spc="-1" strike="noStrike">
                <a:solidFill>
                  <a:srgbClr val="000000"/>
                </a:solidFill>
                <a:latin typeface="Arial Black"/>
              </a:rPr>
              <a:t>Glavni korac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el"/>
              </a:rPr>
              <a:t>identifying opportun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el"/>
              </a:rPr>
              <a:t>selecting the mark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el"/>
              </a:rPr>
              <a:t>entering the mark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13372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kovati mogućnos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dabrati trž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Ući na tržiš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Preduzece i izvoz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ntif</a:t>
            </a:r>
            <a:r>
              <a:rPr b="0" lang="sr-Latn-CS" sz="3600" spc="-1" strike="noStrike">
                <a:solidFill>
                  <a:srgbClr val="000000"/>
                </a:solidFill>
                <a:latin typeface="Arial Black"/>
              </a:rPr>
              <a:t>ikovati mogućnos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Sekundarna i istraživanja na teren na kontrolisanom broju tržišt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 npr. B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k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otrebne informacij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veličina tržišta, statistički podaci o uvozu, lokalni ekonomski podaci, propisi i odobrenja npr. zdravstvo,uvozne licence i tarife, lista agenata i uvoz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zvori informacij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EPA, 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Regionalne MSP agencije, privredne komore, EIC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001000" y="629604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457200" y="62866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Assistance  to SMEs in Serbi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1. Preduzece i izvoz </a:t>
            </a:r>
            <a:br>
              <a:rPr sz="4000"/>
            </a:br>
            <a:r>
              <a:rPr b="0" lang="sr-Latn-CS" sz="3600" spc="-1" strike="noStrike">
                <a:solidFill>
                  <a:srgbClr val="000000"/>
                </a:solidFill>
                <a:latin typeface="Arial Black"/>
              </a:rPr>
              <a:t>Odabir izvoznih tržiš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oncentrišite se na nekoliko tržiš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daberite tržište u kome ima dovoljno potencijala da se opravda taj na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daberite tržište gde proizvodi mogu da imaju neku konkurentsku prednost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cena, poslovanje, kvalit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Osigurajte da se biznisom može rukovod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001000" y="6305400"/>
            <a:ext cx="838080" cy="5526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57200" y="62866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Assistance  to SMEs in Serbi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Preduzece i izvoz </a:t>
            </a:r>
            <a:br>
              <a:rPr sz="4000"/>
            </a:br>
            <a:r>
              <a:rPr b="0" lang="sr-Latn-CS" sz="3600" spc="-1" strike="noStrike">
                <a:solidFill>
                  <a:srgbClr val="000000"/>
                </a:solidFill>
                <a:latin typeface="Arial Black"/>
              </a:rPr>
              <a:t>Ulazak na tržiš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 u="sng">
                <a:solidFill>
                  <a:srgbClr val="ffffff"/>
                </a:solidFill>
                <a:uFillTx/>
                <a:latin typeface="Arial"/>
              </a:rPr>
              <a:t>Ko će prodati proizvod na novom tržištu i kako će biti prodat ili distribuiran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distribut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eri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re</a:t>
            </a:r>
            <a:r>
              <a:rPr b="0" lang="sr-Latn-CS" sz="3200" spc="-1" strike="noStrike">
                <a:solidFill>
                  <a:srgbClr val="ffffff"/>
                </a:solidFill>
                <a:latin typeface="Arial"/>
              </a:rPr>
              <a:t>ktna prodaja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8153280" y="6315120"/>
            <a:ext cx="838440" cy="552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457200" y="628668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600" spc="-1" strike="noStrike">
                <a:solidFill>
                  <a:srgbClr val="000000"/>
                </a:solidFill>
                <a:latin typeface="Arial"/>
              </a:rPr>
              <a:t>Project “Non Financial Assistance  to SMEs in Serbi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 Black"/>
              </a:rPr>
              <a:t>1. </a:t>
            </a:r>
            <a:r>
              <a:rPr b="0" i="1" lang="sr-Latn-CS" sz="1600" spc="-1" strike="noStrike">
                <a:solidFill>
                  <a:srgbClr val="000000"/>
                </a:solidFill>
                <a:latin typeface="Arial Black"/>
              </a:rPr>
              <a:t>Preduzece i izvoz </a:t>
            </a:r>
            <a:br>
              <a:rPr sz="4000"/>
            </a:br>
            <a:r>
              <a:rPr b="0" lang="sr-Latn-C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ikujte, odaberite listu, izaberite, napravite kontakt, pregovarajte i odobr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Da li je agent zainteresovan za proizvod i dobru reputaciju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ent</a:t>
            </a: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u je potrebno da veruje da će proizvod biti uspešan i imati poverenje u efikasnost i pouzdanost proizvođač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Arial"/>
              </a:rPr>
              <a:t>Proizvođač podržava rad agen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0T08:55:06Z</dcterms:created>
  <dc:creator>Shane</dc:creator>
  <dc:description/>
  <dc:language>en-US</dc:language>
  <cp:lastModifiedBy>Bojan</cp:lastModifiedBy>
  <dcterms:modified xsi:type="dcterms:W3CDTF">2003-10-06T14:41:01Z</dcterms:modified>
  <cp:revision>46</cp:revision>
  <dc:subject/>
  <dc:title>Serbia’s SMEs and Exports</dc:title>
</cp:coreProperties>
</file>