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F44-793E-4BE4-8F44-9B3CE680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72F-DA66-4E8E-8B8F-E23AB287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DAD-FC42-4F4C-B01B-DAD6ACD5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EF4-7CB7-4C6F-987F-D02A5B4B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E2D-245C-4A0E-8CEA-8F803427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DC9-66AB-4E02-8056-F71BF7EA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649-E32E-44FA-B122-920CF3E7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BE6-3C9D-443F-93BB-EB929515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819-A134-4947-9B8F-9306F66B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C6F-F87D-493B-BDB1-471017F6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A7A-9177-4806-8515-074ADAFC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2F9-1ED0-49A9-B931-8C620B0E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3FC7-8390-424A-B966-A2232FB35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P u Srbiji i iz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ferencija o MSP u Srb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ogr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tobar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01000" y="629604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62992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1. Preduzece i izvoz </a:t>
            </a:r>
            <a:br>
              <a:rPr sz="1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</a:t>
            </a: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ktna prod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rektna nabavka za klijenta i upravljanje svim konta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vorena proda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dministrativna kancelarija na izvoz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daja preko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5920" y="6276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Preduzece i izvoz 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Pitanja izvo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ija proizv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dređivanj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guranje transporta i tranz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editi za izvoz – m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đunarodni trgovinsk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inansiranje izvoz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nadžment riz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5920" y="6276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Deo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2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Država i izvoz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eđunarodna MSP konfer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gr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temb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2320" y="6253200"/>
            <a:ext cx="34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Država i izvoz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</a:t>
            </a: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rbiji je potrebno više izvo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rbiji je potreban jak izvozni sektor da bi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manjila veliki strani trgovinski def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bsorbovala postojeće neupotrebljene proizvodne kapacitete na malom domaćem trž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oprinela nacionalnom bogatstvu i zaposle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oboljšala konkurentnost i kvalitet preuzeća i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5920" y="6249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Država i izvoz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Prepreke za izvoz MS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dostatak finansija i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adekvatne informacije i istraživanje potencijalnih izvoznih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ma tehničke podrške za kvalitet, standarde i diza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ovinske prepre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adekvatna institucionalna podrška razvoju i promociji izvoza M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5920" y="6249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Država i izvoz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rioriteti polit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vna podrška za glavn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vne i savetodav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azvoj izvoznih kapaciteta konkurentskih M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vozne finansije i osigu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ma standarda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onatorska podrška u promociji trgo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5920" y="6249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Država i izvoz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ove usluge za izvozn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ktor za izvoz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EP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e je ojačan i program tehničke podrške koji finansira EU je poč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lavna uloga Sektora za izvoz SIEP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Prom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ija srpskih roba i usluga na stranim tržišti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5920" y="6249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Država i izvoz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Podrška izvoznim kapacitetima M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jekat USAID-a za razvoj preduzeća u Srbiji podržava izvoz MSP koji su klij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reža regionalnih MSP agencija pruža direktne savetodavne, informativne i trening usluge M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apaciteti pružaoca usluga MSP je poboljšava kroz različit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5920" y="6249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zentacija u dva de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duzeća i iz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ržava i iz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zvoz i M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001000" y="629604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6286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Preduzece i izvoz 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Zašto izvoz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?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Ciljevi za izvoz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a se poveća prodaja i profitabi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a se iskoriste proizvodni kapaciteti do maksim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a se postigne veća poslovna sigurnost širenjem rizika preko brojnih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1000" y="629604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6286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Preduzece i izvoz 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Zašto izvoz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?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Razlozi za izvoz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dostatak mogućnosti za razvoj na srpsk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dovoljan broj klijenata u Srbiji za postojeće proizv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01000" y="629604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286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 Preduzece i izvoz 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Glavni kora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el"/>
              </a:rPr>
              <a:t>identifying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el"/>
              </a:rPr>
              <a:t>selecting the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el"/>
              </a:rPr>
              <a:t>entering the mark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kovati moguć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dabrati 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ći na 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Preduzece i izvoz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ntif</a:t>
            </a: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ikovati mogućnos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ekundarna i istraživanja na teren na kontrolisanom broju tržiš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npr.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otrebne informacij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eličina tržišta, statistički podaci o uvozu, lokalni ekonomski podaci, propisi i odobrenja npr. zdravstvo,uvozne licence i tarife, lista agenata i uvoz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zvori informacij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EPA,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Regionalne MSP agencije, privredne komore, EI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001000" y="629604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6286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1. Preduzece i izvoz </a:t>
            </a:r>
            <a:br>
              <a:rPr sz="4000"/>
            </a:b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Odabir izvoznih tržiš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centrišite se na nekoliko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daberite tržište u kome ima dovoljno potencijala da se opravda taj n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daberite tržište gde proizvodi mogu da imaju neku konkurentsku prednos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ena, poslovanje,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sigurajte da se biznisom može rukovo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001000" y="63054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6286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Preduzece i izvoz </a:t>
            </a:r>
            <a:br>
              <a:rPr sz="4000"/>
            </a:b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Ulazak na tržiš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Ko će prodati proizvod na novom tržištu i kako će biti prodat ili distribuira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distribu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tna prodaj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6286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Preduzece i izvoz </a:t>
            </a:r>
            <a:br>
              <a:rPr sz="4000"/>
            </a:b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kujte, odaberite listu, izaberite, napravite kontakt, pregovarajte i odob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a li je agent zainteresovan za proizvod i dobru reputacij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 je potrebno da veruje da će proizvod biti uspešan i imati poverenje u efikasnost i pouzdanost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roizvođač podržava rad agen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8:55:06Z</dcterms:created>
  <dc:creator>Shane</dc:creator>
  <dc:description/>
  <dc:language>en-US</dc:language>
  <cp:lastModifiedBy>Bojan</cp:lastModifiedBy>
  <dcterms:modified xsi:type="dcterms:W3CDTF">2003-10-06T14:41:01Z</dcterms:modified>
  <cp:revision>46</cp:revision>
  <dc:subject/>
  <dc:title>Serbia’s SMEs and Exports</dc:title>
</cp:coreProperties>
</file>