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glass.wav" ContentType="audio/x-wav"/>
  <Override PartName="/ppt/media/image27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F6C-1077-461E-AD5E-57D4D7CB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995-10AD-4CC7-B7D4-F0CD592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603-4691-42A6-8ECD-8A9AE11A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30D-7A97-4ED9-B68A-51401FB5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2465-C46A-48AC-A970-E56284C6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7CFE-4A87-458E-A195-B293C12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E33-FCD2-415D-BD7A-F03491C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9435-55A6-40E6-99B9-10167AC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100B-DFE9-4ED5-A0CD-D873D7D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DA86-2E48-4D80-BF10-533B07C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2F4C-F799-430F-A88B-4847EF4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20A-FB23-4295-9CD9-EC52487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465-6F1B-4052-8344-BCB42ED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0CDE-5EFD-491B-86BF-26D97C5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EBA-57C8-46F7-B093-BCAA5E3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455-33C9-4111-B84A-70873C64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1F4-B698-406E-8745-2C0002B7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0F4-7327-4163-8C32-D00A39F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B78-E29F-4A8E-994B-077DACE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833-E821-44B5-9249-AAB94246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09F-D1FF-4593-B864-F34DBF3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B21-D247-47E8-88A6-2E15AC1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923-FB4F-4625-8BEA-4A58F3C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62C-23A8-4F53-8E51-D949D33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28DB-7EF3-49CD-A3C9-9D2CFF4B7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879-FF5F-49C3-824F-36E956942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hyperlink" Target="file:///tmp/home/.config/libreoffice/4/user/gallery/glass.wav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hyperlink" Target="file:///tmp/home/.config/libreoffice/4/user/gallery/glass.wav" TargetMode="External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erbian SME Conferen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Lokalno partnerstvo </a:t>
            </a: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a ra</a:t>
            </a: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voj predu</a:t>
            </a: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ze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ni</a:t>
            </a: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š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va </a:t>
            </a: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konkurentnost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5400" spc="-1" strike="noStrike">
                <a:solidFill>
                  <a:srgbClr val="ffff00"/>
                </a:solidFill>
                <a:latin typeface="Times New Roman"/>
              </a:rPr>
              <a:t>Local partnerships for business develop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f. Radmila Grozdanic,Ph.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0" y="1752480"/>
            <a:ext cx="419112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510516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334120"/>
            <a:ext cx="617220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8006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0680600">
            <a:off x="3276720" y="48006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3347600">
            <a:off x="3657600" y="12189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30481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9206000">
            <a:off x="5029200" y="12189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680600">
            <a:off x="3352680" y="30481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094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mace i globalno trzi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143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v 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1066680"/>
            <a:ext cx="13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iz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lu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905120"/>
            <a:ext cx="38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vozno orijentisani klast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00204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izvodi-uslu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92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bdevaci, povezane industr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7960" y="56386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na-privatna infrastrukturna podr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413000"/>
            <a:ext cx="33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nlni proiz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uslu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2986200"/>
            <a:ext cx="23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industrijsk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ak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70760" y="4495680"/>
            <a:ext cx="210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snivanje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tencijal lok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konom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134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sticije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e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Lokaln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konomija- energija ekonomske aktiv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362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17360" y="-950400"/>
            <a:ext cx="8886960" cy="7864920"/>
            <a:chOff x="117360" y="-950400"/>
            <a:chExt cx="8886960" cy="7864920"/>
          </a:xfrm>
        </p:grpSpPr>
        <p:sp>
          <p:nvSpPr>
            <p:cNvPr id="185" name="_s17412"/>
            <p:cNvSpPr/>
            <p:nvPr/>
          </p:nvSpPr>
          <p:spPr>
            <a:xfrm>
              <a:off x="3013200" y="3429000"/>
              <a:ext cx="2906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0000"/>
                  </a:solidFill>
                  <a:latin typeface="Tahoma"/>
                </a:rPr>
                <a:t>Administracij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_s17413"/>
            <p:cNvSpPr/>
            <p:nvPr/>
          </p:nvSpPr>
          <p:spPr>
            <a:xfrm>
              <a:off x="6261120" y="174600"/>
              <a:ext cx="1511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0000"/>
                  </a:solidFill>
                  <a:latin typeface="Tahoma"/>
                </a:rPr>
                <a:t>Vlas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_s17414"/>
            <p:cNvSpPr/>
            <p:nvPr/>
          </p:nvSpPr>
          <p:spPr>
            <a:xfrm>
              <a:off x="716040" y="257040"/>
              <a:ext cx="1746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0000"/>
                  </a:solidFill>
                  <a:latin typeface="Tahoma"/>
                </a:rPr>
                <a:t>Građan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838080"/>
              <a:ext cx="260352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400" spc="-1" strike="noStrike">
                  <a:solidFill>
                    <a:srgbClr val="990000"/>
                  </a:solidFill>
                  <a:latin typeface="Tahoma"/>
                </a:rPr>
                <a:t>S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dobra vladavi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DEMOKRATIČN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OTVOREN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RAZVOJ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6440" y="685800"/>
              <a:ext cx="2109960" cy="2133720"/>
            </a:xfrm>
            <a:prstGeom prst="ellipse">
              <a:avLst/>
            </a:prstGeom>
            <a:solidFill>
              <a:srgbClr val="990033">
                <a:alpha val="6000"/>
              </a:srgbClr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_s230411"/>
            <p:cNvSpPr/>
            <p:nvPr/>
          </p:nvSpPr>
          <p:spPr>
            <a:xfrm>
              <a:off x="2781360" y="57240"/>
              <a:ext cx="3306600" cy="4514760"/>
            </a:xfrm>
            <a:prstGeom prst="blockArc">
              <a:avLst>
                <a:gd name="adj1" fmla="val 14186006"/>
                <a:gd name="adj2" fmla="val 18213994"/>
                <a:gd name="adj3" fmla="val 9491"/>
              </a:avLst>
            </a:prstGeom>
            <a:gradFill rotWithShape="0">
              <a:gsLst>
                <a:gs pos="0">
                  <a:srgbClr val="4c000f">
                    <a:alpha val="0"/>
                  </a:srgbClr>
                </a:gs>
                <a:gs pos="100000">
                  <a:srgbClr val="a50021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_s230414"/>
            <p:cNvSpPr/>
            <p:nvPr/>
          </p:nvSpPr>
          <p:spPr>
            <a:xfrm rot="14400000">
              <a:off x="2934000" y="-331200"/>
              <a:ext cx="3584520" cy="3989520"/>
            </a:xfrm>
            <a:prstGeom prst="blockArc">
              <a:avLst>
                <a:gd name="adj1" fmla="val 14565626"/>
                <a:gd name="adj2" fmla="val 17834374"/>
                <a:gd name="adj3" fmla="val 10606"/>
              </a:avLst>
            </a:prstGeom>
            <a:gradFill rotWithShape="0">
              <a:gsLst>
                <a:gs pos="0">
                  <a:srgbClr val="4c000f">
                    <a:alpha val="0"/>
                  </a:srgbClr>
                </a:gs>
                <a:gs pos="100000">
                  <a:srgbClr val="a50021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374120" y="-950400"/>
              <a:ext cx="5385600" cy="5216760"/>
              <a:chOff x="1374120" y="-950400"/>
              <a:chExt cx="5385600" cy="5216760"/>
            </a:xfrm>
          </p:grpSpPr>
          <p:sp>
            <p:nvSpPr>
              <p:cNvPr id="193" name="_s230412"/>
              <p:cNvSpPr/>
              <p:nvPr/>
            </p:nvSpPr>
            <p:spPr>
              <a:xfrm rot="7200000">
                <a:off x="2242080" y="-397440"/>
                <a:ext cx="3649680" cy="4111560"/>
              </a:xfrm>
              <a:prstGeom prst="blockArc">
                <a:avLst>
                  <a:gd name="adj1" fmla="val 14607910"/>
                  <a:gd name="adj2" fmla="val 17792090"/>
                  <a:gd name="adj3" fmla="val 10759"/>
                </a:avLst>
              </a:prstGeom>
              <a:gradFill rotWithShape="0">
                <a:gsLst>
                  <a:gs pos="0">
                    <a:srgbClr val="a50021">
                      <a:alpha val="49019"/>
                    </a:srgbClr>
                  </a:gs>
                  <a:gs pos="100000">
                    <a:srgbClr val="5e0012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95640" y="1295280"/>
                <a:ext cx="267192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990000"/>
                    </a:solidFill>
                    <a:latin typeface="Tahoma"/>
                  </a:rPr>
                  <a:t>Lokalna</a:t>
                </a:r>
                <a:br>
                  <a:rPr sz="2400"/>
                </a:br>
                <a:r>
                  <a:rPr b="1" lang="sr-Latn-CS" sz="2400" spc="-1" strike="noStrike">
                    <a:solidFill>
                      <a:srgbClr val="990000"/>
                    </a:solidFill>
                    <a:latin typeface="Tahoma"/>
                  </a:rPr>
                  <a:t>samouprav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28800">
                <a:off x="2953800" y="914400"/>
                <a:ext cx="422280" cy="457200"/>
              </a:xfrm>
              <a:prstGeom prst="leftArrow">
                <a:avLst>
                  <a:gd name="adj1" fmla="val 56250"/>
                  <a:gd name="adj2" fmla="val 55991"/>
                </a:avLst>
              </a:prstGeom>
              <a:gradFill rotWithShape="0">
                <a:gsLst>
                  <a:gs pos="0">
                    <a:srgbClr val="a50021">
                      <a:alpha val="49019"/>
                    </a:srgbClr>
                  </a:gs>
                  <a:gs pos="100000">
                    <a:srgbClr val="4c000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200000">
                <a:off x="4202640" y="2989800"/>
                <a:ext cx="457200" cy="420840"/>
              </a:xfrm>
              <a:prstGeom prst="leftArrow">
                <a:avLst>
                  <a:gd name="adj1" fmla="val 56250"/>
                  <a:gd name="adj2" fmla="val 60828"/>
                </a:avLst>
              </a:prstGeom>
              <a:gradFill rotWithShape="0">
                <a:gsLst>
                  <a:gs pos="0">
                    <a:srgbClr val="a50021">
                      <a:alpha val="49019"/>
                    </a:srgbClr>
                  </a:gs>
                  <a:gs pos="100000">
                    <a:srgbClr val="4c000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8930400">
                <a:off x="5486040" y="990720"/>
                <a:ext cx="422280" cy="457200"/>
              </a:xfrm>
              <a:prstGeom prst="leftArrow">
                <a:avLst>
                  <a:gd name="adj1" fmla="val 56250"/>
                  <a:gd name="adj2" fmla="val 55991"/>
                </a:avLst>
              </a:prstGeom>
              <a:gradFill rotWithShape="0">
                <a:gsLst>
                  <a:gs pos="0">
                    <a:srgbClr val="a50021">
                      <a:alpha val="49019"/>
                    </a:srgbClr>
                  </a:gs>
                  <a:gs pos="100000">
                    <a:srgbClr val="4c000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6261120" y="5029200"/>
              <a:ext cx="274320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6940440" y="3048120"/>
              <a:ext cx="20638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117360" y="4762440"/>
              <a:ext cx="2484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41120" y="3124080"/>
              <a:ext cx="1711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532240" y="3962520"/>
              <a:ext cx="3798720" cy="29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990000"/>
                  </a:solidFill>
                  <a:latin typeface="Tahoma"/>
                </a:rPr>
                <a:t>Opštinske službe, JKP, Direkcija, Turistička Organizacija, 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buClr>
                  <a:srgbClr val="99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kvalitetan odgovor na postavljene zadatk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ANGAŽOVANJ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PLANIRA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990000"/>
                  </a:solidFill>
                  <a:latin typeface="Tahoma"/>
                </a:rPr>
                <a:t>ORGANIZOVAN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41120" y="822240"/>
            <a:ext cx="23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Tahoma"/>
              </a:rPr>
              <a:t>dobar živ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Tahoma"/>
              </a:rPr>
              <a:t>ŠKOLOVA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Tahoma"/>
              </a:rPr>
              <a:t>R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Tahoma"/>
              </a:rPr>
              <a:t>ZADOVOLJSTV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1992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72480" y="2432160"/>
            <a:ext cx="15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ffff"/>
                </a:solidFill>
                <a:latin typeface="Arial"/>
              </a:rPr>
              <a:t>akci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304920"/>
            <a:ext cx="7848360" cy="6095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ahoma"/>
              </a:rPr>
              <a:t>	</a:t>
            </a:r>
            <a:br>
              <a:rPr sz="4800"/>
            </a:br>
            <a:br>
              <a:rPr sz="4800"/>
            </a:b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MALA PREDUZE</a:t>
            </a:r>
            <a:r>
              <a:rPr b="1" lang="sr-Latn-CS" sz="4400" spc="-1" strike="noStrike">
                <a:solidFill>
                  <a:srgbClr val="ffcc66"/>
                </a:solidFill>
                <a:latin typeface="Arial"/>
              </a:rPr>
              <a:t>Ć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A I            </a:t>
            </a:r>
            <a:r>
              <a:rPr b="1" lang="sr-Latn-CS" sz="4400" spc="-1" strike="noStrike">
                <a:solidFill>
                  <a:srgbClr val="ffcc66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SAMOSTALNE RADNJE U </a:t>
            </a:r>
            <a:r>
              <a:rPr b="1" lang="sr-Latn-CS" sz="4400" spc="-1" strike="noStrike">
                <a:solidFill>
                  <a:srgbClr val="ffcc66"/>
                </a:solidFill>
                <a:latin typeface="Tahoma"/>
              </a:rPr>
              <a:t>B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EOGRAD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5409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PRVI PREDUZETNI</a:t>
            </a:r>
            <a:r>
              <a:rPr b="0" lang="sr-Latn-CS" sz="1800" spc="-1" strike="noStrike">
                <a:solidFill>
                  <a:srgbClr val="0000ff"/>
                </a:solidFill>
                <a:latin typeface="Arial Black"/>
              </a:rPr>
              <a:t>Č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I SAB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BEOGRAD 18. 9. 20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RIVREDNA KOMORA BEOGRADA</a:t>
            </a:r>
            <a:r>
              <a:rPr b="0" lang="sr-Latn-CS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sr-Latn-CS" sz="1600" spc="-1" strike="noStrike">
                <a:solidFill>
                  <a:srgbClr val="0000ff"/>
                </a:solidFill>
                <a:latin typeface="Arial Black"/>
              </a:rPr>
              <a:t>PROF.DR RADMILA GROZDANIĆ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343400" cy="223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-1335240"/>
            <a:ext cx="4572000" cy="4002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3886200" cy="2756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4343400" cy="3649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828800"/>
            <a:ext cx="3352680" cy="3268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6553080" y="388620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nextslide"/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3886200"/>
            <a:ext cx="1920960" cy="3333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457200" y="4368960"/>
            <a:ext cx="4724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0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75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75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-2857320" y="31622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Lokalno predueztništ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05960" y="228600"/>
            <a:ext cx="20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del J. Altmana,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24360" y="3063960"/>
            <a:ext cx="3303360" cy="318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Arial"/>
              </a:rPr>
              <a:t>Mogućnosti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l-SI" sz="3200" spc="-1" strike="noStrike">
                <a:solidFill>
                  <a:srgbClr val="0000ff"/>
                </a:solidFill>
                <a:latin typeface="Arial"/>
              </a:rPr>
              <a:t>dn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. resur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600200"/>
            <a:ext cx="3303720" cy="3184560"/>
          </a:xfrm>
          <a:prstGeom prst="ellipse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Strategija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41880" y="1600200"/>
            <a:ext cx="3301920" cy="3184560"/>
          </a:xfrm>
          <a:prstGeom prst="ellipse">
            <a:avLst/>
          </a:prstGeom>
          <a:solidFill>
            <a:srgbClr val="75d375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41880" y="2057400"/>
            <a:ext cx="1042920" cy="2297160"/>
          </a:xfrm>
          <a:prstGeom prst="ellipse">
            <a:avLst/>
          </a:prstGeom>
          <a:solidFill>
            <a:srgbClr val="eeff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Uspeš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lokalno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duze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ništ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28600"/>
            <a:ext cx="6782040" cy="66294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71200">
            <a:off x="4648680" y="3776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z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130000">
            <a:off x="5361840" y="120924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duzetnički raz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4075800">
            <a:off x="7107840" y="25682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m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6508800">
            <a:off x="6887520" y="41497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4045200">
            <a:off x="1383840" y="43297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z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412800">
            <a:off x="6640920" y="53172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z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779600">
            <a:off x="355320" y="260316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uz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tni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i raz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358600">
            <a:off x="4629240" y="600516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duzetnički raz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275600">
            <a:off x="1821600" y="12949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m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47600">
            <a:off x="3055320" y="61448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mj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20605800">
            <a:off x="3119400" y="5108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oditeljst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940000">
            <a:off x="1729800" y="536544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666880" y="914040"/>
            <a:ext cx="129564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8380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91440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1600200"/>
            <a:ext cx="83808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467480" y="2895480"/>
            <a:ext cx="7632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34320" y="441972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638320" y="5486400"/>
            <a:ext cx="114300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885840" y="6248160"/>
            <a:ext cx="1523880" cy="7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590560" y="5486040"/>
            <a:ext cx="99036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1080" y="44953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828800" y="3123720"/>
            <a:ext cx="76320" cy="1219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28800" y="1600200"/>
            <a:ext cx="68580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dcf5ab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3366ff"/>
                </a:solidFill>
                <a:latin typeface="Verdana"/>
              </a:rPr>
              <a:t>DOPRINOS</a:t>
            </a:r>
            <a:r>
              <a:rPr b="1" lang="en-US" sz="25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sr-Latn-CS" sz="2500" spc="-1" strike="noStrike">
                <a:solidFill>
                  <a:srgbClr val="3366ff"/>
                </a:solidFill>
                <a:latin typeface="Verdana"/>
              </a:rPr>
              <a:t> RAZLIČITIH LOKALNIH PARTNERA </a:t>
            </a:r>
            <a:r>
              <a:rPr b="1" lang="en-US" sz="2500" spc="-1" strike="noStrike">
                <a:solidFill>
                  <a:srgbClr val="3366ff"/>
                </a:solidFill>
                <a:latin typeface="Verdana"/>
              </a:rPr>
              <a:t> KONKURENTNOSTI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295280"/>
          <a:ext cx="9143640" cy="5361120"/>
        </p:xfrm>
        <a:graphic>
          <a:graphicData uri="http://schemas.openxmlformats.org/drawingml/2006/table">
            <a:tbl>
              <a:tblPr/>
              <a:tblGrid>
                <a:gridCol w="2539440"/>
                <a:gridCol w="2286000"/>
                <a:gridCol w="2235240"/>
                <a:gridCol w="2082960"/>
              </a:tblGrid>
              <a:tr h="16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e erfonma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fikasnost Vlade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 opšt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lovna efikasn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rastuk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maća ekonom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vne finans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duktivn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novna infrastuk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đunarodna trgov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skalna poli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žište 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hnološka infrastuk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đunarodne investic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tucionalni okv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nans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učna infrakstruk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slen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lovna regula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kse upravlja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dravstvo i prirodna sre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i okv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vovi i vred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295280" cy="853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124080" y="1371600"/>
            <a:ext cx="1295640" cy="912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181480" y="137160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7086600" y="1379520"/>
            <a:ext cx="12952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762120"/>
            <a:ext cx="8382240" cy="5333760"/>
          </a:xfrm>
          <a:prstGeom prst="upArrow">
            <a:avLst>
              <a:gd name="adj1" fmla="val 70343"/>
              <a:gd name="adj2" fmla="val 50329"/>
            </a:avLst>
          </a:prstGeom>
          <a:solidFill>
            <a:srgbClr val="339966">
              <a:alpha val="40000"/>
            </a:srgbClr>
          </a:solidFill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515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33"/>
                </a:solidFill>
                <a:latin typeface="Tahoma"/>
              </a:rPr>
              <a:t>Održiv PROJE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074320" y="2166840"/>
            <a:ext cx="5093280" cy="3245040"/>
            <a:chOff x="2074320" y="2166840"/>
            <a:chExt cx="5093280" cy="3245040"/>
          </a:xfrm>
        </p:grpSpPr>
        <p:sp>
          <p:nvSpPr>
            <p:cNvPr id="93" name="_s4102"/>
            <p:cNvSpPr/>
            <p:nvPr/>
          </p:nvSpPr>
          <p:spPr>
            <a:xfrm>
              <a:off x="3961800" y="2666880"/>
              <a:ext cx="1318320" cy="1428840"/>
            </a:xfrm>
            <a:prstGeom prst="ellipse">
              <a:avLst/>
            </a:prstGeom>
            <a:solidFill>
              <a:srgbClr val="800000">
                <a:alpha val="60000"/>
              </a:srgbClr>
            </a:solidFill>
            <a:ln w="4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_s4103"/>
            <p:cNvSpPr/>
            <p:nvPr/>
          </p:nvSpPr>
          <p:spPr>
            <a:xfrm>
              <a:off x="3961800" y="2166840"/>
              <a:ext cx="131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990033"/>
                  </a:solidFill>
                  <a:latin typeface="Tahoma"/>
                </a:rPr>
                <a:t>Smanjenj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990033"/>
                  </a:solidFill>
                  <a:latin typeface="Tahoma"/>
                </a:rPr>
                <a:t>siromašt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4104"/>
            <p:cNvSpPr/>
            <p:nvPr/>
          </p:nvSpPr>
          <p:spPr>
            <a:xfrm>
              <a:off x="4438080" y="3041640"/>
              <a:ext cx="1318680" cy="1428840"/>
            </a:xfrm>
            <a:prstGeom prst="ellipse">
              <a:avLst/>
            </a:prstGeom>
            <a:solidFill>
              <a:srgbClr val="333399">
                <a:alpha val="6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4105"/>
            <p:cNvSpPr/>
            <p:nvPr/>
          </p:nvSpPr>
          <p:spPr>
            <a:xfrm>
              <a:off x="5848920" y="3133800"/>
              <a:ext cx="131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5f47ad"/>
                  </a:solidFill>
                  <a:latin typeface="Tahoma"/>
                </a:rPr>
                <a:t>Ekonomsk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5f47ad"/>
                  </a:solidFill>
                  <a:latin typeface="Tahoma"/>
                </a:rPr>
                <a:t>ra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_s4106"/>
            <p:cNvSpPr/>
            <p:nvPr/>
          </p:nvSpPr>
          <p:spPr>
            <a:xfrm>
              <a:off x="4256280" y="3648240"/>
              <a:ext cx="1318680" cy="1428480"/>
            </a:xfrm>
            <a:prstGeom prst="ellipse">
              <a:avLst/>
            </a:prstGeom>
            <a:solidFill>
              <a:srgbClr val="ffcc00">
                <a:alpha val="6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4107"/>
            <p:cNvSpPr/>
            <p:nvPr/>
          </p:nvSpPr>
          <p:spPr>
            <a:xfrm>
              <a:off x="5380200" y="5054760"/>
              <a:ext cx="131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Tahoma"/>
                </a:rPr>
                <a:t>Demokratičn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_s4108"/>
            <p:cNvSpPr/>
            <p:nvPr/>
          </p:nvSpPr>
          <p:spPr>
            <a:xfrm>
              <a:off x="3666960" y="3648240"/>
              <a:ext cx="1318680" cy="1428480"/>
            </a:xfrm>
            <a:prstGeom prst="ellipse">
              <a:avLst/>
            </a:prstGeom>
            <a:solidFill>
              <a:srgbClr val="008080">
                <a:alpha val="60000"/>
              </a:srgbClr>
            </a:solidFill>
            <a:ln w="4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_s4109"/>
            <p:cNvSpPr/>
            <p:nvPr/>
          </p:nvSpPr>
          <p:spPr>
            <a:xfrm>
              <a:off x="2543040" y="5054760"/>
              <a:ext cx="131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9966"/>
                  </a:solidFill>
                  <a:latin typeface="Tahoma"/>
                </a:rPr>
                <a:t>Zaštita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9966"/>
                  </a:solidFill>
                  <a:latin typeface="Tahoma"/>
                </a:rPr>
                <a:t>životn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339966"/>
                  </a:solidFill>
                  <a:latin typeface="Tahoma"/>
                </a:rPr>
                <a:t>oko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_s4110"/>
            <p:cNvSpPr/>
            <p:nvPr/>
          </p:nvSpPr>
          <p:spPr>
            <a:xfrm>
              <a:off x="3485160" y="3041640"/>
              <a:ext cx="1318680" cy="1428840"/>
            </a:xfrm>
            <a:prstGeom prst="ellipse">
              <a:avLst/>
            </a:prstGeom>
            <a:solidFill>
              <a:srgbClr val="666699">
                <a:alpha val="60000"/>
              </a:srgbClr>
            </a:solidFill>
            <a:ln w="4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4111"/>
            <p:cNvSpPr/>
            <p:nvPr/>
          </p:nvSpPr>
          <p:spPr>
            <a:xfrm>
              <a:off x="2074320" y="3133800"/>
              <a:ext cx="131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6666ff"/>
                  </a:solidFill>
                  <a:latin typeface="Tahoma"/>
                </a:rPr>
                <a:t>Jednakost</a:t>
              </a:r>
              <a:r>
                <a:rPr b="0" lang="sr-Latn-CS" sz="1800" spc="-1" strike="noStrike">
                  <a:solidFill>
                    <a:srgbClr val="6666ff"/>
                  </a:solidFill>
                  <a:latin typeface="Tahoma"/>
                </a:rPr>
                <a:t> </a:t>
              </a:r>
              <a:r>
                <a:rPr b="1" lang="sr-Latn-CS" sz="1800" spc="-1" strike="noStrike">
                  <a:solidFill>
                    <a:srgbClr val="6666ff"/>
                  </a:solidFill>
                  <a:latin typeface="Tahoma"/>
                </a:rPr>
                <a:t>polova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6666ff"/>
                  </a:solidFill>
                  <a:latin typeface="Tahoma"/>
                </a:rPr>
                <a:t>i učešće mladi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67840" y="3505320"/>
              <a:ext cx="16178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213840" cy="748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0960" y="593640"/>
            <a:ext cx="85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e81600"/>
                </a:solidFill>
                <a:latin typeface="Tahoma"/>
              </a:rPr>
              <a:t>Cilj: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Povećanje zaposlenosti, prihoda i bogatstva‚-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Smanjenje siromaš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dee"/>
            </a:gs>
            <a:gs pos="100000">
              <a:srgbClr val="0327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63920" y="3565440"/>
            <a:ext cx="2216160" cy="1247760"/>
          </a:xfrm>
          <a:prstGeom prst="roundRect">
            <a:avLst>
              <a:gd name="adj" fmla="val 12486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edu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tnici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800" y="3894120"/>
            <a:ext cx="2216160" cy="919080"/>
          </a:xfrm>
          <a:prstGeom prst="roundRect">
            <a:avLst>
              <a:gd name="adj" fmla="val 12486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Dru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ven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stitucije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opštin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590920"/>
            <a:ext cx="2217600" cy="919080"/>
          </a:xfrm>
          <a:prstGeom prst="roundRect">
            <a:avLst>
              <a:gd name="adj" fmla="val 12486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nke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razovanj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Nučne institucij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3920" y="1922400"/>
            <a:ext cx="2216160" cy="920880"/>
          </a:xfrm>
          <a:prstGeom prst="roundRect">
            <a:avLst>
              <a:gd name="adj" fmla="val 12486"/>
            </a:avLst>
          </a:prstGeom>
          <a:solidFill>
            <a:srgbClr val="66ff33"/>
          </a:solid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Potrošač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932200"/>
            <a:ext cx="0" cy="609480"/>
          </a:xfrm>
          <a:prstGeom prst="line">
            <a:avLst/>
          </a:prstGeom>
          <a:ln w="507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3480" y="3063960"/>
            <a:ext cx="782640" cy="477720"/>
          </a:xfrm>
          <a:prstGeom prst="line">
            <a:avLst/>
          </a:prstGeom>
          <a:ln w="50760">
            <a:solidFill>
              <a:srgbClr val="f766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05640" y="4352760"/>
            <a:ext cx="714240" cy="0"/>
          </a:xfrm>
          <a:prstGeom prst="line">
            <a:avLst/>
          </a:prstGeom>
          <a:ln w="50760">
            <a:solidFill>
              <a:srgbClr val="ff01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57520" y="4352760"/>
            <a:ext cx="782640" cy="0"/>
          </a:xfrm>
          <a:prstGeom prst="line">
            <a:avLst/>
          </a:prstGeom>
          <a:ln w="50760">
            <a:solidFill>
              <a:srgbClr val="ff01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65600" y="4792320"/>
            <a:ext cx="782640" cy="762120"/>
          </a:xfrm>
          <a:prstGeom prst="line">
            <a:avLst/>
          </a:prstGeom>
          <a:ln w="50760">
            <a:solidFill>
              <a:srgbClr val="ef91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519520" y="4855680"/>
            <a:ext cx="1014120" cy="698760"/>
          </a:xfrm>
          <a:prstGeom prst="line">
            <a:avLst/>
          </a:prstGeom>
          <a:ln w="50760">
            <a:solidFill>
              <a:srgbClr val="e5e5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638680"/>
            <a:ext cx="2217960" cy="922320"/>
          </a:xfrm>
          <a:prstGeom prst="roundRect">
            <a:avLst>
              <a:gd name="adj" fmla="val 12486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Akciona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Vlasnik radnj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5638680"/>
            <a:ext cx="2217960" cy="92232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Distribute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2200" y="3894120"/>
            <a:ext cx="2217600" cy="919080"/>
          </a:xfrm>
          <a:prstGeom prst="roundRect">
            <a:avLst>
              <a:gd name="adj" fmla="val 12486"/>
            </a:avLst>
          </a:prstGeom>
          <a:solidFill>
            <a:srgbClr val="dcf5ab"/>
          </a:solid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82800" bIns="82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Dobavljač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579760"/>
            <a:ext cx="2216160" cy="91908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ffa27c"/>
              </a:gs>
              <a:gs pos="100000">
                <a:srgbClr val="fea17b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Zaposle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51480" y="3127320"/>
            <a:ext cx="668160" cy="414360"/>
          </a:xfrm>
          <a:prstGeom prst="line">
            <a:avLst/>
          </a:prstGeom>
          <a:ln w="50760">
            <a:solidFill>
              <a:srgbClr val="ffa27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ahoma"/>
              </a:rPr>
              <a:t>Upravljanje  prema vrednostima ili interesima ključnih  lokalnih partnera (stakeholders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2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7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335268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572000" y="1219320"/>
            <a:ext cx="1440" cy="441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09000" y="1914480"/>
            <a:ext cx="3650040" cy="287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9600" y="1805040"/>
            <a:ext cx="2812680" cy="336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23" idx="0"/>
          </p:cNvCxnSpPr>
          <p:nvPr/>
        </p:nvCxnSpPr>
        <p:spPr>
          <a:xfrm flipH="1">
            <a:off x="2285280" y="1804680"/>
            <a:ext cx="903960" cy="1548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8" name=""/>
          <p:cNvCxnSpPr>
            <a:stCxn id="123" idx="0"/>
            <a:endCxn id="125" idx="0"/>
          </p:cNvCxnSpPr>
          <p:nvPr/>
        </p:nvCxnSpPr>
        <p:spPr>
          <a:xfrm>
            <a:off x="2285640" y="3352680"/>
            <a:ext cx="423000" cy="1439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5" idx="0"/>
            <a:endCxn id="124" idx="0"/>
          </p:cNvCxnSpPr>
          <p:nvPr/>
        </p:nvCxnSpPr>
        <p:spPr>
          <a:xfrm>
            <a:off x="2707920" y="4791240"/>
            <a:ext cx="1864440" cy="84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1"/>
            <a:endCxn id="126" idx="1"/>
          </p:cNvCxnSpPr>
          <p:nvPr/>
        </p:nvCxnSpPr>
        <p:spPr>
          <a:xfrm flipV="1">
            <a:off x="4571640" y="5171760"/>
            <a:ext cx="1429560" cy="467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1" name=""/>
          <p:cNvCxnSpPr>
            <a:endCxn id="125" idx="1"/>
          </p:cNvCxnSpPr>
          <p:nvPr/>
        </p:nvCxnSpPr>
        <p:spPr>
          <a:xfrm>
            <a:off x="4571640" y="1218960"/>
            <a:ext cx="1786680" cy="695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>
            <a:endCxn id="123" idx="1"/>
          </p:cNvCxnSpPr>
          <p:nvPr/>
        </p:nvCxnSpPr>
        <p:spPr>
          <a:xfrm>
            <a:off x="6324480" y="1904760"/>
            <a:ext cx="610560" cy="144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>
            <a:stCxn id="123" idx="1"/>
            <a:endCxn id="126" idx="1"/>
          </p:cNvCxnSpPr>
          <p:nvPr/>
        </p:nvCxnSpPr>
        <p:spPr>
          <a:xfrm flipH="1">
            <a:off x="6000120" y="3352680"/>
            <a:ext cx="934200" cy="1820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>
            <a:stCxn id="126" idx="0"/>
            <a:endCxn id="124" idx="0"/>
          </p:cNvCxnSpPr>
          <p:nvPr/>
        </p:nvCxnSpPr>
        <p:spPr>
          <a:xfrm flipV="1">
            <a:off x="3188880" y="1218600"/>
            <a:ext cx="1384920" cy="586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3429000" y="25146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720" y="48"/>
                </a:moveTo>
                <a:lnTo>
                  <a:pt x="192" y="0"/>
                </a:lnTo>
                <a:lnTo>
                  <a:pt x="0" y="528"/>
                </a:lnTo>
                <a:lnTo>
                  <a:pt x="384" y="768"/>
                </a:lnTo>
                <a:lnTo>
                  <a:pt x="720" y="1248"/>
                </a:lnTo>
                <a:lnTo>
                  <a:pt x="1056" y="960"/>
                </a:lnTo>
                <a:lnTo>
                  <a:pt x="1152" y="528"/>
                </a:lnTo>
                <a:lnTo>
                  <a:pt x="1056" y="240"/>
                </a:lnTo>
                <a:lnTo>
                  <a:pt x="720" y="48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4720" y="83808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naga lokalne privre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160020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mpion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2520" y="31240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uzetnist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00480" y="511956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siranje klast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57676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cke ve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200" y="13716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poznavanje potencij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0621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tojeca sna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6483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brazovanje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-D institu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7360"/>
            <a:ext cx="3875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zvojni faktor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lokalnog partner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cc66"/>
                </a:solidFill>
                <a:latin typeface="Arial"/>
              </a:rPr>
              <a:t>Preduzetništvo u svim oblasti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Mali biz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Dinamično preduzetništ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Korporativno i Intrapreneu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Intelektualno preduzetništ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High – T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Dot –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Preduzetništvo u javnom sekt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Preduzetništvo u trećem sekt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Žensko preduzetništvo, preduzetništvo mladih, na se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620640"/>
          <a:ext cx="4859280" cy="34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4859280" cy="34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356000" y="620640"/>
          <a:ext cx="4788000" cy="3346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620640"/>
                    <a:ext cx="47880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3357720"/>
          <a:ext cx="4859280" cy="350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85928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356000" y="3357720"/>
          <a:ext cx="4788000" cy="3500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357720"/>
                    <a:ext cx="47880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0"/>
            <a:ext cx="9144000" cy="1076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Lokalno partnerstvo preduzetnika 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I OPŠ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PRINCIPI </a:t>
            </a:r>
            <a:r>
              <a:rPr b="1" lang="sr-Latn-CS" sz="3200" spc="-1" strike="noStrike">
                <a:solidFill>
                  <a:srgbClr val="ffcc66"/>
                </a:solidFill>
                <a:latin typeface="Verdana"/>
              </a:rPr>
              <a:t> 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VESTIRANJA</a:t>
            </a:r>
            <a:r>
              <a:rPr b="1" lang="sr-Latn-CS" sz="3200" spc="-1" strike="noStrike">
                <a:solidFill>
                  <a:srgbClr val="ffcc66"/>
                </a:solidFill>
                <a:latin typeface="Verdana"/>
              </a:rPr>
              <a:t> lokalnih partner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1676520"/>
          <a:ext cx="8839440" cy="5029200"/>
        </p:xfrm>
        <a:graphic>
          <a:graphicData uri="http://schemas.openxmlformats.org/drawingml/2006/table">
            <a:tbl>
              <a:tblPr/>
              <a:tblGrid>
                <a:gridCol w="3886200"/>
                <a:gridCol w="990720"/>
                <a:gridCol w="39625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vestiranje u imovinu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u-  pro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f5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ro</a:t>
                      </a: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šnj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ostalno održivi program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u-  pro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f5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grami koji traže stalnu podršku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jedničke investicij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u-  pro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f5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jedinačni projekti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27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zno odabrani programi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u-  pro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f5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ručje koje je pokriveno sa drugim organizacijama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žava doprinosi dodatnoj vrednost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u-  prot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f5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žava samo daje nova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Arial"/>
              </a:rPr>
              <a:t>Uloga lokalnih partnera-Komore u partnerstv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omotivni marketing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sajmovi, testiranje proizvoda, sajtovi,odnsoi sa medij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Ekološke inicijativ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skupljanje otpadaka, sajt, zelene 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Kontakti sa tehnološkim parkovima i inženjerskim školam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razvoj novih procesa i pre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ržišne studi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Formiranje nacionalne federacije za     zanatske delat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9:45:51Z</dcterms:created>
  <dc:creator>test</dc:creator>
  <dc:description/>
  <dc:language>en-US</dc:language>
  <cp:lastModifiedBy>Bojan</cp:lastModifiedBy>
  <dcterms:modified xsi:type="dcterms:W3CDTF">2003-10-06T14:46:49Z</dcterms:modified>
  <cp:revision>2</cp:revision>
  <dc:subject/>
  <dc:title>The Serbian SME Conference</dc:title>
</cp:coreProperties>
</file>