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5AA-3C2D-4812-B260-B34C6AC6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E2C-4853-4BE1-90BB-854D71A0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BBD-A7E3-40E5-802A-AAEBD56A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146-D586-4589-BE06-0314F52E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6FA-5A49-4553-AE66-DE6EB3A4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29C9-1C09-40A5-A42A-0F67A1E3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AAEA-94B2-49E2-A919-B6848DEA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8260-F441-483B-A096-0DB011DD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136B-174E-4C03-BBA6-12942736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756A-2648-479B-83D0-7237437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6FF3-4424-45B0-8569-AEE6ADB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E95-4A21-4D47-92E5-81082A7A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1612-3329-4AB5-ABEE-002D179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031D-7519-4106-83E1-C6AC3AF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3424-7165-42AD-9B7C-D6AC6B1F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39E1-F177-43A0-BCF3-A373517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EE6-93A4-4166-AFC4-14C824A1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486-E741-40BA-8018-5E0660C2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ABB-9930-43D6-8754-F9AC3CD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698-0F8A-4E3C-A9FE-47BA709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4EE-572E-4F91-A4D8-016B713E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090-4EB6-4CEC-A219-334B5DDA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0F5-BD89-4A3E-A28C-C666DE0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76A-BE06-46A7-B4A9-174E55D4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F8A9-3A3E-4F8F-9A51-C5E58720EF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D55-6101-4A38-A775-A0BBD67E29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lan.vemic@smeproject.co.yu" TargetMode="External"/><Relationship Id="rId2" Type="http://schemas.openxmlformats.org/officeDocument/2006/relationships/hyperlink" Target="mailto:fingram@eunet.yu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427200"/>
            <a:ext cx="73915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KALNI EKONOMSKI RAZVOJ I PREDUZETNI</a:t>
            </a:r>
            <a:r>
              <a:rPr b="1" lang="sr-Latn-CS" sz="3200" spc="-1" strike="noStrike">
                <a:solidFill>
                  <a:srgbClr val="003366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VO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95280" y="51811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r </a:t>
            </a:r>
            <a:r>
              <a:rPr b="1" lang="sl-SI" sz="2800" spc="-1" strike="noStrike">
                <a:solidFill>
                  <a:srgbClr val="0033cc"/>
                </a:solidFill>
                <a:latin typeface="Arial"/>
              </a:rPr>
              <a:t>Mila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. Vemi</a:t>
            </a:r>
            <a:r>
              <a:rPr b="1" lang="sl-SI" sz="2800" spc="-1" strike="noStrike">
                <a:solidFill>
                  <a:srgbClr val="0033cc"/>
                </a:solidFill>
                <a:latin typeface="Arial"/>
              </a:rPr>
              <a:t>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Stariji konsultant za mala i srednja preduze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</a:rPr>
              <a:t>ć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a u okviru programa Evropske unije za nefinansijsku po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</a:rPr>
              <a:t>dršku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 razvoju MSP u Srbiji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Menad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</a:rPr>
              <a:t>ž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ment konsalting firma: Louis Berger S.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Autorov kontakt e-mail: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  <a:hlinkClick r:id="rId1"/>
              </a:rPr>
              <a:t>milan.vemic@smeproject.co.y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  <a:hlinkClick r:id="rId2"/>
              </a:rPr>
              <a:t>fingram@eunet.yu</a:t>
            </a:r>
            <a:r>
              <a:rPr b="1" lang="sr-Latn-CS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1066680"/>
            <a:ext cx="5954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7 oktobar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</a:t>
            </a:r>
            <a:r>
              <a:rPr b="1" lang="sr-Latn-CS" sz="2400" spc="-1" strike="noStrike">
                <a:solidFill>
                  <a:srgbClr val="003300"/>
                </a:solidFill>
                <a:latin typeface="Arial"/>
              </a:rPr>
              <a:t>Đ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ARODNA KONFERENCIJA O MALIM I SREDNJIM PREDUZE</a:t>
            </a:r>
            <a:r>
              <a:rPr b="1" lang="sr-Latn-CS" sz="2400" spc="-1" strike="noStrike">
                <a:solidFill>
                  <a:srgbClr val="003300"/>
                </a:solidFill>
                <a:latin typeface="Arial"/>
              </a:rPr>
              <a:t>Ć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ZENTACIJA RAD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636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434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2057400" cy="628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529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8305920" y="6305400"/>
            <a:ext cx="8380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75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275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75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75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57736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OMOGUĆ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VARANJE TRŽIŠTA I PRUŽ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NSULTANTSKIH USLU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EDEĆI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UČJ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902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uzet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zamisli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r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lovnih planova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ategije i organizac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zvoja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predjenje ljudskih resursa 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lokalni ni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i poslov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munikaci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nosti primene e-biznisa u regij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cionih sistema i tehnologija 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iranje strateškog partnerstva između firmi i lokalnih vla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rada organizacione strategije za lokalni r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514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rada marketing plana za lokalni r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BC4-E9DC-45BF-A05C-2D69A44DD9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345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MENTI FINANSIRANJA LER-A</a:t>
            </a: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 ZA EKONOMSKU DOBROBI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nivanje fondova za dodelu kredita za obrtna sredstva koji bi se plasirali kratkor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ko poslovnih b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ondovi bi bili formirani iz sredstava okruga, gradova i o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e eventualno 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rodnih izvora.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okviru 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rod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dnje treba raditi na pronal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u stranih izvora ko-fin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anja programa podsticanja privrede te mog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i za korišcenje strane str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po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R bez sopstvenih izvora ne privl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rani kap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ština treba da obezbedi zemljište, komunalnu infrastrukturu, komunalije i druge benefi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951-6912-432F-8918-317A4AC5CB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372240"/>
            <a:ext cx="81630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KLASIFIKACIJA PRERANE KRIZE I/ILI BANKROTSTVA OP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INA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četna kriza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- statusna, kadrovska rešenj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otovinska kriza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– finansijske inovaci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riza delegiranja - - tr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ži lidere ne menadž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riza vođstva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- traži promenu duha (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’espiri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sijska kriz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– traži promene u lokalnim bilansima i struktu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riza napretka i rasta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- traži podršku preduzetništvu, intuiciju i viziju kod lokalnih li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riza sukcesije ili zamene menadžmenta op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in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- - traži nove ljude sa novim veštinama i znanj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A42-3DC8-46BB-B5DD-CC0F10EC8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-5202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INFORMACIONI SISTEM OPSTINA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sr-Latn-CS" sz="4400" spc="-1" strike="noStrike">
                <a:solidFill>
                  <a:srgbClr val="003366"/>
                </a:solidFill>
                <a:latin typeface="Verdana"/>
              </a:rPr>
              <a:t>JE U FUNKCIJI LER-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tavnije pretraživanje regionalnog i svetskog tržišta informacij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vaka preduzet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 opstina koja ima pristup Internetu može sada jednostavno i da publikuje i prezentuje nove informacije o svojim proizvodima posredstvom računarske mreže, i to u multimedijalnom obliku, integrišući tekst, sliku i 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čnjaci koji budu vodili razvoj o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na će takođe morati da usavršavaju svoje veštine iz lokalnog ekonomskog razvoja i primene računara u ovoj obla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509-11CC-490C-9A91-CFF736B15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560" y="-2520"/>
            <a:ext cx="6729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6699"/>
                </a:solidFill>
                <a:latin typeface="Arial"/>
              </a:rPr>
              <a:t>Razlika između novog i tradicionalnog menadžmenta opština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905120"/>
          <a:ext cx="8207280" cy="4873680"/>
        </p:xfrm>
        <a:graphic>
          <a:graphicData uri="http://schemas.openxmlformats.org/drawingml/2006/table">
            <a:tbl>
              <a:tblPr/>
              <a:tblGrid>
                <a:gridCol w="3886200"/>
                <a:gridCol w="432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CIONAL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ADŽMENT OPŠ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ADŽMENT OPŠ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jska ak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pstvena sred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mljenje ka efikas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jska ak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jni i sopstveni izv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mljenje ka finansijski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ovacijama i kreativ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mogen talen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alitariz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odluč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terogen talenat iz ekonomije i finans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alnost zaposlen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luč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ija službi u opštin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jerarhijska i tipič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izovana i kr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bilna i nepromenljiv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ija službi u opštin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izontalna i netipič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ntralizov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čka inovativ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812000" y="0"/>
            <a:ext cx="1263600" cy="1700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1263600" cy="1698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2246400">
            <a:off x="1258560" y="1196640"/>
            <a:ext cx="1081080" cy="50328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9246000">
            <a:off x="6044760" y="1200960"/>
            <a:ext cx="1689120" cy="436680"/>
          </a:xfrm>
          <a:custGeom>
            <a:avLst/>
            <a:gdLst>
              <a:gd name="textAreaLeft" fmla="*/ 300960 w 1689120"/>
              <a:gd name="textAreaRight" fmla="*/ 1197360 w 1689120"/>
              <a:gd name="textAreaTop" fmla="*/ 58320 h 436680"/>
              <a:gd name="textAreaBottom" fmla="*/ 378360 h 43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01" hR="21600" stAng="10800000" swAng="-5400000"/>
                <a:lnTo>
                  <a:pt x="11459" y="21600"/>
                </a:lnTo>
                <a:arcTo wR="7701" hR="21600" stAng="5400000" swAng="-2459501"/>
                <a:lnTo>
                  <a:pt x="21024" y="8198"/>
                </a:lnTo>
                <a:lnTo>
                  <a:pt x="17280" y="0"/>
                </a:lnTo>
                <a:lnTo>
                  <a:pt x="12384" y="8198"/>
                </a:lnTo>
                <a:lnTo>
                  <a:pt x="14825" y="8198"/>
                </a:lnTo>
                <a:arcTo wR="7701" hR="21600" stAng="2940499" swAng="2151950"/>
                <a:lnTo>
                  <a:pt x="9580" y="20947"/>
                </a:lnTo>
                <a:arcTo wR="7701" hR="21600" stAng="5707550" swAng="5092450"/>
                <a:close/>
              </a:path>
              <a:path fill="darkenLess" w="21600" h="21600">
                <a:moveTo>
                  <a:pt x="0" y="0"/>
                </a:moveTo>
                <a:arcTo wR="7701" hR="21600" stAng="10800000" swAng="-5400000"/>
                <a:lnTo>
                  <a:pt x="11459" y="21600"/>
                </a:lnTo>
                <a:arcTo wR="7701" hR="21600" stAng="5400000" swAng="307550"/>
                <a:lnTo>
                  <a:pt x="9580" y="20947"/>
                </a:lnTo>
                <a:arcTo wR="7701" hR="21600" stAng="5707550" swAng="5092450"/>
                <a:close/>
              </a:path>
            </a:pathLst>
          </a:cu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E04-5C8C-4688-AEE9-1F744849EF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67320"/>
            <a:ext cx="7739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6699"/>
                </a:solidFill>
                <a:latin typeface="Arial"/>
              </a:rPr>
              <a:t>Inovacije u opštinskim finansijama</a:t>
            </a:r>
            <a:br>
              <a:rPr sz="3200"/>
            </a:br>
            <a:r>
              <a:rPr b="0" lang="sr-Latn-CS" sz="3200" spc="-1" strike="noStrike">
                <a:solidFill>
                  <a:srgbClr val="336699"/>
                </a:solidFill>
                <a:latin typeface="Arial"/>
              </a:rPr>
              <a:t> i službama su</a:t>
            </a:r>
            <a:br>
              <a:rPr sz="3200"/>
            </a:br>
            <a:r>
              <a:rPr b="0" lang="sr-Latn-CS" sz="3200" spc="-1" strike="noStrike">
                <a:solidFill>
                  <a:srgbClr val="336699"/>
                </a:solidFill>
                <a:latin typeface="Arial"/>
              </a:rPr>
              <a:t>direktno u funkciji razvoja preduzetništva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5800" y="2133720"/>
            <a:ext cx="8206560" cy="1150560"/>
            <a:chOff x="685800" y="2133720"/>
            <a:chExt cx="8206560" cy="1150560"/>
          </a:xfrm>
        </p:grpSpPr>
        <p:sp>
          <p:nvSpPr>
            <p:cNvPr id="269" name=""/>
            <p:cNvSpPr/>
            <p:nvPr/>
          </p:nvSpPr>
          <p:spPr>
            <a:xfrm>
              <a:off x="685800" y="2133720"/>
              <a:ext cx="2177280" cy="11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pacitet op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ne da uvodi finansijske i druge inovaci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0440" y="2133720"/>
              <a:ext cx="2177280" cy="11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ktivnost i konkurentnost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lokalni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m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15080" y="2133720"/>
              <a:ext cx="2177280" cy="11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speritet, rast i razvoj MSP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 i lokalne zajedn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3080" y="2324880"/>
              <a:ext cx="825480" cy="601920"/>
            </a:xfrm>
            <a:custGeom>
              <a:avLst/>
              <a:gdLst>
                <a:gd name="textAreaLeft" fmla="*/ 128880 w 825480"/>
                <a:gd name="textAreaRight" fmla="*/ 722520 w 825480"/>
                <a:gd name="textAreaTop" fmla="*/ 150480 h 601920"/>
                <a:gd name="textAreaBottom" fmla="*/ 45144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78080" y="2324880"/>
              <a:ext cx="825480" cy="601920"/>
            </a:xfrm>
            <a:custGeom>
              <a:avLst/>
              <a:gdLst>
                <a:gd name="textAreaLeft" fmla="*/ 128880 w 825480"/>
                <a:gd name="textAreaRight" fmla="*/ 722520 w 825480"/>
                <a:gd name="textAreaTop" fmla="*/ 150480 h 601920"/>
                <a:gd name="textAreaBottom" fmla="*/ 45144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50920" y="335772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ma Michael Porter-u output finansijskih inovacija se meri sa dva ključna kriterijumu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dnost uloženog preduzetničkog ili rizičnog kapitala 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enture capita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novih javnih emisija obveznica/a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800" spc="-1" strike="noStrike">
                <a:solidFill>
                  <a:srgbClr val="336699"/>
                </a:solidFill>
                <a:latin typeface="Arial"/>
              </a:rPr>
              <a:t>Pošto naše opstine nisu privukle slobodan kapital niti imale emisiju obveznica možemo zaključiti da nisu finansijski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voljno </a:t>
            </a:r>
            <a:r>
              <a:rPr b="0" lang="sr-Latn-CS" sz="2800" spc="-1" strike="noStrike">
                <a:solidFill>
                  <a:srgbClr val="336699"/>
                </a:solidFill>
                <a:latin typeface="Arial"/>
              </a:rPr>
              <a:t>inovativ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5734080"/>
            <a:ext cx="10792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1116000" cy="17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0DA-191D-418E-AF97-687AB26179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03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ZAKLJUČAK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699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azuje se na na hronično nedostajuće  strategije lokalnog ekonomskog razvoja u našoj zemlj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kazano je zašto je LER povezan sa preduzetništv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azuje  se na institucije preduzet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infrastruk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kazano je kako se mogu postići mnogo bolji rezultati poslovanja primenom LER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020000" y="189000"/>
            <a:ext cx="1908000" cy="1557360"/>
            <a:chOff x="7020000" y="189000"/>
            <a:chExt cx="1908000" cy="1557360"/>
          </a:xfrm>
        </p:grpSpPr>
        <p:sp>
          <p:nvSpPr>
            <p:cNvPr id="280" name="Puzzle3"/>
            <p:cNvSpPr/>
            <p:nvPr/>
          </p:nvSpPr>
          <p:spPr>
            <a:xfrm>
              <a:off x="7949160" y="189000"/>
              <a:ext cx="749880" cy="827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Puzzle2"/>
            <p:cNvSpPr/>
            <p:nvPr/>
          </p:nvSpPr>
          <p:spPr>
            <a:xfrm>
              <a:off x="7731000" y="792000"/>
              <a:ext cx="1197000" cy="753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Puzzle4"/>
            <p:cNvSpPr/>
            <p:nvPr/>
          </p:nvSpPr>
          <p:spPr>
            <a:xfrm>
              <a:off x="7267680" y="782640"/>
              <a:ext cx="721440" cy="9637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Puzzle1"/>
            <p:cNvSpPr/>
            <p:nvPr/>
          </p:nvSpPr>
          <p:spPr>
            <a:xfrm>
              <a:off x="7020000" y="439200"/>
              <a:ext cx="1211760" cy="5745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454-BD78-4A18-988E-CBA84D5C12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834920" y="3068280"/>
            <a:ext cx="6119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600" spc="-1" strike="noStrike">
                <a:solidFill>
                  <a:srgbClr val="336699"/>
                </a:solidFill>
                <a:latin typeface="Arial"/>
              </a:rPr>
              <a:t>HVALA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825-9D5B-4CAC-8A12-D984ECE5B4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-180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6699"/>
                </a:solidFill>
                <a:latin typeface="Arial"/>
              </a:rPr>
              <a:t>STRATEŠKI PROAKTIVAN 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KONCEPT I CIL</a:t>
            </a:r>
            <a:r>
              <a:rPr b="0" lang="sr-Latn-CS" sz="4000" spc="-1" strike="noStrike">
                <a:solidFill>
                  <a:srgbClr val="336699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NE GRUPE LER-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cept lokalnog ekonomskog razvoja, zasnovan na privatnom preduzetn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vu predstavljen od strane UNDP, UNOPS i ILO m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rodnih organizacija, dokazao se u zadnjih 15 godina u raznim zemljama i privrednim prilikama; od Gvatemale, Portugala, Ju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afr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 Republike i Hrvatske. Mo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da se primeni i u Srbij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ljna gru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ju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o pods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menu razmišljanja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retanje sopstvenog posla su prvenstveno nezaposleni, inovatori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, zaposleni, a posebnoo mladi ljudi kod koji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o razviti smisao za privatno preduzetništvo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6A6-D1D0-4662-BA7F-3436FFFB2B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66600"/>
            <a:ext cx="81630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LER KONCEPT KARAKTERIST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JE TERITORIJALNI, LOKALNI PRISTUP, INSISTIRANJE NA 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VOVANJU I ODL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ANJU SVIH RELEVANTNIH INSTITUCIJ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459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KALNI - odnosi se na pravilnu procenu i upotrebu posto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 potencijala u regionu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SKI - usmeren prema identifikaciji razvojnih mog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ti, podršku lokalnim preduzetnicima i omog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nju pristupa na nova t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šta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- proces koji pokušava, promo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oboljšanje radnih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otnih uslova za ciljane grupe, tj. slojeve stanovništva kroz stvaranje novih radnih mesta i prihoda, pre svega u MSP sektor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5B8-58E5-428C-B33A-C06BD56F5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-216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6699"/>
                </a:solidFill>
                <a:latin typeface="Arial"/>
              </a:rPr>
              <a:t>Kontekst delovanja MSP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90720" y="2057400"/>
            <a:ext cx="7783200" cy="1218960"/>
            <a:chOff x="990720" y="2057400"/>
            <a:chExt cx="7783200" cy="1218960"/>
          </a:xfrm>
        </p:grpSpPr>
        <p:sp>
          <p:nvSpPr>
            <p:cNvPr id="225" name=""/>
            <p:cNvSpPr/>
            <p:nvPr/>
          </p:nvSpPr>
          <p:spPr>
            <a:xfrm>
              <a:off x="990720" y="2057400"/>
              <a:ext cx="14968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Šire nacionalno tržiš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85440" y="2057400"/>
              <a:ext cx="254448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duzetni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 nj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hov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kalne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ir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8120" y="2057400"/>
              <a:ext cx="19458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evantni sektor i podsektor priv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7680" y="2260440"/>
              <a:ext cx="873720" cy="804240"/>
            </a:xfrm>
            <a:prstGeom prst="leftRightArrow">
              <a:avLst>
                <a:gd name="adj1" fmla="val 50000"/>
                <a:gd name="adj2" fmla="val 2162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30280" y="2260440"/>
              <a:ext cx="873720" cy="804240"/>
            </a:xfrm>
            <a:prstGeom prst="leftRightArrow">
              <a:avLst>
                <a:gd name="adj1" fmla="val 50000"/>
                <a:gd name="adj2" fmla="val 2162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34797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uzetnici su lica koja organizuju i upravljaju preduzetnim poslovima preuzimajući istovremeno poslovni rizik. Oni igraju vodeću ulogu u kreiranju i razvoju novih firmi, zadruga, proizvoda i usluga iz čega proističu mnogobrojne poslovne mogućnosti, ali i pretnje njihovom opstanku. Istraživanja potvrđuju da se preduzetništvom mogu baviti samo određeni pojedinci sa odgovarajućim talentom i sposobnostima. Preduzetnici sa znanjima iz oblasti finansija i marketinga uživaju konkurentsku prednost u odnosu na os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685800"/>
            <a:ext cx="7925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ŠTINA MORA UZETI SUDBINU U SVOJE R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OKRENUTI, STVARATI I VODITI PROM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1523880"/>
            <a:ext cx="485640" cy="48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1523880"/>
            <a:ext cx="485640" cy="48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1523880"/>
            <a:ext cx="485640" cy="48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12D-53C1-42C9-B4B0-3829DA8BC6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1036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GLAVNI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ILJEVI OSNIVANJA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ER-A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9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sticanje društveno-ekonomskog razvo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zivanje regije s 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rodnom zajednicom (prezentiranje i upoznavanje s ukupnim privrednim, prirodnim, materijalnim i ljudskim resursima) kroz raz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 programe.  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gradnja konsenzusa i podizanje javne sv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sticanje privrednog 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ljavanja-obnove privre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celokupnog prostora kroz razvoj preduzet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g okr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a. Aktiviranje privatn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ednje i resur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sticanje kapaciteta lokalne ponude i inkorporiranje lokalnih akcija u nacionalni okvir.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širenje finansijskih mogucnosti, promovisanje dostupa mikro i makro kredita preduzetništvu i proizv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395-5A47-4902-8437-F855AAD14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1096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OSEBNI CILJEVI OSNIVANJA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ER-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902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oljšanje kvaliteta ljudskih resursa (promovisanje poduzetništva, edukacija poduzetnika, profesionalno osposobljavanje i sl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ikasnije kori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je lokalnih potencijala i resursa  - inovativne male i srednje firme koji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se uspešno povezivati sa velikom industrijom (prerada i obrada drveta, gradjevinarstvo, hemijska, tekstilna i prehrambena delatnost)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a privreda u oblasti turizma i poljoprivrede (biološki uzgoj hrane, klanice i prerada mesa, mini mlekare, p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arstvo, proizvodnja v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i pov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, lekovitog bilja it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itorijalnim obuhvatom  LERA se sve aktivnosti, mere ekonomske politike, socio-kulturološke i druge vode na jedinstven n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, a u skladu s tim rade statist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 i drugi izveštaji što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pojednostaviti i obradu podataka potrebnih za rad LE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7E5-6737-4C93-BDB8-4E2FD09B1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FUNKCIJE I CILJEVI LER-A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sticanje privrednog razvoj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ras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kalne reg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je lokalnih kapaciteta kako bi se rešavali rastuci problemi nezaposlenosti, odnosno pada radnog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otnog standar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malog i srednjeg preduzetništv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veština i motivacij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varanje pozitivne preduzet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klime kroz stvaranje novih profitnih radnih mesta, b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azvoj posto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 firmi i efikasno povezivanje preduzet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ideje sa slobodnim kapitalom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tivnosti ka ujed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nju stepena razvoja izmedju razvijenih okruga-manje razvijenih regi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BB8-5D41-4444-9EFC-E9019F86DB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AVNE AKTIVNOSTI LERA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02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padačka, aktivna tranasformacija, aktivna--pasivna odbrambena, kobinovana strategi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baze podataka o regij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opštin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kupljanje i obradjivanje informacija dobijenih izvan regije (strana i dom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šta).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nje i koordinacija iz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sto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 institucija i 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rodnih organizacija.  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Kritična masa resur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malog i srednjeg preduzetništva kao klj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 preduslov LER-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će i  nove preduzetničke fi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   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lovna inkubacija i okupljanje u klast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343400"/>
            <a:ext cx="1066680" cy="380880"/>
          </a:xfrm>
          <a:prstGeom prst="leftRightArrow">
            <a:avLst>
              <a:gd name="adj1" fmla="val 50000"/>
              <a:gd name="adj2" fmla="val 5575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838080"/>
            <a:ext cx="1067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8380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838080"/>
            <a:ext cx="2209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U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838080"/>
            <a:ext cx="1752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ROM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914400"/>
            <a:ext cx="457200" cy="393840"/>
          </a:xfrm>
          <a:custGeom>
            <a:avLst/>
            <a:gdLst>
              <a:gd name="textAreaLeft" fmla="*/ 71280 w 457200"/>
              <a:gd name="textAreaRight" fmla="*/ 400320 w 45720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914400"/>
            <a:ext cx="609840" cy="393840"/>
          </a:xfrm>
          <a:custGeom>
            <a:avLst/>
            <a:gdLst>
              <a:gd name="textAreaLeft" fmla="*/ 95040 w 609840"/>
              <a:gd name="textAreaRight" fmla="*/ 533880 w 6098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914400"/>
            <a:ext cx="609480" cy="393840"/>
          </a:xfrm>
          <a:custGeom>
            <a:avLst/>
            <a:gdLst>
              <a:gd name="textAreaLeft" fmla="*/ 95040 w 609480"/>
              <a:gd name="textAreaRight" fmla="*/ 533520 w 60948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411-689F-4215-A1FF-8937B3528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 LER-a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02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jena lokalnih razvojnih potencijal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lokacija, finansiranje, H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cij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utem medija, posebno lokalnih, radi informisanja preduzetnika o svim aktivnostima za unapr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je preduzetništva i stvaranje povoljne preduzet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 klime te promene stava prema privatnom preduzetništvu.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panje prospekata tj. informativnih letaka o podr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 koju pr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ER, izrada web stran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pom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eduzetnicima p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nicima ili v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ostoj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preduzetnicima. 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i komercijalizaciji inovacija zbog uklj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vanja inovatora i inovacija u privredu te stvaranje pretpostavki za konkurentnu privredu.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i podršku prilikom osnivanja Preduzetn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h inkubato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je konzultantskih usluga: 1) Biznis plan, 2) Edukaci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E9D-C05E-49ED-B20E-E37156B479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2:49:46Z</dcterms:created>
  <dc:creator>Milan Vemić</dc:creator>
  <dc:description/>
  <dc:language>en-US</dc:language>
  <cp:lastModifiedBy>Bojan</cp:lastModifiedBy>
  <dcterms:modified xsi:type="dcterms:W3CDTF">2003-10-06T14:43:46Z</dcterms:modified>
  <cp:revision>479</cp:revision>
  <dc:subject/>
  <dc:title>Finansijski_Menadzment_Zadruga</dc:title>
</cp:coreProperties>
</file>