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E82-E7CF-4FDF-8A9B-4A1205BA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C93-5A5E-457D-9F0D-97B22ADA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245-3CE3-4C76-929C-608BD57D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624-83F5-4EC1-8287-A6E0EC6D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4E2-DC16-468A-90AA-1018C357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C7B-393E-4FBE-94BA-30940C85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256-2195-4C32-A0EF-5725A0D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EEF-BCF0-4595-B698-D5BCE568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0B9-0F4D-4678-86C8-0970D932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49E-B17E-4E06-A415-FA1116A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5D0-C7EE-471F-B07F-EFBCB73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400-B46B-42B0-8174-47A312F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EF8-6598-4358-843E-AAB3BB9D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ИЗВЕШТАЈ О ЗАКОНОДАВНИМ АКТИВНОСТИМА ВЛАДЕ РЕПУБЛИКЕ СРБ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5. Закон о агенцији за улагања и промоцију изв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рш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а 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дила 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4.2002.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авила 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и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генција се осн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циљу подстиц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ог разво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ље, при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ректних стра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стиц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воза роб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. Закон о финансијском лиз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.5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огућа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маћ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јектима кој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ју дово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ава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овину оп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 до ње дођу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ољни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ма,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плаћ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зинг накнаде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та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804320"/>
                <a:gridCol w="1449720"/>
                <a:gridCol w="1037880"/>
                <a:gridCol w="2459880"/>
                <a:gridCol w="1477440"/>
              </a:tblGrid>
              <a:tr h="192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7. Закон о међународној трговинској арбитраж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нош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рни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бералних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ностав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 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ђународн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ск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битраж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8. Закон о хипоте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адња са Министарств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 економиј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одном банком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сорним министарстви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први нацр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тва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ољних у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добијање зај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беђен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поте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брз и поуздан уп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потеков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окретности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потеке у јав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њиг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ефикасан поступ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мир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потекар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ила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40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9. Закон о спољној тргов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берализ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а спољ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у прав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његов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а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хтевима СТО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ЕУ, у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имање у обз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ког стањ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тимал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реба домаћ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ајање закон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С и ЦГ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ветном текс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. Антимонополски 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беђи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икас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енције ко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огућава највећ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агос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рош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. Закон о изменама и допунама Закона о буџ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.4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2. Закон о повраћају одузете имовине и обештећењу за одузету имови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 - следи ј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ава у јулу и августу са св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левантним институциј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3. Закон о Агенцији за развој инфраструктуре локалне самоупр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а 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д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4.Закон о контрагаранцијама РС Савезној Републици Југославији за задуживање градова Нови Сад, Крагујевац и Ни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2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804320"/>
                <a:gridCol w="1449720"/>
                <a:gridCol w="1037880"/>
                <a:gridCol w="2459880"/>
                <a:gridCol w="147744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5. Закон о Агенцији за борбу против коруп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радне верзије у т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6. Закон о порезу на додату вред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нацрта у току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ућивање нацрта закона до 3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ра 2003. Влади 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ана примена 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0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7. Закон о изменама и допунама закона о порезу на добит предузећ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.4.2003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е измене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ДВ –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8. Закон о изменама и допунама закона о акциз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.4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е измене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ДВ –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9. Закон о изменама и допунама Закона о порезима на имови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.11.200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е измене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ДВ –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274680"/>
          <a:ext cx="8229600" cy="604836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0. Закон о изменама и допунама Закона о финансијским трансакциј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.4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1. Закон о изменама и допунама Закона о порезу на про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7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а утврдила предлог зак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06.2003 и упутила 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и по хитном поступ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е измене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ДВ – Новем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2. Закон о изменама и допунама Закона о порезу на доходак грађ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.11.200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е измене Нов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ДВ – Новем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3. Закон о тргов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омена: 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току је израда нов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публичког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ис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т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ње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им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пле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тегије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и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ск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оја 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4. Закон о електронској тргови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.  Спров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авна распр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ивање у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електронс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ње однос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с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у и нач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5. Закон о туриз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 се налази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ској процеду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а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тпоставки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лн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стичк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а за чије 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ар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ход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еђење сис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ања, изв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рањ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стицања разво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6. Закон о цена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лизаци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цеп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бодн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ња це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а и услуг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то подразуме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бо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јеката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њу цена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ма пу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енциј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но тржиш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199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7. Закон о оглашавању (рекламирањ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 Закона и бић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ућен Влади РС у јулу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ис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лашавањ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стиц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не утакмиц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тржишн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ашањ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јек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8. Закон о инспекцијском надзору у области промета робе и 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ив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леж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пекциј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асниј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граниче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лежности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у на друг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пекцијс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ужб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ив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лашћења, прав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ж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пектор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ивање ме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пекцијск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274680"/>
          <a:ext cx="8229600" cy="64166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9. Закон о дув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ординацији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.2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0. Закон о јавним скијашким терен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говине туризм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 закона и нал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 у процедури пред Владом 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финисање пој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авног скијалиш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свих а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је су везане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ављ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атност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ење услова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ање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еђивањ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лежав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ијалишт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бедности 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ав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ијалишт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1. Закон о путевима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 - следи ј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а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овођење но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тег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ис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јав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тева у складу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с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ативом ЕУ,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зиром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њ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ђународ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ај на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љ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274680"/>
          <a:ext cx="8229240" cy="5850720"/>
        </p:xfrm>
        <a:graphic>
          <a:graphicData uri="http://schemas.openxmlformats.org/drawingml/2006/table">
            <a:tbl>
              <a:tblPr/>
              <a:tblGrid>
                <a:gridCol w="2199240"/>
                <a:gridCol w="1766520"/>
                <a:gridCol w="1265400"/>
                <a:gridCol w="2998080"/>
              </a:tblGrid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2. Закон о  безбедности саобраћаја на путев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је у т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3. Закон о транспорту терета у друмском саобраћа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је у т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4. Закон о превозу опасних матер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ренута иницијатива за израду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радњи са Министарством унутрашњ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 и Министарством за зашт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их богатстава и животне средин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КОНИ ОД НЕПОСРЕДНОГ УТИЦАЈА НА ПРИВРЕДУ И ЕКОНО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804320"/>
                <a:gridCol w="1449720"/>
                <a:gridCol w="1037880"/>
                <a:gridCol w="2459880"/>
                <a:gridCol w="1477440"/>
              </a:tblGrid>
              <a:tr h="267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5. Закон о превозу путника у друмском саобраћа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је у т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ат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летне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воза путник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утрашњем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ђународ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мс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у,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финицијом св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ова ов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в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6. Закон о престанку важења закона о оснивању Ј.П. за ваздушни саобраћа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аглаша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ом о јав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ћима 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7. Закон о унутрашњој пловид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ј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ђен нацрт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8. Закон о телекомуникација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.4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9. Закон о поштаниким услуг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. Закон о здравственој зашти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рав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в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1. Закон о здравственом осигурањ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рав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в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. Закон о физичко-техничком обезбеђивањ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утрашњ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рш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а Р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дила ј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утила 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еђење нач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има и услова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ављ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ат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ко-техничк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беђењ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ење веће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ена контро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 стра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лежних орга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жаве, посеб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ајући у виду 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и бро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јених земаљ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а посебне зако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јима су уређе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ведена пит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74680"/>
          <a:ext cx="8229600" cy="428940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42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3. Закон о енергет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арств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нерге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а Р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д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ази се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дур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беђив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нстве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итике развој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арање услова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ан и уједначе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ој стратеш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жних делат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овој обла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хватање св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у циљ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овољавањ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реба привред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овништва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нергетски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изводим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угам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икаснији р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х субјеката кој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ављај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нергетск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латности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монизација 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има Е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4680"/>
          <a:ext cx="8229600" cy="617868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39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4. Закон о изменама и допунама Закона о рударст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арств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нерге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 ћ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ти упућ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и РС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 Го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беђи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нстве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и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ања разво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арств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аглашавање 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реба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н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ња, као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има Е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ањење утицај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жаве на проц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ања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дарству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стиц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ног сектор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маћих и стра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лагања. Утицај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штита живот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и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5. Закон о републичким административним такс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.04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6. Закон о изменама закона о тржишту хартија од вредности и других финансијских инструмен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05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ложена примена, следе нов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 и допу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скупштинској процедур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274680"/>
          <a:ext cx="8229600" cy="603252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82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7. Закон о спречавању прања нов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8. Закон о националној корпорацији за осигурање стамбених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9. Закон о осигурању депоз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0. Закон о санацији, стечају и ликвидацији бан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1. Закон о агенцији за осигурање депоз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нансија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об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2. Закон о железн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обраћаја и теле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ник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 с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ази 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дур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јул 2003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304920"/>
          <a:ext cx="8229600" cy="4140000"/>
        </p:xfrm>
        <a:graphic>
          <a:graphicData uri="http://schemas.openxmlformats.org/drawingml/2006/table">
            <a:tbl>
              <a:tblPr/>
              <a:tblGrid>
                <a:gridCol w="1782720"/>
                <a:gridCol w="1511280"/>
                <a:gridCol w="1047600"/>
                <a:gridCol w="2428920"/>
                <a:gridCol w="14590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НАДЛЕЖНО МИНИСТАР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РОК ИЗРА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НАПОМЕНА/ПОТЕНЦИЈАЛНИ ПРОБ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ЦИЉ ЗАК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 Закон о изменама и допунама закона о приватизациј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 привреду и 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 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2.2003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успостављање јасног власничког режим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тварање оптималног амбијента за снажан прилив страног капитал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успостављање јаког корпоративног управљањ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зградња отворене, либералне економиј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подржавање развоја финансијских тржиш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804320"/>
                <a:gridCol w="1449720"/>
                <a:gridCol w="1037880"/>
                <a:gridCol w="2459880"/>
                <a:gridCol w="1477440"/>
              </a:tblGrid>
              <a:tr h="30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 Закон о Агенцији за 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 привреду и 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 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 Агенције као правног лица које промовише, иницира, спроводи и контролише поступак приватизације, преко својих служби обезбеђује ефикасну приватизацију, информише јавност о резултатима и начину приватиз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. Закон о акцијском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 привреду и 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 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 Акцијског фонда као правног лица које представља државу у приватизацији у одређеном року, ограниченом на 6 година које има обавезу продаје акција које су му пренете по сили закона и улогу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стицања развоја фин. Тржиш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804320"/>
                <a:gridCol w="1449720"/>
                <a:gridCol w="1037880"/>
                <a:gridCol w="2459880"/>
                <a:gridCol w="1477440"/>
              </a:tblGrid>
              <a:tr h="361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. Закон о привредним комора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11.200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јединств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финис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орског сис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РС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обезбе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вноправн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аја св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анов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мониз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а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говарајућ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им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м европ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љ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. Закон о Агенцији за развој малих и средњих предузећа и предузетниш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11.20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ћ п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у малих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. предуз.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тништва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манент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ње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исање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предузет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1804320"/>
                <a:gridCol w="1449720"/>
                <a:gridCol w="1037880"/>
                <a:gridCol w="2459880"/>
                <a:gridCol w="1477440"/>
              </a:tblGrid>
              <a:tr h="355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. Закон о изменама и допунама Закона о јавним предузећима и обављању делатности од општег интер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5.200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огућено је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нице л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управе ка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чи јав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ћа има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упну слободу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рећ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ицијативу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 јав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ћа ако за 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ји економ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. Закон о изменама и допунама закона о приватним предузетниц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6.200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берализац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једностављ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д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а радњ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. Закон о Гаранцијском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.5.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стиц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оја МСП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т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388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9. Закон о стеча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ен 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једностављење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аћење поступ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чај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клађивањ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структурир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них лиц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е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организац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ћ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ку стеча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о мо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овођ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зећа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. Закон о регистрацији предузећа и предузет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рђен 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ул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да утврдила предлог закон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утила га у скупштин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лог стављен на дневни р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ламен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динствен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стра св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јеката у 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1. Закон о предузећ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атиз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птембар 20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520" y="838080"/>
          <a:ext cx="8229600" cy="410688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41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2. Закон о страним улагањ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 усвојила Савез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пш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постављ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них оквир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а отворен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страна улагањ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циљу ефикасн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оја привред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ачања ње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урент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рниз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ња, ув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е опреме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време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ј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ћање извоз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аглаша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а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исима зема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је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жиш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805040"/>
                <a:gridCol w="1449360"/>
                <a:gridCol w="1038240"/>
                <a:gridCol w="2459160"/>
                <a:gridCol w="1477800"/>
              </a:tblGrid>
              <a:tr h="34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3. Закон о концесиј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.5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.г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/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обезбеђење у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ефикас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виј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цесио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ова у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врем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варење висок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ена прав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гурно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једнак и правич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ман св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сник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ку да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цесиј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лободна тржиш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акм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4. Закон о заложном праву на покретним стварима уписаним у региста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ске везе 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вој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рим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омена: 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 реги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оге</a:t>
                      </a: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 неопходан услов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так примене закона. У пла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је обједињавање регистра залог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зинга, рачуноводстве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вештаја и привредних субјек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јединствени Централни регист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арадња са министарством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реду и приватизацију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истарством финансија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номије и Народном банк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обезбе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г степ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не сигур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дужнич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илач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им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тварање услова 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икасно одвиј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акција 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љ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7:18:48Z</dcterms:created>
  <dc:creator>GORAN ILIC</dc:creator>
  <dc:description/>
  <dc:language>en-US</dc:language>
  <cp:lastModifiedBy>Bojan</cp:lastModifiedBy>
  <dcterms:modified xsi:type="dcterms:W3CDTF">2003-10-06T14:38:37Z</dcterms:modified>
  <cp:revision>24</cp:revision>
  <dc:subject/>
  <dc:title>ИЗВЕШТАЈ О ЗАКОНОДАВНИМ АКТИВНОСТИМА ВЛАДЕ РЕПУБЛИКЕ СРБИЈ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6914870</vt:r8>
  </property>
  <property fmtid="{D5CDD505-2E9C-101B-9397-08002B2CF9AE}" pid="3" name="_AuthorEmail">
    <vt:lpwstr>TPaunovic@mier.sr.gov.yu</vt:lpwstr>
  </property>
  <property fmtid="{D5CDD505-2E9C-101B-9397-08002B2CF9AE}" pid="4" name="_AuthorEmailDisplayName">
    <vt:lpwstr>Tanja Paunovic</vt:lpwstr>
  </property>
  <property fmtid="{D5CDD505-2E9C-101B-9397-08002B2CF9AE}" pid="5" name="_EmailSubject">
    <vt:lpwstr>Konferencija</vt:lpwstr>
  </property>
  <property fmtid="{D5CDD505-2E9C-101B-9397-08002B2CF9AE}" pid="6" name="_PreviousAdHocReviewCycleID">
    <vt:r8>-1363407104</vt:r8>
  </property>
  <property fmtid="{D5CDD505-2E9C-101B-9397-08002B2CF9AE}" pid="7" name="_ReviewingToolsShownOnce">
    <vt:lpwstr/>
  </property>
</Properties>
</file>