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021-96DC-4291-B328-80E405A3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5DF-B979-4401-B3A8-EE8573E1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30D-C39A-46E6-8B7E-17DE176F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5CA-F134-4B05-88F6-6E906BB7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E04D-6552-492D-B277-C9DD1177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EA33-1FAA-49BD-B55D-59342B89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7C97-E9E8-41B6-95F6-76794490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5BE6-A2DA-4431-A7F3-E515B15D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460F-B159-4A37-B5E2-6529D163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5998-5CCD-441B-AD2F-08CFE9FC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00B9-4274-448C-A18F-9CA6757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712-6B36-4959-9B2F-B02F199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B78-9677-453A-BA94-37A0A3A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15D-7385-458F-AE84-9BD499F9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4E88-7E0F-40FC-B66B-C0B6BF70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CB27-3BCE-4458-B812-120EE70B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CD89-ABAC-45CC-8020-5256BFD2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D0C-DE1C-4385-8923-C69B5C6B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3DB-6359-486F-AD11-2FE4ECA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F12-7483-4E07-8E50-91EEA81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983-061C-4F75-86A5-AD86C06C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E9F-CB28-418D-893A-5DFBEBA7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8A4-9D4D-416D-A317-F4FA0AE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9BF-10E6-4B8A-8BE9-8F208771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614-A8A5-4F72-BBE2-BDE730A63166}" type="slidenum">
              <a:rPr b="0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B249-D0ED-4F41-8047-F4D5AC419157}" type="slidenum">
              <a:rPr b="0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6000" spc="-1" strike="noStrike">
                <a:solidFill>
                  <a:srgbClr val="c4c3aa"/>
                </a:solidFill>
                <a:latin typeface="Arial"/>
              </a:rPr>
              <a:t>Investicioni fondovi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U funkciji razvoja malih 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srednjih preduzeć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4c3aa"/>
                </a:solidFill>
                <a:latin typeface="Arial"/>
              </a:rPr>
              <a:t>Regionalni raspored ukupne neto imovine u  milionima eura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45080" y="1600200"/>
          <a:ext cx="402732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1600200"/>
                    <a:ext cx="40273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468360" y="1628280"/>
          <a:ext cx="4027320" cy="4467600"/>
        </p:xfrm>
        <a:graphic>
          <a:graphicData uri="http://schemas.openxmlformats.org/drawingml/2006/table">
            <a:tbl>
              <a:tblPr/>
              <a:tblGrid>
                <a:gridCol w="1079280"/>
                <a:gridCol w="928800"/>
                <a:gridCol w="1009800"/>
                <a:gridCol w="100944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gion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  </a:t>
                      </a: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odin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kvartal 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v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.051.4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695.8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288.8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er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.366.05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462.7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119.7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ro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550.1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218.0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182.5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ija i Pacifi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148.57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5.0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66.1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3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.0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.3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4c3aa"/>
                </a:solidFill>
                <a:latin typeface="Arial"/>
              </a:rPr>
              <a:t>Raspored ukupne neto imovine u milionima U.S dolara po vrsti fonda (I kvatal 2003. god.)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47052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kup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api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veznic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žište nov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lansiran/mi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stal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v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.209.7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998.8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642.1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196.8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2.5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2.8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er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667.5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681.7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309.9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251.0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99.9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.8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ro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476.4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28.9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55.8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31.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40.9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4.1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ija i Pacifi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54.6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81.36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3.7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7.0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9.2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1.2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.1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8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5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.6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7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6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Broj investicionih fondov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" y="1600200"/>
          <a:ext cx="3754440" cy="4530600"/>
        </p:xfrm>
        <a:graphic>
          <a:graphicData uri="http://schemas.openxmlformats.org/drawingml/2006/table">
            <a:tbl>
              <a:tblPr/>
              <a:tblGrid>
                <a:gridCol w="2019240"/>
                <a:gridCol w="173520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gion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kvatal 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v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1.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er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.9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ro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.9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</a:t>
                      </a: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Češka re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1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</a:t>
                      </a: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js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</a:t>
                      </a: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umuni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</a:t>
                      </a: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đars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ija i Pacifi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.7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Investicioni fondovi </a:t>
            </a: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za MSP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e</a:t>
            </a: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zbeđuju dugoročna sredstva preduzeću kroz participaciju u vlasništvu (učešću u kapitalu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articipacija u vlasništvu može biti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U odnosu na vre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Verdana"/>
              </a:rPr>
              <a:t>Ograniče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Verdana"/>
              </a:rPr>
              <a:t>Neograniče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U odnosu na struktu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Verdana"/>
              </a:rPr>
              <a:t>Manjinsk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Verdana"/>
              </a:rPr>
              <a:t>vecinsk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Investicioni fondov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Između menadžmenta Fonda i preduzeća uspostavlja se saradnja koja garantuje poboljšanje upravljanja preduzeća, proširenje i unapređivanjem kontakta sa dobavljačima i kupcima iz zemlje i inostranst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Indentifikacija probl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Rešavanje probl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Podrška novim razvojnim poduhvat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Ko bi mogao da bude investitor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Držav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Verdana"/>
              </a:rPr>
              <a:t>Sredstva iz don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Verdana"/>
              </a:rPr>
              <a:t>Sredstva iz privatiz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Verdana"/>
              </a:rPr>
              <a:t>Sredstva iz budže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Teritorijalna autonomija – Pokraj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Jedinica lokalne samouprave – opština, grad, grad Beogr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Međunarodne finansijske instituc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Ban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Građan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Cilj investiranj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Regionalni i sektorski razvoj privre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Ulaganju predhod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Analiza informac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O postojećim planovima i aktivnostima preduzeć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O menadž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O finansijskim pokazatelj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O finansijskim projekcija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Ograničenje investiranj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Zak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Vlasnički egoiz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Manjkavost poslovnih knjig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Investicioni fondov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Kako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okrenuti i razviti efikasnu proizvodnj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Osvojiti nova tržišta i zadržati postojeć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oboljšati kvalitet proizvoda i uslug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ozicionirati se na tržiš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Investiranj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Korišćenjem sopstvenih sredsta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Korišćenjem pozajmljenih sredsta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Robno tržiš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Robni kredi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Lizing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Faktor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Novčano tržište</a:t>
            </a: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Sredstva prijatelj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Sredstva bana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Verdana"/>
              </a:rPr>
              <a:t>Kratkorični kredi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Verdana"/>
              </a:rPr>
              <a:t>Dugoročni kredit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Sredstva fonda za razvoj Republike Srbij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Tržište kapita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Tržište kapital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Organizovan i transparentan prostor tržišne interakcije slobodnih dugoročnih sredsta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Definisanost svih uslova funkcionisanja ponude i traž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Osnovne karakteristike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Investicioni fondovi s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Nebankarske institucije koje vrše mobilizaciju sredstva i plasiranje isti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Institucije sa visoko profesionalnim menadžment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Izraženom diverzifikacijom plasma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Različitim objektima finansiran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Dnevnim iskazivanjem ce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Osnovne karakteristik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Investicioni fondovi omogućavaj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Efikasnu alokaciju sredstava vršeći diverzifikaciju portfolija vodeći računa o internim i zakonom utvrđenim pravil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Viši nivo korišćenja dugoročnih izvo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Korporativnu kontrol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Osnovne karakteristik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Investicioni fondovi preuzimaju tržišta banaka i osiguravajućih društava jer obezbeđuj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Relativno visoke prino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Niski odnosno srednji nivo riz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Likvidnost hartija od vred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Podela investicionih fondov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rema načinu finansiranj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Otvoreni fondov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Zatvoreni fondovi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Intervalni zatvoreni fondov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4c3aa"/>
                </a:solidFill>
                <a:latin typeface="Arial"/>
              </a:rPr>
              <a:t>Podela investicionih fondov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rema pojavnom obliku ulaganja kapital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U hartije od vrednosti (akcije, obveznice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U nekretn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U finansijske instrum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jan</cp:lastModifiedBy>
  <dcterms:modified xsi:type="dcterms:W3CDTF">2003-10-06T14:15:56Z</dcterms:modified>
  <cp:revision>10</cp:revision>
  <dc:subject/>
  <dc:title>PowerPoint Presentation</dc:title>
</cp:coreProperties>
</file>