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78674-DFE4-4081-B8F9-71B7DC6A94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5030-4DFD-4790-AE90-EAA78DAB4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3CB0E-C869-4A88-A555-AC0666B823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49406-A175-445B-AD13-9A998845C8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59A83-43AB-438A-9C6C-085F0D41DDA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C9547-58BD-4D5A-A8E3-4B6E9FC4F5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93346-31C4-4F11-BCD4-08F926D52E7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040CE-5806-4BE3-9E23-EB75261FC7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1928A-2B66-4B49-B957-A10EA0037F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08707-2F63-40D5-A85C-3A7CE82ED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2801-188F-4ADA-B3E7-D7DE8CCBDF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084AD2-5CBF-495F-AE8B-C6894ADA4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4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F1AC-3421-458C-BCEF-81817A5BB5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80880" y="6172200"/>
            <a:ext cx="648000" cy="426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6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nnovation.lv/ltc/eng/" TargetMode="External"/><Relationship Id="rId2" Type="http://schemas.openxmlformats.org/officeDocument/2006/relationships/hyperlink" Target="http://www.innovationlt/" TargetMode="External"/><Relationship Id="rId3" Type="http://schemas.openxmlformats.org/officeDocument/2006/relationships/hyperlink" Target="http://www.innovationlt/" TargetMode="External"/><Relationship Id="rId4" Type="http://schemas.openxmlformats.org/officeDocument/2006/relationships/hyperlink" Target="http://www.innovationlt/" TargetMode="External"/><Relationship Id="rId5" Type="http://schemas.openxmlformats.org/officeDocument/2006/relationships/hyperlink" Target="http://www.idc.ktc.lt/en/" TargetMode="External"/><Relationship Id="rId6" Type="http://schemas.openxmlformats.org/officeDocument/2006/relationships/hyperlink" Target="http://www.idc.ktc.lt/en/" TargetMode="External"/><Relationship Id="rId7" Type="http://schemas.openxmlformats.org/officeDocument/2006/relationships/hyperlink" Target="http://www.idc.ktc.lt/en/" TargetMode="External"/><Relationship Id="rId8" Type="http://schemas.openxmlformats.org/officeDocument/2006/relationships/hyperlink" Target="http://www.idc.ktc.lt/en/" TargetMode="External"/><Relationship Id="rId9" Type="http://schemas.openxmlformats.org/officeDocument/2006/relationships/hyperlink" Target="http://www.idc.ktc.lt/en/" TargetMode="External"/><Relationship Id="rId10" Type="http://schemas.openxmlformats.org/officeDocument/2006/relationships/hyperlink" Target="http://www.idc.ktc.lt/en/" TargetMode="External"/><Relationship Id="rId11" Type="http://schemas.openxmlformats.org/officeDocument/2006/relationships/hyperlink" Target="http://www.idc.ktc.lt/en/" TargetMode="External"/><Relationship Id="rId12" Type="http://schemas.openxmlformats.org/officeDocument/2006/relationships/hyperlink" Target="http://www.idc.ktc.lt/en/" TargetMode="External"/><Relationship Id="rId13" Type="http://schemas.openxmlformats.org/officeDocument/2006/relationships/hyperlink" Target="http://www.idc.ktc.lt/en/" TargetMode="External"/><Relationship Id="rId14" Type="http://schemas.openxmlformats.org/officeDocument/2006/relationships/hyperlink" Target="http://www.idc.ktc.lt/en/" TargetMode="External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400" y="91404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ubl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čka agencija za razvoj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malih i srednjih preduzeća i preduzetništva</a:t>
            </a:r>
            <a:br>
              <a:rPr sz="2400"/>
            </a:b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Serbian Agency for the Development of Small and Medium-sized Enterprises and Entrepreneurship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ovacioni potencijal za MSP u Srbi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rdana Danilović Grkovi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ktobar 2003.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odine u Beogra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838440" cy="5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"/>
          <p:cNvGraphicFramePr/>
          <p:nvPr/>
        </p:nvGraphicFramePr>
        <p:xfrm>
          <a:off x="457200" y="6058080"/>
          <a:ext cx="3809880" cy="579240"/>
        </p:xfrm>
        <a:graphic>
          <a:graphicData uri="http://schemas.openxmlformats.org/drawingml/2006/table">
            <a:tbl>
              <a:tblPr/>
              <a:tblGrid>
                <a:gridCol w="619200"/>
                <a:gridCol w="3190680"/>
              </a:tblGrid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684360"/>
                          <a:tab algn="l" pos="1368360"/>
                          <a:tab algn="l" pos="2052720"/>
                          <a:tab algn="l" pos="2736720"/>
                          <a:tab algn="l" pos="3421080"/>
                          <a:tab algn="l" pos="4105440"/>
                          <a:tab algn="l" pos="4789440"/>
                          <a:tab algn="l" pos="5473800"/>
                          <a:tab algn="l" pos="6157800"/>
                          <a:tab algn="l" pos="6842160"/>
                          <a:tab algn="l" pos="7526160"/>
                          <a:tab algn="l" pos="8210520"/>
                          <a:tab algn="l" pos="8894880"/>
                          <a:tab algn="l" pos="9578880"/>
                          <a:tab algn="l" pos="10263240"/>
                          <a:tab algn="l" pos="1094724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n-financial Assistance to SMEs in Serbia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 EU-funded project managed by the European Agency for Reconstruct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spešni prime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4475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tenti u prime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600200" y="5045040"/>
            <a:ext cx="4038480" cy="1812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5181480" y="4495680"/>
            <a:ext cx="3353040" cy="1500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28600" y="4495680"/>
            <a:ext cx="6172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ituti u procesu transforma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4876920" y="1523880"/>
            <a:ext cx="1912680" cy="26672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5"/>
          <a:stretch/>
        </p:blipFill>
        <p:spPr>
          <a:xfrm>
            <a:off x="5105520" y="1523880"/>
            <a:ext cx="539640" cy="505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6"/>
          <a:stretch/>
        </p:blipFill>
        <p:spPr>
          <a:xfrm>
            <a:off x="7162920" y="1371600"/>
            <a:ext cx="1447560" cy="1353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7"/>
          <a:stretch/>
        </p:blipFill>
        <p:spPr>
          <a:xfrm>
            <a:off x="6324480" y="1447920"/>
            <a:ext cx="540000" cy="5047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7238880" y="3048120"/>
            <a:ext cx="1295640" cy="823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219320" y="220968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izmičko ojačanje objekat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590920"/>
            <a:ext cx="403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istem DC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9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jal -Prvi praktični korac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vezivanj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ktronska b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zlaganje na sajmov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ovativni vaučer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ko to rade zemlje u okruženj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31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aspodela nadležnosti za pitanja politike inovacija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Vremenski okviri odabranih službenih dokumen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gled osnovnih šema saradnje istraživanja i industrije u CC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gled inicijativa koje su preuzete kao podrška NTB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1143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neki primeri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760680" y="227520"/>
            <a:ext cx="777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Raspodela nadležnosti za pitanja politike inovacija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533520" y="825480"/>
          <a:ext cx="8305560" cy="5143320"/>
        </p:xfrm>
        <a:graphic>
          <a:graphicData uri="http://schemas.openxmlformats.org/drawingml/2006/table">
            <a:tbl>
              <a:tblPr/>
              <a:tblGrid>
                <a:gridCol w="761760"/>
                <a:gridCol w="1676520"/>
                <a:gridCol w="3429000"/>
                <a:gridCol w="2438280"/>
              </a:tblGrid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vršni n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lavne agen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hanizmi koordinisan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- ne postoji deo odgovoran za podsticanje inoviranja ili tehnolog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mala i srednja preduzeća (ASME) - nema određeni mandat za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mehanizmi koordinisanj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snosi glavnu odgovornost za inoviranje. Ministarstvo obrazovanja i nauke je odgovorno za naučno-tehnološku politik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agencija za razvoj - nema određeni mandat za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ndat Letonskog naučnog veća je naučno istraživan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 - vodeća uloga u  inovaciji. Ministarstvo obrazovanja i nauke - odgovorno za naučno-tehnološku politik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ska agencija za razvoj malih i srednjih preduzeća (SMEDA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će za poslovni razvoj i komisija o poslovnom okruženju. Naučno veće Litvan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cionalne kultur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eško veće za nauku i tehnologiju (MCST) Institut za promovisanje malih preduzeća (IPSE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CST organizuje konsultacije o tehnološko-informacionom društv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. Ministarstvo privred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podršku nauke i tehnologije. Nacionalna agencija za razvoj malih i srednjih preduzeća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veće za nauku i tehnolog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istraživanja (MER), deo za inovaciju i transfer tehnologij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agencija za nauku, tehnologiju i inovaciju uključena u MER 2000. godine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đuministarsko veće za nauku, tehnologiju i inovaciju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istraživačko veće Turske (TUBITSK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TIDEB - daje podršku industrijskom razvoju i istraživanju, Fondacija za tehnološki razvoj Turske (TTGV) - daje podršku aktivnostima tehnološke inovacije u firmama, organizacije za razvoj male i srednje industrije (KOSGEB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rhovni naučno-tehnološki savet (BTYK)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vert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370880" y="22752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 (1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114480" y="914400"/>
          <a:ext cx="8915400" cy="5127480"/>
        </p:xfrm>
        <a:graphic>
          <a:graphicData uri="http://schemas.openxmlformats.org/drawingml/2006/table">
            <a:tbl>
              <a:tblPr/>
              <a:tblGrid>
                <a:gridCol w="604800"/>
                <a:gridCol w="1447920"/>
                <a:gridCol w="1984320"/>
                <a:gridCol w="2774880"/>
                <a:gridCol w="2103480"/>
              </a:tblGrid>
              <a:tr h="54540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jski razvoj i istraživanje, transfer tehnologije i savetodavne struktu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cija i rizični kapital i finansijska organizac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eže i udruže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828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koliko projekata je trenutno u pripremi (iz oblasti IC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poslovnu inovaciju (IZOT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j centar za inovacije, Bugarska čiji je domaćin Fond za primenjeno istraživanje i komunikacij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o industrijsko udruženje – uključuje Centar za intelektualnu svojin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ka Encouragement – državna banka koja daje investicione kredite malim i srednjim preduzeći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jedinjena bugarska banka (Garancijsku šemu pomaže USAID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i pet fondova preduzetničkog kapitala – Caresbac ima najniži nivo investic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redit banka (osnovao konzorcijum koji vodi Evropska banka za obnovu i razvoj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5920" indent="-11592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mreža za mikrokreditiranje (banka DSK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o udruženje agencija za regionalni razvoj (BARDA) 18 punopravnih članica i 15 pridruženih članica (Agencije za regionalni razvoj i poslovni centri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i tehnološki park (Tehnički univerzitet  iz Rig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dijski tehnološki park (Rig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i tehnološki cent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tabLst>
                          <a:tab algn="l" pos="0"/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"/>
                        </a:rPr>
                        <a:t>http://www.innovation.lv/ltc/eng/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lej centar za inovacije, Leton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centar za poslovnu inovaciju u elektronskoj industrij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tički investicioni fond, Baltički postprivatizacioni fond i Baltički fond malog kapitala (za sve tri Baltičke zemlj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nd poslovnog razvoja Norveške i Leton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o udruženje tehnoloških parkova/centara i poslovni inkuba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AC mreža- usluge poslovnog savetovan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ademija intelektualne svojine i inovacij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36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tehnološki park (Viln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ski inovativni centar (IRC) 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2"/>
                        </a:rPr>
                        <a:t>http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3"/>
                        </a:rPr>
                        <a:t>://www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4"/>
                        </a:rPr>
                        <a:t>innovation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ovativni centar na Kaunas tehnološkom univerzitetu 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5"/>
                        </a:rPr>
                        <a:t>http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6"/>
                        </a:rPr>
                        <a:t>://www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7"/>
                        </a:rPr>
                        <a:t>idc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8"/>
                        </a:rPr>
                        <a:t>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9"/>
                        </a:rPr>
                        <a:t>ktc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0"/>
                        </a:rPr>
                        <a:t>.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1"/>
                        </a:rPr>
                        <a:t>lt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2"/>
                        </a:rPr>
                        <a:t>/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3"/>
                        </a:rPr>
                        <a:t>en</a:t>
                      </a:r>
                      <a:r>
                        <a:rPr b="0" lang="sr-Latn-CS" sz="1100" spc="-1" strike="noStrike" u="sng">
                          <a:solidFill>
                            <a:srgbClr val="ccccff"/>
                          </a:solidFill>
                          <a:uFillTx/>
                          <a:latin typeface="Times New Roman"/>
                          <a:ea typeface="Times New Roman"/>
                          <a:hlinkClick r:id="rId14"/>
                        </a:rPr>
                        <a:t>/</a:t>
                      </a: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ltički investicioni fond, Baltički postprivatizacioni fond i Baltički fond malog kapitala (za sve tri Baltičke zemlje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 mehanizmi finansiranja koje predviđa državni progra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159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ja poslovnih centara uključujući poslovne centre, inkubatore i tehnološke parkove (od 1999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7320">
                <a:tc>
                  <a:txBody>
                    <a:bodyPr lIns="18360" rIns="1836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9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tehnološki parkov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 University Services Ltd. Institut za promociju malih preduzeća (IPS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rdin Centra poslovne inkuba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74600" indent="-17460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23184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RC kojeg su oformili MCIST i IPS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231840" indent="-23184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SE nudi garantne šeme za kredit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8360" rIns="18360" tIns="46800" bIns="46800" anchor="t">
                      <a:noAutofit/>
                    </a:bodyPr>
                    <a:p>
                      <a:pPr marL="231840" indent="-231840" algn="just">
                        <a:lnSpc>
                          <a:spcPct val="90000"/>
                        </a:lnSpc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174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mreže relevantne za inovaciju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8360" marR="18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5"/>
          <a:stretch/>
        </p:blipFill>
        <p:spPr>
          <a:xfrm>
            <a:off x="8077320" y="6172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142920" y="1143000"/>
          <a:ext cx="8915400" cy="4875120"/>
        </p:xfrm>
        <a:graphic>
          <a:graphicData uri="http://schemas.openxmlformats.org/drawingml/2006/table">
            <a:tbl>
              <a:tblPr/>
              <a:tblGrid>
                <a:gridCol w="680760"/>
                <a:gridCol w="1981440"/>
                <a:gridCol w="2286000"/>
                <a:gridCol w="2131920"/>
                <a:gridCol w="1835280"/>
              </a:tblGrid>
              <a:tr h="143640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74600" indent="-17460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 (7 parkova je u fazi razvoja prema PHARE 2000 finansijskom programu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i poslovne inovacije (9),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alni centri za inovaciju, sprovođenje i primenu otkrića (3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ri za inovaciju i transfer tehnologije (13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ncelarija za industrijsko povezivanje i saradnju (ILO) (12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kcijski i preduzetnički kapital – Crnomorski fond, Dunavski fond, Rumunski postprivatiz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a predviđa pomoć fondu za rizični kapital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reža relej centara za inovaciju – 6 regionalnih partnera sa bazom na univerziteti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enadžerska agencija za naučni, istraživački, inovacioni i tehnološki transfer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724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poslovnu inovaciju, Bratislava ispituje mogućnost stvaranja naučno-tehnološkog par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entar za unapređenje nauke i tehnologije- transfer tehnologi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Regionalnih savetodavnih i informacionih centara (RAIC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Poslovnih i inovativnih centara – 2 su članovi EBN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C, Bratislava je domaćin IRC, Slovač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pko-slovačka investiciona korporacije, DBG OstEuropa Holding, GIMV Češko-slovački fond za mala i srednja preduzeća, Slovački postprivatiz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inovacioni fon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 garancijska bank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industrijsko-istraživačkih instituta (20 instituta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1480">
                <a:tc>
                  <a:txBody>
                    <a:bodyPr lIns="45720" rIns="4572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 Marmara istraživački centar tehnološka slobodna zona Srednji Istok Tehnik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zitet Tehnopoli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 od 90 javnih istraživačkih instituta obavlja industrijski razvoj i istraživan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 instituti TUBITAKa: posebno Marmara istraživački centar (MAM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/tehnološki centri TTG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UME (metrologija, prototipske usluge, itd.)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GEB vodi 10 inkubat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 podržava stvaranje fondova preduzetničkog kapital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lk Bankasi – vodeća banka koja obezbeđuje kreditiranje malih i srednjih preduzeća – veza sa kreditno-garantnim fondo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115920" indent="-11592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kifRisk – lokalna kompanija preduzetničkog kapitala podržava kompanije u ranim fazam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5720" rIns="45720" tIns="46800" bIns="46800" anchor="t">
                      <a:noAutofit/>
                    </a:bodyPr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centar produktivnos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ja trgovačkih i industrijskih kom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ambulska industrijska komor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kvaliteta Tursk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58680" algn="just">
                        <a:buClr>
                          <a:srgbClr val="000000"/>
                        </a:buClr>
                        <a:buFont typeface="Symbol" charset="2"/>
                        <a:buChar char="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druženje turskih industrijalaca i poslovno udruženj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45720" marR="457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"/>
          <p:cNvSpPr/>
          <p:nvPr/>
        </p:nvSpPr>
        <p:spPr>
          <a:xfrm>
            <a:off x="1370880" y="379800"/>
            <a:ext cx="650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ljučni akteri u pomaganju inovacija u CC7 (3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8077320" y="6172200"/>
            <a:ext cx="838080" cy="5238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04920" y="4096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Vremenski okvir odabranih službenih dokumenata o "politici inovacije" u CC7 1996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-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62120" y="1447920"/>
          <a:ext cx="7772400" cy="4400280"/>
        </p:xfrm>
        <a:graphic>
          <a:graphicData uri="http://schemas.openxmlformats.org/drawingml/2006/table">
            <a:tbl>
              <a:tblPr/>
              <a:tblGrid>
                <a:gridCol w="1143000"/>
                <a:gridCol w="2286000"/>
                <a:gridCol w="2514600"/>
                <a:gridCol w="1828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uga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strategija o razvoju visoke tehnologije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program 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 malih i srednjih preduzeća (199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ugoročna ekonomska strategija Letonije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koncept inovacije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itva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inoviranja u poslovanju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 papir o razvoju i istraživanju i tehnologij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li papir o prosperitetu u promen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 o poslovnoj promociji (2001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umuni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plan razvoja i istraživanja i inovacije (1997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njoročna strategija 2000-2004 nauke i tehnologije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8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a politika u industrijskim granama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i model finansiranja nauke i tehnologije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r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8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a i tehnološka politika (1999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mi petogodišnji razvojni plan 2001-2005. (2000.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57200" y="455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1828800"/>
          <a:ext cx="8686800" cy="3767040"/>
        </p:xfrm>
        <a:graphic>
          <a:graphicData uri="http://schemas.openxmlformats.org/drawingml/2006/table">
            <a:tbl>
              <a:tblPr/>
              <a:tblGrid>
                <a:gridCol w="984240"/>
                <a:gridCol w="1158840"/>
                <a:gridCol w="1049400"/>
                <a:gridCol w="1103400"/>
                <a:gridCol w="941400"/>
                <a:gridCol w="1079280"/>
                <a:gridCol w="1216080"/>
                <a:gridCol w="1154160"/>
              </a:tblGrid>
              <a:tr h="311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opštenje: Inoviranje u privredi koju vodi znanje (20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a strategija za razvoj visoke tehnologije (199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cionalni koncept inoviranja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inoviranja u poslovanju (200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i poseban politički dokument o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i poseban politički dokument o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njoročna strategija nauke i tehnologije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učno-tehnološka politika Turske (199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herencija politik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litika inoviranja koordinisana sa zemljama 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ticaj međunarodne sarad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mere –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mogu se ustanoviti prioriteti - nedostatak koherentne politike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opšti cilj je da se poboljša Nacionalni sistem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00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ulatorni okvir koji doprinosi inovira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oljšanje opštih uslova poslovanja je državni priorite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a akta i dokumenta povoljna za inovativno poslov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o okruženje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orena jedinica za efikasnost malih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e zakonodavstva u domenu razvoja i istraživanja i institucionalni okvi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konske mere u korist inoviranja (preduzetnički kapital, itd.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57200" y="45576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omparativni pregled političkih ciljeva koji se odnose na inoviranje u CC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04920" y="1600200"/>
          <a:ext cx="8533800" cy="4264200"/>
        </p:xfrm>
        <a:graphic>
          <a:graphicData uri="http://schemas.openxmlformats.org/drawingml/2006/table">
            <a:tbl>
              <a:tblPr/>
              <a:tblGrid>
                <a:gridCol w="966600"/>
                <a:gridCol w="1138320"/>
                <a:gridCol w="1030320"/>
                <a:gridCol w="1085040"/>
                <a:gridCol w="925560"/>
                <a:gridCol w="1058760"/>
                <a:gridCol w="1194480"/>
                <a:gridCol w="1134720"/>
              </a:tblGrid>
              <a:tr h="26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ticaj stvaranja i rasta inovativnih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parkova visoke tehnologije, umanjenje ili izuzeće od plaćanja poreza za firme visoke tehnolog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ška inovativnim preduzećima i daljem rast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i mehanizmi finansiranj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PSE razvio poslovni inkuba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direktne određene mere za inovativna novopokrenut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73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apređenja ključnih odnosa u sistemu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rkovi visoke tehnologije se opet smatraju glavnom alatkom integracije istraživačkih centara i poslovnih interes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ikasna i koordinisana interakcija između svih elemenata sistem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strukture inoviranja i jačanje veza između naučnog i poslovnog sekto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IRC, Mal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ene u kriterijumima za finansiranje istraži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boljšanje mogućnosti širenja i apsorpcije istraživačkih rezultata u društveno-ekonomski dom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nje zajedničkih istraživačkih centara univerzitet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uštvo otvoreno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toji Vladin plan akcija o doživotnom učen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društva otvorenog za inov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 nacionalnog sistema inovir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priorite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ormiranje naučno-tehnoloških centara, itd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2271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osnovnih šema saradnje istraživanja i industri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3520" y="1905120"/>
          <a:ext cx="8153280" cy="3403440"/>
        </p:xfrm>
        <a:graphic>
          <a:graphicData uri="http://schemas.openxmlformats.org/drawingml/2006/table">
            <a:tbl>
              <a:tblPr/>
              <a:tblGrid>
                <a:gridCol w="609480"/>
                <a:gridCol w="1067040"/>
                <a:gridCol w="1828800"/>
                <a:gridCol w="2438280"/>
                <a:gridCol w="220968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vorna organizac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ev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na grup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siran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operativni razvojno-istraživački progr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niverziteti, naučni instituti, industri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inansiranje do 50% projeka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marketinški orijentisanim istraživačkim projektima (1993-), stimulisanje malog naučno-intenzivnog preduzetništ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i, mala i srednja preduzeća, finansijska sredstva su uglavnom namenjena praktičnim naučnim primenama i malim i srednjim preduzećima koje su osnovali naučn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dišnji državni budžet 1,5 mil.evra, prosečna pomoć oko 20.000 ev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nansiranje zajedničkih projekata istraživanj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instituti i 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sufinansiranje, 300.000 evra (ne godišnj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visanje relej centara za inoviranje koji stvaraju veze između tehnologija i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o sufinansiranje usluga konsaltinga i projekata demonstrac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enutno ne postoje inicijative za pružanje podrške saradnji istraživanja i industr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cover dir="d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ovacije  kao klju</a:t>
            </a:r>
            <a:r>
              <a:rPr b="0" lang="sl-SI" sz="4400" spc="-1" strike="noStrike">
                <a:solidFill>
                  <a:srgbClr val="000000"/>
                </a:solidFill>
                <a:latin typeface="Times New Roman"/>
              </a:rPr>
              <a:t>čni faktor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 makro nivou inovacije su dominantan faktor  nacionalnog ekonomskog rasta i medjunarodnih trgovinskih tok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Times New Roman"/>
              </a:rPr>
              <a:t>na mikro nivou, odnosno na nivou preduzeća istraživanje i razvoj povećava kapacitet svih vrsta novih znanja, ne samo tehnološko znan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609480" y="1523880"/>
          <a:ext cx="7772400" cy="4200480"/>
        </p:xfrm>
        <a:graphic>
          <a:graphicData uri="http://schemas.openxmlformats.org/drawingml/2006/table">
            <a:tbl>
              <a:tblPr/>
              <a:tblGrid>
                <a:gridCol w="457200"/>
                <a:gridCol w="1981080"/>
                <a:gridCol w="1447920"/>
                <a:gridCol w="2133720"/>
                <a:gridCol w="1752480"/>
              </a:tblGrid>
              <a:tr h="998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istraživan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program 2 RELANSINa, sa ciljem da razvije složene proizvode i nove tehnolog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zvojno-istraživački delovi, univerziteti, kompanij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 celokupnog programa 12 mil. Evra u 2001., 90 evra za dati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ovačka akademija nauk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ncija za podršku nauke i tehnologije (20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projek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traživački progra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dustrijski sek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sektor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, 16 680 964 evra godišnjeg budžet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ostvarenju tehnoparkova na univerzite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sekretarijat ministarstva finansija kroz Svetsku banku, sufinansira 50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UBITAK-TIDEB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moć industrijskim razvojno-istraživačkim projektim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slovna preduzeća i univerziteti koji sarađuju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ksimalno 100 000 evr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228600" y="22716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osnovnih šema saradnje istraživanja i industrije u CC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924680" y="6095880"/>
            <a:ext cx="838440" cy="524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96200" y="227520"/>
            <a:ext cx="89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inicijativa koje su preduzete kao podrška NT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762120"/>
          <a:ext cx="8229600" cy="5287680"/>
        </p:xfrm>
        <a:graphic>
          <a:graphicData uri="http://schemas.openxmlformats.org/drawingml/2006/table">
            <a:tbl>
              <a:tblPr/>
              <a:tblGrid>
                <a:gridCol w="685800"/>
                <a:gridCol w="990720"/>
                <a:gridCol w="1828800"/>
                <a:gridCol w="1828800"/>
                <a:gridCol w="28954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eml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govorna organizac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e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iljna grup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, ban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većanje konkurentnosti bugarske proizvod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ve tehnologij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jmovi na 4 do 10 godina. Minimalni iznos pozajmice 20,000 evra i maksimalan 1,000,000 ev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obrazovanja i nauk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redstva za eksperimentalne projekte i pomoć u promovisanju aktivnosti tehnoloških centara i parko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la i srednja preduzeć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ufinansiranje: 50% iz državnog budžeta, 50% od privatnih poslovnih partnera. Ukupna sredstva: 10% državnog budžeta za istraživ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privre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puna zakona o "Porezu na prihod kompanije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ća iz 7 sektora visok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pis na spisku softverskih i proizvoda visoke tehnologije (30% izuzeće od  poreza na prihod kompanij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etonska agencija za razvoj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jekat: Strategija za poslovni razvoj baziran na znanju u Letoni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ske uprave, regionalne agencije za razvoj, univerziteti, preduzeća, ogran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kupno 520 000 evra, uključujući 75% iz Unije i 25% od Letonske vlade i učesnika u projek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razvoja visok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hnološki park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avni i privatni fondo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 postoje formalni programi davanja podrške NTBF/novoosnovanim firmam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industr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ina odluka br. 65/2001 u vezi sa industrijskim parkovima obezbeđuje poreske pogodnosti za investito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panije zasnovane na tehnologij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533520" y="838080"/>
          <a:ext cx="8153280" cy="5172120"/>
        </p:xfrm>
        <a:graphic>
          <a:graphicData uri="http://schemas.openxmlformats.org/drawingml/2006/table">
            <a:tbl>
              <a:tblPr/>
              <a:tblGrid>
                <a:gridCol w="380880"/>
                <a:gridCol w="1219320"/>
                <a:gridCol w="2514600"/>
                <a:gridCol w="1905120"/>
                <a:gridCol w="213336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inistarstvo telekomunikacija i informacion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ferencijalno plaćanje poreza na plate stručnjaka iz oblasti softvera i informacione tehnolog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i softverske kompani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žavni budžet, sufinansiranj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l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varanje industrijskih parkova. Regulatorni okvir kao podrška poslovanj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dske upra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i sek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na / jav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SGE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nivanje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tnici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rastrukturna i adminsitrativna podrška, mentorstvo, plus 25,000 evra zajma pod liberalnim uslovima za razvojno-istraživačku opremu i 35,000 evra subvencije za nabavku i usluge konsalting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TG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snivanje fondova preduzetničkog kapitala kao podrška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tencijalni investitori preduzetničkog kapitala kao podrške NTB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pitalno ulaganje u kompanije preduzetničkog kapitala do 40% ukupne investicije (do 4,5 mil. evra) (ukupan raspoloživ iznos 7,9 mil evr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4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c Hold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rška infrastrukturi u inkubatoru i delovanje kao poslovni investit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duzetnici (pogotovo ulaganja u inovativne ideje elektronskog poslovanja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ivatna (Koc Holdinga) sredstv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77320" y="6095880"/>
            <a:ext cx="838080" cy="5241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96200" y="227520"/>
            <a:ext cx="894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Kratak pregled inicijativa koje su preduzete kao podrška NTB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09480" y="1219320"/>
            <a:ext cx="853452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ka Srbi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ublička agencija za razvoj malih i srednjih preduzeća i preduzetniš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3429000"/>
            <a:ext cx="7613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ičin venac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000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ogr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l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- </a:t>
            </a: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ks</a:t>
            </a: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(+38111) 3346-107; (+38111) 3346-6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: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MEs@net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www.sme.sr.gov.y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4191120" y="2286000"/>
            <a:ext cx="92376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3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500"/>
                            </p:stCondLst>
                            <p:childTnLst>
                              <p:par>
                                <p:cTn id="1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1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500"/>
                            </p:stCondLst>
                            <p:childTnLst>
                              <p:par>
                                <p:cTn id="19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828800" y="1143000"/>
            <a:ext cx="5219640" cy="5105520"/>
            <a:chOff x="1828800" y="1143000"/>
            <a:chExt cx="5219640" cy="5105520"/>
          </a:xfrm>
        </p:grpSpPr>
        <p:sp>
          <p:nvSpPr>
            <p:cNvPr id="50" name=""/>
            <p:cNvSpPr/>
            <p:nvPr/>
          </p:nvSpPr>
          <p:spPr>
            <a:xfrm>
              <a:off x="1828800" y="1143000"/>
              <a:ext cx="5219640" cy="5105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49040" y="2005560"/>
              <a:ext cx="3178440" cy="3119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568680" y="3127680"/>
              <a:ext cx="1739880" cy="1701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96480" y="456120"/>
            <a:ext cx="51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Polje inovativne politike – mapa pitanj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82880" y="1218600"/>
            <a:ext cx="30639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OKVIRNI USLOV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Opšti uslovi i institucij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oji postavljaju mogućnosti za inov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142360"/>
            <a:ext cx="28191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FAKTORI TRANSF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Ljudski, društveni i kulturni faktori koji utiču na prenos informacija u preduzeća i njihovo učenje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86280" y="3313440"/>
            <a:ext cx="2666880" cy="12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POKRETA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INOVACI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Dinamički faktor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koji oblikuju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inovaci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u preduzećim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5304600"/>
            <a:ext cx="266724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400" spc="-1" strike="noStrike">
                <a:solidFill>
                  <a:srgbClr val="000000"/>
                </a:solidFill>
                <a:latin typeface="Times New Roman"/>
              </a:rPr>
              <a:t>NAUČNO-TEHNIČKA OS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Naučno-tehnološke institucije podstič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Times New Roman"/>
              </a:rPr>
              <a:t>pokretač inovacij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3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kvirni uslov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ukativni i istraživački si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avni i makroekonomski uslo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nsijske instituci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stup tržišti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ustrijska struktu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924680" y="6095880"/>
            <a:ext cx="838440" cy="52416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fer teh</a:t>
            </a:r>
            <a:r>
              <a:rPr b="0" lang="sr-Latn-C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log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001000" y="601992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7162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Times New Roman"/>
              </a:rPr>
              <a:t>Oblici direktnog transfera tehnologije (TT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Univerzitet – ka preduzeć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straživačke institucije – ka preduzeć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Lični transfer tehnologije – putem transfera zaposleni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Razmena između preduzeća i njihovih podugovarača putem lanca nabavk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među preduzeća koja međusobno sarađuju formirajući strateške save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Iz institucija za transfer tehnologije u preduzeć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Sajmovi, izložbe, konferencije za transfer tehnologi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Širenje znan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vert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š fok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670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učnoistraživački sistem Srbi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tencij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 znanj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šnološki potencij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pravlj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k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kro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vezivanj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ni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cionalni inovativni si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001000" y="6095880"/>
            <a:ext cx="838080" cy="52416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tencij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924680" y="6019920"/>
            <a:ext cx="83844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" name=""/>
          <p:cNvGraphicFramePr/>
          <p:nvPr/>
        </p:nvGraphicFramePr>
        <p:xfrm>
          <a:off x="228600" y="1676520"/>
          <a:ext cx="8686800" cy="3809880"/>
        </p:xfrm>
        <a:graphic>
          <a:graphicData uri="http://schemas.openxmlformats.org/drawingml/2006/table">
            <a:tbl>
              <a:tblPr/>
              <a:tblGrid>
                <a:gridCol w="3809880"/>
                <a:gridCol w="1295640"/>
                <a:gridCol w="1218960"/>
                <a:gridCol w="1233720"/>
                <a:gridCol w="112860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p 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roj N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/ 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 Instituti/ 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ržavni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mostalni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tituti u sastavu preduzeć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R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NU institu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2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akulte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,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straživanja u tehnološkom razvo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3" name=""/>
          <p:cNvGraphicFramePr/>
          <p:nvPr/>
        </p:nvGraphicFramePr>
        <p:xfrm>
          <a:off x="0" y="1828800"/>
          <a:ext cx="9067680" cy="3156120"/>
        </p:xfrm>
        <a:graphic>
          <a:graphicData uri="http://schemas.openxmlformats.org/drawingml/2006/table">
            <a:tbl>
              <a:tblPr/>
              <a:tblGrid>
                <a:gridCol w="1143000"/>
                <a:gridCol w="609480"/>
                <a:gridCol w="609840"/>
                <a:gridCol w="573120"/>
                <a:gridCol w="468000"/>
                <a:gridCol w="533520"/>
                <a:gridCol w="600120"/>
                <a:gridCol w="600120"/>
                <a:gridCol w="600120"/>
                <a:gridCol w="601560"/>
                <a:gridCol w="534960"/>
                <a:gridCol w="533520"/>
                <a:gridCol w="631800"/>
                <a:gridCol w="609480"/>
                <a:gridCol w="419040"/>
              </a:tblGrid>
              <a:tr h="23112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13"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Zvanj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hnološka oblas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st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sistent pri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član SAN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. prip. stipe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 prip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traživač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učni savet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dov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anred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ši 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cione 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 marL="572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o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vi materija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 indent="-144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okovredna hra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vitalizacija i kvalite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netički inženjerin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,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,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,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"/>
          <p:cNvSpPr/>
          <p:nvPr/>
        </p:nvSpPr>
        <p:spPr>
          <a:xfrm>
            <a:off x="17280" y="5104800"/>
            <a:ext cx="64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azličit od prostog zbira redova u koloni jer su neki istraživači angažovani na projektima u dve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317360" y="1523160"/>
            <a:ext cx="131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Period 1998-2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Times New Roman"/>
              </a:rPr>
              <a:t>Istraživanja u tehnološkom razvoj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8305920" y="6334200"/>
            <a:ext cx="838080" cy="5238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7280" y="5485680"/>
            <a:ext cx="649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* različit od prostog zbira redova u koloni jer su neki istraživači angažovani na projektima u dve oblas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317360" y="1523160"/>
            <a:ext cx="95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Times New Roman"/>
              </a:rPr>
              <a:t>Period 200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85680" y="1790640"/>
          <a:ext cx="8991720" cy="3384720"/>
        </p:xfrm>
        <a:graphic>
          <a:graphicData uri="http://schemas.openxmlformats.org/drawingml/2006/table">
            <a:tbl>
              <a:tblPr/>
              <a:tblGrid>
                <a:gridCol w="1863720"/>
                <a:gridCol w="728640"/>
                <a:gridCol w="728640"/>
                <a:gridCol w="717480"/>
                <a:gridCol w="565200"/>
                <a:gridCol w="569880"/>
                <a:gridCol w="603360"/>
                <a:gridCol w="595440"/>
                <a:gridCol w="546120"/>
                <a:gridCol w="536400"/>
                <a:gridCol w="528840"/>
                <a:gridCol w="455400"/>
                <a:gridCol w="552600"/>
              </a:tblGrid>
              <a:tr h="5324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tGr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stent priprav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cen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red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dovni profesor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živač priprav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aživač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ši na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</a:t>
                      </a:r>
                      <a:r>
                        <a:rPr b="0" lang="sr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učni savet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tručni sarad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ormatika, elektronika i telekomunikac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84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terijali i hemijske tehnologij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76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ašinstvo i industrijski softv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obraćaj i građevinar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iotehnik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0" rIns="0" tIns="46800" bIns="46800" anchor="b">
                      <a:noAutofit/>
                    </a:bodyPr>
                    <a:p>
                      <a:pPr marL="58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ergetske tehnologije i rudarst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640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kupno 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1440">
                <a:tc>
                  <a:txBody>
                    <a:bodyPr lIns="0" rIns="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,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,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,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,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,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9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,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,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12:25:55Z</dcterms:created>
  <dc:creator>goca</dc:creator>
  <dc:description/>
  <dc:language>en-US</dc:language>
  <cp:lastModifiedBy>Bojan</cp:lastModifiedBy>
  <dcterms:modified xsi:type="dcterms:W3CDTF">2003-10-17T13:15:09Z</dcterms:modified>
  <cp:revision>38</cp:revision>
  <dc:subject/>
  <dc:title>Znak i natpis Rep.ag.na srpskom i engleskom</dc:title>
</cp:coreProperties>
</file>