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008F5-9089-49D8-9E0F-C1D702F2B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68D23-9FEB-436A-A6AE-5157FC9F6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5B32A-F2E3-4EBA-99AF-1CB73F80D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D5305-1443-43D8-B2FA-8EE2A73F31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8E44A-3F0F-4FAD-B1A7-E855F47AED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6BF63-59F1-4A59-A212-A73D65A24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E42B7-EAB3-4D70-9593-16D55C95F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B1FC0-9572-4C95-A9A2-AA98CEDCB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6091E-19AC-4917-A16F-59558D0FC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A7945-E80E-4653-945D-F43CEDEB1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DB272-2929-4B9E-9808-33C40227C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2B2B3-12A7-4040-8A30-B9EDB705A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5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6AF0-076D-4E6D-A7DE-673CFDE61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64800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nnovation.lv/ltc/eng/" TargetMode="External"/><Relationship Id="rId2" Type="http://schemas.openxmlformats.org/officeDocument/2006/relationships/hyperlink" Target="http://www.innovationlt/" TargetMode="External"/><Relationship Id="rId3" Type="http://schemas.openxmlformats.org/officeDocument/2006/relationships/hyperlink" Target="http://www.innovationlt/" TargetMode="External"/><Relationship Id="rId4" Type="http://schemas.openxmlformats.org/officeDocument/2006/relationships/hyperlink" Target="http://www.innovationlt/" TargetMode="External"/><Relationship Id="rId5" Type="http://schemas.openxmlformats.org/officeDocument/2006/relationships/hyperlink" Target="http://www.idc.ktc.lt/en/" TargetMode="External"/><Relationship Id="rId6" Type="http://schemas.openxmlformats.org/officeDocument/2006/relationships/hyperlink" Target="http://www.idc.ktc.lt/en/" TargetMode="External"/><Relationship Id="rId7" Type="http://schemas.openxmlformats.org/officeDocument/2006/relationships/hyperlink" Target="http://www.idc.ktc.lt/en/" TargetMode="External"/><Relationship Id="rId8" Type="http://schemas.openxmlformats.org/officeDocument/2006/relationships/hyperlink" Target="http://www.idc.ktc.lt/en/" TargetMode="External"/><Relationship Id="rId9" Type="http://schemas.openxmlformats.org/officeDocument/2006/relationships/hyperlink" Target="http://www.idc.ktc.lt/en/" TargetMode="External"/><Relationship Id="rId10" Type="http://schemas.openxmlformats.org/officeDocument/2006/relationships/hyperlink" Target="http://www.idc.ktc.lt/en/" TargetMode="External"/><Relationship Id="rId11" Type="http://schemas.openxmlformats.org/officeDocument/2006/relationships/hyperlink" Target="http://www.idc.ktc.lt/en/" TargetMode="External"/><Relationship Id="rId12" Type="http://schemas.openxmlformats.org/officeDocument/2006/relationships/hyperlink" Target="http://www.idc.ktc.lt/en/" TargetMode="External"/><Relationship Id="rId13" Type="http://schemas.openxmlformats.org/officeDocument/2006/relationships/hyperlink" Target="http://www.idc.ktc.lt/en/" TargetMode="External"/><Relationship Id="rId14" Type="http://schemas.openxmlformats.org/officeDocument/2006/relationships/hyperlink" Target="http://www.idc.ktc.lt/en/" TargetMode="External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ubl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ka agencija za razvoj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alih i srednjih preduzeća i preduzetništva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erbian Agency for the Development of Small and Medium-sized Enterprises and Entrepreneurship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vacioni potencijal za MSP u Srb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rdana Danilović Grkov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ktobar 2003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ine u Beogra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838440" cy="5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57200" y="6058080"/>
          <a:ext cx="3809880" cy="579240"/>
        </p:xfrm>
        <a:graphic>
          <a:graphicData uri="http://schemas.openxmlformats.org/drawingml/2006/table">
            <a:tbl>
              <a:tblPr/>
              <a:tblGrid>
                <a:gridCol w="619200"/>
                <a:gridCol w="319068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-financial Assistance to SMEs in Serb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 EU-funded project managed by the European Agency for Reconstru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pešni prime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i u pri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838080" cy="524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600200" y="5045040"/>
            <a:ext cx="4038480" cy="1812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181480" y="4495680"/>
            <a:ext cx="3353040" cy="1500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8600" y="4495680"/>
            <a:ext cx="6172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i u procesu transform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876920" y="1523880"/>
            <a:ext cx="1912680" cy="2667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105520" y="1523880"/>
            <a:ext cx="539640" cy="505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7162920" y="1371600"/>
            <a:ext cx="1447560" cy="1353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324480" y="1447920"/>
            <a:ext cx="540000" cy="504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7238880" y="3048120"/>
            <a:ext cx="1295640" cy="823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219320" y="22096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izmičko ojačanje objekat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5909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istem DC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cijal -Prvi praktični kora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eziv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ktronska b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laganje na sajmov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ovativni vauč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838080" cy="524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ko to rade zemlje u okruženj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spodela nadležnosti za pitanja politike inovacija u CC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ljučni akteri u pomaganju inovacija u CC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remenski okviri odabranih službenih dokumen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mparativni pregled političkih ciljeva koji se odnose na inoviranje u CC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gled osnovnih šema saradnje istraživanja i industrije u CC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gled inicijativa koje su preuzete kao podrška NT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838080" cy="524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48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neki primeri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838080" cy="524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0680" y="227520"/>
            <a:ext cx="77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Raspodela nadležnosti za pitanja politike inovacija u CC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520" y="825480"/>
          <a:ext cx="8305560" cy="5143320"/>
        </p:xfrm>
        <a:graphic>
          <a:graphicData uri="http://schemas.openxmlformats.org/drawingml/2006/table">
            <a:tbl>
              <a:tblPr/>
              <a:tblGrid>
                <a:gridCol w="761760"/>
                <a:gridCol w="1676520"/>
                <a:gridCol w="3429000"/>
                <a:gridCol w="24382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ml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vršni n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avne agenci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hanizmi koordinis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gars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privrede - ne postoji deo odgovoran za podsticanje inoviranja ili tehnologij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ncija za mala i srednja preduzeća (ASME) - nema određeni mandat za inovacij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mehanizmi koordinisanj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oni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privrede snosi glavnu odgovornost za inoviranje. Ministarstvo obrazovanja i nauke je odgovorno za naučno-tehnološku politik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onska agencija za razvoj - nema određeni mandat za inovacij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dat Letonskog naučnog veća je naučno istraživanj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vani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privrede - vodeća uloga u  inovaciji. Ministarstvo obrazovanja i nauke - odgovorno za naučno-tehnološku politik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vanska agencija za razvoj malih i srednjih preduzeća (SMEDA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će za poslovni razvoj i komisija o poslovnom okruženju. Naučno veće Litvanij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obrazovanja i nacionalne kultur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teško veće za nauku i tehnologiju (MCST) Institut za promovisanje malih preduzeća (IPSE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ST organizuje konsultacije o tehnološko-informacionom društv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ač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obrazovanja i nauke. Ministarstvo privre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ncija za podršku nauke i tehnologije. Nacionalna agencija za razvoj malih i srednjih preduzeć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žavno veće za nauku i tehnologij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muni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obrazovanja i istraživanja (MER), deo za inovaciju i transfer tehnologij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na agencija za nauku, tehnologiju i inovaciju uključena u MER 2000. godin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đuministarsko veće za nauku, tehnologiju i inovacij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s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učno-istraživačko veće Turske (TUBITSK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BITAK-TIDEB - daje podršku industrijskom razvoju i istraživanju, Fondacija za tehnološki razvoj Turske (TTGV) - daje podršku aktivnostima tehnološke inovacije u firmama, organizacije za razvoj male i srednje industrije (KOSGEB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hovni naučno-tehnološki savet (BTYK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0880" y="22752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ljučni akteri u pomaganju inovacija u CC7 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4480" y="914400"/>
          <a:ext cx="8915400" cy="5127480"/>
        </p:xfrm>
        <a:graphic>
          <a:graphicData uri="http://schemas.openxmlformats.org/drawingml/2006/table">
            <a:tbl>
              <a:tblPr/>
              <a:tblGrid>
                <a:gridCol w="604800"/>
                <a:gridCol w="1447920"/>
                <a:gridCol w="1984320"/>
                <a:gridCol w="2774880"/>
                <a:gridCol w="2103480"/>
              </a:tblGrid>
              <a:tr h="545400">
                <a:tc>
                  <a:txBody>
                    <a:bodyPr lIns="18360" rIns="1836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ml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hnološki parkov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strijski razvoj i istraživanje, transfer tehnologije i savetodavne struk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ovacija i rizični kapital i finansijska organizac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reže i udruže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18360" rIns="1836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gars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koliko projekata je trenutno u pripremi (iz oblasti ICT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ar za poslovnu inovaciju (IZOT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ej centar za inovacije, Bugarska čiji je domaćin Fond za primenjeno istraživanje i komunikacij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garsko industrijsko udruženje – uključuje Centar za intelektualnu svojin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a Encouragement – državna banka koja daje investicione kredite malim i srednjim preduzećim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jedinjena bugarska banka (Garancijsku šemu pomaže USAID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i pet fondova preduzetničkog kapitala – Caresbac ima najniži nivo investicij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redit banka (osnovao konzorcijum koji vodi Evropska banka za obnovu i razvoj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5920" indent="-11592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na mreža za mikrokreditiranje (banka DSK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garsko udruženje agencija za regionalni razvoj (BARDA) 18 punopravnih članica i 15 pridruženih članica (Agencije za regionalni razvoj i poslovni centri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320">
                <a:tc>
                  <a:txBody>
                    <a:bodyPr lIns="18360" rIns="1836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on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onski tehnološki park (Tehnički univerzitet  iz Rige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dijski tehnološki park (Riga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onski tehnološki cent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tabLst>
                          <a:tab algn="l" pos="0"/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http://www.innovation.lv/ltc/eng/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ej centar za inovacije, Letonij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onska centar za poslovnu inovaciju u elektronskoj industrij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ltički investicioni fond, Baltički postprivatizacioni fond i Baltički fond malog kapitala (za sve tri Baltičke zemlje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nd poslovnog razvoja Norveške i Letonij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5920" indent="-11592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onsko udruženje tehnoloških parkova/centara i poslovni inkubato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C mreža- usluge poslovnog savetovanj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ademija intelektualne svojine i inovacij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18360" rIns="1836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van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učno-tehnološki park (Vilna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vanijski inovativni centar (IRC) 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http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://www.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innovationl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ovativni centar na Kaunas tehnološkom univerzitetu 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http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://www.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idc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.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ktc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.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lt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/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en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/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ltički investicioni fond, Baltički postprivatizacioni fond i Baltički fond malog kapitala (za sve tri Baltičke zemlje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i mehanizmi finansiranja koje predviđa državni progra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ja poslovnih centara uključujući poslovne centre, inkubatore i tehnološke parkove (od 1999.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320">
                <a:tc>
                  <a:txBody>
                    <a:bodyPr lIns="18360" rIns="1836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tehnološki parkov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231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ta University Services Ltd. Institut za promociju malih preduzeća (IPS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231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din Centra poslovne inkubac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231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C kojeg su oformili MCIST i IPS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231840" indent="-23184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SE nudi garantne šeme za kredit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231840" indent="-23184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mreže relevantne za inovacij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5"/>
          <a:stretch/>
        </p:blipFill>
        <p:spPr>
          <a:xfrm>
            <a:off x="8077320" y="6172200"/>
            <a:ext cx="838080" cy="52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42920" y="1143000"/>
          <a:ext cx="8915400" cy="4875120"/>
        </p:xfrm>
        <a:graphic>
          <a:graphicData uri="http://schemas.openxmlformats.org/drawingml/2006/table">
            <a:tbl>
              <a:tblPr/>
              <a:tblGrid>
                <a:gridCol w="680760"/>
                <a:gridCol w="1981440"/>
                <a:gridCol w="2286000"/>
                <a:gridCol w="2131920"/>
                <a:gridCol w="1835280"/>
              </a:tblGrid>
              <a:tr h="143640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mun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4600" indent="-17460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hnološki parkovi (7 parkova je u fazi razvoja prema PHARE 2000 finansijskom programu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i poslovne inovacije (9)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alni centri za inovaciju, sprovođenje i primenu otkrića (3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i za inovaciju i transfer tehnologije (13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ncelarija za industrijsko povezivanje i saradnju (ILO) (12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cijski i preduzetnički kapital – Crnomorski fond, Dunavski fond, Rumunski postprivatizacioni fon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žava predviđa pomoć fondu za rizični kapita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reža relej centara za inovaciju – 6 regionalnih partnera sa bazom na univerzitetim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adžerska agencija za naučni, istraživački, inovacioni i tehnološki transfe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7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ač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ar za poslovnu inovaciju, Bratislava ispituje mogućnost stvaranja naučno-tehnološkog park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ar za unapređenje nauke i tehnologije- transfer tehnologij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Regionalnih savetodavnih i informacionih centara (RAIC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Poslovnih i inovativnih centara – 2 su članovi EB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C, Bratislava je domaćin IRC, Slovačk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pko-slovačka investiciona korporacije, DBG OstEuropa Holding, GIMV Češko-slovački fond za mala i srednja preduzeća, Slovački postprivatizacioni fon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žavni inovacioni fon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ačka garancijska bank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ruženje industrijsko-istraživačkih instituta (20 instituta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148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s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BITAK Marmara istraživački centar tehnološka slobodna zona Srednji Istok Tehnik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zitet Tehnopol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od 90 javnih istraživačkih instituta obavlja industrijski razvoj i istraživanj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vojno-istraživački instituti TUBITAKa: posebno Marmara istraživački centar (MAM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vojno-istraživački/tehnološki centri TT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BITAK-UME (metrologija, prototipske usluge, itd.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GEB vodi 10 inkubator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TGV podržava stvaranje fondova preduzetničkog kapital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lk Bankasi – vodeća banka koja obezbeđuje kreditiranje malih i srednjih preduzeća – veza sa kreditno-garantnim fondo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kifRisk – lokalna kompanija preduzetničkog kapitala podržava kompanije u ranim fazam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586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ni centar produktiv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86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ja trgovačkih i industrijskih komor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86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ambulska industrijska komor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868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ruženje kvaliteta Tursk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868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ruženje turskih industrijalaca i poslovno udruženj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1370880" y="3798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ljučni akteri u pomaganju inovacija u CC7 (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077320" y="6172200"/>
            <a:ext cx="838080" cy="52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4096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emenski okvir odabranih službenih dokumenata o "politici inovacije" u CC7 199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62120" y="1447920"/>
          <a:ext cx="7772400" cy="4400280"/>
        </p:xfrm>
        <a:graphic>
          <a:graphicData uri="http://schemas.openxmlformats.org/drawingml/2006/table">
            <a:tbl>
              <a:tblPr/>
              <a:tblGrid>
                <a:gridCol w="1143000"/>
                <a:gridCol w="2286000"/>
                <a:gridCol w="2514600"/>
                <a:gridCol w="182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gar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na strategija o razvoju visoke tehnologije (1999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on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ni program 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voj malih i srednjih preduzeća (19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goročna ekonomska strategija Letonije (2001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ni koncept inovacije (2001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van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 inoviranja u poslovanju (2000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li papir o razvoju i istraživanju i tehnologiji (2001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li papir o prosperitetu u promeni (2001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kon o poslovnoj promociji (2001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mun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ni plan razvoja i istraživanja i inovacije (1997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ednjoročna strategija 2000-2004 nauke i tehnologije (2000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ač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učna i tehnološka politika (1998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hnološka politika u industrijskim granama (1999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i model finansiranja nauke i tehnologije (2000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učna i tehnološka politika (1998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učna i tehnološka politika (1999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mi petogodišnji razvojni plan 2001-2005. (2000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838080" cy="5241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838080" cy="524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" y="455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omparativni pregled političkih ciljeva koji se odnose na inoviranje u CC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1828800"/>
          <a:ext cx="8686800" cy="3767040"/>
        </p:xfrm>
        <a:graphic>
          <a:graphicData uri="http://schemas.openxmlformats.org/drawingml/2006/table">
            <a:tbl>
              <a:tblPr/>
              <a:tblGrid>
                <a:gridCol w="984240"/>
                <a:gridCol w="1158840"/>
                <a:gridCol w="1049400"/>
                <a:gridCol w="1103400"/>
                <a:gridCol w="941400"/>
                <a:gridCol w="1079280"/>
                <a:gridCol w="1216080"/>
                <a:gridCol w="1154160"/>
              </a:tblGrid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V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opštenje: Inoviranje u privredi koju vodi znanje (200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na strategija za razvoj visoke tehnologije (199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ni koncept inoviranja (20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 inoviranja u poslovanju (200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i poseban politički dokument o inoviranj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i poseban politički dokument o inoviranj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ednjoročna strategija nauke i tehnologije (20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učno-tehnološka politika Turske (199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erencija politika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mogu se ustanoviti mere – nedostatak koherentne politike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itika inoviranja koordinisana sa zemljama E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sticaj međunarodne saradn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mogu se ustanoviti mere – nedostatak koherentne politike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mogu se ustanoviti mere – nedostatak koherentne politike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mogu se ustanoviti prioriteti - nedostatak koherentne politike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opšti cilj je da se poboljša Nacionalni sistem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ulatorni okvir koji doprinosi inoviranj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oljšanje opštih uslova poslovanja je državni priorit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konska akta i dokumenta povoljna za inovativno poslovan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konsko okruženje za inoviran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vorena jedinica za efikasnost malih preduzeć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priorite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apređenje zakonodavstva u domenu razvoja i istraživanja i institucionalni okv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konske mere u korist inoviranja (preduzetnički kapital, itd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838080" cy="524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455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omparativni pregled političkih ciljeva koji se odnose na inoviranje u CC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04920" y="1600200"/>
          <a:ext cx="8533800" cy="4264200"/>
        </p:xfrm>
        <a:graphic>
          <a:graphicData uri="http://schemas.openxmlformats.org/drawingml/2006/table">
            <a:tbl>
              <a:tblPr/>
              <a:tblGrid>
                <a:gridCol w="966600"/>
                <a:gridCol w="1138320"/>
                <a:gridCol w="1030320"/>
                <a:gridCol w="1085040"/>
                <a:gridCol w="925560"/>
                <a:gridCol w="1058760"/>
                <a:gridCol w="1194480"/>
                <a:gridCol w="1134720"/>
              </a:tblGrid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V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sticaj stvaranja i rasta inovativnih preduzeć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varanje parkova visoke tehnologije, umanjenje ili izuzeće od plaćanja poreza za firme visoke tehnolog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rška inovativnim preduzećima i daljem ras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vojni mehanizmi finansiranja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SE razvio poslovni inkuba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priorite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priorite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direktne određene mere za inovativna novopokrenuta preduzeć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apređenja ključnih odnosa u sistemu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kovi visoke tehnologije se opet smatraju glavnom alatkom integracije istraživačkih centara i poslovnih inter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ikasna i koordinisana interakcija između svih elemenata sistema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varanje strukture inoviranja i jačanje veza između naučnog i poslovnog sek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varanje IRC, Mal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ne u kriterijumima za finansiranje istraživ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oljšanje mogućnosti širenja i apsorpcije istraživačkih rezultata u društveno-ekonomski dom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iranje zajedničkih istraživačkih centara univerziteta i industr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štvo otvoreno za inoviran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oji Vladin plan akcija o doživotnom učenj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varanje društva otvorenog za inoviran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voj nacionalnog sistema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priorite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priorite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priorite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iranje naučno-tehnoloških centara, it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838080" cy="524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2271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ratak pregled osnovnih šema saradnje istraživanja i industrije u CC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905120"/>
          <a:ext cx="8153280" cy="3403440"/>
        </p:xfrm>
        <a:graphic>
          <a:graphicData uri="http://schemas.openxmlformats.org/drawingml/2006/table">
            <a:tbl>
              <a:tblPr/>
              <a:tblGrid>
                <a:gridCol w="609480"/>
                <a:gridCol w="1067040"/>
                <a:gridCol w="1828800"/>
                <a:gridCol w="2438280"/>
                <a:gridCol w="22096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ml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govorna organizac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lje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ljna gru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siran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obrazov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perativni razvojno-istraživački progr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ziteti, naučni instituti, industr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inansiranje do 50% projek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obrazovanja i nau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moć marketinški orijentisanim istraživačkim projektima (1993-), stimulisanje malog naučno-intenzivnog preduzetništ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raživači, mala i srednja preduzeća, finansijska sredstva su uglavnom namenjena praktičnim naučnim primenama i malim i srednjim preduzećima koje su osnovali naučn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dišnji državni budžet 1,5 mil.evra, prosečna pomoć oko 20.000 ev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privre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siranje zajedničkih projekata istraživanja i industr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raživački instituti i poslovna preduzeć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žavno sufinansiranje, 300.000 evra (ne godišnj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privre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ovisanje relej centara za inoviranje koji stvaraju veze između tehnologija i preduzeć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a preduzeć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žavno sufinansiranje usluga konsaltinga i projekata demonstrac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nutno ne postoje inicijative za pružanje podrške saradnji istraživanja i industr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ovacije  kao klju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čni faktor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a makro nivou inovacije su dominantan faktor  nacionalnog ekonomskog rasta i medjunarodnih trgovinskih to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a mikro nivou, odnosno na nivou preduzeća istraživanje i razvoj povećava kapacitet svih vrsta novih znanja, ne samo tehnološko zn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838080" cy="524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1523880"/>
          <a:ext cx="7772400" cy="4200480"/>
        </p:xfrm>
        <a:graphic>
          <a:graphicData uri="http://schemas.openxmlformats.org/drawingml/2006/table">
            <a:tbl>
              <a:tblPr/>
              <a:tblGrid>
                <a:gridCol w="457200"/>
                <a:gridCol w="1981080"/>
                <a:gridCol w="1447920"/>
                <a:gridCol w="2133720"/>
                <a:gridCol w="1752480"/>
              </a:tblGrid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obrazovanja i istraživ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program 2 RELANSINa, sa ciljem da razvije složene proizvode i nove tehnolog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vojno-istraživački delovi, univerziteti, kompan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žavni budžet, sufinansiranje celokupnog programa 12 mil. Evra u 2001., 90 evra za dati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ačka akademija nau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ncija za podršku nauke i tehnologije (20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raživački projek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raživački progra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strijski sekto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i sekto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v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vni, 16 680 964 evra godišnjeg budže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TG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moć ostvarenju tehnoparkova na univerziteti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a preduzeć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sekretarijat ministarstva finansija kroz Svetsku banku, sufinansira 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BITAK-TIDE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moć industrijskim razvojno-istraživačkim projekti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a preduzeća i univerziteti koji sarađuj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ksimalno 100 000 ev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228600" y="2271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ratak pregled osnovnih šema saradnje istraživanja i industrije u CC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838080" cy="524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924680" y="6095880"/>
            <a:ext cx="838440" cy="524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96200" y="227520"/>
            <a:ext cx="89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ratak pregled inicijativa koje su preduzete kao podrška NT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762120"/>
          <a:ext cx="8229600" cy="5287680"/>
        </p:xfrm>
        <a:graphic>
          <a:graphicData uri="http://schemas.openxmlformats.org/drawingml/2006/table">
            <a:tbl>
              <a:tblPr/>
              <a:tblGrid>
                <a:gridCol w="685800"/>
                <a:gridCol w="990720"/>
                <a:gridCol w="1828800"/>
                <a:gridCol w="1828800"/>
                <a:gridCol w="28954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ml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govorna organiz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lje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ljna gru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edst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da, ban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većanje konkurentnosti bugarske proizvod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e tehnologij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jmovi na 4 do 10 godina. Minimalni iznos pozajmice 20,000 evra i maksimalan 1,000,000 ev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obrazovanja i nau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edstva za eksperimentalne projekte i pomoć u promovisanju aktivnosti tehnoloških centara i parko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a i srednja preduzeć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inansiranje: 50% iz državnog budžeta, 50% od privatnih poslovnih partnera. Ukupna sredstva: 10% državnog budžeta za istraživ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privre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puna zakona o "Porezu na prihod kompanije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uzeća iz 7 sektora visoke tehnolog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is na spisku softverskih i proizvoda visoke tehnologije (30% izuzeće od  poreza na prihod kompanij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onska agencija za razv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kat: Strategija za poslovni razvoj baziran na znanju u Letoni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ske uprave, regionalne agencije za razvoj, univerziteti, preduzeća, ogran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upno 520 000 evra, uključujući 75% iz Unije i 25% od Letonske vlade i učesnika u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 razvoja visoke tehnolog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hnološki parko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vni i privatni fondo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formalni programi davanja podrške NTBF/novoosnovanim firm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industr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dina odluka br. 65/2001 u vezi sa industrijskim parkovima obezbeđuje poreske pogodnosti za investi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anije zasnovane na tehnologi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žavni budžet, sufinansir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533520" y="838080"/>
          <a:ext cx="8153280" cy="5172120"/>
        </p:xfrm>
        <a:graphic>
          <a:graphicData uri="http://schemas.openxmlformats.org/drawingml/2006/table">
            <a:tbl>
              <a:tblPr/>
              <a:tblGrid>
                <a:gridCol w="380880"/>
                <a:gridCol w="1219320"/>
                <a:gridCol w="2514600"/>
                <a:gridCol w="1905120"/>
                <a:gridCol w="213336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telekomunikacija i informacione tehnolog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erencijalno plaćanje poreza na plate stručnjaka iz oblasti softvera i informacione tehnolog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i softverske kompan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žavni budžet, sufinansir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varanje industrijskih parkova. Regulatorni okvir kao podrška poslovanj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ske upr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i sekt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na / jav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GE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nivanje NTB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uzetnic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rastrukturna i adminsitrativna podrška, mentorstvo, plus 25,000 evra zajma pod liberalnim uslovima za razvojno-istraživačku opremu i 35,000 evra subvencije za nabavku i usluge konsalting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TG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nivanje fondova preduzetničkog kapitala kao podrška NTB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jalni investitori preduzetničkog kapitala kao podrške NTB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pitalno ulaganje u kompanije preduzetničkog kapitala do 40% ukupne investicije (do 4,5 mil. evra) (ukupan raspoloživ iznos 7,9 mil evr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c Hol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rška infrastrukturi u inkubatoru i delovanje kao poslovni investit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uzetnici (pogotovo ulaganja u inovativne ideje elektronskog poslovanj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na (Koc Holdinga) sredst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838080" cy="524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96200" y="227520"/>
            <a:ext cx="89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ratak pregled inicijativa koje su preduzete kao podrška NT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1219320"/>
            <a:ext cx="85345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ublika Srb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ublička agencija za razvoj malih i srednjih preduzeća i preduzetniš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3429000"/>
            <a:ext cx="761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ičin venac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00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og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-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ks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+38111) 3346-107; (+38111) 3346-6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MEs@net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sme.sr.gov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9237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828800" y="1143000"/>
            <a:ext cx="5219640" cy="5105520"/>
            <a:chOff x="1828800" y="1143000"/>
            <a:chExt cx="5219640" cy="5105520"/>
          </a:xfrm>
        </p:grpSpPr>
        <p:sp>
          <p:nvSpPr>
            <p:cNvPr id="50" name=""/>
            <p:cNvSpPr/>
            <p:nvPr/>
          </p:nvSpPr>
          <p:spPr>
            <a:xfrm>
              <a:off x="1828800" y="1143000"/>
              <a:ext cx="5219640" cy="5105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49040" y="2005560"/>
              <a:ext cx="3178440" cy="3119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68680" y="3127680"/>
              <a:ext cx="1739880" cy="1701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96480" y="456120"/>
            <a:ext cx="51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lje inovativne politike – mapa pitan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82880" y="1218600"/>
            <a:ext cx="30639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Times New Roman"/>
              </a:rPr>
              <a:t>OKVIRNI USLO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Opšti uslovi i instituci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koji postavljaju mogućnosti za inovaci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142360"/>
            <a:ext cx="281916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Times New Roman"/>
              </a:rPr>
              <a:t>FAKTORI TRANSF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Ljudski, društveni i kulturni faktori koji utiču na prenos informacija u preduzeća i njihovo učenj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86280" y="3313440"/>
            <a:ext cx="266688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Times New Roman"/>
              </a:rPr>
              <a:t>POKRETA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1400" spc="-1" strike="noStrike">
                <a:solidFill>
                  <a:srgbClr val="000000"/>
                </a:solidFill>
                <a:latin typeface="Times New Roman"/>
              </a:rPr>
              <a:t>INOVAC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Dinamički fak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koji oblikuj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inovaci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u preduzećim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5304600"/>
            <a:ext cx="266724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Times New Roman"/>
              </a:rPr>
              <a:t>NAUČNO-TEHNIČKA OS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Naučno-tehnološke institucije podstič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pokretač inovacij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838080" cy="524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kvirni uslov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kativni i istraživački si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ni i makroekonomski u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e institu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tup tržiš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jska stru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924680" y="6095880"/>
            <a:ext cx="838440" cy="524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er teh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001000" y="6019920"/>
            <a:ext cx="838080" cy="523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Oblici direktnog transfera tehnologije (T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niverzitet – ka preduzeć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straživačke institucije – ka preduzeć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ični transfer tehnologije – putem transfera zaposleni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azmena između preduzeća i njihovih podugovarača putem lanca nabav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među preduzeća koja međusobno sarađuju formirajući strateške sav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 institucija za transfer tehnologije u preduzeć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ajmovi, izložbe, konferencije za transfer tehnolog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irenje zn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š fok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učnoistraživački sistem Srb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tencij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znan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šnološki potencij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pravlj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k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vezi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ni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ionalni inovativni si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838080" cy="5241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cij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924680" y="6019920"/>
            <a:ext cx="838440" cy="52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228600" y="1676520"/>
          <a:ext cx="8686800" cy="3809880"/>
        </p:xfrm>
        <a:graphic>
          <a:graphicData uri="http://schemas.openxmlformats.org/drawingml/2006/table">
            <a:tbl>
              <a:tblPr/>
              <a:tblGrid>
                <a:gridCol w="3809880"/>
                <a:gridCol w="1295640"/>
                <a:gridCol w="1218960"/>
                <a:gridCol w="1233720"/>
                <a:gridCol w="11286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 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oj 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ituti/ Fakulte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Instituti/ Fakulte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žavni institu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ostalni institu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ituti u sastavu preduzeć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NU institu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kulte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up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Istraživanja u tehnološkom razvoj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0" y="1828800"/>
          <a:ext cx="9067680" cy="3156120"/>
        </p:xfrm>
        <a:graphic>
          <a:graphicData uri="http://schemas.openxmlformats.org/drawingml/2006/table">
            <a:tbl>
              <a:tblPr/>
              <a:tblGrid>
                <a:gridCol w="1143000"/>
                <a:gridCol w="609480"/>
                <a:gridCol w="609840"/>
                <a:gridCol w="573120"/>
                <a:gridCol w="468000"/>
                <a:gridCol w="533520"/>
                <a:gridCol w="600120"/>
                <a:gridCol w="600120"/>
                <a:gridCol w="600120"/>
                <a:gridCol w="601560"/>
                <a:gridCol w="534960"/>
                <a:gridCol w="533520"/>
                <a:gridCol w="631800"/>
                <a:gridCol w="609480"/>
                <a:gridCol w="419040"/>
              </a:tblGrid>
              <a:tr h="231120"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vanj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hnološka obl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ist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istent prip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lan SAN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r. prip. stipen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raživa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raživač prip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raživač sarad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čni sarad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čni savet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ovni profes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nredni profes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ši naučni sarad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up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0" rIns="0" tIns="46800" bIns="46800" anchor="b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cione tehnologi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0" rIns="0" tIns="46800" bIns="46800" anchor="b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ergotehnologi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i materija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0" rIns="0" tIns="46800" bIns="46800" anchor="b">
                      <a:noAutofit/>
                    </a:bodyPr>
                    <a:p>
                      <a:pPr marL="5868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okovredna hr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0" rIns="0" tIns="46800" bIns="46800" anchor="b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talizacija i kvalit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0" rIns="0" tIns="46800" bIns="46800" anchor="b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tički inženje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upno</a:t>
                      </a: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17280" y="5104800"/>
            <a:ext cx="649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različit od prostog zbira redova u koloni jer su neki istraživači angažovani na projektima u dve obla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7360" y="1523160"/>
            <a:ext cx="13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Period 1998-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Istraživanja u tehnološkom razvoj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280" y="5485680"/>
            <a:ext cx="649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različit od prostog zbira redova u koloni jer su neki istraživači angažovani na projektima u dve obla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17360" y="1523160"/>
            <a:ext cx="95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Period 20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5680" y="1790640"/>
          <a:ext cx="8991720" cy="3384720"/>
        </p:xfrm>
        <a:graphic>
          <a:graphicData uri="http://schemas.openxmlformats.org/drawingml/2006/table">
            <a:tbl>
              <a:tblPr/>
              <a:tblGrid>
                <a:gridCol w="1863720"/>
                <a:gridCol w="728640"/>
                <a:gridCol w="728640"/>
                <a:gridCol w="717480"/>
                <a:gridCol w="565200"/>
                <a:gridCol w="569880"/>
                <a:gridCol w="603360"/>
                <a:gridCol w="595440"/>
                <a:gridCol w="546120"/>
                <a:gridCol w="536400"/>
                <a:gridCol w="528840"/>
                <a:gridCol w="455400"/>
                <a:gridCol w="552600"/>
              </a:tblGrid>
              <a:tr h="532440"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tGrup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st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stent priprav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redni profes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ovni profes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živač priprav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živač sarad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čni sarad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ši naučni sarad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čni savet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učni sarad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up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0" rIns="0" tIns="46800" bIns="46800" anchor="b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tika, elektronika i telekomunikaci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">
                <a:tc>
                  <a:txBody>
                    <a:bodyPr lIns="0" rIns="0" tIns="46800" bIns="46800" anchor="b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erijali i hemijske tehnologi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0" rIns="0" tIns="46800" bIns="46800" anchor="b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šinstvo i industrijski soft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obraćaj i građevinarst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tehni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0" rIns="0" tIns="46800" bIns="46800" anchor="b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ergetske tehnologije i rudarst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upno 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12:25:55Z</dcterms:created>
  <dc:creator>goca</dc:creator>
  <dc:description/>
  <dc:language>en-US</dc:language>
  <cp:lastModifiedBy>Bojan</cp:lastModifiedBy>
  <dcterms:modified xsi:type="dcterms:W3CDTF">2003-10-17T13:15:09Z</dcterms:modified>
  <cp:revision>38</cp:revision>
  <dc:subject/>
  <dc:title>Znak i natpis Rep.ag.na srpskom i engleskom</dc:title>
</cp:coreProperties>
</file>