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A2C6-9981-4F88-81F2-E0C10E84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0260-8BEB-49E0-93C8-9FDF7E67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404A-97B1-41DA-900D-5B3A2CD7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556D-2DDD-4676-85FD-8E6EE8D9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9B91-7D08-4A2F-B1B6-B97A99844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20F8-C331-4628-85FC-AC1800D4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FAB1-69D1-40CB-AAD4-31840BAF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929E-E403-4BFF-95E2-FA920550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9E6A-23E2-46C1-BD5C-2FB7985F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C5C2-F139-4425-A295-020A0E71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E612-F51E-4BBF-9DCA-345D3EC0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C30A-6641-4870-93B1-D874887E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15B1-DC87-4772-A8F2-494E9A68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6AC4-B611-4687-91B4-0E1E80CC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5F3D-5223-4200-9722-28BA7D13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74D7-2D4E-4885-9147-F25129AA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E422-F435-4646-8060-C221CBFC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AF5E-2025-495A-A5B5-8919A0D4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EA58-64CD-4FCD-A9DC-379497AD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77A1-90E0-439F-A7EA-25C60830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673B-FD10-4E6F-B476-7A7E3964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C687-D998-411D-83F5-4782AFB4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1D9A-D4D1-4D55-8F09-B9AB1FFA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64D9-A2E6-4978-8602-47545ECE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2A7B-0AFE-4B59-8F10-E117EC0CF355}" type="slidenum">
              <a:rPr b="0" lang="en-GB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0C1C-AE67-4B7E-A838-DBA5BD6BCD76}" type="slidenum">
              <a:rPr b="0" lang="en-GB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VINCER</a:t>
            </a:r>
            <a:br>
              <a:rPr sz="3200"/>
            </a:b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Inovacioni centar za  razvoj  i  transfer  tehnologija  materijala  </a:t>
            </a:r>
            <a:r>
              <a:rPr b="0" i="1" lang="sr-Latn-CS" sz="3200" spc="-1" strike="noStrike">
                <a:solidFill>
                  <a:srgbClr val="ffcc66"/>
                </a:solidFill>
                <a:latin typeface="Times New Roman"/>
              </a:rPr>
              <a:t>za  MSP</a:t>
            </a: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  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N   VIN</a:t>
            </a: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Č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Laboratorija  za  materija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Mr  ing  Dušan  Kićevi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PROGRAM  VINCER   -   VIN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ČA</a:t>
            </a: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  CER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AMICS </a:t>
            </a: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(Osnovna  ideja  i  prvobitna  koncepcija  1997 – 98.)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FAZA  I: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Poslovno udruženje/konzorcijum  proizvođač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i  korisnika  tehničke keramike  VINALOX  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Iskorišćenje svih postojećih resursa  Laboratorije za materijale i kooperanata/korisnika radi proširenja  ponude  proizvoda/usluga/primen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Formiranje akreditovane laboratorije za atestiranje tehničke keramik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Obezbeđivanje sredstava za članstvo u stručnim asocijacijama, za stručnu literaturu, za posete sajmovima i s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Zajedničko učešće na konkursima MNT za inovacione projek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Proširenje  kruga  kooperanata/korisnika i načina finansiranj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N   V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INČ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Laboratorija  za  materij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                    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Mr  ing  Dušan  Kićević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PROGRAM  VINCER   -   VIN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ČA</a:t>
            </a: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  CER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AMICS </a:t>
            </a: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(Osnovna  ideja  i  prvobitna  koncepcija  1997 – 98.)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FAZA  II: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Proizvodno-razvojni centar  VINCER  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9933"/>
                </a:solidFill>
                <a:latin typeface="Times New Roman"/>
              </a:rPr>
              <a:t>Definisanje  više  različitih  programa na pilot-plant nivou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Formiranje malih firmi ili odeljaka drugih firmi 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(istraživačko-  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razvojne jedinic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9933"/>
                </a:solidFill>
                <a:latin typeface="Times New Roman"/>
              </a:rPr>
              <a:t>Uspostavljanje višekorisničkih projekat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ff9933"/>
                </a:solidFill>
                <a:latin typeface="Times New Roman"/>
              </a:rPr>
              <a:t>(predkompetitivna faz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Zajedničko planiranje i upravljanje razvojem malih i srednjih firmi 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članica VINCER  grup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9933"/>
                </a:solidFill>
                <a:latin typeface="Times New Roman"/>
              </a:rPr>
              <a:t>Nabavka nove oprem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Uvođenje sistema kvaliteta  ISO  9000  i  14 00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N   V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INČ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Laboratorija  za  materij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                    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Mr  ing  Dušan  Kićević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PROGRAM  VINCER   -   VIN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ČA</a:t>
            </a: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  CER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AMICS </a:t>
            </a: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(Osnovna  ideja  i  prvobitna  koncepcija  1997 – 98.)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FAZA  III: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VINCER  -  Materials  Science Par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Formiranje  internacionalnog naučnog park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9933"/>
                </a:solidFill>
                <a:latin typeface="Times New Roman"/>
              </a:rPr>
              <a:t>Strana ulaganj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Internacionalizacija  upravljačlih i nadzornih funkcij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9933"/>
                </a:solidFill>
                <a:latin typeface="Times New Roman"/>
              </a:rPr>
              <a:t>Uvodjenje  sistema  totalnog upravljanja/kontrole kvaliteta     </a:t>
            </a:r>
            <a:r>
              <a:rPr b="0" lang="sr-Latn-CS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9933"/>
                </a:solidFill>
                <a:latin typeface="Times New Roman"/>
              </a:rPr>
              <a:t>(TQM/TQC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Formiranje centra izvrsnost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9933"/>
                </a:solidFill>
                <a:latin typeface="Times New Roman"/>
              </a:rPr>
              <a:t>Razvoj saradnje sa inostranim  firmama (projekti, kooperacija,  </a:t>
            </a:r>
            <a:r>
              <a:rPr b="0" lang="sr-Latn-CS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9933"/>
                </a:solidFill>
                <a:latin typeface="Times New Roman"/>
              </a:rPr>
              <a:t>zajednička proizvodnja i dr.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N   V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INČ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Laboratorija  za  materij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                    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Mr  ing  Dušan  Kićević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cc66"/>
                </a:solidFill>
                <a:latin typeface="Times New Roman"/>
              </a:rPr>
              <a:t>Mart  -  juni  1999.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Times New Roman"/>
              </a:rPr>
              <a:t>VINČA   -   Legitimna  me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INN   V</a:t>
            </a: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INČ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Laboratorija  za  materijal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Mr  ing  Dušan  Kićević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INDUSTRIJSKI  PARTNERI  -  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Korisnici  VINALOX  keramike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PRIMER  1: 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PNEUMO-LOGIC, N.Pazova   </a:t>
            </a:r>
            <a:r>
              <a:rPr b="0" i="1" lang="sr-Latn-CS" sz="2400" spc="-1" strike="noStrike">
                <a:solidFill>
                  <a:srgbClr val="ff0000"/>
                </a:solidFill>
                <a:latin typeface="Times New Roman"/>
              </a:rPr>
              <a:t>MS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Proizvodnja  sistema za grejanje/hladjenje autobus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Sopstveni  razvoj  sa kratkoročnim  komercijalnim kreditima, bez podsticajnih  sredstava  drža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Saradnja sa domaćim  kooperantima/dobavljačima  za kritične kompon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VINALOX  keramika  za tvrde zaptivke u cirkulacionim pumpama  (projekat MNT – razvoj uz proizvodnju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WEBASTO, Nemačka  -  od  konkurenta  do kooperan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N   V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INČ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Laboratorija  za  materij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Mr  ing  Dušan  Kićević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INDUSTRIJSKI  PARTNERI  -  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Korisnici  VINALOX  keramike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PRIMER  2: 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LOLA  Fluidomatik, Zemun   </a:t>
            </a:r>
            <a:r>
              <a:rPr b="0" i="1" lang="sr-Latn-CS" sz="2400" spc="-1" strike="noStrike">
                <a:solidFill>
                  <a:srgbClr val="ff0000"/>
                </a:solidFill>
                <a:latin typeface="Times New Roman"/>
              </a:rPr>
              <a:t>MS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Supstitucija uvoznih komponenti za gasne arma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Sopstveni  razvoj  iz tekućih priho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VINALOX  keramika  za kontrolno-merne dizne na eruptivnim bušotinama gas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(projekat MNT – razvoj uz proizvodnju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MET, Valjevo – izvozni program za Nemačk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N   V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INČ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Laboratorija  za  materij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Mr  ing  Dušan  Kićević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INDUSTRIJSKI  PARTNERI  -  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Korisnici  VINALOX  keramike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PRIMER  3:  INSTITUT MIHAJLO PUPIN, Beograd    </a:t>
            </a:r>
            <a:r>
              <a:rPr b="0" i="1" lang="sr-Latn-CS" sz="2400" spc="-1" strike="noStrike">
                <a:solidFill>
                  <a:srgbClr val="ff0000"/>
                </a:solidFill>
                <a:latin typeface="Times New Roman"/>
              </a:rPr>
              <a:t>MS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Razvoj merača pritiska za agresivne sred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Sopstveni  razvoj  iz tekućih priho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VINALOX  keramika  za  tanke membrane (100 mikrona) za senzore pritiska  (projekat MNT – razvoj uz proizvodnju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N   V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INČ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Laboratorija  za  materij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Mr  ing  Dušan  Kićević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INDUSTRIJSKI  PARTNERI  -  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Korisnici  VINCER  Inovacionog centra u osnivanju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PRIMER  1:   Centar  za  vakuum VINČA    </a:t>
            </a:r>
            <a:r>
              <a:rPr b="0" i="1" lang="sr-Latn-CS" sz="2400" spc="-1" strike="noStrike">
                <a:solidFill>
                  <a:srgbClr val="ff0000"/>
                </a:solidFill>
                <a:latin typeface="Times New Roman"/>
              </a:rPr>
              <a:t>MS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Servisni  centar  za  vakuumsku  tehnik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SZR  za dopunsku delatnost – osnivači 2 tehničara  (I&amp;M Group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Saradnja sa  firmama SCAN, Slovenija, i  PFEIFFER  VACUUM AUSTRIA, Beč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Period  priprema i formiranja:  18 mesec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Sopstvena sredstva i pomoć Laboratorije za materija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N   V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INČ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Laboratorija  za  materij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Mr  ing  Dušan  Kićević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INDUSTRIJSKI  PARTNERI  -  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Korisnici  VINCER  Inovacionog centra u osnivanju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PRIMER  2:   Livnica  titanskih  implantata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Osnivači:  INN Vinča, Laboratorija za materijale  i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UNA  Ortopedija, Beograd   </a:t>
            </a:r>
            <a:r>
              <a:rPr b="0" i="1" lang="sr-Latn-CS" sz="2400" spc="-1" strike="noStrike">
                <a:solidFill>
                  <a:srgbClr val="ff0000"/>
                </a:solidFill>
                <a:latin typeface="Times New Roman"/>
              </a:rPr>
              <a:t>MS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Razvoj tehnologije preciznog livenja titanskih legu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(projekat MNT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Sopstvena  sredstva za opremu  (cca  200.000 eur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Period  priprema i formiranja:  12 mesec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Saradnja:  ugovor o kooperaciji  i participacij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N   V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INČ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Laboratorija  za  materij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Mr  ing  Dušan  Kićević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INDUSTRIJSKI  PARTNERI  -  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Korisnici  VINCER  Inovacionog centra u osnivanju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PRIMER  3:   Centar  za  plazma  prevlake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Osnivači:  INN Vinča, Laboratorija za materijale  i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PLASMAJET,  Beograd   </a:t>
            </a:r>
            <a:r>
              <a:rPr b="0" i="1" lang="sr-Latn-CS" sz="2400" spc="-1" strike="noStrike">
                <a:solidFill>
                  <a:srgbClr val="ff0000"/>
                </a:solidFill>
                <a:latin typeface="Times New Roman"/>
              </a:rPr>
              <a:t>MS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Razvoj plazma tehnologije  i  konstrukcija vakuumske  plazma  instalacij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Sopstvena  sredstva za izradu opreme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Period  priprema i formiranja:  12 mesec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Saradnja:  ugovor o kooperacij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N   V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INČ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Laboratorija  za  materij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Mr  ing  Dušan  Kićević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cc66"/>
                </a:solidFill>
                <a:latin typeface="Times New Roman"/>
              </a:rPr>
              <a:t>RAZVOJ  I  TRANSFER  TEHNOLOGIJE</a:t>
            </a:r>
            <a:br>
              <a:rPr sz="2400"/>
            </a:br>
            <a:br>
              <a:rPr sz="2400"/>
            </a:br>
            <a:r>
              <a:rPr b="0" i="1" lang="sr-Latn-CS" sz="2400" spc="-1" strike="noStrike">
                <a:solidFill>
                  <a:srgbClr val="ffcc66"/>
                </a:solidFill>
                <a:latin typeface="Times New Roman"/>
              </a:rPr>
              <a:t>Inovacioni centar   -   Naučno-tehnološki  park   - </a:t>
            </a:r>
            <a:br>
              <a:rPr sz="2400"/>
            </a:br>
            <a:r>
              <a:rPr b="0" i="1" lang="sr-Latn-CS" sz="2400" spc="-1" strike="noStrike">
                <a:solidFill>
                  <a:srgbClr val="ffcc66"/>
                </a:solidFill>
                <a:latin typeface="Times New Roman"/>
              </a:rPr>
              <a:t>Biznis  inkubator  -   Klaster  -  Tehnološki  inkubator  -  Tehnološki  centar  -  Tehnopolis  ....     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600200" y="2437920"/>
            <a:ext cx="63244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Različiti načini i nivoi  organizovanj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imes New Roman"/>
              </a:rPr>
              <a:t>Jedinstveni  cilj:   povećanje konkurentnost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kroz  primenu rezultata naučno-istraživačkog  rada u  kompetitivnom okruženju  globalnog tržiš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Šta  VINČA  /   VINCER  može  da ponudi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INN   VIN</a:t>
            </a: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Č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Laboratorija  za  materijal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Mr  ing  Dušan  Kićević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REALIZACIJA  INOVACIONOG  CENTRA  VINCER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66"/>
                </a:solidFill>
                <a:latin typeface="Times New Roman"/>
              </a:rPr>
              <a:t>Početno stanje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1  (pre)zaposlen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Postojeći resursi Laboratorije za   materijal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9933"/>
                </a:solidFill>
                <a:latin typeface="Times New Roman"/>
              </a:rPr>
              <a:t>Ulaganja: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“Grant”          100.000 Eura   2003/2004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Soft loan”  1.000.000  Eura  2004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(10  godina, 2 godine “grace” perioda,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kamata  5,5-6% godišnj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9933"/>
                </a:solidFill>
                <a:latin typeface="Times New Roman"/>
              </a:rPr>
              <a:t>Nefinansijska  pomoć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  Obuka/konsalting/biznis pla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N   V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INČ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Laboratorija  za  materij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Mr  ing  Dušan  Kićević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REALIZACIJA  INOVACIONOG  CENTRA  VINCER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8487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9933"/>
                </a:solidFill>
                <a:latin typeface="Times New Roman"/>
              </a:rPr>
              <a:t>Rezultat  (2010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.</a:t>
            </a:r>
            <a:r>
              <a:rPr b="0" lang="sr-Latn-CS" sz="2000" spc="-1" strike="noStrike">
                <a:solidFill>
                  <a:srgbClr val="ff9933"/>
                </a:solidFill>
                <a:latin typeface="Times New Roman"/>
              </a:rPr>
              <a:t>):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50  kompanija-partnera/centara/projekata  </a:t>
            </a:r>
            <a:r>
              <a:rPr b="0" i="1" lang="sr-Latn-CS" sz="2000" spc="-1" strike="noStrike">
                <a:solidFill>
                  <a:srgbClr val="ff0000"/>
                </a:solidFill>
                <a:latin typeface="Times New Roman"/>
              </a:rPr>
              <a:t>MS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9933"/>
                </a:solidFill>
                <a:latin typeface="Times New Roman"/>
              </a:rPr>
              <a:t>100-120  zaposlenih  (većinom VS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1.500.000  Eura  godišnji priho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(anuiteti  10%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9933"/>
                </a:solidFill>
                <a:latin typeface="Times New Roman"/>
              </a:rPr>
              <a:t>“</a:t>
            </a:r>
            <a:r>
              <a:rPr b="0" lang="sr-Latn-CS" sz="2000" spc="-1" strike="noStrike">
                <a:solidFill>
                  <a:srgbClr val="ff9933"/>
                </a:solidFill>
                <a:latin typeface="Times New Roman"/>
              </a:rPr>
              <a:t>break-even point”   2007. Godina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vrhunske tehnologije  specijalnih 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legura, high-tech keramike, karbonskih 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  i kompozitnih materijal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9933"/>
                </a:solidFill>
                <a:latin typeface="Times New Roman"/>
              </a:rPr>
              <a:t>P/M  materijali i tehnologij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N   V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INČ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Laboratorija  za  materij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sr-Latn-CS" sz="1200" spc="-1" strike="noStrike">
                <a:solidFill>
                  <a:srgbClr val="ffffcc"/>
                </a:solidFill>
                <a:latin typeface="Times New Roman"/>
              </a:rPr>
              <a:t>Mr  ing  Dušan  Kićević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INSTITUT  ZA  NUKLEARNE  NAUKE  VINČA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750  zaposlenih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400  istraživača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135  doktora  nauka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117  magistara  nauka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120  istraživača pripravnika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Park  61  hektar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75  infrastrukturno povezanih objekata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36.000  kvm  laboratorijskog i poslovnog prostora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Optička mreža  100 Mb/s - 10 km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700  računara u mreži  </a:t>
            </a:r>
            <a:br>
              <a:rPr sz="2400"/>
            </a:b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90720" y="56386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INN   VIN</a:t>
            </a: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Č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Laboratorija  za  materijal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Mr  ing  Dušan  Kićević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INSTITUT  ZA  NUKLEARNE  NAUKE  VINČA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LABORATORIJA  ZA  MATERIJALE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55  zaposlenih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33  istraživača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  7 doktora  nauka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15  magistara  nauka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6 istraživača pripravnika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2  infrastrukturno povezana objekta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4.000  kvm  laboratorijskog i poslovnog prostora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2  hale  sa  kompletnom infrastrukturom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Optička mreža  100 Mb/s 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25  računara u mreži  </a:t>
            </a:r>
            <a:br>
              <a:rPr sz="2400"/>
            </a:b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56386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INN   VIN</a:t>
            </a: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Č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Laboratorija  za  materijal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Mr  ing  Dušan  Kićević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NOVA POLITIKA NAUČNO-TEHNOLOŠKOG RAZVOJA  SRBIJE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*  Razvoj  zasnovan  na  znanju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*  Izgradnja istraživačke  infrastrukture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*Usmerena osnovna istraživanja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*  Objedinjena  istraživanja/ razvoj tehnologije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*  Integracija obrazovanja i istraživanja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* Povećanje izdvajanja za istraživanja/razvoj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* Uključivanje u jedinstveni Evropski istraživački prostor </a:t>
            </a:r>
            <a:br>
              <a:rPr sz="2400"/>
            </a:br>
            <a:br>
              <a:rPr sz="2400"/>
            </a:b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56386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INN   VIN</a:t>
            </a: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Č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Laboratorija  za  materijal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Mr  ing  Dušan  Kićević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153280" cy="3962520"/>
          </a:xfrm>
          <a:prstGeom prst="rect">
            <a:avLst/>
          </a:prstGeom>
          <a:noFill/>
          <a:ln w="9360">
            <a:solidFill>
              <a:srgbClr val="b75b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INSTITUT  ZA  NUKLEARNE  NAUKE  VINČA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ZA  RAZVOJ   SRBIJE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*  </a:t>
            </a:r>
            <a:r>
              <a:rPr b="1" lang="sr-Latn-CS" sz="2400" spc="-1" strike="noStrike">
                <a:solidFill>
                  <a:srgbClr val="ff9933"/>
                </a:solidFill>
                <a:latin typeface="Times New Roman"/>
              </a:rPr>
              <a:t>Znanje</a:t>
            </a: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:    koordinacija 75   projekata  MNT  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   *  </a:t>
            </a:r>
            <a:r>
              <a:rPr b="1" lang="sr-Latn-CS" sz="2400" spc="-1" strike="noStrike">
                <a:solidFill>
                  <a:srgbClr val="ff9933"/>
                </a:solidFill>
                <a:latin typeface="Times New Roman"/>
              </a:rPr>
              <a:t>Programi  istraživanja:  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Osnovna istraživanja – Tehnološki razvoj – 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Nacionalni programi  (Energetska efikasnost, Biotehnologije)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* </a:t>
            </a:r>
            <a:r>
              <a:rPr b="1" lang="sr-Latn-CS" sz="2400" spc="-1" strike="noStrike">
                <a:solidFill>
                  <a:srgbClr val="ff9933"/>
                </a:solidFill>
                <a:latin typeface="Times New Roman"/>
              </a:rPr>
              <a:t>Infrastruktura</a:t>
            </a: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:  Optička mreža – brzi Internet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  Nova kapitalna oprema</a:t>
            </a:r>
            <a:r>
              <a:rPr b="1" lang="sr-Latn-CS" sz="2400" spc="-1" strike="noStrike">
                <a:solidFill>
                  <a:srgbClr val="ff9933"/>
                </a:solidFill>
                <a:latin typeface="Times New Roman"/>
              </a:rPr>
              <a:t>  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 Mreža akreditovanih laboratorija i 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Biro za sertifikaciju proizvoda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90720" y="56386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INN   VIN</a:t>
            </a: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Č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Laboratorija  za  materijal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Mr  ing  Dušan  Kićević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1905120"/>
            <a:ext cx="8305560" cy="3657600"/>
          </a:xfrm>
          <a:prstGeom prst="rect">
            <a:avLst/>
          </a:prstGeom>
          <a:noFill/>
          <a:ln w="9360">
            <a:solidFill>
              <a:srgbClr val="b75b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INSTITUT  ZA  NUKLEARNE  NAUKE  VINČA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ZA  RAZVOJ   SRBIJE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*  </a:t>
            </a:r>
            <a:r>
              <a:rPr b="1" lang="sr-Latn-CS" sz="2400" spc="-1" strike="noStrike">
                <a:solidFill>
                  <a:srgbClr val="ff9933"/>
                </a:solidFill>
                <a:latin typeface="Times New Roman"/>
              </a:rPr>
              <a:t>Integracija:  </a:t>
            </a: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Univerzitet  VINCA 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*  </a:t>
            </a:r>
            <a:r>
              <a:rPr b="1" lang="sr-Latn-CS" sz="2400" spc="-1" strike="noStrike">
                <a:solidFill>
                  <a:srgbClr val="ff9933"/>
                </a:solidFill>
                <a:latin typeface="Times New Roman"/>
              </a:rPr>
              <a:t>Prihodovanje</a:t>
            </a: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:  2000 – 2003.  Godišnji  rast oko 100 %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*  </a:t>
            </a:r>
            <a:r>
              <a:rPr b="1" lang="sr-Latn-CS" sz="2400" spc="-1" strike="noStrike">
                <a:solidFill>
                  <a:srgbClr val="ff9933"/>
                </a:solidFill>
                <a:latin typeface="Times New Roman"/>
              </a:rPr>
              <a:t>Medjunarodna  saradnja</a:t>
            </a: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:       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FP6  program  Evropske unije (15 %  budžeta za </a:t>
            </a:r>
            <a:r>
              <a:rPr b="1" i="1" lang="sr-Latn-CS" sz="2400" spc="-1" strike="noStrike">
                <a:solidFill>
                  <a:srgbClr val="ff0000"/>
                </a:solidFill>
                <a:latin typeface="Times New Roman"/>
              </a:rPr>
              <a:t>MSP</a:t>
            </a: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)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Prioritetni pravci,  Marie Curie, CRAFT, INCO – W. Balkans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EUREKA,  COST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IAEA, UNESCO-ROSTE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USA – NTI, DOE – NETL, NSF, NIST, Nac. Laboratorije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Instituti,  univerziteti, kompanije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90720" y="56386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INN   VIN</a:t>
            </a: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Č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Laboratorija  za  materijal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Mr  ing  Dušan  Kićević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INN   VINČA -  Proces  transformacije</a:t>
            </a:r>
            <a:br>
              <a:rPr sz="2400"/>
            </a:b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09480" y="2209680"/>
          <a:ext cx="77724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77724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PROGRAM  VINCER   -   VIN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ČA</a:t>
            </a: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  CER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AMICS </a:t>
            </a: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br>
              <a:rPr sz="2400"/>
            </a:b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(Osnovna  ideja  i  prvobitna  koncepcija  1997 – 98.)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FAZA  I: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Poslovno udruženje/konzorcijum  proizvođač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i  korisnika  tehničke keramike  VINALOX  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(VINCER  grup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FAZA  II: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Proizvodno – razvojni centar  VINCE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(nacionalni naučni park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FAZA  III: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VINCER  -  Materials  Science  Par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(internacionalni naučni park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                  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INN   VIN</a:t>
            </a: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Č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                                       </a:t>
            </a: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Laboratorija  za  materijal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                    </a:t>
            </a:r>
            <a:r>
              <a:rPr b="0" lang="sr-Latn-CS" sz="1400" spc="-1" strike="noStrike">
                <a:solidFill>
                  <a:srgbClr val="ffffcc"/>
                </a:solidFill>
                <a:latin typeface="Times New Roman"/>
              </a:rPr>
              <a:t>Mr  ing  Dušan  Kićević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14:30:01Z</dcterms:created>
  <dc:creator>kica</dc:creator>
  <dc:description/>
  <dc:language>en-US</dc:language>
  <cp:lastModifiedBy>Bojan</cp:lastModifiedBy>
  <dcterms:modified xsi:type="dcterms:W3CDTF">2003-10-17T13:10:46Z</dcterms:modified>
  <cp:revision>8</cp:revision>
  <dc:subject/>
  <dc:title>VINCER Inovacioni centar za  razvoj  i  transfer  tehnologija  materijala       </dc:title>
</cp:coreProperties>
</file>