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D73-FDF7-410F-AA79-C3462FCF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11B-C1B2-450D-B50F-01791A0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03C-D9D5-4D9A-BC71-502B3C85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386-0049-4691-AAB7-51F573A7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26A5-058D-425A-9362-3D40120F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B1D5-A6DE-43A8-8082-D05F5D58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7EBC-CB6D-4A5E-AE97-1546AA0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4BCD-8C66-4677-AC49-D1BFA81F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808-D7A4-4996-947E-35AC802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400-2522-4700-AAC1-17AA8F1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182B-29F2-4CA1-8099-0FFC15F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1E1-EB3D-4BDE-B474-2BA7AFBC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192F-AB24-4CFA-9909-DF3C4D0A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8FA-5681-4B66-A8B5-F6772C6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6BE5-D799-4E42-A8B2-06CCDDD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B4EB-68EA-4384-B720-C570EA62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6A81-424D-4E4D-B656-BB837C9E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71A-A3D4-4C30-8F42-A6983B5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73F-37A5-4738-A017-4CE1E9F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DC2-A6B5-4DCB-8C40-D598E77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111-44E2-4505-AE7B-302EAF21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6C9-8CF2-4E80-B172-05B9B6B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718-9BF4-48A9-8CDA-99CB9AB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82E-2C91-4416-B533-2A6D2323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14A4-A7EE-4009-B426-EF268D013920}" type="slidenum">
              <a:rPr b="1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29C-755F-41A5-9A72-59310850C635}" type="slidenum">
              <a:rPr b="1" lang="en-US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Finan</a:t>
            </a:r>
            <a:r>
              <a:rPr b="1" lang="sr-Latn-CS" sz="5400" spc="-1" strike="noStrike">
                <a:solidFill>
                  <a:srgbClr val="000000"/>
                </a:solidFill>
                <a:latin typeface="Tahoma"/>
              </a:rPr>
              <a:t>siranje rasta novoformiranih i MSP u formiranju u Srbiji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Op</a:t>
            </a:r>
            <a:r>
              <a:rPr b="1" lang="sr-Latn-CS" sz="3600" spc="-1" strike="noStrike">
                <a:solidFill>
                  <a:srgbClr val="009900"/>
                </a:solidFill>
                <a:latin typeface="Tahoma"/>
              </a:rPr>
              <a:t>cije da se poboljša </a:t>
            </a:r>
            <a:endParaRPr b="0" lang="en-US" sz="3600" spc="-1" strike="noStrike">
              <a:solidFill>
                <a:srgbClr val="0099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00"/>
                </a:solidFill>
                <a:latin typeface="Tahoma"/>
              </a:rPr>
              <a:t>priliv kapitala</a:t>
            </a:r>
            <a:endParaRPr b="0" lang="en-US" sz="36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67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Zapadne vlade i agencije donatora investirale isuvše u sektor MSP u Srbij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ojvođani – “Pa gospodo gde su naši novci?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Gde su značajne fondovi donacija, zajmova, projekata, kreditnih linija fokusiranih na ravoj MSP u Srbij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eporuk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baviti reviziju ovih projekata i kreditnih linija – Evropski sud revizor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lasnici i menadžeri MSP su u kompleksnoj pociziji na suprot ban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oge bank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prefe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raj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a finansiraju “svoje postojeće klijente” i biznise svojih akcionara, nego da odobravaju zajmove “nepoznatim” M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937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Tahoma"/>
              </a:rPr>
              <a:t>Preporuke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Moj otac je uvek govor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ije previše dobar posao davati savet ako te niko ne pita ili ga ne traž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ka poslovic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ahoma"/>
              </a:rPr>
              <a:t>Nije previše mudro savetovati mudra čoveka jer mu savet ne treba, još manje je mudro savetovati nekog drugog jer stvarno ne zna kako da ga iskoristi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aša uloga kao savetodavaca više nego ogranič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Javne mnenje nas vidi kao stručnjake koji umesto ovce u rukama drže šarplaninca i ne znaju u čemu je razlika – Bitno je kako nas javnost percepira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600" spc="-1" strike="noStrike">
                <a:solidFill>
                  <a:srgbClr val="000000"/>
                </a:solidFill>
                <a:latin typeface="Tahoma"/>
              </a:rPr>
              <a:t>Šta  učiniti sledeće</a:t>
            </a: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960" y="289512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Usvojiti novu regulativu za MS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ntegra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jednostavljena, korisna, primenljiva, real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ski zakon o MS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AD i novo liberalno nemačko zakonodavst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nažna zaštit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P od više nego snažne drža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eprijateljske javne administracije i velikih bizn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iranje sistem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nan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jski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titu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ci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je će servisirati potrebe M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00"/>
                </a:solidFill>
                <a:latin typeface="Tahoma"/>
              </a:rPr>
              <a:t>I poslednja reč upozorenja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da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lada, sektor MSP, finansijske institucije. javnost, donatori) načinimo realan progres i opipljive rezul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ek tada i samo tada organizovati javnu kampanju promocije lidera MS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profi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ajam od par desetina miliona evra donatora iz EU je namenjen finansiranju MS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a li postoje desetine korisnik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saglasiti i “upariti” obećanja sa realnošć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Tahoma"/>
              </a:rPr>
              <a:t>Hvala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00"/>
                </a:solidFill>
                <a:latin typeface="Tahoma"/>
              </a:rPr>
              <a:t>Dr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Branko </a:t>
            </a:r>
            <a:r>
              <a:rPr b="1" lang="sr-Latn-CS" sz="6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. Ljut</a:t>
            </a:r>
            <a:r>
              <a:rPr b="1" lang="sr-Latn-CS" sz="6000" spc="-1" strike="noStrike">
                <a:solidFill>
                  <a:srgbClr val="000000"/>
                </a:solidFill>
                <a:latin typeface="Tahoma"/>
              </a:rPr>
              <a:t>ić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Ovlašćeni reviz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niver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zitet u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d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76320" y="3276720"/>
            <a:ext cx="9296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ner: ICC Audit &amp; Tax – ICCAT, Belgra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ukovodilac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-a za finansijska istraživanj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avni fakult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inpool@nomos.ius.bg.ac.y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ukovodilac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Međunarodni centar za agrarne finansi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k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rstvo i 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an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ijski 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žment u agroboznisu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icaf@invest.co.y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Kako start-up MSP u Srbiji mogu da se uhvate u koštac sa EU i SAD?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Konkurentnost pre i posle svega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32763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Razvoj sektora M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reiranje institucionalne infrastruktur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Dugoročna vizija – društveni koncenz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armonizacija – Standardi E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ija , SAD, STO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Ekonomski i finansijski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sistem Srbije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960" y="32767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stem je prejaka reč i kompleksna za ovaj deo Evr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a li je Srbija zemlja ili teritori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Bitna je suština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d harmonizovane nove finansijske regulative do deregulisanog ha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aznih obećan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o isporuke realnih pom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ug pu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li, kada, kako i k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To se pitaju vlasnici start up M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-457560"/>
            <a:ext cx="99057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nan</a:t>
            </a:r>
            <a:r>
              <a:rPr b="1" lang="sr-Latn-CS" sz="4400" spc="-1" strike="noStrike">
                <a:solidFill>
                  <a:srgbClr val="000000"/>
                </a:solidFill>
                <a:latin typeface="Tahoma"/>
              </a:rPr>
              <a:t>sijski sistem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n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arska regulativa: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starela, nije harmonizovana sa Direktivama EU i 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dar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ma B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čunovododstv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t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hvatanje sistema MRS - neiskreno, samo reči ne i dela. Potreba pojednostavljene regulative računovodstva i revizije za MSP. Vlada odbij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s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al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t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. Problemi primene PDV od 2004. Videće se slabosti: 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avn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. fina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ijsk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računsko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pouzdane fiskalne administraci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gulisanje MSP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nistarstvo za MSP nije spremno da reguliše sektor MSP po ugledu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e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iz S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mbudsma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kon za M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mačk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vi paket integrisanih zakona Kancelara – podsticaj osnivanju i rast MS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“Standar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u tu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enimo 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ahoma"/>
              </a:rPr>
              <a:t>Cilj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sr-Latn-CS" sz="3600" spc="-1" strike="noStrike">
                <a:solidFill>
                  <a:srgbClr val="000000"/>
                </a:solidFill>
                <a:latin typeface="Tahoma"/>
              </a:rPr>
              <a:t>Da se poveća svest Vlade Srbije i javnosti da su MSP značajna z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4080" y="3124080"/>
            <a:ext cx="89042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konomski razv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st zaposle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Društvenu stabil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Državu blagostanja i očuvanje društvenih vrednosti jednakosti i pravde - osnov demokratske stabil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240" y="914040"/>
            <a:ext cx="90136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600" spc="-1" strike="noStrike">
                <a:solidFill>
                  <a:srgbClr val="000000"/>
                </a:solidFill>
                <a:latin typeface="Tahoma"/>
              </a:rPr>
              <a:t>Današnja situacij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Šta bih ja radio da sam ministar za MS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smerio novac u svoju firmu ili prijateljske. Koris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reira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cionalnu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u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Negativ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ežak posa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sipa se vre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čno nekoris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reirao progam 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 MSP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zoveš 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lasnika MSP i to snimiš za TV u Sali PKS. Ima pluseve i minuse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Gde je problem i reše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(Rea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i problem ili uoče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e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e i još više novi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lem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-152280"/>
            <a:ext cx="9131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Tahoma"/>
              </a:rPr>
              <a:t>Kako smo dovde stigli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ogram ekonomskih reformi Vla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pidno opadajući društveni i politički koncenzu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e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o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kim 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or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Refor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e na rečima – a šta je sa delima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like donacije i projektni zajmovi SAD i EU namenjene finansiranja MS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koliko želimo da reformišemo privredu i sektor MSP prvo treba reformisati javnu administraciju i Vladu da budu istinski tržišno orijentisani, javno odgovor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reiranje institucija – Dugo traje koristi još du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5640" y="75960"/>
            <a:ext cx="9296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Nema isuviše raspoloživih opcija: Na suprot ubeđenjima i predrasudama da im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ternativ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teg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munisti su bili pravi “vračevi” za TV parade i maskarade, isprazne medijske poruke. Ova terapije više nije efikas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pcija kreiranj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virtua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ni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p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v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 finansiranja i rasta MSP više nije izvodi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SP trebaju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j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duzetnički kapi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stit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cionalnu podrš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štaće vladu glasove – ko pridobije MSP dobija iz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povećati priliv kapitala i bankarskih zajmova u MSP 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b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go jednostavnije postaviti pitanje nego racionalno odgovor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ma glupih pitanja ima samo glupih odgovo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20:15:16Z</dcterms:created>
  <dc:creator>korisnik</dc:creator>
  <dc:description/>
  <dc:language>en-US</dc:language>
  <cp:lastModifiedBy>Bojan</cp:lastModifiedBy>
  <dcterms:modified xsi:type="dcterms:W3CDTF">2003-10-06T15:13:20Z</dcterms:modified>
  <cp:revision>18</cp:revision>
  <dc:subject/>
  <dc:title>Financing Growth  of the  SME-s in Serb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