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02825" cy="6772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81EB-26C4-4FE6-B59C-238C56C8B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4640" y="267840"/>
            <a:ext cx="9604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5000" y="1312920"/>
            <a:ext cx="960264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5000" y="2260800"/>
            <a:ext cx="960264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AD30-0DB8-48B6-8120-9F424C77B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4640" y="267840"/>
            <a:ext cx="9604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5000" y="1312920"/>
            <a:ext cx="468576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55480" y="1312920"/>
            <a:ext cx="468576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5000" y="2260800"/>
            <a:ext cx="468576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55480" y="2260800"/>
            <a:ext cx="468576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983A-7719-457F-B108-2A1ABFC46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4640" y="267840"/>
            <a:ext cx="9604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5000" y="1312920"/>
            <a:ext cx="309168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81480" y="1312920"/>
            <a:ext cx="309168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28320" y="1312920"/>
            <a:ext cx="309168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5000" y="2260800"/>
            <a:ext cx="309168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81480" y="2260800"/>
            <a:ext cx="309168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28320" y="2260800"/>
            <a:ext cx="309168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5F95-BFE4-47C3-8968-6C3524AC8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4640" y="267840"/>
            <a:ext cx="9604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5000" y="1312920"/>
            <a:ext cx="9602640" cy="18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5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4640" y="267840"/>
            <a:ext cx="9604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5000" y="1312920"/>
            <a:ext cx="9602640" cy="18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4640" y="267840"/>
            <a:ext cx="9604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5000" y="1312920"/>
            <a:ext cx="4685760" cy="18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5480" y="1312920"/>
            <a:ext cx="4685760" cy="18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4640" y="267840"/>
            <a:ext cx="9604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4640" y="267840"/>
            <a:ext cx="960444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4640" y="267840"/>
            <a:ext cx="9604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5000" y="1312920"/>
            <a:ext cx="468576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5480" y="1312920"/>
            <a:ext cx="4685760" cy="18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5000" y="2260800"/>
            <a:ext cx="468576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4640" y="267840"/>
            <a:ext cx="9604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5000" y="1312920"/>
            <a:ext cx="9602640" cy="18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5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0217-E7A3-49CB-8DD7-8FF6AD654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4640" y="267840"/>
            <a:ext cx="9604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5000" y="1312920"/>
            <a:ext cx="4685760" cy="18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5480" y="1312920"/>
            <a:ext cx="468576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55480" y="2260800"/>
            <a:ext cx="468576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4640" y="267840"/>
            <a:ext cx="9604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5000" y="1312920"/>
            <a:ext cx="468576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55480" y="1312920"/>
            <a:ext cx="468576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5000" y="2260800"/>
            <a:ext cx="960264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4640" y="267840"/>
            <a:ext cx="9604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5000" y="1312920"/>
            <a:ext cx="960264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5000" y="2260800"/>
            <a:ext cx="960264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267840"/>
            <a:ext cx="9604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5000" y="1312920"/>
            <a:ext cx="468576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55480" y="1312920"/>
            <a:ext cx="468576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5000" y="2260800"/>
            <a:ext cx="468576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55480" y="2260800"/>
            <a:ext cx="468576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267840"/>
            <a:ext cx="9604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1312920"/>
            <a:ext cx="309168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81480" y="1312920"/>
            <a:ext cx="309168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8320" y="1312920"/>
            <a:ext cx="309168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35000" y="2260800"/>
            <a:ext cx="309168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81480" y="2260800"/>
            <a:ext cx="309168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28320" y="2260800"/>
            <a:ext cx="309168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4640" y="267840"/>
            <a:ext cx="9604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5000" y="1312920"/>
            <a:ext cx="9602640" cy="18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3566-3A81-41FA-8D48-C2F17D89D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4640" y="267840"/>
            <a:ext cx="9604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5000" y="1312920"/>
            <a:ext cx="4685760" cy="18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5480" y="1312920"/>
            <a:ext cx="4685760" cy="18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E4EC-1674-49AA-BD48-091205488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4640" y="267840"/>
            <a:ext cx="9604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13D4-AAA2-463C-996B-437FC6E13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4640" y="267840"/>
            <a:ext cx="960444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229A-D303-4E2A-A284-54A46AB26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4640" y="267840"/>
            <a:ext cx="9604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5000" y="1312920"/>
            <a:ext cx="468576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5480" y="1312920"/>
            <a:ext cx="4685760" cy="18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5000" y="2260800"/>
            <a:ext cx="468576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5D94-1B5E-441B-91FD-757366A36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267840"/>
            <a:ext cx="9604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5000" y="1312920"/>
            <a:ext cx="4685760" cy="18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5480" y="1312920"/>
            <a:ext cx="468576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55480" y="2260800"/>
            <a:ext cx="468576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EBCB-7B88-4790-8696-5EEF0600F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4640" y="267840"/>
            <a:ext cx="9604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5000" y="1312920"/>
            <a:ext cx="468576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55480" y="1312920"/>
            <a:ext cx="468576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5000" y="2260800"/>
            <a:ext cx="960264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0A096-AA05-4E08-8143-0074D6974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267840"/>
            <a:ext cx="9604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1312920"/>
            <a:ext cx="9602640" cy="18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38240" indent="-136800">
              <a:buClr>
                <a:srgbClr val="000000"/>
              </a:buClr>
              <a:buSzPct val="120000"/>
              <a:buFont typeface="Arial"/>
              <a:buChar char="•"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312840" indent="-173160">
              <a:buClr>
                <a:srgbClr val="000000"/>
              </a:buClr>
              <a:buFont typeface="Arial"/>
              <a:buChar char="–"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2560">
              <a:buClr>
                <a:srgbClr val="000000"/>
              </a:buClr>
              <a:buSzPct val="89000"/>
              <a:buFont typeface="Arial"/>
              <a:buChar char="•"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623880" indent="-164880">
              <a:buClr>
                <a:srgbClr val="000000"/>
              </a:buClr>
              <a:buSzPct val="75000"/>
              <a:buFont typeface="Arial"/>
              <a:buChar char="–"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623880" indent="-164880">
              <a:buClr>
                <a:srgbClr val="000000"/>
              </a:buClr>
              <a:buSzPct val="75000"/>
              <a:buFont typeface="Arial"/>
              <a:buChar char="–"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623880" indent="-164880">
              <a:buClr>
                <a:srgbClr val="000000"/>
              </a:buClr>
              <a:buSzPct val="75000"/>
              <a:buFont typeface="Arial"/>
              <a:buChar char="–"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795800" y="6620040"/>
            <a:ext cx="2063880" cy="280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fld id="{29DC991A-1EF9-4329-94DE-0CD86156748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83440" y="459000"/>
            <a:ext cx="3117600" cy="22176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McK Slide Elements"/>
          <p:cNvGrpSpPr/>
          <p:nvPr/>
        </p:nvGrpSpPr>
        <p:grpSpPr>
          <a:xfrm>
            <a:off x="136440" y="323280"/>
            <a:ext cx="9689400" cy="6485040"/>
            <a:chOff x="136440" y="323280"/>
            <a:chExt cx="9689400" cy="6485040"/>
          </a:xfrm>
        </p:grpSpPr>
        <p:sp>
          <p:nvSpPr>
            <p:cNvPr id="5" name="McK Footnote" hidden="1"/>
            <p:cNvSpPr/>
            <p:nvPr/>
          </p:nvSpPr>
          <p:spPr>
            <a:xfrm>
              <a:off x="150120" y="6446160"/>
              <a:ext cx="95234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23800" indent="-523800">
                <a:lnSpc>
                  <a:spcPct val="100000"/>
                </a:lnSpc>
                <a:tabLst>
                  <a:tab algn="l" pos="0"/>
                  <a:tab algn="r" pos="47772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23800" indent="-523800">
                <a:lnSpc>
                  <a:spcPct val="100000"/>
                </a:lnSpc>
                <a:spcBef>
                  <a:spcPts val="213"/>
                </a:spcBef>
                <a:tabLst>
                  <a:tab algn="l" pos="0"/>
                  <a:tab algn="r" pos="47772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Quelle:</a:t>
              </a: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100" spc="-1" strike="noStrike">
                  <a:solidFill>
                    <a:srgbClr val="000000"/>
                  </a:solidFill>
                  <a:latin typeface="Arial"/>
                </a:rPr>
                <a:t>Sour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McK Measure" hidden="1"/>
            <p:cNvSpPr/>
            <p:nvPr/>
          </p:nvSpPr>
          <p:spPr>
            <a:xfrm>
              <a:off x="136440" y="611280"/>
              <a:ext cx="7314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McK Sticker"/>
            <p:cNvGrpSpPr/>
            <p:nvPr/>
          </p:nvGrpSpPr>
          <p:grpSpPr>
            <a:xfrm>
              <a:off x="8880840" y="323280"/>
              <a:ext cx="874800" cy="228600"/>
              <a:chOff x="8880840" y="323280"/>
              <a:chExt cx="874800" cy="228600"/>
            </a:xfrm>
          </p:grpSpPr>
          <p:sp>
            <p:nvSpPr>
              <p:cNvPr id="8" name="" hidden="1"/>
              <p:cNvSpPr/>
              <p:nvPr/>
            </p:nvSpPr>
            <p:spPr>
              <a:xfrm>
                <a:off x="8880840" y="323280"/>
                <a:ext cx="87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860400"/>
                    <a:tab algn="l" pos="1720800"/>
                    <a:tab algn="l" pos="2581200"/>
                    <a:tab algn="l" pos="3441600"/>
                    <a:tab algn="l" pos="4302000"/>
                    <a:tab algn="l" pos="5162400"/>
                    <a:tab algn="l" pos="6022800"/>
                    <a:tab algn="l" pos="6883560"/>
                    <a:tab algn="l" pos="7743960"/>
                    <a:tab algn="l" pos="8604360"/>
                    <a:tab algn="l" pos="9464760"/>
                    <a:tab algn="l" pos="10325160"/>
                  </a:tabLst>
                </a:pP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BACK-UP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8880840" y="328680"/>
                <a:ext cx="864360" cy="216360"/>
                <a:chOff x="8880840" y="328680"/>
                <a:chExt cx="864360" cy="21636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8880840" y="328680"/>
                  <a:ext cx="86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8880840" y="545040"/>
                  <a:ext cx="86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" name="McK Legende"/>
            <p:cNvGrpSpPr/>
            <p:nvPr/>
          </p:nvGrpSpPr>
          <p:grpSpPr>
            <a:xfrm>
              <a:off x="8654400" y="687600"/>
              <a:ext cx="1171440" cy="753120"/>
              <a:chOff x="8654400" y="687600"/>
              <a:chExt cx="1171440" cy="753120"/>
            </a:xfrm>
          </p:grpSpPr>
          <p:sp>
            <p:nvSpPr>
              <p:cNvPr id="13" name="" hidden="1"/>
              <p:cNvSpPr/>
              <p:nvPr/>
            </p:nvSpPr>
            <p:spPr>
              <a:xfrm>
                <a:off x="8654400" y="720360"/>
                <a:ext cx="370080" cy="18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 hidden="1"/>
              <p:cNvSpPr/>
              <p:nvPr/>
            </p:nvSpPr>
            <p:spPr>
              <a:xfrm>
                <a:off x="8654400" y="982800"/>
                <a:ext cx="370080" cy="187560"/>
              </a:xfrm>
              <a:prstGeom prst="rect">
                <a:avLst/>
              </a:prstGeom>
              <a:solidFill>
                <a:srgbClr val="d0d0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 hidden="1"/>
              <p:cNvSpPr/>
              <p:nvPr/>
            </p:nvSpPr>
            <p:spPr>
              <a:xfrm>
                <a:off x="9127800" y="687600"/>
                <a:ext cx="6980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 hidden="1"/>
              <p:cNvSpPr/>
              <p:nvPr/>
            </p:nvSpPr>
            <p:spPr>
              <a:xfrm>
                <a:off x="9127800" y="949680"/>
                <a:ext cx="6980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 hidden="1"/>
              <p:cNvSpPr/>
              <p:nvPr/>
            </p:nvSpPr>
            <p:spPr>
              <a:xfrm>
                <a:off x="9127800" y="1212120"/>
                <a:ext cx="6980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Legend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 hidden="1"/>
              <p:cNvSpPr/>
              <p:nvPr/>
            </p:nvSpPr>
            <p:spPr>
              <a:xfrm>
                <a:off x="8654400" y="1244880"/>
                <a:ext cx="370080" cy="187920"/>
              </a:xfrm>
              <a:prstGeom prst="rect">
                <a:avLst/>
              </a:prstGeom>
              <a:solidFill>
                <a:srgbClr val="909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02040" y="2305080"/>
            <a:ext cx="551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56" name="McK Title Elements"/>
          <p:cNvGrpSpPr/>
          <p:nvPr/>
        </p:nvGrpSpPr>
        <p:grpSpPr>
          <a:xfrm>
            <a:off x="3002040" y="1785960"/>
            <a:ext cx="5511240" cy="5254920"/>
            <a:chOff x="3002040" y="1785960"/>
            <a:chExt cx="5511240" cy="5254920"/>
          </a:xfrm>
        </p:grpSpPr>
        <p:sp>
          <p:nvSpPr>
            <p:cNvPr id="57" name="McK Confidential" hidden="1"/>
            <p:cNvSpPr/>
            <p:nvPr/>
          </p:nvSpPr>
          <p:spPr>
            <a:xfrm>
              <a:off x="3002040" y="1785960"/>
              <a:ext cx="275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0400"/>
                  <a:tab algn="l" pos="1720800"/>
                  <a:tab algn="l" pos="2581200"/>
                  <a:tab algn="l" pos="3441600"/>
                  <a:tab algn="l" pos="4302000"/>
                  <a:tab algn="l" pos="5162400"/>
                  <a:tab algn="l" pos="6022800"/>
                  <a:tab algn="l" pos="6883560"/>
                  <a:tab algn="l" pos="7743960"/>
                  <a:tab algn="l" pos="8604360"/>
                  <a:tab algn="l" pos="9464760"/>
                  <a:tab algn="l" pos="1032516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Palatino"/>
                </a:rPr>
                <a:t>VERTRAULICH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McK Disclaimer" hidden="1"/>
            <p:cNvSpPr/>
            <p:nvPr/>
          </p:nvSpPr>
          <p:spPr>
            <a:xfrm>
              <a:off x="3015720" y="5822280"/>
              <a:ext cx="5283360" cy="12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0400"/>
                  <a:tab algn="l" pos="1720800"/>
                  <a:tab algn="l" pos="2581200"/>
                  <a:tab algn="l" pos="3441600"/>
                  <a:tab algn="l" pos="4302000"/>
                  <a:tab algn="l" pos="5162400"/>
                  <a:tab algn="l" pos="6022800"/>
                  <a:tab algn="l" pos="6883560"/>
                  <a:tab algn="l" pos="7743960"/>
                  <a:tab algn="l" pos="8604360"/>
                  <a:tab algn="l" pos="9464760"/>
                  <a:tab algn="l" pos="1032516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Palatino"/>
                </a:rPr>
                <a:t>Dieser Bericht ist ausschließlich für Mitarbeiter des Klienten bestimmt. Die Verteilung, Zitierung und Vervielfältigung – auch auszugsweise – zum Zwecke der Weitergabe an 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Palatino"/>
                </a:rPr>
                <a:t>Dritte ist nur mit vorheriger schriftlicher Zustimmung von McKinsey &amp; Company, Inc., gestattet.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Palatino"/>
                </a:rPr>
                <a:t>Die hier zusammengefassten Texte und Grafiken wurden von McKinsey &amp; Company, Inc., 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Palatino"/>
                </a:rPr>
                <a:t>im Rahmen einer Präsentation eingesetzt; sie stellen keine vollständige Dokumentation der Veranstaltung da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McK Document" hidden="1"/>
            <p:cNvSpPr/>
            <p:nvPr/>
          </p:nvSpPr>
          <p:spPr>
            <a:xfrm>
              <a:off x="3002040" y="4690080"/>
              <a:ext cx="550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0400"/>
                  <a:tab algn="l" pos="1720800"/>
                  <a:tab algn="l" pos="2581200"/>
                  <a:tab algn="l" pos="3441600"/>
                  <a:tab algn="l" pos="4302000"/>
                  <a:tab algn="l" pos="5162400"/>
                  <a:tab algn="l" pos="6022800"/>
                  <a:tab algn="l" pos="6883560"/>
                  <a:tab algn="l" pos="7743960"/>
                  <a:tab algn="l" pos="8604360"/>
                  <a:tab algn="l" pos="9464760"/>
                  <a:tab algn="l" pos="1032516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Palatino"/>
                </a:rPr>
                <a:t>Docum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McK Date" hidden="1"/>
            <p:cNvSpPr/>
            <p:nvPr/>
          </p:nvSpPr>
          <p:spPr>
            <a:xfrm>
              <a:off x="3002040" y="4989600"/>
              <a:ext cx="551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0400"/>
                  <a:tab algn="l" pos="1720800"/>
                  <a:tab algn="l" pos="2581200"/>
                  <a:tab algn="l" pos="3441600"/>
                  <a:tab algn="l" pos="4302000"/>
                  <a:tab algn="l" pos="5162400"/>
                  <a:tab algn="l" pos="6022800"/>
                  <a:tab algn="l" pos="6883560"/>
                  <a:tab algn="l" pos="7743960"/>
                  <a:tab algn="l" pos="8604360"/>
                  <a:tab algn="l" pos="9464760"/>
                  <a:tab algn="l" pos="1032516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Palatino"/>
                </a:rPr>
                <a:t>Da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76520" y="2647800"/>
            <a:ext cx="617220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Радован Јелаши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Финансирање малих и средњих предузећа у Србиј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Београд, 6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7. октобар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3.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81600" y="25383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95720" y="26478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05403-F335-4C65-91E3-39F9C3E09C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240" y="2133720"/>
            <a:ext cx="6553080" cy="34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7200" indent="-187200">
              <a:lnSpc>
                <a:spcPct val="13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Банке, после “породице и пријатеља” тек други по значају извор финансирањ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Нелегално или делимично нелегално пословање МСП једна од највећих кочница при одобравању средстава МСП од стране бана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Нефункционисање правне државе као и недостатак јавних информација, намеће аутоматски високу каматну стоп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13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13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34640" y="268200"/>
            <a:ext cx="960444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а проблемом недостатка извора финансирања МСП сучељавале су се све земље у транзициј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45480" y="2666880"/>
            <a:ext cx="160344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Ни једна земља у транзицији нема идеално решење за финансирање МСП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5637240" y="3506760"/>
            <a:ext cx="3581280" cy="225360"/>
          </a:xfrm>
          <a:prstGeom prst="flowChartMerg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2410-CC76-4D6B-AD9B-782F72FDD7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4640" y="268200"/>
            <a:ext cx="960444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епозитна база и власничка структура банака не погодују финансирању МСП, док је тржиште капитала и надаље неразвије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4640" y="1294920"/>
            <a:ext cx="9009000" cy="446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5040" indent="0">
              <a:lnSpc>
                <a:spcPct val="13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Банк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13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Претежно краткорочни и девизни депозити (до 90 дан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13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Незаинтересованост за МСП (високи фиксни трошкови обраде кредита, одређени степен нелегалности пословања, хипотеке које се тешко реализују итд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13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Постојеће банке углавном опслужују велика предузећа и становништво, банке са циљним тржиштем МСП скоро и да не постој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13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Власничка структура (инострани или домаћи приватни) не погодује ангажовању банака у сектору МСП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13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13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Тржиште капитал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13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Плитко, несређено тржиште, без минималног нивоа надзор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40F1-54FF-438B-808E-3BBC81BB8C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rot="5400000">
            <a:off x="3239280" y="877680"/>
            <a:ext cx="911520" cy="2057400"/>
          </a:xfrm>
          <a:custGeom>
            <a:avLst/>
            <a:gdLst>
              <a:gd name="textAreaLeft" fmla="*/ 0 w 911520"/>
              <a:gd name="textAreaRight" fmla="*/ 911880 w 91152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601600" y="877680"/>
            <a:ext cx="911520" cy="2057400"/>
          </a:xfrm>
          <a:custGeom>
            <a:avLst/>
            <a:gdLst>
              <a:gd name="textAreaLeft" fmla="*/ 0 w 911520"/>
              <a:gd name="textAreaRight" fmla="*/ 911880 w 91152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7964280" y="874440"/>
            <a:ext cx="911160" cy="2057400"/>
          </a:xfrm>
          <a:custGeom>
            <a:avLst/>
            <a:gdLst>
              <a:gd name="textAreaLeft" fmla="*/ 0 w 911160"/>
              <a:gd name="textAreaRight" fmla="*/ 911520 w 91116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268200"/>
            <a:ext cx="960444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БС је имала активну улогу у припреми неколик програма за МСП који обезбеђују приступачне кредите за МСП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42840" y="1585800"/>
            <a:ext cx="205740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Европска агенција за реконструкцију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1523880"/>
            <a:ext cx="1981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Европска инвестициона банк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1600200"/>
            <a:ext cx="1676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Европски фонд за Србију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5000" y="2819520"/>
            <a:ext cx="253188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5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Износ кредита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5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Рок отплате (почек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5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Каматна стопа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5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Број одобрених кредита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5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Висина кредита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2762280"/>
            <a:ext cx="220968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ctr">
              <a:lnSpc>
                <a:spcPct val="15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15 милиона евр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ctr">
              <a:lnSpc>
                <a:spcPct val="15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5 год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 (1 год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ctr">
              <a:lnSpc>
                <a:spcPct val="15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Испод 8,14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ctr">
              <a:lnSpc>
                <a:spcPct val="15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Изнад 1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ctr">
              <a:lnSpc>
                <a:spcPct val="15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20.000 – 200.000 евр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2762280"/>
            <a:ext cx="22100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ctr">
              <a:lnSpc>
                <a:spcPct val="15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40 милиона евр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ctr">
              <a:lnSpc>
                <a:spcPct val="15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15 год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 (3 год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ctr">
              <a:lnSpc>
                <a:spcPct val="15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Испод 7,04%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ctr">
              <a:lnSpc>
                <a:spcPct val="15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ctr">
              <a:lnSpc>
                <a:spcPct val="15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мин. 200.000 евр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751120"/>
            <a:ext cx="220968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ctr">
              <a:lnSpc>
                <a:spcPct val="15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18 милиона евр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ctr">
              <a:lnSpc>
                <a:spcPct val="15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5 год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 (1 год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ctr">
              <a:lnSpc>
                <a:spcPct val="15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12 %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ctr">
              <a:lnSpc>
                <a:spcPct val="15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Изнад 4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ctr">
              <a:lnSpc>
                <a:spcPct val="15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</a:rPr>
              <a:t>макс. 50.000 евр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5DBF-90E5-4FBB-82F6-DA4D8D7A73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4640" y="267840"/>
            <a:ext cx="9604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лога државе у подршци МСП је много више од простог финансирањ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5000" y="1704960"/>
            <a:ext cx="9602640" cy="23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7200" indent="-187200">
              <a:lnSpc>
                <a:spcPct val="13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Финансирање МСП се мора и надаље вршити преко банака, уз максималну уважавање тржишних механизам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Модалитети за подршку финансирања МСП морају се израдити са банкама а не за банк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Држава може и мора у знатно већој мери да подржи финансирање МСП преко одговарајућих регулати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13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CA46-3128-4F7D-BB93-FB681B0210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07:50:24Z</dcterms:created>
  <dc:creator>McKinsey User</dc:creator>
  <dc:description/>
  <dc:language>en-US</dc:language>
  <cp:lastModifiedBy>Bojan</cp:lastModifiedBy>
  <cp:lastPrinted>2001-08-21T19:40:10Z</cp:lastPrinted>
  <dcterms:modified xsi:type="dcterms:W3CDTF">2003-10-06T14:14:17Z</dcterms:modified>
  <cp:revision>320</cp:revision>
  <dc:subject/>
  <dc:title>BANKING SECTOR CLEAN-UP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ID">
    <vt:lpwstr/>
  </property>
  <property fmtid="{D5CDD505-2E9C-101B-9397-08002B2CF9AE}" pid="3" name="DocIDPosition">
    <vt:r8>0</vt:r8>
  </property>
  <property fmtid="{D5CDD505-2E9C-101B-9397-08002B2CF9AE}" pid="4" name="DocIDinSlide">
    <vt:bool>1</vt:bool>
  </property>
  <property fmtid="{D5CDD505-2E9C-101B-9397-08002B2CF9AE}" pid="5" name="DocIDinTitle">
    <vt:bool>0</vt:bool>
  </property>
</Properties>
</file>