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734-FFF2-4369-B427-EEA0D2D7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056-A926-454B-892D-BC44D9E8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453-F7B5-46E9-98BF-AD251C3A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E75-0255-4CD3-85AE-1CA99874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A3F3-FD7A-471B-BB20-1BFA6DCE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93F5-D904-4672-8356-52CFA330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401E-E0C4-40D9-B73E-62E944BA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022C-54E5-423F-A38D-1BCC92BB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CCF2-3CD6-4EC7-95CF-67C6C2C5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1124-EA07-4413-929A-C2F5E55A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FFD2-2B6A-4FA6-9404-A4295780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C3D-8E49-4305-A70C-04D38C5C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1B65-010F-41B6-8865-C29B427A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B666-54FE-4969-88C1-B85FA6F2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03C8-D5FB-43AF-BFD7-C5C3FF54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9A24-B691-4A24-8BA4-0342BE12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181B-9926-4215-BBC1-EE31A49A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45A-8E1C-4191-AFE3-35A5B75B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91D-EDB6-43B3-9879-F5A9F116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C9A-9B25-4B9F-9B4D-2AABF8EF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CF1-0FE7-4FF6-A121-283547ED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ED5-093B-43DB-A010-63A72A80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4B5-ABD6-4163-8E50-C410DD87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95D-34C4-4052-97F9-9A31AF64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E737-D09D-4EBF-908E-B96360A65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BA0D-1158-4D74-A621-5ECDC2C74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Србија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– 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Информационо друштво</a:t>
            </a:r>
            <a:br>
              <a:rPr sz="4000"/>
            </a:b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Нацрт основе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573408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инистарство за науку, технологију и разво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2708280"/>
            <a:ext cx="60487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авни окви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3357720"/>
            <a:ext cx="763272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раструктура 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ормациона технолог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076640"/>
            <a:ext cx="792144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хничке основ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Србија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– 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Информационо друштво</a:t>
            </a:r>
            <a:br>
              <a:rPr sz="4000"/>
            </a:br>
            <a:r>
              <a:rPr b="0" lang="sr-CS" sz="4000" spc="-1" strike="noStrike">
                <a:solidFill>
                  <a:srgbClr val="800000"/>
                </a:solidFill>
                <a:latin typeface="Times New Roman"/>
              </a:rPr>
              <a:t>Правни оквир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8100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авна регулатива из области И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авна регулатива из области електронског пословањ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аштита податак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оверљивос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телектуална својин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уторска прав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тандарди и препоруке из области И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Србија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– 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Информационо друштво</a:t>
            </a:r>
            <a:br>
              <a:rPr sz="4000"/>
            </a:br>
            <a:r>
              <a:rPr b="0" lang="sr-CS" sz="4000" spc="-1" strike="noStrike">
                <a:solidFill>
                  <a:srgbClr val="00a448"/>
                </a:solidFill>
                <a:latin typeface="Times New Roman"/>
              </a:rPr>
              <a:t>Инфраструктура за ИТ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1946160"/>
            <a:ext cx="6624720" cy="1615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ИТ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оквир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Стандарди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Отворене технологиј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преносивост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мерљивост и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приступ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Облик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“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Отворен извор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са националном дозвол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Ниво имплементациј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Основан функционалност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Дозвола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национал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3645000"/>
            <a:ext cx="7129440" cy="885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арадњ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Страни партнери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локалне ИТ компаниј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НИО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важни корисници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влада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државне институциј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привреда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банк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осигуравајуће компаниј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.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4653000"/>
            <a:ext cx="7489800" cy="885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Ци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Даљи развој националне ИТ индустрије у правцу основних произв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Подстицањ страних партнерских компанија на сарадњ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5661000"/>
            <a:ext cx="7777440" cy="642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оље приме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e-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влада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e-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пословањ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e-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трговина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e-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здравство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e-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банкарство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.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Србија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– 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Информационо друштво</a:t>
            </a:r>
            <a:br>
              <a:rPr sz="4000"/>
            </a:b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Пројекат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“NIOnet”- 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први корак</a:t>
            </a:r>
            <a:br>
              <a:rPr sz="4000"/>
            </a:br>
            <a:r>
              <a:rPr b="0" lang="sr-CS" sz="4000" spc="-1" strike="noStrike">
                <a:solidFill>
                  <a:srgbClr val="9999ff"/>
                </a:solidFill>
                <a:latin typeface="Times New Roman"/>
              </a:rPr>
              <a:t>Техничке основе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Т за истр. разв. заједниц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инистарство за науку, технологију и разво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bcbcb"/>
                </a:solidFill>
                <a:latin typeface="Times New Roman"/>
              </a:rPr>
              <a:t>Циљеви пројект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Разво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r-CS" sz="3200" spc="-1" strike="noStrike">
                <a:solidFill>
                  <a:srgbClr val="ffffff"/>
                </a:solidFill>
                <a:latin typeface="Arial"/>
              </a:rPr>
              <a:t>АПЛИКАТИВНИХ УСЛУГ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 врху постојеће академске мреже инфраструктур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одел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јбоље пракс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 националну иницијатив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рбиј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Фаза 1 услуга до крај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. годин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bcbcb"/>
                </a:solidFill>
                <a:latin typeface="Times New Roman"/>
              </a:rPr>
              <a:t>Опис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- </a:t>
            </a:r>
            <a:r>
              <a:rPr b="0" lang="sr-CS" sz="4400" spc="-1" strike="noStrike">
                <a:solidFill>
                  <a:srgbClr val="cbcbcb"/>
                </a:solidFill>
                <a:latin typeface="Times New Roman"/>
              </a:rPr>
              <a:t>Инфраструктур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Научно-истраживачка заједниц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~ 3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страживач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~ 15.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ституције високог образовањ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апослени у Министарств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кадемска мрежа инфраструктур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опусна моћ оптичког кабла близу 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Ghz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Централни чвор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Г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ниверзите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ниверзитети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С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bcbcb"/>
                </a:solidFill>
                <a:latin typeface="Times New Roman"/>
              </a:rPr>
              <a:t>Опис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- </a:t>
            </a:r>
            <a:r>
              <a:rPr b="0" lang="sr-CS" sz="4400" spc="-1" strike="noStrike">
                <a:solidFill>
                  <a:srgbClr val="cbcbcb"/>
                </a:solidFill>
                <a:latin typeface="Times New Roman"/>
              </a:rPr>
              <a:t>Услуг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point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реж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орта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игурна електронска пошт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Национални регистри истр.-разв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Библиотек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брада докумената и случајев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инансирање и финансијске услуг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4:24:31Z</dcterms:created>
  <dc:creator>Dusica Veljkovic</dc:creator>
  <dc:description/>
  <dc:language>en-US</dc:language>
  <cp:lastModifiedBy>Bojan</cp:lastModifiedBy>
  <dcterms:modified xsi:type="dcterms:W3CDTF">2003-10-17T13:08:38Z</dcterms:modified>
  <cp:revision>21</cp:revision>
  <dc:subject/>
  <dc:title>Project “NIOnet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