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7AF-7BE6-434B-A035-134A4C74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D138-2863-4E0F-9F33-E6CD373F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4B4-1AFC-4A0F-B7DA-EF709CB9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8474-F2BA-491B-A2D9-7DD1888C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6385-35CA-402D-8D79-EA8FA72D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24BB-F669-4F3D-B55A-215CD8BF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AEB6-5881-43F8-8E47-1B57B435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59E1-F7C0-432E-B2B2-DCFB1E94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B500-FB30-4F44-8AFA-84791536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BB4D-F6CD-41E4-B839-D4448C1E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A241-C89F-4516-972D-7D7D8448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D32-7EE0-45C9-BF81-B001113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4CF1-3659-403C-90EC-50D57550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44DD-2259-4477-A678-892FED68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3D1F-BCAC-4E7C-B255-9D98C566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87D6-DB6B-4CF0-9FA7-A4499A2C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6336-E993-4E11-A1D9-FAF9CD3D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484-4679-414C-9B3A-59652E1B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CC7-4FFD-428F-BA09-A0A2CED7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9CD-FAAB-4336-A1B2-3D474FBD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6A8-D5F8-4BC7-BE99-62975CD3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DB1-E941-4004-81C1-EEDFBEF6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3AF-BCE0-4069-8DEA-E0651CD9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384-9F3C-47D4-BBCB-6936681B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C526-DABF-4D21-AFA0-6481D45DDC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2926-72F0-4869-BAA6-68D6F28B51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423720"/>
            <a:ext cx="7678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BANKE I MSP</a:t>
            </a:r>
            <a:br>
              <a:rPr sz="4400"/>
            </a:b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Da li su MSP tržište za banke</a:t>
            </a:r>
            <a:r>
              <a:rPr b="0" lang="sl-SI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819160" y="274284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33cc"/>
                </a:solidFill>
                <a:latin typeface="Arial"/>
              </a:rPr>
              <a:t>Igor Brkanovi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33cc"/>
                </a:solidFill>
                <a:latin typeface="Arial"/>
              </a:rPr>
              <a:t>Beograd, 6’7. Oktobar, 200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5616720"/>
            <a:ext cx="1219320" cy="80316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09480" y="5562720"/>
            <a:ext cx="8152920" cy="914400"/>
            <a:chOff x="609480" y="5562720"/>
            <a:chExt cx="8152920" cy="914400"/>
          </a:xfrm>
        </p:grpSpPr>
        <p:sp>
          <p:nvSpPr>
            <p:cNvPr id="214" name=""/>
            <p:cNvSpPr/>
            <p:nvPr/>
          </p:nvSpPr>
          <p:spPr>
            <a:xfrm>
              <a:off x="609480" y="5562720"/>
              <a:ext cx="12801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89640" y="5562720"/>
              <a:ext cx="6872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Nefinansijska podrška razvoju MSP u Srbi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000000"/>
                  </a:solidFill>
                  <a:latin typeface="Arial"/>
                </a:rPr>
                <a:t>Projekat finansira EU, a realizuje Evropska agencija za rekonstrukcij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2AD5-4332-4FB5-8CCF-1607EF8577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Bank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opstveni potencij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drška inostranih organiza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ostrane ban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osnivači 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9a0000"/>
                </a:solidFill>
                <a:latin typeface="Arial"/>
              </a:rPr>
              <a:t>Sve banke kažu da vide MSP kao tržiš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9a0000"/>
                </a:solidFill>
                <a:latin typeface="Arial"/>
              </a:rPr>
              <a:t>Ali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6DF-677A-4826-BA8D-A406F7CCD4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Pogled banaka na</a:t>
            </a:r>
            <a:br>
              <a:rPr sz="4000"/>
            </a:b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ograničenja u finansiranju MSP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ostatak dugor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čnih izvora sredst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konska regula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epripremljenost MSP za saradnju sa bank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edostatak ‘’dobrih’’ projek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epouzdani finansijski izveštaji (bilans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epouzdan kreditni istorij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eadekvatne garanc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9a0000"/>
                </a:solidFill>
                <a:latin typeface="Arial"/>
              </a:rPr>
              <a:t>Interes u kratkoročnom kreditiranj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9a0000"/>
                </a:solidFill>
                <a:latin typeface="Arial"/>
              </a:rPr>
              <a:t>Interes u </a:t>
            </a:r>
            <a:r>
              <a:rPr b="0" i="1" lang="en-US" sz="2000" spc="-1" strike="noStrike">
                <a:solidFill>
                  <a:srgbClr val="9a0000"/>
                </a:solidFill>
                <a:latin typeface="Arial"/>
              </a:rPr>
              <a:t>kreditiranju </a:t>
            </a:r>
            <a:r>
              <a:rPr b="0" i="1" lang="sl-SI" sz="2000" spc="-1" strike="noStrike">
                <a:solidFill>
                  <a:srgbClr val="9a0000"/>
                </a:solidFill>
                <a:latin typeface="Arial"/>
              </a:rPr>
              <a:t>veliki</a:t>
            </a:r>
            <a:r>
              <a:rPr b="0" i="1" lang="en-US" sz="2000" spc="-1" strike="noStrike">
                <a:solidFill>
                  <a:srgbClr val="9a0000"/>
                </a:solidFill>
                <a:latin typeface="Arial"/>
              </a:rPr>
              <a:t>h</a:t>
            </a:r>
            <a:r>
              <a:rPr b="0" i="1" lang="sl-SI" sz="2000" spc="-1" strike="noStrike">
                <a:solidFill>
                  <a:srgbClr val="9a0000"/>
                </a:solidFill>
                <a:latin typeface="Arial"/>
              </a:rPr>
              <a:t> preduzeć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9a0000"/>
                </a:solidFill>
                <a:latin typeface="Arial"/>
              </a:rPr>
              <a:t>Nespremnost na partnerski odnos i podelu rizika sa M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9a0000"/>
                </a:solidFill>
                <a:latin typeface="Arial"/>
              </a:rPr>
              <a:t>(Ne)O</a:t>
            </a:r>
            <a:r>
              <a:rPr b="0" i="1" lang="sl-SI" sz="2000" spc="-1" strike="noStrike">
                <a:solidFill>
                  <a:srgbClr val="9a0000"/>
                </a:solidFill>
                <a:latin typeface="Arial"/>
                <a:ea typeface="Arial"/>
              </a:rPr>
              <a:t>bučenost kreditnih službeni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9a0000"/>
                </a:solidFill>
                <a:latin typeface="Arial"/>
              </a:rPr>
              <a:t>Nema podataka o učešću MSP u rezultatima bankarskog sekto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761-E1FE-483B-A95D-FB53F5A692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MSP pogled</a:t>
            </a:r>
            <a:br>
              <a:rPr sz="4000"/>
            </a:b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na ograničenja u finansiranju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adnjama onemogućen pristup finansijskom tržiš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diti su sku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edostatak srednjoročnih i dugoročnih kred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estandardizovana metodologija izrade Biznis pla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banke naplaćuju ocenu Biznis plan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pora, komplikovana i skupa procedura ocene poslovne i kreditne sposob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redstva obezbeđenja kred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9a0000"/>
                </a:solidFill>
                <a:latin typeface="Arial"/>
              </a:rPr>
              <a:t>Banke distributivni ka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9a0000"/>
                </a:solidFill>
                <a:latin typeface="Arial"/>
              </a:rPr>
              <a:t>Nepoverenje u banke kao partn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F40-1F7A-429C-8F85-BE87D9C4C8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MSP jesu tržišt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dnos banaka i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MS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ektora se bazira na dugoročnim osnova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una saradnja banaka i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MS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u upravljanju rizik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9a0000"/>
                </a:solidFill>
                <a:latin typeface="Arial"/>
              </a:rPr>
              <a:t>U razvijenim zemljama MSP su bankama najvažnija ciljna gru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71D-97D0-44FA-B6E9-4C9B72D423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Struktura privrede Srbije prema obliku i veličini subjekat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elikih i srednjih preduzeća        1%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eduzetnika i malih preduzeć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99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2654280"/>
          <a:ext cx="7086600" cy="38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54280"/>
                    <a:ext cx="708660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63A-57D4-4EA3-B02D-EA2FBB3852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MSP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lih preduzeća su mikro preduzeć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opst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redst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 finansir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voj uz avanse kupaca i kredite dobavljač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isoko i rastuće učešće kratkoročnih izvora finansir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dprosečno učešće obrtnih sredst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isok stepen otpisanosti osnovnih sredstva, zastarela tehnolog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nje imaju status fizičkog lica</a:t>
            </a:r>
            <a:r>
              <a:rPr b="0" lang="sl-SI" sz="2400" spc="-1" strike="noStrike">
                <a:solidFill>
                  <a:srgbClr val="9a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9a0000"/>
                </a:solidFill>
                <a:latin typeface="Arial"/>
              </a:rPr>
              <a:t>Nedostatak eksternih izvora finansir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855-528D-4CDF-A304-B1DB56F3C0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sl-SI" sz="4000" spc="-1" strike="noStrike">
                <a:solidFill>
                  <a:srgbClr val="003366"/>
                </a:solidFill>
                <a:latin typeface="Arial"/>
                <a:ea typeface="Arial"/>
              </a:rPr>
              <a:t>rocena potreba MSP s</a:t>
            </a:r>
            <a:r>
              <a:rPr b="0" lang="sl-SI" sz="4000" spc="-1" strike="noStrike">
                <a:solidFill>
                  <a:srgbClr val="003366"/>
                </a:solidFill>
                <a:latin typeface="Arial"/>
              </a:rPr>
              <a:t>ektora za period 2003 - 2008 godin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kvirno do 10 Mlrd 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većanje sa 270,000 na 400,000 M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30,000 start 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varanje milion novih radnih mes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 10,000 EUR po radnom mes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9a0000"/>
                </a:solidFill>
                <a:latin typeface="Arial"/>
              </a:rPr>
              <a:t>D</a:t>
            </a:r>
            <a:r>
              <a:rPr b="0" i="1" lang="it-IT" sz="2400" spc="-1" strike="noStrike">
                <a:solidFill>
                  <a:srgbClr val="9a0000"/>
                </a:solidFill>
                <a:latin typeface="Arial"/>
                <a:ea typeface="Times New Roman"/>
              </a:rPr>
              <a:t>ovođenje u korelaciju ciljeva, modela i izvora sredstava</a:t>
            </a:r>
            <a:r>
              <a:rPr b="0" i="1" lang="sl-SI" sz="2400" spc="-1" strike="noStrike">
                <a:solidFill>
                  <a:srgbClr val="9a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9a0000"/>
                </a:solidFill>
                <a:latin typeface="Arial"/>
                <a:ea typeface="Times New Roman"/>
              </a:rPr>
              <a:t>sa potrebama za finansiranje razvoja potencijalnih i postojeći</a:t>
            </a:r>
            <a:r>
              <a:rPr b="0" i="1" lang="sl-SI" sz="2400" spc="-1" strike="noStrike">
                <a:solidFill>
                  <a:srgbClr val="9a0000"/>
                </a:solidFill>
                <a:latin typeface="Arial"/>
              </a:rPr>
              <a:t>h</a:t>
            </a:r>
            <a:r>
              <a:rPr b="0" i="1" lang="it-IT" sz="2400" spc="-1" strike="noStrike">
                <a:solidFill>
                  <a:srgbClr val="9a0000"/>
                </a:solidFill>
                <a:latin typeface="Arial"/>
                <a:ea typeface="Times New Roman"/>
              </a:rPr>
              <a:t> MSP i preduzetni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E6B-B99B-4C42-B6B8-5778894CB7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12:49:46Z</dcterms:created>
  <dc:creator>Milan Lalović</dc:creator>
  <dc:description/>
  <dc:language>en-US</dc:language>
  <cp:lastModifiedBy>Bojan</cp:lastModifiedBy>
  <dcterms:modified xsi:type="dcterms:W3CDTF">2003-10-06T14:15:13Z</dcterms:modified>
  <cp:revision>56</cp:revision>
  <dc:subject/>
  <dc:title>FINANSIRANJE MSP</dc:title>
</cp:coreProperties>
</file>