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EB46-3D20-475B-A35F-26E37F94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42FC-BE69-4979-9F4A-D16EECA7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18F7-A7C2-491A-B632-4138FFDF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4F08-D642-49AA-A2FB-95B05A6C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5285-3DEC-41E3-94C0-136B754C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D2FC-24C7-4711-A849-B2B905F5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2199-B77E-49A9-94BD-F7664382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D408-27C3-47BB-BBF8-06254B35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1A01-C482-4DF5-AC1C-EDAD6E72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1787-0FB7-45E7-8D71-830BD1E9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8B25-BD4B-4562-90D4-E0E87683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322A-225C-4987-AB17-2A2CA9B7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8149-4FCE-4244-B8BF-03EB256A1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НАЦИОНАЛНА ШТЕДИОНИЦ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Информација и Закључак Влад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еоград, 19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ецембар 2003. годи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КЉУЧНИ ЕЛЕМЕНТИ ПОСЛОВАЊА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озвола за рад добијена од НБЈ 26.12.2001. и велико овлашћење добијено 20.02.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длог гувернера НБЈ од 16.01.2002. да надлежни трговински судови по хитном поступку овласте Националну штедионицу за исплату девизне штедње банака у стечајном или ликвидационом поступку (Југобанка, Беобанка, Инвестбанка, Славија банка, Ваљевска банка, Привредна банка Нови Сад) чиме без тендера исплаћује 70% укупног дуг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говором о пословној сарадњи од 21.02.2002. између НБЈ и Националне штедионице (анекси 14.11.2002. и 30.12.2002.) преузето 600 лица и добијено 60 експозитура (7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а 271 шалтером) и то без надокнад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ме “Национална штедионица” асоцира на државу и државни функционери су снимљени како полажу депози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обијен депозит од око 500 мил. динара од НБЈ (процен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38088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КЉУЧНИ ЕЛЕМЕНТИ ПОСЛОВАЊА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ЂУТИМ, ОД САМОГ ПОЧЕТКА, РЕПУБЛИКА СРБИЈА НЕ ОСТВАРУЈЕ КОНТРОЛУ НАД ПОСЛОВАЊЕМ НАЦИОНАЛНЕ ШТЕДИОНИ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тање 28.12.200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ЈУБМЕС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            38,46%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YUGARANT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(Српска)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9,6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Тоза Марковић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9,6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еопетрол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9,62%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Енергопројект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5,7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Апатинска пивар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4,8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 маркет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4,8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ДОР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4,8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Копаоник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3,8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интелон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3,8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ШКЗСП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2,2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Еуросалон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1,9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3400" y="198108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,08% индиректно Савезна влад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952880" y="38862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32004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358128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Нигде нема директног учешћа Републике Србиј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Председник Управног одбора НШ истовремено је и саветник гувернера НБЈ до краја 200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СТИГНУТИ ДОГОВОР ИЗМЕЂУ ПОК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 ПРЕМИЈЕРА И ГУВЕРНЕРА НБЈ ДА СЕ ТА СИТУАЦИЈА ИЗМЕНИ ТИМЕ ШТО ЋЕ СРБИЈА ДОБИТИ ТРЕЋИНУ ВЛАСНИШТВА У СТАРТУ НИЈЕ СПРОВЕДЕ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ије вредновано ни доношење посла, ни просторија, ни имена 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росалону су вредновани намештај и канцеларијски материја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Једино откупом акција од ЈУБМЕС банке 14.11.2002. године за 73,5 мил. динар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рбија је добила учешће у капиталу штедионице од 13,8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едставници Србије нису учествовали у одлучивању око треће емисије када су Мали колектив (Београд) и Елим (Беч) постали акционари, јер је Управни одбор заседао 25.02.2003, а они су постали чланови 27.02.2003. године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анас Србија има 10,5% капитала и нема реалног утицаја на пословање што се видело и покушајем довођења иностраног партнера кроз четврту докапитализацију кроз директан позив и испод прага од 15% где треба да се добије сагласност НБ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457200"/>
            <a:ext cx="914400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КЦИОНАРИ БАНКЕ КОЈИ ПОСЕДУЈУ 54,22% КАПИТ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 ДАН 30.09.2003. годи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2203560"/>
            <a:ext cx="3429000" cy="519840"/>
          </a:xfrm>
          <a:prstGeom prst="rect">
            <a:avLst/>
          </a:prstGeom>
          <a:gradFill rotWithShape="0">
            <a:gsLst>
              <a:gs pos="0">
                <a:srgbClr val="dfdfdf"/>
              </a:gs>
              <a:gs pos="50000">
                <a:srgbClr val="ffffff"/>
              </a:gs>
              <a:gs pos="100000">
                <a:srgbClr val="dfdfd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glo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Europe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rketing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L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99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Британска Девичанска остр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2203560"/>
            <a:ext cx="3429000" cy="533160"/>
          </a:xfrm>
          <a:prstGeom prst="rect">
            <a:avLst/>
          </a:prstGeom>
          <a:gradFill rotWithShape="0">
            <a:gsLst>
              <a:gs pos="0">
                <a:srgbClr val="dfdfdf"/>
              </a:gs>
              <a:gs pos="50000">
                <a:srgbClr val="ffffff"/>
              </a:gs>
              <a:gs pos="100000">
                <a:srgbClr val="dfdfd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Мали колектив, Београ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2813040"/>
            <a:ext cx="3429000" cy="519840"/>
          </a:xfrm>
          <a:prstGeom prst="rect">
            <a:avLst/>
          </a:prstGeom>
          <a:gradFill rotWithShape="0">
            <a:gsLst>
              <a:gs pos="0">
                <a:srgbClr val="dfdfdf"/>
              </a:gs>
              <a:gs pos="50000">
                <a:srgbClr val="ffffff"/>
              </a:gs>
              <a:gs pos="100000">
                <a:srgbClr val="dfdfd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prom Handelsgeselscaft Gmb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99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Беч, Аустрија (највећи акционар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2813040"/>
            <a:ext cx="3429000" cy="533520"/>
          </a:xfrm>
          <a:prstGeom prst="rect">
            <a:avLst/>
          </a:prstGeom>
          <a:gradFill rotWithShape="0">
            <a:gsLst>
              <a:gs pos="0">
                <a:srgbClr val="dfdfdf"/>
              </a:gs>
              <a:gs pos="50000">
                <a:srgbClr val="ffffff"/>
              </a:gs>
              <a:gs pos="100000">
                <a:srgbClr val="dfdfd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Елим, Бе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3422520"/>
            <a:ext cx="3429000" cy="519840"/>
          </a:xfrm>
          <a:prstGeom prst="rect">
            <a:avLst/>
          </a:prstGeom>
          <a:gradFill rotWithShape="0">
            <a:gsLst>
              <a:gs pos="0">
                <a:srgbClr val="dfdfdf"/>
              </a:gs>
              <a:gs pos="50000">
                <a:srgbClr val="ffffff"/>
              </a:gs>
              <a:gs pos="100000">
                <a:srgbClr val="dfdfd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uto International Co.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99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вети Винсент и Гренадин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3422520"/>
            <a:ext cx="3429000" cy="533520"/>
          </a:xfrm>
          <a:prstGeom prst="rect">
            <a:avLst/>
          </a:prstGeom>
          <a:gradFill rotWithShape="0">
            <a:gsLst>
              <a:gs pos="0">
                <a:srgbClr val="dfdfdf"/>
              </a:gs>
              <a:gs pos="50000">
                <a:srgbClr val="ffffff"/>
              </a:gs>
              <a:gs pos="100000">
                <a:srgbClr val="dfdfd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има, Београ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4032360"/>
            <a:ext cx="3429000" cy="945360"/>
          </a:xfrm>
          <a:prstGeom prst="rect">
            <a:avLst/>
          </a:prstGeom>
          <a:gradFill rotWithShape="0">
            <a:gsLst>
              <a:gs pos="0">
                <a:srgbClr val="dfdfdf"/>
              </a:gs>
              <a:gs pos="50000">
                <a:srgbClr val="ffffff"/>
              </a:gs>
              <a:gs pos="100000">
                <a:srgbClr val="dfdfd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dale Enterprises Lim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99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Британска Девичанска остр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99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prom Handelsgeselscaft Gmb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99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Беч, Аустриј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4032360"/>
            <a:ext cx="3429000" cy="934920"/>
          </a:xfrm>
          <a:prstGeom prst="rect">
            <a:avLst/>
          </a:prstGeom>
          <a:gradFill rotWithShape="0">
            <a:gsLst>
              <a:gs pos="0">
                <a:srgbClr val="dfdfdf"/>
              </a:gs>
              <a:gs pos="50000">
                <a:srgbClr val="ffffff"/>
              </a:gs>
              <a:gs pos="100000">
                <a:srgbClr val="dfdfd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Дајнерс клуб, Београ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5022720"/>
            <a:ext cx="3429000" cy="519840"/>
          </a:xfrm>
          <a:prstGeom prst="rect">
            <a:avLst/>
          </a:prstGeom>
          <a:gradFill rotWithShape="0">
            <a:gsLst>
              <a:gs pos="0">
                <a:srgbClr val="dfdfdf"/>
              </a:gs>
              <a:gs pos="50000">
                <a:srgbClr val="ffffff"/>
              </a:gs>
              <a:gs pos="100000">
                <a:srgbClr val="dfdfd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Lim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99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вети Винсент и Гренадин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5022720"/>
            <a:ext cx="3429000" cy="533520"/>
          </a:xfrm>
          <a:prstGeom prst="rect">
            <a:avLst/>
          </a:prstGeom>
          <a:gradFill rotWithShape="0">
            <a:gsLst>
              <a:gs pos="0">
                <a:srgbClr val="dfdfdf"/>
              </a:gs>
              <a:gs pos="50000">
                <a:srgbClr val="ffffff"/>
              </a:gs>
              <a:gs pos="100000">
                <a:srgbClr val="dfdfd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Сквадра, Београ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5632560"/>
            <a:ext cx="3429000" cy="520200"/>
          </a:xfrm>
          <a:prstGeom prst="rect">
            <a:avLst/>
          </a:prstGeom>
          <a:gradFill rotWithShape="0">
            <a:gsLst>
              <a:gs pos="0">
                <a:srgbClr val="dfdfdf"/>
              </a:gs>
              <a:gs pos="50000">
                <a:srgbClr val="ffffff"/>
              </a:gs>
              <a:gs pos="100000">
                <a:srgbClr val="dfdfd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prom Handelsgeselscaft Gmbh.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Беч, Аустриј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5632560"/>
            <a:ext cx="3429000" cy="533160"/>
          </a:xfrm>
          <a:prstGeom prst="rect">
            <a:avLst/>
          </a:prstGeom>
          <a:gradFill rotWithShape="0">
            <a:gsLst>
              <a:gs pos="0">
                <a:srgbClr val="dfdfdf"/>
              </a:gs>
              <a:gs pos="50000">
                <a:srgbClr val="ffffff"/>
              </a:gs>
              <a:gs pos="100000">
                <a:srgbClr val="dfdfd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ринципал, Београ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1593720"/>
            <a:ext cx="3429000" cy="540000"/>
          </a:xfrm>
          <a:prstGeom prst="rect">
            <a:avLst/>
          </a:prstGeom>
          <a:gradFill rotWithShape="0">
            <a:gsLst>
              <a:gs pos="0">
                <a:srgbClr val="999999"/>
              </a:gs>
              <a:gs pos="100000">
                <a:srgbClr val="dddddd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Већински власник акциона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1120" y="1593720"/>
            <a:ext cx="3429000" cy="540000"/>
          </a:xfrm>
          <a:prstGeom prst="rect">
            <a:avLst/>
          </a:prstGeom>
          <a:gradFill rotWithShape="0">
            <a:gsLst>
              <a:gs pos="0">
                <a:srgbClr val="999999"/>
              </a:gs>
              <a:gs pos="100000">
                <a:srgbClr val="dddddd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Назив акциона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1593720"/>
            <a:ext cx="838080" cy="540000"/>
          </a:xfrm>
          <a:prstGeom prst="rect">
            <a:avLst/>
          </a:prstGeom>
          <a:gradFill rotWithShape="0">
            <a:gsLst>
              <a:gs pos="0">
                <a:srgbClr val="999999"/>
              </a:gs>
              <a:gs pos="100000">
                <a:srgbClr val="dddddd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Укупан изно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Times New Roman"/>
              </a:rPr>
              <a:t>(дин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77320" y="1593720"/>
            <a:ext cx="925560" cy="476280"/>
          </a:xfrm>
          <a:prstGeom prst="rect">
            <a:avLst/>
          </a:prstGeom>
          <a:gradFill rotWithShape="0">
            <a:gsLst>
              <a:gs pos="0">
                <a:srgbClr val="929292"/>
              </a:gs>
              <a:gs pos="100000">
                <a:srgbClr val="dddddd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Times New Roman"/>
              </a:rPr>
              <a:t>Учешће у укупном капитал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74080" y="2203560"/>
            <a:ext cx="838080" cy="539640"/>
          </a:xfrm>
          <a:prstGeom prst="rect">
            <a:avLst/>
          </a:prstGeom>
          <a:gradFill rotWithShape="0">
            <a:gsLst>
              <a:gs pos="0">
                <a:srgbClr val="dfdfdf"/>
              </a:gs>
              <a:gs pos="50000">
                <a:srgbClr val="ffffff"/>
              </a:gs>
              <a:gs pos="100000">
                <a:srgbClr val="dfdfd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000" spc="-1" strike="noStrike">
                <a:solidFill>
                  <a:srgbClr val="000000"/>
                </a:solidFill>
                <a:latin typeface="Times New Roman"/>
              </a:rPr>
              <a:t>100.000.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74080" y="2813040"/>
            <a:ext cx="838080" cy="539640"/>
          </a:xfrm>
          <a:prstGeom prst="rect">
            <a:avLst/>
          </a:prstGeom>
          <a:gradFill rotWithShape="0">
            <a:gsLst>
              <a:gs pos="0">
                <a:srgbClr val="dfdfdf"/>
              </a:gs>
              <a:gs pos="50000">
                <a:srgbClr val="ffffff"/>
              </a:gs>
              <a:gs pos="100000">
                <a:srgbClr val="dfdfd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000" spc="-1" strike="noStrike">
                <a:solidFill>
                  <a:srgbClr val="000000"/>
                </a:solidFill>
                <a:latin typeface="Times New Roman"/>
              </a:rPr>
              <a:t>100.000.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74080" y="3422520"/>
            <a:ext cx="838080" cy="540000"/>
          </a:xfrm>
          <a:prstGeom prst="rect">
            <a:avLst/>
          </a:prstGeom>
          <a:gradFill rotWithShape="0">
            <a:gsLst>
              <a:gs pos="0">
                <a:srgbClr val="dfdfdf"/>
              </a:gs>
              <a:gs pos="50000">
                <a:srgbClr val="ffffff"/>
              </a:gs>
              <a:gs pos="100000">
                <a:srgbClr val="dfdfd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000" spc="-1" strike="noStrike">
                <a:solidFill>
                  <a:srgbClr val="000000"/>
                </a:solidFill>
                <a:latin typeface="Times New Roman"/>
              </a:rPr>
              <a:t>72.200.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74080" y="4032360"/>
            <a:ext cx="838080" cy="934920"/>
          </a:xfrm>
          <a:prstGeom prst="rect">
            <a:avLst/>
          </a:prstGeom>
          <a:gradFill rotWithShape="0">
            <a:gsLst>
              <a:gs pos="0">
                <a:srgbClr val="dfdfdf"/>
              </a:gs>
              <a:gs pos="50000">
                <a:srgbClr val="ffffff"/>
              </a:gs>
              <a:gs pos="100000">
                <a:srgbClr val="dfdfd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000" spc="-1" strike="noStrike">
                <a:solidFill>
                  <a:srgbClr val="000000"/>
                </a:solidFill>
                <a:latin typeface="Times New Roman"/>
              </a:rPr>
              <a:t>50.600.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74080" y="5022720"/>
            <a:ext cx="838080" cy="540000"/>
          </a:xfrm>
          <a:prstGeom prst="rect">
            <a:avLst/>
          </a:prstGeom>
          <a:gradFill rotWithShape="0">
            <a:gsLst>
              <a:gs pos="0">
                <a:srgbClr val="dfdfdf"/>
              </a:gs>
              <a:gs pos="50000">
                <a:srgbClr val="ffffff"/>
              </a:gs>
              <a:gs pos="100000">
                <a:srgbClr val="dfdfd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000" spc="-1" strike="noStrike">
                <a:solidFill>
                  <a:srgbClr val="000000"/>
                </a:solidFill>
                <a:latin typeface="Times New Roman"/>
              </a:rPr>
              <a:t>37.200.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74080" y="5632560"/>
            <a:ext cx="838080" cy="539640"/>
          </a:xfrm>
          <a:prstGeom prst="rect">
            <a:avLst/>
          </a:prstGeom>
          <a:gradFill rotWithShape="0">
            <a:gsLst>
              <a:gs pos="0">
                <a:srgbClr val="dfdfdf"/>
              </a:gs>
              <a:gs pos="50000">
                <a:srgbClr val="ffffff"/>
              </a:gs>
              <a:gs pos="100000">
                <a:srgbClr val="dfdfd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000" spc="-1" strike="noStrike">
                <a:solidFill>
                  <a:srgbClr val="000000"/>
                </a:solidFill>
                <a:latin typeface="Times New Roman"/>
              </a:rPr>
              <a:t>36.600.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88480" y="2203560"/>
            <a:ext cx="92700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13,67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88480" y="2813040"/>
            <a:ext cx="92700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13,67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088480" y="3422520"/>
            <a:ext cx="92700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9,87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088480" y="4032360"/>
            <a:ext cx="927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6,9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88480" y="5022720"/>
            <a:ext cx="92700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5,0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88480" y="5632560"/>
            <a:ext cx="92700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5,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ЕЂУСОБНЕ ВЕ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9720" y="2860560"/>
            <a:ext cx="1424160" cy="703800"/>
          </a:xfrm>
          <a:prstGeom prst="rect">
            <a:avLst/>
          </a:prstGeom>
          <a:gradFill rotWithShape="0">
            <a:gsLst>
              <a:gs pos="0">
                <a:srgbClr val="bababa"/>
              </a:gs>
              <a:gs pos="50000">
                <a:srgbClr val="dddddd"/>
              </a:gs>
              <a:gs pos="100000">
                <a:srgbClr val="babab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КВАД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И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76440" y="2743200"/>
            <a:ext cx="1793880" cy="971640"/>
          </a:xfrm>
          <a:prstGeom prst="rect">
            <a:avLst/>
          </a:prstGeom>
          <a:gradFill rotWithShape="0">
            <a:gsLst>
              <a:gs pos="0">
                <a:srgbClr val="bababa"/>
              </a:gs>
              <a:gs pos="50000">
                <a:srgbClr val="dddddd"/>
              </a:gs>
              <a:gs pos="100000">
                <a:srgbClr val="babab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ОПР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81680" y="1676520"/>
            <a:ext cx="1828800" cy="398880"/>
          </a:xfrm>
          <a:prstGeom prst="rect">
            <a:avLst/>
          </a:prstGeom>
          <a:gradFill rotWithShape="0">
            <a:gsLst>
              <a:gs pos="0">
                <a:srgbClr val="bababa"/>
              </a:gs>
              <a:gs pos="50000">
                <a:srgbClr val="dddddd"/>
              </a:gs>
              <a:gs pos="100000">
                <a:srgbClr val="bababa"/>
              </a:gs>
            </a:gsLst>
            <a:lin ang="13500000"/>
          </a:gra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ЕЛИ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3480" y="2971800"/>
            <a:ext cx="1827000" cy="398880"/>
          </a:xfrm>
          <a:prstGeom prst="rect">
            <a:avLst/>
          </a:prstGeom>
          <a:gradFill rotWithShape="0">
            <a:gsLst>
              <a:gs pos="0">
                <a:srgbClr val="bababa"/>
              </a:gs>
              <a:gs pos="50000">
                <a:srgbClr val="dddddd"/>
              </a:gs>
              <a:gs pos="100000">
                <a:srgbClr val="bababa"/>
              </a:gs>
            </a:gsLst>
            <a:lin ang="13500000"/>
          </a:gra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ДАЈНЕР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81680" y="4317840"/>
            <a:ext cx="1981440" cy="398880"/>
          </a:xfrm>
          <a:prstGeom prst="rect">
            <a:avLst/>
          </a:prstGeom>
          <a:gradFill rotWithShape="0">
            <a:gsLst>
              <a:gs pos="0">
                <a:srgbClr val="bababa"/>
              </a:gs>
              <a:gs pos="50000">
                <a:srgbClr val="dddddd"/>
              </a:gs>
              <a:gs pos="100000">
                <a:srgbClr val="bababa"/>
              </a:gs>
            </a:gsLst>
            <a:lin ang="13500000"/>
          </a:gra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ИНЦИПА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181480" y="1905120"/>
            <a:ext cx="160020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32004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00400"/>
            <a:ext cx="160020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057400" y="3200400"/>
            <a:ext cx="131904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9238400">
            <a:off x="5296320" y="229320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акциона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2399400">
            <a:off x="5523840" y="357336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акциона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45360" y="289548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акциона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64280" y="286380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уплат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666880" y="16002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160020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609480"/>
            <a:ext cx="2666880" cy="914400"/>
          </a:xfrm>
          <a:prstGeom prst="rect">
            <a:avLst/>
          </a:prstGeom>
          <a:gradFill rotWithShape="0">
            <a:gsLst>
              <a:gs pos="0">
                <a:srgbClr val="b4b4b4"/>
              </a:gs>
              <a:gs pos="50000">
                <a:srgbClr val="dddddd"/>
              </a:gs>
              <a:gs pos="100000">
                <a:srgbClr val="b4b4b4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УРОАКСИС БАНКА МОСК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3657600"/>
            <a:ext cx="1981440" cy="685800"/>
          </a:xfrm>
          <a:prstGeom prst="rect">
            <a:avLst/>
          </a:prstGeom>
          <a:gradFill rotWithShape="0">
            <a:gsLst>
              <a:gs pos="0">
                <a:srgbClr val="b4b4b4"/>
              </a:gs>
              <a:gs pos="50000">
                <a:srgbClr val="dddddd"/>
              </a:gs>
              <a:gs pos="100000">
                <a:srgbClr val="b4b4b4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ЦИОНАЛНА ШТЕДИОН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3809880"/>
            <a:ext cx="1839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886200" y="2666880"/>
            <a:ext cx="1676520" cy="1828800"/>
            <a:chOff x="3886200" y="2666880"/>
            <a:chExt cx="1676520" cy="1828800"/>
          </a:xfrm>
        </p:grpSpPr>
        <p:sp>
          <p:nvSpPr>
            <p:cNvPr id="104" name=""/>
            <p:cNvSpPr/>
            <p:nvPr/>
          </p:nvSpPr>
          <p:spPr>
            <a:xfrm>
              <a:off x="3886200" y="2666880"/>
              <a:ext cx="1676520" cy="468360"/>
            </a:xfrm>
            <a:prstGeom prst="rect">
              <a:avLst/>
            </a:prstGeom>
            <a:gradFill rotWithShape="0">
              <a:gsLst>
                <a:gs pos="0">
                  <a:srgbClr val="b4b4b4"/>
                </a:gs>
                <a:gs pos="50000">
                  <a:srgbClr val="dddddd"/>
                </a:gs>
                <a:gs pos="100000">
                  <a:srgbClr val="b4b4b4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ИМ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86200" y="3124080"/>
              <a:ext cx="1676520" cy="468360"/>
            </a:xfrm>
            <a:prstGeom prst="rect">
              <a:avLst/>
            </a:prstGeom>
            <a:gradFill rotWithShape="0">
              <a:gsLst>
                <a:gs pos="0">
                  <a:srgbClr val="b4b4b4"/>
                </a:gs>
                <a:gs pos="50000">
                  <a:srgbClr val="dddddd"/>
                </a:gs>
                <a:gs pos="100000">
                  <a:srgbClr val="b4b4b4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КВАДР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86200" y="3581280"/>
              <a:ext cx="1676520" cy="468360"/>
            </a:xfrm>
            <a:prstGeom prst="rect">
              <a:avLst/>
            </a:prstGeom>
            <a:gradFill rotWithShape="0">
              <a:gsLst>
                <a:gs pos="0">
                  <a:srgbClr val="b4b4b4"/>
                </a:gs>
                <a:gs pos="50000">
                  <a:srgbClr val="dddddd"/>
                </a:gs>
                <a:gs pos="100000">
                  <a:srgbClr val="b4b4b4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ДАЈНЕР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86200" y="4027320"/>
              <a:ext cx="1676520" cy="468360"/>
            </a:xfrm>
            <a:prstGeom prst="rect">
              <a:avLst/>
            </a:prstGeom>
            <a:gradFill rotWithShape="0">
              <a:gsLst>
                <a:gs pos="0">
                  <a:srgbClr val="b4b4b4"/>
                </a:gs>
                <a:gs pos="50000">
                  <a:srgbClr val="dddddd"/>
                </a:gs>
                <a:gs pos="100000">
                  <a:srgbClr val="b4b4b4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ИНЦИПА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343400" y="5029200"/>
            <a:ext cx="1523880" cy="885600"/>
            <a:chOff x="4343400" y="5029200"/>
            <a:chExt cx="1523880" cy="885600"/>
          </a:xfrm>
        </p:grpSpPr>
        <p:sp>
          <p:nvSpPr>
            <p:cNvPr id="109" name=""/>
            <p:cNvSpPr/>
            <p:nvPr/>
          </p:nvSpPr>
          <p:spPr>
            <a:xfrm>
              <a:off x="4343400" y="5029200"/>
              <a:ext cx="1523880" cy="337320"/>
            </a:xfrm>
            <a:prstGeom prst="rect">
              <a:avLst/>
            </a:prstGeom>
            <a:gradFill rotWithShape="0">
              <a:gsLst>
                <a:gs pos="0">
                  <a:srgbClr val="b4b4b4"/>
                </a:gs>
                <a:gs pos="50000">
                  <a:srgbClr val="dddddd"/>
                </a:gs>
                <a:gs pos="100000">
                  <a:srgbClr val="b4b4b4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ЕЛИМ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43400" y="5334120"/>
              <a:ext cx="1523880" cy="580680"/>
            </a:xfrm>
            <a:prstGeom prst="rect">
              <a:avLst/>
            </a:prstGeom>
            <a:gradFill rotWithShape="0">
              <a:gsLst>
                <a:gs pos="0">
                  <a:srgbClr val="b4b4b4"/>
                </a:gs>
                <a:gs pos="50000">
                  <a:srgbClr val="dddddd"/>
                </a:gs>
                <a:gs pos="100000">
                  <a:srgbClr val="b4b4b4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АЛИ КОЛЕКТИВ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685800"/>
            <a:ext cx="1600200" cy="721080"/>
          </a:xfrm>
          <a:prstGeom prst="rect">
            <a:avLst/>
          </a:prstGeom>
          <a:gradFill rotWithShape="0">
            <a:gsLst>
              <a:gs pos="0">
                <a:srgbClr val="b4b4b4"/>
              </a:gs>
              <a:gs pos="50000">
                <a:srgbClr val="dddddd"/>
              </a:gs>
              <a:gs pos="100000">
                <a:srgbClr val="b4b4b4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ФИНДАЛ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000" spc="-1" strike="noStrike">
                <a:solidFill>
                  <a:srgbClr val="000000"/>
                </a:solidFill>
                <a:latin typeface="Arial"/>
              </a:rPr>
              <a:t>БРИТ. ДЕВИЧАНСКА ОСТРВ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1676520"/>
            <a:ext cx="1600200" cy="539640"/>
          </a:xfrm>
          <a:prstGeom prst="rect">
            <a:avLst/>
          </a:prstGeom>
          <a:gradFill rotWithShape="0">
            <a:gsLst>
              <a:gs pos="0">
                <a:srgbClr val="b4b4b4"/>
              </a:gs>
              <a:gs pos="50000">
                <a:srgbClr val="dddddd"/>
              </a:gs>
              <a:gs pos="100000">
                <a:srgbClr val="b4b4b4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КОПРОМ</a:t>
            </a:r>
            <a:br>
              <a:rPr sz="1600"/>
            </a:br>
            <a:r>
              <a:rPr b="1" lang="sr-CS" sz="1000" spc="-1" strike="noStrike">
                <a:solidFill>
                  <a:srgbClr val="000000"/>
                </a:solidFill>
                <a:latin typeface="Arial"/>
              </a:rPr>
              <a:t>БЕ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99072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676520"/>
            <a:ext cx="0" cy="236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03848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10666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19810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114300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1143000"/>
            <a:ext cx="0" cy="2514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1295280"/>
            <a:ext cx="0" cy="236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12952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1523880"/>
            <a:ext cx="0" cy="373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52578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44956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724280" y="152352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1880" y="19810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1880" y="10666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686800" y="1981080"/>
            <a:ext cx="0" cy="160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915400" y="1066680"/>
            <a:ext cx="0" cy="449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762120"/>
            <a:ext cx="1600200" cy="934920"/>
          </a:xfrm>
          <a:prstGeom prst="rect">
            <a:avLst/>
          </a:prstGeom>
          <a:gradFill rotWithShape="0">
            <a:gsLst>
              <a:gs pos="0">
                <a:srgbClr val="b4b4b4"/>
              </a:gs>
              <a:gs pos="50000">
                <a:srgbClr val="dddddd"/>
              </a:gs>
              <a:gs pos="100000">
                <a:srgbClr val="b4b4b4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РОДНА       БАНКА</a:t>
            </a:r>
            <a:br>
              <a:rPr sz="1800"/>
            </a:b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РБИЈ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15238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562720" y="28954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562720" y="3352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562720" y="38098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562720" y="42670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28954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858000" y="358128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866920" y="5562720"/>
            <a:ext cx="3048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6480" y="411480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НОВА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6720" y="3581280"/>
            <a:ext cx="5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500</a:t>
            </a:r>
            <a:br>
              <a:rPr sz="1200"/>
            </a:b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МИ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89120" y="2057400"/>
            <a:ext cx="290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63760" y="2057400"/>
            <a:ext cx="290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8120" y="716040"/>
            <a:ext cx="7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4 МЛР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5040" y="137160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НОВА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68920" y="320040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НОВА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10280" y="518148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100 МИ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4906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100 МИ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920" y="2514600"/>
            <a:ext cx="299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22960" y="1600200"/>
            <a:ext cx="299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97600" y="2666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7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30481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37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35053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5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3962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36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133720" y="56386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133720" y="434340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819160" y="396252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77960" y="5410080"/>
            <a:ext cx="115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АКЦИОНАР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91880" y="371304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000" spc="-1" strike="noStrike">
                <a:solidFill>
                  <a:srgbClr val="000000"/>
                </a:solidFill>
                <a:latin typeface="Arial"/>
              </a:rPr>
              <a:t>АКЦИОНАР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8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95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15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250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3500"/>
                            </p:stCondLst>
                            <p:childTnLst>
                              <p:par>
                                <p:cTn id="1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40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ПРЕДЛОЖЕНЕ МЕР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права за спречавање прања новца треба да преиспита порекло новц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лада Србије и Агенција за санацију банака треба да преиспитају давање посла ексклузивно Националној штедионици за стару девизну штедњ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БС треба да испита бонитет и повезаност акционара и реалност уплате за докапитализацију као и давање посла за исплату девизне штед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Јавни правобранилац треба да испита исправност уговора око имовине Србије потписан од стране гувернера НБ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10:23:48Z</dcterms:created>
  <dc:creator>Dragana Medic</dc:creator>
  <dc:description/>
  <dc:language>en-US</dc:language>
  <cp:lastModifiedBy>Jovan</cp:lastModifiedBy>
  <dcterms:modified xsi:type="dcterms:W3CDTF">2003-12-19T18:16:17Z</dcterms:modified>
  <cp:revision>23</cp:revision>
  <dc:subject/>
  <dc:title>PowerPoint Presentation</dc:title>
</cp:coreProperties>
</file>